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AD-2D56-4204-B208-08814CB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2E1-3845-4237-AF3F-45DBA3E0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143-E51E-4241-9340-231D0B0C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461-AE29-4B53-ABAF-C5CEE7BC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2B6-C14D-449C-8E2F-92C15624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275-3B56-4D9D-A8C7-B42F6D8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6F8-9B0D-4883-AAE8-760871C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CE8-1F72-4153-99D1-86FCAAAC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5A7-4A8F-48AF-BF16-5018F780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B0E-F5A0-4940-B887-B5D2E5B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D6D-EDA1-40E2-B4BC-FE47D6E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262-0EF8-46E1-93BD-26DA343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7A0B5DBB-94C2-4391-9AB2-1227C699BF9B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240" y="1054080"/>
            <a:ext cx="43198920" cy="879480"/>
          </a:xfrm>
          <a:prstGeom prst="rect">
            <a:avLst/>
          </a:pr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5106680" y="736560"/>
            <a:ext cx="14173200" cy="1676520"/>
          </a:xfrm>
          <a:custGeom>
            <a:avLst/>
            <a:gdLst>
              <a:gd name="textAreaLeft" fmla="*/ 0 w 14173200"/>
              <a:gd name="textAreaRight" fmla="*/ 14173560 w 141732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8928" h="1056">
                <a:moveTo>
                  <a:pt x="8928" y="528"/>
                </a:moveTo>
                <a:lnTo>
                  <a:pt x="8928" y="528"/>
                </a:lnTo>
                <a:lnTo>
                  <a:pt x="8926" y="556"/>
                </a:lnTo>
                <a:lnTo>
                  <a:pt x="8924" y="582"/>
                </a:lnTo>
                <a:lnTo>
                  <a:pt x="8920" y="610"/>
                </a:lnTo>
                <a:lnTo>
                  <a:pt x="8914" y="634"/>
                </a:lnTo>
                <a:lnTo>
                  <a:pt x="8906" y="660"/>
                </a:lnTo>
                <a:lnTo>
                  <a:pt x="8896" y="686"/>
                </a:lnTo>
                <a:lnTo>
                  <a:pt x="8886" y="710"/>
                </a:lnTo>
                <a:lnTo>
                  <a:pt x="8874" y="734"/>
                </a:lnTo>
                <a:lnTo>
                  <a:pt x="8860" y="758"/>
                </a:lnTo>
                <a:lnTo>
                  <a:pt x="8844" y="780"/>
                </a:lnTo>
                <a:lnTo>
                  <a:pt x="8828" y="802"/>
                </a:lnTo>
                <a:lnTo>
                  <a:pt x="8810" y="824"/>
                </a:lnTo>
                <a:lnTo>
                  <a:pt x="8792" y="844"/>
                </a:lnTo>
                <a:lnTo>
                  <a:pt x="8772" y="864"/>
                </a:lnTo>
                <a:lnTo>
                  <a:pt x="8750" y="884"/>
                </a:lnTo>
                <a:lnTo>
                  <a:pt x="8728" y="902"/>
                </a:lnTo>
                <a:lnTo>
                  <a:pt x="8704" y="920"/>
                </a:lnTo>
                <a:lnTo>
                  <a:pt x="8680" y="936"/>
                </a:lnTo>
                <a:lnTo>
                  <a:pt x="8654" y="952"/>
                </a:lnTo>
                <a:lnTo>
                  <a:pt x="8626" y="966"/>
                </a:lnTo>
                <a:lnTo>
                  <a:pt x="8600" y="980"/>
                </a:lnTo>
                <a:lnTo>
                  <a:pt x="8570" y="992"/>
                </a:lnTo>
                <a:lnTo>
                  <a:pt x="8542" y="1004"/>
                </a:lnTo>
                <a:lnTo>
                  <a:pt x="8512" y="1016"/>
                </a:lnTo>
                <a:lnTo>
                  <a:pt x="8480" y="1024"/>
                </a:lnTo>
                <a:lnTo>
                  <a:pt x="8448" y="1034"/>
                </a:lnTo>
                <a:lnTo>
                  <a:pt x="8416" y="1040"/>
                </a:lnTo>
                <a:lnTo>
                  <a:pt x="8384" y="1046"/>
                </a:lnTo>
                <a:lnTo>
                  <a:pt x="8350" y="1050"/>
                </a:lnTo>
                <a:lnTo>
                  <a:pt x="8316" y="1054"/>
                </a:lnTo>
                <a:lnTo>
                  <a:pt x="8282" y="1056"/>
                </a:lnTo>
                <a:lnTo>
                  <a:pt x="8248" y="1056"/>
                </a:lnTo>
                <a:lnTo>
                  <a:pt x="680" y="1056"/>
                </a:lnTo>
                <a:lnTo>
                  <a:pt x="680" y="1056"/>
                </a:lnTo>
                <a:lnTo>
                  <a:pt x="644" y="1056"/>
                </a:lnTo>
                <a:lnTo>
                  <a:pt x="610" y="1054"/>
                </a:lnTo>
                <a:lnTo>
                  <a:pt x="576" y="1050"/>
                </a:lnTo>
                <a:lnTo>
                  <a:pt x="544" y="1046"/>
                </a:lnTo>
                <a:lnTo>
                  <a:pt x="510" y="1040"/>
                </a:lnTo>
                <a:lnTo>
                  <a:pt x="478" y="1034"/>
                </a:lnTo>
                <a:lnTo>
                  <a:pt x="446" y="1024"/>
                </a:lnTo>
                <a:lnTo>
                  <a:pt x="416" y="1016"/>
                </a:lnTo>
                <a:lnTo>
                  <a:pt x="386" y="1004"/>
                </a:lnTo>
                <a:lnTo>
                  <a:pt x="356" y="992"/>
                </a:lnTo>
                <a:lnTo>
                  <a:pt x="328" y="980"/>
                </a:lnTo>
                <a:lnTo>
                  <a:pt x="300" y="966"/>
                </a:lnTo>
                <a:lnTo>
                  <a:pt x="274" y="952"/>
                </a:lnTo>
                <a:lnTo>
                  <a:pt x="248" y="936"/>
                </a:lnTo>
                <a:lnTo>
                  <a:pt x="222" y="920"/>
                </a:lnTo>
                <a:lnTo>
                  <a:pt x="200" y="902"/>
                </a:lnTo>
                <a:lnTo>
                  <a:pt x="176" y="884"/>
                </a:lnTo>
                <a:lnTo>
                  <a:pt x="156" y="864"/>
                </a:lnTo>
                <a:lnTo>
                  <a:pt x="134" y="844"/>
                </a:lnTo>
                <a:lnTo>
                  <a:pt x="116" y="824"/>
                </a:lnTo>
                <a:lnTo>
                  <a:pt x="98" y="802"/>
                </a:lnTo>
                <a:lnTo>
                  <a:pt x="82" y="780"/>
                </a:lnTo>
                <a:lnTo>
                  <a:pt x="66" y="758"/>
                </a:lnTo>
                <a:lnTo>
                  <a:pt x="54" y="734"/>
                </a:lnTo>
                <a:lnTo>
                  <a:pt x="40" y="710"/>
                </a:lnTo>
                <a:lnTo>
                  <a:pt x="30" y="686"/>
                </a:lnTo>
                <a:lnTo>
                  <a:pt x="20" y="660"/>
                </a:lnTo>
                <a:lnTo>
                  <a:pt x="14" y="634"/>
                </a:lnTo>
                <a:lnTo>
                  <a:pt x="8" y="610"/>
                </a:lnTo>
                <a:lnTo>
                  <a:pt x="2" y="582"/>
                </a:lnTo>
                <a:lnTo>
                  <a:pt x="0" y="556"/>
                </a:lnTo>
                <a:lnTo>
                  <a:pt x="0" y="528"/>
                </a:lnTo>
                <a:lnTo>
                  <a:pt x="0" y="528"/>
                </a:lnTo>
                <a:lnTo>
                  <a:pt x="0" y="502"/>
                </a:lnTo>
                <a:lnTo>
                  <a:pt x="2" y="476"/>
                </a:lnTo>
                <a:lnTo>
                  <a:pt x="8" y="448"/>
                </a:lnTo>
                <a:lnTo>
                  <a:pt x="14" y="422"/>
                </a:lnTo>
                <a:lnTo>
                  <a:pt x="20" y="398"/>
                </a:lnTo>
                <a:lnTo>
                  <a:pt x="30" y="372"/>
                </a:lnTo>
                <a:lnTo>
                  <a:pt x="40" y="348"/>
                </a:lnTo>
                <a:lnTo>
                  <a:pt x="54" y="324"/>
                </a:lnTo>
                <a:lnTo>
                  <a:pt x="66" y="300"/>
                </a:lnTo>
                <a:lnTo>
                  <a:pt x="82" y="278"/>
                </a:lnTo>
                <a:lnTo>
                  <a:pt x="98" y="256"/>
                </a:lnTo>
                <a:lnTo>
                  <a:pt x="116" y="234"/>
                </a:lnTo>
                <a:lnTo>
                  <a:pt x="134" y="214"/>
                </a:lnTo>
                <a:lnTo>
                  <a:pt x="156" y="194"/>
                </a:lnTo>
                <a:lnTo>
                  <a:pt x="176" y="174"/>
                </a:lnTo>
                <a:lnTo>
                  <a:pt x="200" y="156"/>
                </a:lnTo>
                <a:lnTo>
                  <a:pt x="222" y="138"/>
                </a:lnTo>
                <a:lnTo>
                  <a:pt x="248" y="122"/>
                </a:lnTo>
                <a:lnTo>
                  <a:pt x="274" y="106"/>
                </a:lnTo>
                <a:lnTo>
                  <a:pt x="300" y="92"/>
                </a:lnTo>
                <a:lnTo>
                  <a:pt x="328" y="78"/>
                </a:lnTo>
                <a:lnTo>
                  <a:pt x="356" y="64"/>
                </a:lnTo>
                <a:lnTo>
                  <a:pt x="386" y="54"/>
                </a:lnTo>
                <a:lnTo>
                  <a:pt x="416" y="42"/>
                </a:lnTo>
                <a:lnTo>
                  <a:pt x="446" y="34"/>
                </a:lnTo>
                <a:lnTo>
                  <a:pt x="478" y="24"/>
                </a:lnTo>
                <a:lnTo>
                  <a:pt x="510" y="18"/>
                </a:lnTo>
                <a:lnTo>
                  <a:pt x="544" y="12"/>
                </a:lnTo>
                <a:lnTo>
                  <a:pt x="576" y="8"/>
                </a:lnTo>
                <a:lnTo>
                  <a:pt x="610" y="4"/>
                </a:lnTo>
                <a:lnTo>
                  <a:pt x="644" y="2"/>
                </a:lnTo>
                <a:lnTo>
                  <a:pt x="680" y="0"/>
                </a:lnTo>
                <a:lnTo>
                  <a:pt x="8248" y="0"/>
                </a:lnTo>
                <a:lnTo>
                  <a:pt x="8248" y="0"/>
                </a:lnTo>
                <a:lnTo>
                  <a:pt x="8282" y="2"/>
                </a:lnTo>
                <a:lnTo>
                  <a:pt x="8316" y="4"/>
                </a:lnTo>
                <a:lnTo>
                  <a:pt x="8350" y="8"/>
                </a:lnTo>
                <a:lnTo>
                  <a:pt x="8384" y="12"/>
                </a:lnTo>
                <a:lnTo>
                  <a:pt x="8416" y="18"/>
                </a:lnTo>
                <a:lnTo>
                  <a:pt x="8448" y="24"/>
                </a:lnTo>
                <a:lnTo>
                  <a:pt x="8480" y="34"/>
                </a:lnTo>
                <a:lnTo>
                  <a:pt x="8512" y="42"/>
                </a:lnTo>
                <a:lnTo>
                  <a:pt x="8542" y="54"/>
                </a:lnTo>
                <a:lnTo>
                  <a:pt x="8570" y="64"/>
                </a:lnTo>
                <a:lnTo>
                  <a:pt x="8600" y="78"/>
                </a:lnTo>
                <a:lnTo>
                  <a:pt x="8626" y="92"/>
                </a:lnTo>
                <a:lnTo>
                  <a:pt x="8654" y="106"/>
                </a:lnTo>
                <a:lnTo>
                  <a:pt x="8680" y="122"/>
                </a:lnTo>
                <a:lnTo>
                  <a:pt x="8704" y="138"/>
                </a:lnTo>
                <a:lnTo>
                  <a:pt x="8728" y="156"/>
                </a:lnTo>
                <a:lnTo>
                  <a:pt x="8750" y="174"/>
                </a:lnTo>
                <a:lnTo>
                  <a:pt x="8772" y="194"/>
                </a:lnTo>
                <a:lnTo>
                  <a:pt x="8792" y="214"/>
                </a:lnTo>
                <a:lnTo>
                  <a:pt x="8810" y="234"/>
                </a:lnTo>
                <a:lnTo>
                  <a:pt x="8828" y="256"/>
                </a:lnTo>
                <a:lnTo>
                  <a:pt x="8844" y="278"/>
                </a:lnTo>
                <a:lnTo>
                  <a:pt x="8860" y="300"/>
                </a:lnTo>
                <a:lnTo>
                  <a:pt x="8874" y="324"/>
                </a:lnTo>
                <a:lnTo>
                  <a:pt x="8886" y="348"/>
                </a:lnTo>
                <a:lnTo>
                  <a:pt x="8896" y="372"/>
                </a:lnTo>
                <a:lnTo>
                  <a:pt x="8906" y="398"/>
                </a:lnTo>
                <a:lnTo>
                  <a:pt x="8914" y="422"/>
                </a:lnTo>
                <a:lnTo>
                  <a:pt x="8920" y="448"/>
                </a:lnTo>
                <a:lnTo>
                  <a:pt x="8924" y="476"/>
                </a:lnTo>
                <a:lnTo>
                  <a:pt x="8926" y="502"/>
                </a:lnTo>
                <a:lnTo>
                  <a:pt x="8928" y="528"/>
                </a:lnTo>
                <a:lnTo>
                  <a:pt x="8928" y="528"/>
                </a:lnTo>
                <a:close/>
              </a:path>
            </a:pathLst>
          </a:custGeom>
          <a:solidFill>
            <a:srgbClr val="1d2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10"/>
          <p:cNvGrpSpPr/>
          <p:nvPr/>
        </p:nvGrpSpPr>
        <p:grpSpPr>
          <a:xfrm>
            <a:off x="520560" y="4670280"/>
            <a:ext cx="7972560" cy="5394600"/>
            <a:chOff x="520560" y="4670280"/>
            <a:chExt cx="7972560" cy="5394600"/>
          </a:xfrm>
        </p:grpSpPr>
        <p:sp>
          <p:nvSpPr>
            <p:cNvPr id="44" name="Freeform 5"/>
            <p:cNvSpPr/>
            <p:nvPr/>
          </p:nvSpPr>
          <p:spPr>
            <a:xfrm>
              <a:off x="520560" y="4895640"/>
              <a:ext cx="4568760" cy="5169240"/>
            </a:xfrm>
            <a:custGeom>
              <a:avLst/>
              <a:gdLst>
                <a:gd name="textAreaLeft" fmla="*/ 0 w 4568760"/>
                <a:gd name="textAreaRight" fmla="*/ 4569120 w 4568760"/>
                <a:gd name="textAreaTop" fmla="*/ 0 h 5169240"/>
                <a:gd name="textAreaBottom" fmla="*/ 5169240 h 5169240"/>
              </a:gdLst>
              <a:ahLst/>
              <a:rect l="textAreaLeft" t="textAreaTop" r="textAreaRight" b="textAreaBottom"/>
              <a:pathLst>
                <a:path w="2878" h="3256">
                  <a:moveTo>
                    <a:pt x="1198" y="0"/>
                  </a:moveTo>
                  <a:lnTo>
                    <a:pt x="1198" y="0"/>
                  </a:lnTo>
                  <a:lnTo>
                    <a:pt x="1222" y="10"/>
                  </a:lnTo>
                  <a:lnTo>
                    <a:pt x="1248" y="20"/>
                  </a:lnTo>
                  <a:lnTo>
                    <a:pt x="1298" y="44"/>
                  </a:lnTo>
                  <a:lnTo>
                    <a:pt x="1348" y="72"/>
                  </a:lnTo>
                  <a:lnTo>
                    <a:pt x="1398" y="102"/>
                  </a:lnTo>
                  <a:lnTo>
                    <a:pt x="1494" y="164"/>
                  </a:lnTo>
                  <a:lnTo>
                    <a:pt x="1542" y="194"/>
                  </a:lnTo>
                  <a:lnTo>
                    <a:pt x="1590" y="220"/>
                  </a:lnTo>
                  <a:lnTo>
                    <a:pt x="1590" y="220"/>
                  </a:lnTo>
                  <a:lnTo>
                    <a:pt x="1594" y="224"/>
                  </a:lnTo>
                  <a:lnTo>
                    <a:pt x="1596" y="230"/>
                  </a:lnTo>
                  <a:lnTo>
                    <a:pt x="1598" y="238"/>
                  </a:lnTo>
                  <a:lnTo>
                    <a:pt x="1600" y="246"/>
                  </a:lnTo>
                  <a:lnTo>
                    <a:pt x="1598" y="256"/>
                  </a:lnTo>
                  <a:lnTo>
                    <a:pt x="1594" y="264"/>
                  </a:lnTo>
                  <a:lnTo>
                    <a:pt x="1584" y="274"/>
                  </a:lnTo>
                  <a:lnTo>
                    <a:pt x="1584" y="274"/>
                  </a:lnTo>
                  <a:lnTo>
                    <a:pt x="1604" y="288"/>
                  </a:lnTo>
                  <a:lnTo>
                    <a:pt x="1622" y="304"/>
                  </a:lnTo>
                  <a:lnTo>
                    <a:pt x="1656" y="338"/>
                  </a:lnTo>
                  <a:lnTo>
                    <a:pt x="1688" y="374"/>
                  </a:lnTo>
                  <a:lnTo>
                    <a:pt x="1716" y="414"/>
                  </a:lnTo>
                  <a:lnTo>
                    <a:pt x="1740" y="456"/>
                  </a:lnTo>
                  <a:lnTo>
                    <a:pt x="1750" y="478"/>
                  </a:lnTo>
                  <a:lnTo>
                    <a:pt x="1760" y="500"/>
                  </a:lnTo>
                  <a:lnTo>
                    <a:pt x="1768" y="524"/>
                  </a:lnTo>
                  <a:lnTo>
                    <a:pt x="1774" y="546"/>
                  </a:lnTo>
                  <a:lnTo>
                    <a:pt x="1780" y="570"/>
                  </a:lnTo>
                  <a:lnTo>
                    <a:pt x="1784" y="594"/>
                  </a:lnTo>
                  <a:lnTo>
                    <a:pt x="1784" y="594"/>
                  </a:lnTo>
                  <a:lnTo>
                    <a:pt x="1802" y="592"/>
                  </a:lnTo>
                  <a:lnTo>
                    <a:pt x="1818" y="596"/>
                  </a:lnTo>
                  <a:lnTo>
                    <a:pt x="1832" y="604"/>
                  </a:lnTo>
                  <a:lnTo>
                    <a:pt x="1844" y="614"/>
                  </a:lnTo>
                  <a:lnTo>
                    <a:pt x="1852" y="628"/>
                  </a:lnTo>
                  <a:lnTo>
                    <a:pt x="1860" y="640"/>
                  </a:lnTo>
                  <a:lnTo>
                    <a:pt x="1866" y="656"/>
                  </a:lnTo>
                  <a:lnTo>
                    <a:pt x="1868" y="670"/>
                  </a:lnTo>
                  <a:lnTo>
                    <a:pt x="1868" y="670"/>
                  </a:lnTo>
                  <a:lnTo>
                    <a:pt x="1870" y="688"/>
                  </a:lnTo>
                  <a:lnTo>
                    <a:pt x="1868" y="706"/>
                  </a:lnTo>
                  <a:lnTo>
                    <a:pt x="1864" y="724"/>
                  </a:lnTo>
                  <a:lnTo>
                    <a:pt x="1856" y="742"/>
                  </a:lnTo>
                  <a:lnTo>
                    <a:pt x="1846" y="756"/>
                  </a:lnTo>
                  <a:lnTo>
                    <a:pt x="1834" y="768"/>
                  </a:lnTo>
                  <a:lnTo>
                    <a:pt x="1820" y="778"/>
                  </a:lnTo>
                  <a:lnTo>
                    <a:pt x="1812" y="780"/>
                  </a:lnTo>
                  <a:lnTo>
                    <a:pt x="1804" y="782"/>
                  </a:lnTo>
                  <a:lnTo>
                    <a:pt x="1804" y="782"/>
                  </a:lnTo>
                  <a:lnTo>
                    <a:pt x="1808" y="806"/>
                  </a:lnTo>
                  <a:lnTo>
                    <a:pt x="1808" y="832"/>
                  </a:lnTo>
                  <a:lnTo>
                    <a:pt x="1808" y="856"/>
                  </a:lnTo>
                  <a:lnTo>
                    <a:pt x="1806" y="882"/>
                  </a:lnTo>
                  <a:lnTo>
                    <a:pt x="1802" y="904"/>
                  </a:lnTo>
                  <a:lnTo>
                    <a:pt x="1798" y="928"/>
                  </a:lnTo>
                  <a:lnTo>
                    <a:pt x="1792" y="950"/>
                  </a:lnTo>
                  <a:lnTo>
                    <a:pt x="1784" y="972"/>
                  </a:lnTo>
                  <a:lnTo>
                    <a:pt x="1766" y="1014"/>
                  </a:lnTo>
                  <a:lnTo>
                    <a:pt x="1746" y="1054"/>
                  </a:lnTo>
                  <a:lnTo>
                    <a:pt x="1722" y="1092"/>
                  </a:lnTo>
                  <a:lnTo>
                    <a:pt x="1696" y="1126"/>
                  </a:lnTo>
                  <a:lnTo>
                    <a:pt x="1672" y="1156"/>
                  </a:lnTo>
                  <a:lnTo>
                    <a:pt x="1646" y="1182"/>
                  </a:lnTo>
                  <a:lnTo>
                    <a:pt x="1622" y="1206"/>
                  </a:lnTo>
                  <a:lnTo>
                    <a:pt x="1602" y="1226"/>
                  </a:lnTo>
                  <a:lnTo>
                    <a:pt x="1568" y="1252"/>
                  </a:lnTo>
                  <a:lnTo>
                    <a:pt x="1556" y="1262"/>
                  </a:lnTo>
                  <a:lnTo>
                    <a:pt x="1556" y="1262"/>
                  </a:lnTo>
                  <a:lnTo>
                    <a:pt x="1576" y="1276"/>
                  </a:lnTo>
                  <a:lnTo>
                    <a:pt x="1592" y="1292"/>
                  </a:lnTo>
                  <a:lnTo>
                    <a:pt x="1606" y="1310"/>
                  </a:lnTo>
                  <a:lnTo>
                    <a:pt x="1618" y="1330"/>
                  </a:lnTo>
                  <a:lnTo>
                    <a:pt x="1642" y="1368"/>
                  </a:lnTo>
                  <a:lnTo>
                    <a:pt x="1654" y="1386"/>
                  </a:lnTo>
                  <a:lnTo>
                    <a:pt x="1666" y="1406"/>
                  </a:lnTo>
                  <a:lnTo>
                    <a:pt x="1666" y="1406"/>
                  </a:lnTo>
                  <a:lnTo>
                    <a:pt x="1708" y="1478"/>
                  </a:lnTo>
                  <a:lnTo>
                    <a:pt x="1750" y="1548"/>
                  </a:lnTo>
                  <a:lnTo>
                    <a:pt x="1790" y="1618"/>
                  </a:lnTo>
                  <a:lnTo>
                    <a:pt x="1810" y="1654"/>
                  </a:lnTo>
                  <a:lnTo>
                    <a:pt x="1828" y="1690"/>
                  </a:lnTo>
                  <a:lnTo>
                    <a:pt x="1900" y="1658"/>
                  </a:lnTo>
                  <a:lnTo>
                    <a:pt x="1924" y="1710"/>
                  </a:lnTo>
                  <a:lnTo>
                    <a:pt x="1924" y="1710"/>
                  </a:lnTo>
                  <a:lnTo>
                    <a:pt x="1960" y="1700"/>
                  </a:lnTo>
                  <a:lnTo>
                    <a:pt x="2000" y="1690"/>
                  </a:lnTo>
                  <a:lnTo>
                    <a:pt x="2042" y="1682"/>
                  </a:lnTo>
                  <a:lnTo>
                    <a:pt x="2084" y="1676"/>
                  </a:lnTo>
                  <a:lnTo>
                    <a:pt x="2164" y="1668"/>
                  </a:lnTo>
                  <a:lnTo>
                    <a:pt x="2224" y="1664"/>
                  </a:lnTo>
                  <a:lnTo>
                    <a:pt x="2224" y="1664"/>
                  </a:lnTo>
                  <a:lnTo>
                    <a:pt x="2292" y="1666"/>
                  </a:lnTo>
                  <a:lnTo>
                    <a:pt x="2362" y="1670"/>
                  </a:lnTo>
                  <a:lnTo>
                    <a:pt x="2430" y="1678"/>
                  </a:lnTo>
                  <a:lnTo>
                    <a:pt x="2498" y="1690"/>
                  </a:lnTo>
                  <a:lnTo>
                    <a:pt x="2530" y="1698"/>
                  </a:lnTo>
                  <a:lnTo>
                    <a:pt x="2562" y="1706"/>
                  </a:lnTo>
                  <a:lnTo>
                    <a:pt x="2592" y="1716"/>
                  </a:lnTo>
                  <a:lnTo>
                    <a:pt x="2622" y="1726"/>
                  </a:lnTo>
                  <a:lnTo>
                    <a:pt x="2650" y="1738"/>
                  </a:lnTo>
                  <a:lnTo>
                    <a:pt x="2678" y="1752"/>
                  </a:lnTo>
                  <a:lnTo>
                    <a:pt x="2704" y="1766"/>
                  </a:lnTo>
                  <a:lnTo>
                    <a:pt x="2728" y="1780"/>
                  </a:lnTo>
                  <a:lnTo>
                    <a:pt x="2728" y="1780"/>
                  </a:lnTo>
                  <a:lnTo>
                    <a:pt x="2758" y="1804"/>
                  </a:lnTo>
                  <a:lnTo>
                    <a:pt x="2786" y="1830"/>
                  </a:lnTo>
                  <a:lnTo>
                    <a:pt x="2810" y="1858"/>
                  </a:lnTo>
                  <a:lnTo>
                    <a:pt x="2832" y="1888"/>
                  </a:lnTo>
                  <a:lnTo>
                    <a:pt x="2850" y="1922"/>
                  </a:lnTo>
                  <a:lnTo>
                    <a:pt x="2862" y="1958"/>
                  </a:lnTo>
                  <a:lnTo>
                    <a:pt x="2872" y="1998"/>
                  </a:lnTo>
                  <a:lnTo>
                    <a:pt x="2878" y="2040"/>
                  </a:lnTo>
                  <a:lnTo>
                    <a:pt x="2878" y="2040"/>
                  </a:lnTo>
                  <a:lnTo>
                    <a:pt x="2876" y="2122"/>
                  </a:lnTo>
                  <a:lnTo>
                    <a:pt x="2876" y="2248"/>
                  </a:lnTo>
                  <a:lnTo>
                    <a:pt x="2874" y="2574"/>
                  </a:lnTo>
                  <a:lnTo>
                    <a:pt x="2872" y="2896"/>
                  </a:lnTo>
                  <a:lnTo>
                    <a:pt x="2868" y="3018"/>
                  </a:lnTo>
                  <a:lnTo>
                    <a:pt x="2864" y="3096"/>
                  </a:lnTo>
                  <a:lnTo>
                    <a:pt x="2864" y="3096"/>
                  </a:lnTo>
                  <a:lnTo>
                    <a:pt x="2828" y="3124"/>
                  </a:lnTo>
                  <a:lnTo>
                    <a:pt x="2806" y="3136"/>
                  </a:lnTo>
                  <a:lnTo>
                    <a:pt x="2782" y="3150"/>
                  </a:lnTo>
                  <a:lnTo>
                    <a:pt x="2756" y="3164"/>
                  </a:lnTo>
                  <a:lnTo>
                    <a:pt x="2726" y="3176"/>
                  </a:lnTo>
                  <a:lnTo>
                    <a:pt x="2696" y="3190"/>
                  </a:lnTo>
                  <a:lnTo>
                    <a:pt x="2662" y="3200"/>
                  </a:lnTo>
                  <a:lnTo>
                    <a:pt x="2624" y="3212"/>
                  </a:lnTo>
                  <a:lnTo>
                    <a:pt x="2586" y="3222"/>
                  </a:lnTo>
                  <a:lnTo>
                    <a:pt x="2542" y="3232"/>
                  </a:lnTo>
                  <a:lnTo>
                    <a:pt x="2498" y="3240"/>
                  </a:lnTo>
                  <a:lnTo>
                    <a:pt x="2448" y="3246"/>
                  </a:lnTo>
                  <a:lnTo>
                    <a:pt x="2398" y="3252"/>
                  </a:lnTo>
                  <a:lnTo>
                    <a:pt x="2342" y="3254"/>
                  </a:lnTo>
                  <a:lnTo>
                    <a:pt x="2284" y="3256"/>
                  </a:lnTo>
                  <a:lnTo>
                    <a:pt x="2284" y="3256"/>
                  </a:lnTo>
                  <a:lnTo>
                    <a:pt x="2226" y="3256"/>
                  </a:lnTo>
                  <a:lnTo>
                    <a:pt x="2168" y="3256"/>
                  </a:lnTo>
                  <a:lnTo>
                    <a:pt x="2114" y="3252"/>
                  </a:lnTo>
                  <a:lnTo>
                    <a:pt x="2062" y="3248"/>
                  </a:lnTo>
                  <a:lnTo>
                    <a:pt x="2012" y="3242"/>
                  </a:lnTo>
                  <a:lnTo>
                    <a:pt x="1964" y="3236"/>
                  </a:lnTo>
                  <a:lnTo>
                    <a:pt x="1918" y="3226"/>
                  </a:lnTo>
                  <a:lnTo>
                    <a:pt x="1874" y="3218"/>
                  </a:lnTo>
                  <a:lnTo>
                    <a:pt x="1832" y="3206"/>
                  </a:lnTo>
                  <a:lnTo>
                    <a:pt x="1792" y="3194"/>
                  </a:lnTo>
                  <a:lnTo>
                    <a:pt x="1754" y="3180"/>
                  </a:lnTo>
                  <a:lnTo>
                    <a:pt x="1718" y="3166"/>
                  </a:lnTo>
                  <a:lnTo>
                    <a:pt x="1684" y="3150"/>
                  </a:lnTo>
                  <a:lnTo>
                    <a:pt x="1652" y="3134"/>
                  </a:lnTo>
                  <a:lnTo>
                    <a:pt x="1622" y="3116"/>
                  </a:lnTo>
                  <a:lnTo>
                    <a:pt x="1594" y="3096"/>
                  </a:lnTo>
                  <a:lnTo>
                    <a:pt x="1590" y="2968"/>
                  </a:lnTo>
                  <a:lnTo>
                    <a:pt x="1486" y="2974"/>
                  </a:lnTo>
                  <a:lnTo>
                    <a:pt x="1486" y="2974"/>
                  </a:lnTo>
                  <a:lnTo>
                    <a:pt x="1486" y="2998"/>
                  </a:lnTo>
                  <a:lnTo>
                    <a:pt x="1484" y="3026"/>
                  </a:lnTo>
                  <a:lnTo>
                    <a:pt x="1480" y="3056"/>
                  </a:lnTo>
                  <a:lnTo>
                    <a:pt x="1480" y="3056"/>
                  </a:lnTo>
                  <a:lnTo>
                    <a:pt x="1364" y="3058"/>
                  </a:lnTo>
                  <a:lnTo>
                    <a:pt x="1222" y="3056"/>
                  </a:lnTo>
                  <a:lnTo>
                    <a:pt x="1058" y="3054"/>
                  </a:lnTo>
                  <a:lnTo>
                    <a:pt x="882" y="3050"/>
                  </a:lnTo>
                  <a:lnTo>
                    <a:pt x="882" y="3050"/>
                  </a:lnTo>
                  <a:lnTo>
                    <a:pt x="880" y="3016"/>
                  </a:lnTo>
                  <a:lnTo>
                    <a:pt x="880" y="2978"/>
                  </a:lnTo>
                  <a:lnTo>
                    <a:pt x="882" y="2938"/>
                  </a:lnTo>
                  <a:lnTo>
                    <a:pt x="886" y="2900"/>
                  </a:lnTo>
                  <a:lnTo>
                    <a:pt x="894" y="2864"/>
                  </a:lnTo>
                  <a:lnTo>
                    <a:pt x="904" y="2832"/>
                  </a:lnTo>
                  <a:lnTo>
                    <a:pt x="910" y="2818"/>
                  </a:lnTo>
                  <a:lnTo>
                    <a:pt x="916" y="2806"/>
                  </a:lnTo>
                  <a:lnTo>
                    <a:pt x="922" y="2796"/>
                  </a:lnTo>
                  <a:lnTo>
                    <a:pt x="930" y="2788"/>
                  </a:lnTo>
                  <a:lnTo>
                    <a:pt x="930" y="2788"/>
                  </a:lnTo>
                  <a:lnTo>
                    <a:pt x="834" y="2756"/>
                  </a:lnTo>
                  <a:lnTo>
                    <a:pt x="834" y="2756"/>
                  </a:lnTo>
                  <a:lnTo>
                    <a:pt x="836" y="2746"/>
                  </a:lnTo>
                  <a:lnTo>
                    <a:pt x="842" y="2730"/>
                  </a:lnTo>
                  <a:lnTo>
                    <a:pt x="858" y="2698"/>
                  </a:lnTo>
                  <a:lnTo>
                    <a:pt x="874" y="2666"/>
                  </a:lnTo>
                  <a:lnTo>
                    <a:pt x="878" y="2654"/>
                  </a:lnTo>
                  <a:lnTo>
                    <a:pt x="880" y="2646"/>
                  </a:lnTo>
                  <a:lnTo>
                    <a:pt x="880" y="2646"/>
                  </a:lnTo>
                  <a:lnTo>
                    <a:pt x="866" y="2658"/>
                  </a:lnTo>
                  <a:lnTo>
                    <a:pt x="854" y="2664"/>
                  </a:lnTo>
                  <a:lnTo>
                    <a:pt x="838" y="2670"/>
                  </a:lnTo>
                  <a:lnTo>
                    <a:pt x="822" y="2672"/>
                  </a:lnTo>
                  <a:lnTo>
                    <a:pt x="790" y="2674"/>
                  </a:lnTo>
                  <a:lnTo>
                    <a:pt x="758" y="2674"/>
                  </a:lnTo>
                  <a:lnTo>
                    <a:pt x="758" y="2674"/>
                  </a:lnTo>
                  <a:lnTo>
                    <a:pt x="720" y="2672"/>
                  </a:lnTo>
                  <a:lnTo>
                    <a:pt x="682" y="2664"/>
                  </a:lnTo>
                  <a:lnTo>
                    <a:pt x="648" y="2652"/>
                  </a:lnTo>
                  <a:lnTo>
                    <a:pt x="614" y="2638"/>
                  </a:lnTo>
                  <a:lnTo>
                    <a:pt x="582" y="2620"/>
                  </a:lnTo>
                  <a:lnTo>
                    <a:pt x="552" y="2600"/>
                  </a:lnTo>
                  <a:lnTo>
                    <a:pt x="524" y="2576"/>
                  </a:lnTo>
                  <a:lnTo>
                    <a:pt x="498" y="2550"/>
                  </a:lnTo>
                  <a:lnTo>
                    <a:pt x="498" y="2550"/>
                  </a:lnTo>
                  <a:lnTo>
                    <a:pt x="486" y="2528"/>
                  </a:lnTo>
                  <a:lnTo>
                    <a:pt x="478" y="2508"/>
                  </a:lnTo>
                  <a:lnTo>
                    <a:pt x="472" y="2486"/>
                  </a:lnTo>
                  <a:lnTo>
                    <a:pt x="468" y="2466"/>
                  </a:lnTo>
                  <a:lnTo>
                    <a:pt x="466" y="2448"/>
                  </a:lnTo>
                  <a:lnTo>
                    <a:pt x="464" y="2428"/>
                  </a:lnTo>
                  <a:lnTo>
                    <a:pt x="466" y="2394"/>
                  </a:lnTo>
                  <a:lnTo>
                    <a:pt x="472" y="2362"/>
                  </a:lnTo>
                  <a:lnTo>
                    <a:pt x="478" y="2336"/>
                  </a:lnTo>
                  <a:lnTo>
                    <a:pt x="480" y="2314"/>
                  </a:lnTo>
                  <a:lnTo>
                    <a:pt x="480" y="2306"/>
                  </a:lnTo>
                  <a:lnTo>
                    <a:pt x="480" y="2298"/>
                  </a:lnTo>
                  <a:lnTo>
                    <a:pt x="480" y="2298"/>
                  </a:lnTo>
                  <a:lnTo>
                    <a:pt x="472" y="2286"/>
                  </a:lnTo>
                  <a:lnTo>
                    <a:pt x="464" y="2276"/>
                  </a:lnTo>
                  <a:lnTo>
                    <a:pt x="440" y="2254"/>
                  </a:lnTo>
                  <a:lnTo>
                    <a:pt x="418" y="2234"/>
                  </a:lnTo>
                  <a:lnTo>
                    <a:pt x="402" y="2220"/>
                  </a:lnTo>
                  <a:lnTo>
                    <a:pt x="402" y="2220"/>
                  </a:lnTo>
                  <a:lnTo>
                    <a:pt x="424" y="2188"/>
                  </a:lnTo>
                  <a:lnTo>
                    <a:pt x="460" y="2148"/>
                  </a:lnTo>
                  <a:lnTo>
                    <a:pt x="550" y="2050"/>
                  </a:lnTo>
                  <a:lnTo>
                    <a:pt x="644" y="1952"/>
                  </a:lnTo>
                  <a:lnTo>
                    <a:pt x="682" y="1910"/>
                  </a:lnTo>
                  <a:lnTo>
                    <a:pt x="712" y="1876"/>
                  </a:lnTo>
                  <a:lnTo>
                    <a:pt x="712" y="1876"/>
                  </a:lnTo>
                  <a:lnTo>
                    <a:pt x="730" y="1854"/>
                  </a:lnTo>
                  <a:lnTo>
                    <a:pt x="748" y="1828"/>
                  </a:lnTo>
                  <a:lnTo>
                    <a:pt x="762" y="1802"/>
                  </a:lnTo>
                  <a:lnTo>
                    <a:pt x="774" y="1776"/>
                  </a:lnTo>
                  <a:lnTo>
                    <a:pt x="784" y="1748"/>
                  </a:lnTo>
                  <a:lnTo>
                    <a:pt x="788" y="1722"/>
                  </a:lnTo>
                  <a:lnTo>
                    <a:pt x="790" y="1694"/>
                  </a:lnTo>
                  <a:lnTo>
                    <a:pt x="788" y="1682"/>
                  </a:lnTo>
                  <a:lnTo>
                    <a:pt x="786" y="1670"/>
                  </a:lnTo>
                  <a:lnTo>
                    <a:pt x="786" y="1670"/>
                  </a:lnTo>
                  <a:lnTo>
                    <a:pt x="776" y="1678"/>
                  </a:lnTo>
                  <a:lnTo>
                    <a:pt x="764" y="1684"/>
                  </a:lnTo>
                  <a:lnTo>
                    <a:pt x="752" y="1688"/>
                  </a:lnTo>
                  <a:lnTo>
                    <a:pt x="740" y="1690"/>
                  </a:lnTo>
                  <a:lnTo>
                    <a:pt x="726" y="1690"/>
                  </a:lnTo>
                  <a:lnTo>
                    <a:pt x="712" y="1690"/>
                  </a:lnTo>
                  <a:lnTo>
                    <a:pt x="700" y="1686"/>
                  </a:lnTo>
                  <a:lnTo>
                    <a:pt x="688" y="1682"/>
                  </a:lnTo>
                  <a:lnTo>
                    <a:pt x="688" y="1682"/>
                  </a:lnTo>
                  <a:lnTo>
                    <a:pt x="686" y="1700"/>
                  </a:lnTo>
                  <a:lnTo>
                    <a:pt x="682" y="1716"/>
                  </a:lnTo>
                  <a:lnTo>
                    <a:pt x="676" y="1732"/>
                  </a:lnTo>
                  <a:lnTo>
                    <a:pt x="668" y="1746"/>
                  </a:lnTo>
                  <a:lnTo>
                    <a:pt x="656" y="1762"/>
                  </a:lnTo>
                  <a:lnTo>
                    <a:pt x="644" y="1774"/>
                  </a:lnTo>
                  <a:lnTo>
                    <a:pt x="630" y="1786"/>
                  </a:lnTo>
                  <a:lnTo>
                    <a:pt x="614" y="1798"/>
                  </a:lnTo>
                  <a:lnTo>
                    <a:pt x="598" y="1806"/>
                  </a:lnTo>
                  <a:lnTo>
                    <a:pt x="580" y="1814"/>
                  </a:lnTo>
                  <a:lnTo>
                    <a:pt x="560" y="1818"/>
                  </a:lnTo>
                  <a:lnTo>
                    <a:pt x="540" y="1820"/>
                  </a:lnTo>
                  <a:lnTo>
                    <a:pt x="520" y="1820"/>
                  </a:lnTo>
                  <a:lnTo>
                    <a:pt x="498" y="1814"/>
                  </a:lnTo>
                  <a:lnTo>
                    <a:pt x="478" y="1808"/>
                  </a:lnTo>
                  <a:lnTo>
                    <a:pt x="456" y="1796"/>
                  </a:lnTo>
                  <a:lnTo>
                    <a:pt x="456" y="1796"/>
                  </a:lnTo>
                  <a:lnTo>
                    <a:pt x="450" y="1812"/>
                  </a:lnTo>
                  <a:lnTo>
                    <a:pt x="440" y="1830"/>
                  </a:lnTo>
                  <a:lnTo>
                    <a:pt x="424" y="1848"/>
                  </a:lnTo>
                  <a:lnTo>
                    <a:pt x="416" y="1858"/>
                  </a:lnTo>
                  <a:lnTo>
                    <a:pt x="404" y="1866"/>
                  </a:lnTo>
                  <a:lnTo>
                    <a:pt x="392" y="1874"/>
                  </a:lnTo>
                  <a:lnTo>
                    <a:pt x="378" y="1882"/>
                  </a:lnTo>
                  <a:lnTo>
                    <a:pt x="362" y="1886"/>
                  </a:lnTo>
                  <a:lnTo>
                    <a:pt x="346" y="1890"/>
                  </a:lnTo>
                  <a:lnTo>
                    <a:pt x="326" y="1892"/>
                  </a:lnTo>
                  <a:lnTo>
                    <a:pt x="304" y="1892"/>
                  </a:lnTo>
                  <a:lnTo>
                    <a:pt x="304" y="1892"/>
                  </a:lnTo>
                  <a:lnTo>
                    <a:pt x="282" y="1888"/>
                  </a:lnTo>
                  <a:lnTo>
                    <a:pt x="262" y="1882"/>
                  </a:lnTo>
                  <a:lnTo>
                    <a:pt x="244" y="1876"/>
                  </a:lnTo>
                  <a:lnTo>
                    <a:pt x="230" y="1868"/>
                  </a:lnTo>
                  <a:lnTo>
                    <a:pt x="216" y="1860"/>
                  </a:lnTo>
                  <a:lnTo>
                    <a:pt x="206" y="1850"/>
                  </a:lnTo>
                  <a:lnTo>
                    <a:pt x="196" y="1840"/>
                  </a:lnTo>
                  <a:lnTo>
                    <a:pt x="188" y="1830"/>
                  </a:lnTo>
                  <a:lnTo>
                    <a:pt x="182" y="1818"/>
                  </a:lnTo>
                  <a:lnTo>
                    <a:pt x="178" y="1806"/>
                  </a:lnTo>
                  <a:lnTo>
                    <a:pt x="172" y="1782"/>
                  </a:lnTo>
                  <a:lnTo>
                    <a:pt x="172" y="1760"/>
                  </a:lnTo>
                  <a:lnTo>
                    <a:pt x="174" y="1736"/>
                  </a:lnTo>
                  <a:lnTo>
                    <a:pt x="174" y="1736"/>
                  </a:lnTo>
                  <a:lnTo>
                    <a:pt x="178" y="1720"/>
                  </a:lnTo>
                  <a:lnTo>
                    <a:pt x="186" y="1708"/>
                  </a:lnTo>
                  <a:lnTo>
                    <a:pt x="196" y="1694"/>
                  </a:lnTo>
                  <a:lnTo>
                    <a:pt x="206" y="1684"/>
                  </a:lnTo>
                  <a:lnTo>
                    <a:pt x="218" y="1674"/>
                  </a:lnTo>
                  <a:lnTo>
                    <a:pt x="230" y="1666"/>
                  </a:lnTo>
                  <a:lnTo>
                    <a:pt x="258" y="1650"/>
                  </a:lnTo>
                  <a:lnTo>
                    <a:pt x="258" y="1650"/>
                  </a:lnTo>
                  <a:lnTo>
                    <a:pt x="250" y="1630"/>
                  </a:lnTo>
                  <a:lnTo>
                    <a:pt x="244" y="1608"/>
                  </a:lnTo>
                  <a:lnTo>
                    <a:pt x="242" y="1586"/>
                  </a:lnTo>
                  <a:lnTo>
                    <a:pt x="242" y="1564"/>
                  </a:lnTo>
                  <a:lnTo>
                    <a:pt x="244" y="1544"/>
                  </a:lnTo>
                  <a:lnTo>
                    <a:pt x="250" y="1522"/>
                  </a:lnTo>
                  <a:lnTo>
                    <a:pt x="256" y="1502"/>
                  </a:lnTo>
                  <a:lnTo>
                    <a:pt x="264" y="1484"/>
                  </a:lnTo>
                  <a:lnTo>
                    <a:pt x="264" y="1484"/>
                  </a:lnTo>
                  <a:lnTo>
                    <a:pt x="280" y="1466"/>
                  </a:lnTo>
                  <a:lnTo>
                    <a:pt x="298" y="1448"/>
                  </a:lnTo>
                  <a:lnTo>
                    <a:pt x="318" y="1432"/>
                  </a:lnTo>
                  <a:lnTo>
                    <a:pt x="338" y="1418"/>
                  </a:lnTo>
                  <a:lnTo>
                    <a:pt x="360" y="1406"/>
                  </a:lnTo>
                  <a:lnTo>
                    <a:pt x="382" y="1396"/>
                  </a:lnTo>
                  <a:lnTo>
                    <a:pt x="406" y="1390"/>
                  </a:lnTo>
                  <a:lnTo>
                    <a:pt x="430" y="1388"/>
                  </a:lnTo>
                  <a:lnTo>
                    <a:pt x="430" y="1388"/>
                  </a:lnTo>
                  <a:lnTo>
                    <a:pt x="428" y="1362"/>
                  </a:lnTo>
                  <a:lnTo>
                    <a:pt x="430" y="1340"/>
                  </a:lnTo>
                  <a:lnTo>
                    <a:pt x="436" y="1316"/>
                  </a:lnTo>
                  <a:lnTo>
                    <a:pt x="440" y="1302"/>
                  </a:lnTo>
                  <a:lnTo>
                    <a:pt x="448" y="1286"/>
                  </a:lnTo>
                  <a:lnTo>
                    <a:pt x="448" y="1286"/>
                  </a:lnTo>
                  <a:lnTo>
                    <a:pt x="416" y="1282"/>
                  </a:lnTo>
                  <a:lnTo>
                    <a:pt x="386" y="1274"/>
                  </a:lnTo>
                  <a:lnTo>
                    <a:pt x="358" y="1266"/>
                  </a:lnTo>
                  <a:lnTo>
                    <a:pt x="330" y="1254"/>
                  </a:lnTo>
                  <a:lnTo>
                    <a:pt x="318" y="1246"/>
                  </a:lnTo>
                  <a:lnTo>
                    <a:pt x="306" y="1238"/>
                  </a:lnTo>
                  <a:lnTo>
                    <a:pt x="294" y="1228"/>
                  </a:lnTo>
                  <a:lnTo>
                    <a:pt x="284" y="1218"/>
                  </a:lnTo>
                  <a:lnTo>
                    <a:pt x="274" y="1206"/>
                  </a:lnTo>
                  <a:lnTo>
                    <a:pt x="266" y="1194"/>
                  </a:lnTo>
                  <a:lnTo>
                    <a:pt x="258" y="1178"/>
                  </a:lnTo>
                  <a:lnTo>
                    <a:pt x="252" y="1164"/>
                  </a:lnTo>
                  <a:lnTo>
                    <a:pt x="252" y="1164"/>
                  </a:lnTo>
                  <a:lnTo>
                    <a:pt x="264" y="1148"/>
                  </a:lnTo>
                  <a:lnTo>
                    <a:pt x="278" y="1138"/>
                  </a:lnTo>
                  <a:lnTo>
                    <a:pt x="294" y="1130"/>
                  </a:lnTo>
                  <a:lnTo>
                    <a:pt x="310" y="1124"/>
                  </a:lnTo>
                  <a:lnTo>
                    <a:pt x="330" y="1118"/>
                  </a:lnTo>
                  <a:lnTo>
                    <a:pt x="348" y="1114"/>
                  </a:lnTo>
                  <a:lnTo>
                    <a:pt x="384" y="1108"/>
                  </a:lnTo>
                  <a:lnTo>
                    <a:pt x="384" y="1108"/>
                  </a:lnTo>
                  <a:lnTo>
                    <a:pt x="414" y="1108"/>
                  </a:lnTo>
                  <a:lnTo>
                    <a:pt x="442" y="1112"/>
                  </a:lnTo>
                  <a:lnTo>
                    <a:pt x="468" y="1118"/>
                  </a:lnTo>
                  <a:lnTo>
                    <a:pt x="496" y="1126"/>
                  </a:lnTo>
                  <a:lnTo>
                    <a:pt x="500" y="1120"/>
                  </a:lnTo>
                  <a:lnTo>
                    <a:pt x="500" y="1120"/>
                  </a:lnTo>
                  <a:lnTo>
                    <a:pt x="490" y="1106"/>
                  </a:lnTo>
                  <a:lnTo>
                    <a:pt x="480" y="1086"/>
                  </a:lnTo>
                  <a:lnTo>
                    <a:pt x="472" y="1064"/>
                  </a:lnTo>
                  <a:lnTo>
                    <a:pt x="462" y="1038"/>
                  </a:lnTo>
                  <a:lnTo>
                    <a:pt x="444" y="978"/>
                  </a:lnTo>
                  <a:lnTo>
                    <a:pt x="426" y="916"/>
                  </a:lnTo>
                  <a:lnTo>
                    <a:pt x="396" y="794"/>
                  </a:lnTo>
                  <a:lnTo>
                    <a:pt x="384" y="746"/>
                  </a:lnTo>
                  <a:lnTo>
                    <a:pt x="376" y="714"/>
                  </a:lnTo>
                  <a:lnTo>
                    <a:pt x="376" y="714"/>
                  </a:lnTo>
                  <a:lnTo>
                    <a:pt x="330" y="720"/>
                  </a:lnTo>
                  <a:lnTo>
                    <a:pt x="278" y="724"/>
                  </a:lnTo>
                  <a:lnTo>
                    <a:pt x="166" y="730"/>
                  </a:lnTo>
                  <a:lnTo>
                    <a:pt x="64" y="732"/>
                  </a:lnTo>
                  <a:lnTo>
                    <a:pt x="26" y="730"/>
                  </a:lnTo>
                  <a:lnTo>
                    <a:pt x="0" y="728"/>
                  </a:lnTo>
                  <a:lnTo>
                    <a:pt x="0" y="728"/>
                  </a:lnTo>
                  <a:lnTo>
                    <a:pt x="64" y="652"/>
                  </a:lnTo>
                  <a:lnTo>
                    <a:pt x="134" y="572"/>
                  </a:lnTo>
                  <a:lnTo>
                    <a:pt x="224" y="474"/>
                  </a:lnTo>
                  <a:lnTo>
                    <a:pt x="272" y="420"/>
                  </a:lnTo>
                  <a:lnTo>
                    <a:pt x="324" y="366"/>
                  </a:lnTo>
                  <a:lnTo>
                    <a:pt x="378" y="312"/>
                  </a:lnTo>
                  <a:lnTo>
                    <a:pt x="434" y="260"/>
                  </a:lnTo>
                  <a:lnTo>
                    <a:pt x="490" y="210"/>
                  </a:lnTo>
                  <a:lnTo>
                    <a:pt x="544" y="164"/>
                  </a:lnTo>
                  <a:lnTo>
                    <a:pt x="598" y="122"/>
                  </a:lnTo>
                  <a:lnTo>
                    <a:pt x="650" y="84"/>
                  </a:lnTo>
                  <a:lnTo>
                    <a:pt x="650" y="84"/>
                  </a:lnTo>
                  <a:lnTo>
                    <a:pt x="680" y="76"/>
                  </a:lnTo>
                  <a:lnTo>
                    <a:pt x="714" y="68"/>
                  </a:lnTo>
                  <a:lnTo>
                    <a:pt x="794" y="54"/>
                  </a:lnTo>
                  <a:lnTo>
                    <a:pt x="880" y="40"/>
                  </a:lnTo>
                  <a:lnTo>
                    <a:pt x="970" y="28"/>
                  </a:lnTo>
                  <a:lnTo>
                    <a:pt x="1122" y="8"/>
                  </a:lnTo>
                  <a:lnTo>
                    <a:pt x="1198" y="0"/>
                  </a:lnTo>
                  <a:lnTo>
                    <a:pt x="1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14240" y="4990680"/>
              <a:ext cx="2174760" cy="171756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1370" h="1082">
                  <a:moveTo>
                    <a:pt x="1370" y="184"/>
                  </a:moveTo>
                  <a:lnTo>
                    <a:pt x="1370" y="184"/>
                  </a:lnTo>
                  <a:lnTo>
                    <a:pt x="1338" y="196"/>
                  </a:lnTo>
                  <a:lnTo>
                    <a:pt x="1296" y="212"/>
                  </a:lnTo>
                  <a:lnTo>
                    <a:pt x="1248" y="234"/>
                  </a:lnTo>
                  <a:lnTo>
                    <a:pt x="1196" y="258"/>
                  </a:lnTo>
                  <a:lnTo>
                    <a:pt x="1102" y="306"/>
                  </a:lnTo>
                  <a:lnTo>
                    <a:pt x="1038" y="340"/>
                  </a:lnTo>
                  <a:lnTo>
                    <a:pt x="1038" y="340"/>
                  </a:lnTo>
                  <a:lnTo>
                    <a:pt x="994" y="366"/>
                  </a:lnTo>
                  <a:lnTo>
                    <a:pt x="944" y="400"/>
                  </a:lnTo>
                  <a:lnTo>
                    <a:pt x="890" y="442"/>
                  </a:lnTo>
                  <a:lnTo>
                    <a:pt x="834" y="488"/>
                  </a:lnTo>
                  <a:lnTo>
                    <a:pt x="780" y="538"/>
                  </a:lnTo>
                  <a:lnTo>
                    <a:pt x="728" y="590"/>
                  </a:lnTo>
                  <a:lnTo>
                    <a:pt x="704" y="618"/>
                  </a:lnTo>
                  <a:lnTo>
                    <a:pt x="680" y="646"/>
                  </a:lnTo>
                  <a:lnTo>
                    <a:pt x="660" y="674"/>
                  </a:lnTo>
                  <a:lnTo>
                    <a:pt x="640" y="702"/>
                  </a:lnTo>
                  <a:lnTo>
                    <a:pt x="640" y="702"/>
                  </a:lnTo>
                  <a:lnTo>
                    <a:pt x="616" y="738"/>
                  </a:lnTo>
                  <a:lnTo>
                    <a:pt x="596" y="772"/>
                  </a:lnTo>
                  <a:lnTo>
                    <a:pt x="576" y="808"/>
                  </a:lnTo>
                  <a:lnTo>
                    <a:pt x="558" y="842"/>
                  </a:lnTo>
                  <a:lnTo>
                    <a:pt x="528" y="906"/>
                  </a:lnTo>
                  <a:lnTo>
                    <a:pt x="504" y="964"/>
                  </a:lnTo>
                  <a:lnTo>
                    <a:pt x="486" y="1012"/>
                  </a:lnTo>
                  <a:lnTo>
                    <a:pt x="474" y="1050"/>
                  </a:lnTo>
                  <a:lnTo>
                    <a:pt x="464" y="1082"/>
                  </a:lnTo>
                  <a:lnTo>
                    <a:pt x="464" y="1082"/>
                  </a:lnTo>
                  <a:lnTo>
                    <a:pt x="454" y="1070"/>
                  </a:lnTo>
                  <a:lnTo>
                    <a:pt x="444" y="1054"/>
                  </a:lnTo>
                  <a:lnTo>
                    <a:pt x="430" y="1032"/>
                  </a:lnTo>
                  <a:lnTo>
                    <a:pt x="416" y="1006"/>
                  </a:lnTo>
                  <a:lnTo>
                    <a:pt x="402" y="976"/>
                  </a:lnTo>
                  <a:lnTo>
                    <a:pt x="388" y="942"/>
                  </a:lnTo>
                  <a:lnTo>
                    <a:pt x="374" y="904"/>
                  </a:lnTo>
                  <a:lnTo>
                    <a:pt x="360" y="866"/>
                  </a:lnTo>
                  <a:lnTo>
                    <a:pt x="348" y="824"/>
                  </a:lnTo>
                  <a:lnTo>
                    <a:pt x="336" y="780"/>
                  </a:lnTo>
                  <a:lnTo>
                    <a:pt x="324" y="734"/>
                  </a:lnTo>
                  <a:lnTo>
                    <a:pt x="316" y="688"/>
                  </a:lnTo>
                  <a:lnTo>
                    <a:pt x="308" y="640"/>
                  </a:lnTo>
                  <a:lnTo>
                    <a:pt x="302" y="592"/>
                  </a:lnTo>
                  <a:lnTo>
                    <a:pt x="300" y="544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288" y="512"/>
                  </a:lnTo>
                  <a:lnTo>
                    <a:pt x="272" y="528"/>
                  </a:lnTo>
                  <a:lnTo>
                    <a:pt x="238" y="560"/>
                  </a:lnTo>
                  <a:lnTo>
                    <a:pt x="196" y="596"/>
                  </a:lnTo>
                  <a:lnTo>
                    <a:pt x="196" y="596"/>
                  </a:lnTo>
                  <a:lnTo>
                    <a:pt x="92" y="600"/>
                  </a:lnTo>
                  <a:lnTo>
                    <a:pt x="30" y="604"/>
                  </a:lnTo>
                  <a:lnTo>
                    <a:pt x="0" y="604"/>
                  </a:lnTo>
                  <a:lnTo>
                    <a:pt x="0" y="604"/>
                  </a:lnTo>
                  <a:lnTo>
                    <a:pt x="24" y="572"/>
                  </a:lnTo>
                  <a:lnTo>
                    <a:pt x="56" y="538"/>
                  </a:lnTo>
                  <a:lnTo>
                    <a:pt x="92" y="500"/>
                  </a:lnTo>
                  <a:lnTo>
                    <a:pt x="130" y="460"/>
                  </a:lnTo>
                  <a:lnTo>
                    <a:pt x="216" y="376"/>
                  </a:lnTo>
                  <a:lnTo>
                    <a:pt x="304" y="294"/>
                  </a:lnTo>
                  <a:lnTo>
                    <a:pt x="390" y="218"/>
                  </a:lnTo>
                  <a:lnTo>
                    <a:pt x="464" y="152"/>
                  </a:lnTo>
                  <a:lnTo>
                    <a:pt x="548" y="80"/>
                  </a:lnTo>
                  <a:lnTo>
                    <a:pt x="548" y="80"/>
                  </a:lnTo>
                  <a:lnTo>
                    <a:pt x="580" y="72"/>
                  </a:lnTo>
                  <a:lnTo>
                    <a:pt x="612" y="64"/>
                  </a:lnTo>
                  <a:lnTo>
                    <a:pt x="686" y="50"/>
                  </a:lnTo>
                  <a:lnTo>
                    <a:pt x="762" y="38"/>
                  </a:lnTo>
                  <a:lnTo>
                    <a:pt x="842" y="28"/>
                  </a:lnTo>
                  <a:lnTo>
                    <a:pt x="980" y="12"/>
                  </a:lnTo>
                  <a:lnTo>
                    <a:pt x="1034" y="4"/>
                  </a:lnTo>
                  <a:lnTo>
                    <a:pt x="1068" y="0"/>
                  </a:lnTo>
                  <a:lnTo>
                    <a:pt x="1068" y="0"/>
                  </a:lnTo>
                  <a:lnTo>
                    <a:pt x="1084" y="6"/>
                  </a:lnTo>
                  <a:lnTo>
                    <a:pt x="1104" y="14"/>
                  </a:lnTo>
                  <a:lnTo>
                    <a:pt x="1146" y="36"/>
                  </a:lnTo>
                  <a:lnTo>
                    <a:pt x="1194" y="64"/>
                  </a:lnTo>
                  <a:lnTo>
                    <a:pt x="1240" y="94"/>
                  </a:lnTo>
                  <a:lnTo>
                    <a:pt x="1324" y="150"/>
                  </a:lnTo>
                  <a:lnTo>
                    <a:pt x="1370" y="184"/>
                  </a:lnTo>
                  <a:lnTo>
                    <a:pt x="1370" y="184"/>
                  </a:lnTo>
                  <a:close/>
                </a:path>
              </a:pathLst>
            </a:custGeom>
            <a:solidFill>
              <a:srgbClr val="d1e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1031760" y="6711840"/>
              <a:ext cx="291960" cy="14256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84" h="90">
                  <a:moveTo>
                    <a:pt x="184" y="38"/>
                  </a:moveTo>
                  <a:lnTo>
                    <a:pt x="184" y="38"/>
                  </a:lnTo>
                  <a:lnTo>
                    <a:pt x="184" y="44"/>
                  </a:lnTo>
                  <a:lnTo>
                    <a:pt x="182" y="52"/>
                  </a:lnTo>
                  <a:lnTo>
                    <a:pt x="176" y="62"/>
                  </a:lnTo>
                  <a:lnTo>
                    <a:pt x="166" y="72"/>
                  </a:lnTo>
                  <a:lnTo>
                    <a:pt x="156" y="82"/>
                  </a:lnTo>
                  <a:lnTo>
                    <a:pt x="156" y="82"/>
                  </a:lnTo>
                  <a:lnTo>
                    <a:pt x="138" y="86"/>
                  </a:lnTo>
                  <a:lnTo>
                    <a:pt x="120" y="90"/>
                  </a:lnTo>
                  <a:lnTo>
                    <a:pt x="100" y="90"/>
                  </a:lnTo>
                  <a:lnTo>
                    <a:pt x="82" y="88"/>
                  </a:lnTo>
                  <a:lnTo>
                    <a:pt x="64" y="86"/>
                  </a:lnTo>
                  <a:lnTo>
                    <a:pt x="46" y="80"/>
                  </a:lnTo>
                  <a:lnTo>
                    <a:pt x="30" y="7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2" y="50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8" y="12"/>
                  </a:lnTo>
                  <a:lnTo>
                    <a:pt x="16" y="10"/>
                  </a:lnTo>
                  <a:lnTo>
                    <a:pt x="26" y="8"/>
                  </a:lnTo>
                  <a:lnTo>
                    <a:pt x="36" y="8"/>
                  </a:lnTo>
                  <a:lnTo>
                    <a:pt x="54" y="8"/>
                  </a:lnTo>
                  <a:lnTo>
                    <a:pt x="62" y="6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4" y="6"/>
                  </a:lnTo>
                  <a:lnTo>
                    <a:pt x="98" y="10"/>
                  </a:lnTo>
                  <a:lnTo>
                    <a:pt x="130" y="14"/>
                  </a:lnTo>
                  <a:lnTo>
                    <a:pt x="144" y="18"/>
                  </a:lnTo>
                  <a:lnTo>
                    <a:pt x="158" y="22"/>
                  </a:lnTo>
                  <a:lnTo>
                    <a:pt x="172" y="28"/>
                  </a:lnTo>
                  <a:lnTo>
                    <a:pt x="184" y="38"/>
                  </a:lnTo>
                  <a:lnTo>
                    <a:pt x="184" y="38"/>
                  </a:lnTo>
                  <a:close/>
                </a:path>
              </a:pathLst>
            </a:custGeom>
            <a:solidFill>
              <a:srgbClr val="d1eb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1971360" y="5378040"/>
              <a:ext cx="1285920" cy="64440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810" h="406">
                  <a:moveTo>
                    <a:pt x="810" y="278"/>
                  </a:moveTo>
                  <a:lnTo>
                    <a:pt x="810" y="278"/>
                  </a:lnTo>
                  <a:lnTo>
                    <a:pt x="782" y="268"/>
                  </a:lnTo>
                  <a:lnTo>
                    <a:pt x="752" y="260"/>
                  </a:lnTo>
                  <a:lnTo>
                    <a:pt x="722" y="256"/>
                  </a:lnTo>
                  <a:lnTo>
                    <a:pt x="690" y="254"/>
                  </a:lnTo>
                  <a:lnTo>
                    <a:pt x="656" y="252"/>
                  </a:lnTo>
                  <a:lnTo>
                    <a:pt x="622" y="252"/>
                  </a:lnTo>
                  <a:lnTo>
                    <a:pt x="554" y="258"/>
                  </a:lnTo>
                  <a:lnTo>
                    <a:pt x="412" y="272"/>
                  </a:lnTo>
                  <a:lnTo>
                    <a:pt x="340" y="278"/>
                  </a:lnTo>
                  <a:lnTo>
                    <a:pt x="306" y="280"/>
                  </a:lnTo>
                  <a:lnTo>
                    <a:pt x="270" y="280"/>
                  </a:lnTo>
                  <a:lnTo>
                    <a:pt x="270" y="280"/>
                  </a:lnTo>
                  <a:lnTo>
                    <a:pt x="300" y="300"/>
                  </a:lnTo>
                  <a:lnTo>
                    <a:pt x="330" y="320"/>
                  </a:lnTo>
                  <a:lnTo>
                    <a:pt x="360" y="340"/>
                  </a:lnTo>
                  <a:lnTo>
                    <a:pt x="376" y="348"/>
                  </a:lnTo>
                  <a:lnTo>
                    <a:pt x="392" y="356"/>
                  </a:lnTo>
                  <a:lnTo>
                    <a:pt x="392" y="356"/>
                  </a:lnTo>
                  <a:lnTo>
                    <a:pt x="376" y="364"/>
                  </a:lnTo>
                  <a:lnTo>
                    <a:pt x="362" y="370"/>
                  </a:lnTo>
                  <a:lnTo>
                    <a:pt x="330" y="382"/>
                  </a:lnTo>
                  <a:lnTo>
                    <a:pt x="298" y="390"/>
                  </a:lnTo>
                  <a:lnTo>
                    <a:pt x="264" y="396"/>
                  </a:lnTo>
                  <a:lnTo>
                    <a:pt x="230" y="398"/>
                  </a:lnTo>
                  <a:lnTo>
                    <a:pt x="194" y="402"/>
                  </a:lnTo>
                  <a:lnTo>
                    <a:pt x="124" y="406"/>
                  </a:lnTo>
                  <a:lnTo>
                    <a:pt x="124" y="406"/>
                  </a:lnTo>
                  <a:lnTo>
                    <a:pt x="92" y="404"/>
                  </a:lnTo>
                  <a:lnTo>
                    <a:pt x="60" y="400"/>
                  </a:lnTo>
                  <a:lnTo>
                    <a:pt x="30" y="394"/>
                  </a:lnTo>
                  <a:lnTo>
                    <a:pt x="0" y="388"/>
                  </a:lnTo>
                  <a:lnTo>
                    <a:pt x="0" y="388"/>
                  </a:lnTo>
                  <a:lnTo>
                    <a:pt x="30" y="354"/>
                  </a:lnTo>
                  <a:lnTo>
                    <a:pt x="62" y="320"/>
                  </a:lnTo>
                  <a:lnTo>
                    <a:pt x="96" y="288"/>
                  </a:lnTo>
                  <a:lnTo>
                    <a:pt x="132" y="258"/>
                  </a:lnTo>
                  <a:lnTo>
                    <a:pt x="168" y="228"/>
                  </a:lnTo>
                  <a:lnTo>
                    <a:pt x="206" y="200"/>
                  </a:lnTo>
                  <a:lnTo>
                    <a:pt x="246" y="172"/>
                  </a:lnTo>
                  <a:lnTo>
                    <a:pt x="286" y="146"/>
                  </a:lnTo>
                  <a:lnTo>
                    <a:pt x="326" y="122"/>
                  </a:lnTo>
                  <a:lnTo>
                    <a:pt x="368" y="100"/>
                  </a:lnTo>
                  <a:lnTo>
                    <a:pt x="408" y="78"/>
                  </a:lnTo>
                  <a:lnTo>
                    <a:pt x="450" y="60"/>
                  </a:lnTo>
                  <a:lnTo>
                    <a:pt x="492" y="42"/>
                  </a:lnTo>
                  <a:lnTo>
                    <a:pt x="534" y="26"/>
                  </a:lnTo>
                  <a:lnTo>
                    <a:pt x="574" y="12"/>
                  </a:lnTo>
                  <a:lnTo>
                    <a:pt x="614" y="0"/>
                  </a:lnTo>
                  <a:lnTo>
                    <a:pt x="614" y="0"/>
                  </a:lnTo>
                  <a:lnTo>
                    <a:pt x="622" y="4"/>
                  </a:lnTo>
                  <a:lnTo>
                    <a:pt x="638" y="14"/>
                  </a:lnTo>
                  <a:lnTo>
                    <a:pt x="664" y="34"/>
                  </a:lnTo>
                  <a:lnTo>
                    <a:pt x="694" y="62"/>
                  </a:lnTo>
                  <a:lnTo>
                    <a:pt x="710" y="78"/>
                  </a:lnTo>
                  <a:lnTo>
                    <a:pt x="726" y="98"/>
                  </a:lnTo>
                  <a:lnTo>
                    <a:pt x="742" y="122"/>
                  </a:lnTo>
                  <a:lnTo>
                    <a:pt x="758" y="146"/>
                  </a:lnTo>
                  <a:lnTo>
                    <a:pt x="774" y="176"/>
                  </a:lnTo>
                  <a:lnTo>
                    <a:pt x="788" y="206"/>
                  </a:lnTo>
                  <a:lnTo>
                    <a:pt x="800" y="240"/>
                  </a:lnTo>
                  <a:lnTo>
                    <a:pt x="810" y="278"/>
                  </a:lnTo>
                  <a:lnTo>
                    <a:pt x="810" y="278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1561680" y="6350040"/>
              <a:ext cx="133200" cy="3902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4" h="246">
                  <a:moveTo>
                    <a:pt x="80" y="180"/>
                  </a:moveTo>
                  <a:lnTo>
                    <a:pt x="80" y="180"/>
                  </a:lnTo>
                  <a:lnTo>
                    <a:pt x="70" y="182"/>
                  </a:lnTo>
                  <a:lnTo>
                    <a:pt x="62" y="186"/>
                  </a:lnTo>
                  <a:lnTo>
                    <a:pt x="54" y="192"/>
                  </a:lnTo>
                  <a:lnTo>
                    <a:pt x="48" y="202"/>
                  </a:lnTo>
                  <a:lnTo>
                    <a:pt x="46" y="210"/>
                  </a:lnTo>
                  <a:lnTo>
                    <a:pt x="42" y="222"/>
                  </a:lnTo>
                  <a:lnTo>
                    <a:pt x="42" y="246"/>
                  </a:lnTo>
                  <a:lnTo>
                    <a:pt x="42" y="246"/>
                  </a:lnTo>
                  <a:lnTo>
                    <a:pt x="30" y="244"/>
                  </a:lnTo>
                  <a:lnTo>
                    <a:pt x="22" y="242"/>
                  </a:lnTo>
                  <a:lnTo>
                    <a:pt x="14" y="240"/>
                  </a:lnTo>
                  <a:lnTo>
                    <a:pt x="8" y="236"/>
                  </a:lnTo>
                  <a:lnTo>
                    <a:pt x="4" y="230"/>
                  </a:lnTo>
                  <a:lnTo>
                    <a:pt x="2" y="226"/>
                  </a:lnTo>
                  <a:lnTo>
                    <a:pt x="0" y="212"/>
                  </a:lnTo>
                  <a:lnTo>
                    <a:pt x="0" y="200"/>
                  </a:lnTo>
                  <a:lnTo>
                    <a:pt x="4" y="184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26" y="116"/>
                  </a:lnTo>
                  <a:lnTo>
                    <a:pt x="42" y="78"/>
                  </a:lnTo>
                  <a:lnTo>
                    <a:pt x="62" y="38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76"/>
                  </a:lnTo>
                  <a:lnTo>
                    <a:pt x="80" y="180"/>
                  </a:lnTo>
                  <a:lnTo>
                    <a:pt x="80" y="180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873000" y="6784920"/>
              <a:ext cx="1149120" cy="1022400"/>
            </a:xfrm>
            <a:custGeom>
              <a:avLst/>
              <a:gdLst>
                <a:gd name="textAreaLeft" fmla="*/ 0 w 1149120"/>
                <a:gd name="textAreaRight" fmla="*/ 1149480 w 1149120"/>
                <a:gd name="textAreaTop" fmla="*/ 0 h 1022400"/>
                <a:gd name="textAreaBottom" fmla="*/ 1022760 h 1022400"/>
              </a:gdLst>
              <a:ahLst/>
              <a:rect l="textAreaLeft" t="textAreaTop" r="textAreaRight" b="textAreaBottom"/>
              <a:pathLst>
                <a:path w="724" h="644">
                  <a:moveTo>
                    <a:pt x="494" y="42"/>
                  </a:moveTo>
                  <a:lnTo>
                    <a:pt x="494" y="42"/>
                  </a:lnTo>
                  <a:lnTo>
                    <a:pt x="506" y="60"/>
                  </a:lnTo>
                  <a:lnTo>
                    <a:pt x="518" y="72"/>
                  </a:lnTo>
                  <a:lnTo>
                    <a:pt x="534" y="82"/>
                  </a:lnTo>
                  <a:lnTo>
                    <a:pt x="550" y="90"/>
                  </a:lnTo>
                  <a:lnTo>
                    <a:pt x="566" y="94"/>
                  </a:lnTo>
                  <a:lnTo>
                    <a:pt x="584" y="94"/>
                  </a:lnTo>
                  <a:lnTo>
                    <a:pt x="602" y="92"/>
                  </a:lnTo>
                  <a:lnTo>
                    <a:pt x="622" y="86"/>
                  </a:lnTo>
                  <a:lnTo>
                    <a:pt x="622" y="86"/>
                  </a:lnTo>
                  <a:lnTo>
                    <a:pt x="644" y="100"/>
                  </a:lnTo>
                  <a:lnTo>
                    <a:pt x="668" y="112"/>
                  </a:lnTo>
                  <a:lnTo>
                    <a:pt x="694" y="126"/>
                  </a:lnTo>
                  <a:lnTo>
                    <a:pt x="724" y="142"/>
                  </a:lnTo>
                  <a:lnTo>
                    <a:pt x="724" y="142"/>
                  </a:lnTo>
                  <a:lnTo>
                    <a:pt x="698" y="156"/>
                  </a:lnTo>
                  <a:lnTo>
                    <a:pt x="676" y="170"/>
                  </a:lnTo>
                  <a:lnTo>
                    <a:pt x="656" y="184"/>
                  </a:lnTo>
                  <a:lnTo>
                    <a:pt x="640" y="202"/>
                  </a:lnTo>
                  <a:lnTo>
                    <a:pt x="626" y="218"/>
                  </a:lnTo>
                  <a:lnTo>
                    <a:pt x="616" y="236"/>
                  </a:lnTo>
                  <a:lnTo>
                    <a:pt x="608" y="254"/>
                  </a:lnTo>
                  <a:lnTo>
                    <a:pt x="600" y="274"/>
                  </a:lnTo>
                  <a:lnTo>
                    <a:pt x="596" y="292"/>
                  </a:lnTo>
                  <a:lnTo>
                    <a:pt x="592" y="310"/>
                  </a:lnTo>
                  <a:lnTo>
                    <a:pt x="586" y="348"/>
                  </a:lnTo>
                  <a:lnTo>
                    <a:pt x="584" y="380"/>
                  </a:lnTo>
                  <a:lnTo>
                    <a:pt x="578" y="410"/>
                  </a:lnTo>
                  <a:lnTo>
                    <a:pt x="578" y="410"/>
                  </a:lnTo>
                  <a:lnTo>
                    <a:pt x="562" y="422"/>
                  </a:lnTo>
                  <a:lnTo>
                    <a:pt x="546" y="432"/>
                  </a:lnTo>
                  <a:lnTo>
                    <a:pt x="532" y="440"/>
                  </a:lnTo>
                  <a:lnTo>
                    <a:pt x="518" y="444"/>
                  </a:lnTo>
                  <a:lnTo>
                    <a:pt x="504" y="448"/>
                  </a:lnTo>
                  <a:lnTo>
                    <a:pt x="492" y="450"/>
                  </a:lnTo>
                  <a:lnTo>
                    <a:pt x="480" y="448"/>
                  </a:lnTo>
                  <a:lnTo>
                    <a:pt x="470" y="448"/>
                  </a:lnTo>
                  <a:lnTo>
                    <a:pt x="452" y="442"/>
                  </a:lnTo>
                  <a:lnTo>
                    <a:pt x="438" y="434"/>
                  </a:lnTo>
                  <a:lnTo>
                    <a:pt x="426" y="426"/>
                  </a:lnTo>
                  <a:lnTo>
                    <a:pt x="426" y="426"/>
                  </a:lnTo>
                  <a:lnTo>
                    <a:pt x="428" y="462"/>
                  </a:lnTo>
                  <a:lnTo>
                    <a:pt x="426" y="478"/>
                  </a:lnTo>
                  <a:lnTo>
                    <a:pt x="422" y="492"/>
                  </a:lnTo>
                  <a:lnTo>
                    <a:pt x="416" y="504"/>
                  </a:lnTo>
                  <a:lnTo>
                    <a:pt x="408" y="518"/>
                  </a:lnTo>
                  <a:lnTo>
                    <a:pt x="396" y="532"/>
                  </a:lnTo>
                  <a:lnTo>
                    <a:pt x="380" y="548"/>
                  </a:lnTo>
                  <a:lnTo>
                    <a:pt x="380" y="548"/>
                  </a:lnTo>
                  <a:lnTo>
                    <a:pt x="364" y="562"/>
                  </a:lnTo>
                  <a:lnTo>
                    <a:pt x="346" y="570"/>
                  </a:lnTo>
                  <a:lnTo>
                    <a:pt x="328" y="576"/>
                  </a:lnTo>
                  <a:lnTo>
                    <a:pt x="308" y="578"/>
                  </a:lnTo>
                  <a:lnTo>
                    <a:pt x="286" y="576"/>
                  </a:lnTo>
                  <a:lnTo>
                    <a:pt x="262" y="572"/>
                  </a:lnTo>
                  <a:lnTo>
                    <a:pt x="238" y="564"/>
                  </a:lnTo>
                  <a:lnTo>
                    <a:pt x="212" y="554"/>
                  </a:lnTo>
                  <a:lnTo>
                    <a:pt x="212" y="554"/>
                  </a:lnTo>
                  <a:lnTo>
                    <a:pt x="202" y="566"/>
                  </a:lnTo>
                  <a:lnTo>
                    <a:pt x="194" y="578"/>
                  </a:lnTo>
                  <a:lnTo>
                    <a:pt x="178" y="602"/>
                  </a:lnTo>
                  <a:lnTo>
                    <a:pt x="170" y="612"/>
                  </a:lnTo>
                  <a:lnTo>
                    <a:pt x="160" y="622"/>
                  </a:lnTo>
                  <a:lnTo>
                    <a:pt x="150" y="630"/>
                  </a:lnTo>
                  <a:lnTo>
                    <a:pt x="136" y="636"/>
                  </a:lnTo>
                  <a:lnTo>
                    <a:pt x="136" y="636"/>
                  </a:lnTo>
                  <a:lnTo>
                    <a:pt x="114" y="642"/>
                  </a:lnTo>
                  <a:lnTo>
                    <a:pt x="92" y="644"/>
                  </a:lnTo>
                  <a:lnTo>
                    <a:pt x="68" y="644"/>
                  </a:lnTo>
                  <a:lnTo>
                    <a:pt x="48" y="638"/>
                  </a:lnTo>
                  <a:lnTo>
                    <a:pt x="30" y="630"/>
                  </a:lnTo>
                  <a:lnTo>
                    <a:pt x="22" y="624"/>
                  </a:lnTo>
                  <a:lnTo>
                    <a:pt x="14" y="618"/>
                  </a:lnTo>
                  <a:lnTo>
                    <a:pt x="8" y="612"/>
                  </a:lnTo>
                  <a:lnTo>
                    <a:pt x="4" y="604"/>
                  </a:lnTo>
                  <a:lnTo>
                    <a:pt x="2" y="594"/>
                  </a:lnTo>
                  <a:lnTo>
                    <a:pt x="0" y="584"/>
                  </a:lnTo>
                  <a:lnTo>
                    <a:pt x="0" y="584"/>
                  </a:lnTo>
                  <a:lnTo>
                    <a:pt x="0" y="574"/>
                  </a:lnTo>
                  <a:lnTo>
                    <a:pt x="0" y="566"/>
                  </a:lnTo>
                  <a:lnTo>
                    <a:pt x="2" y="556"/>
                  </a:lnTo>
                  <a:lnTo>
                    <a:pt x="4" y="548"/>
                  </a:lnTo>
                  <a:lnTo>
                    <a:pt x="14" y="532"/>
                  </a:lnTo>
                  <a:lnTo>
                    <a:pt x="26" y="518"/>
                  </a:lnTo>
                  <a:lnTo>
                    <a:pt x="42" y="504"/>
                  </a:lnTo>
                  <a:lnTo>
                    <a:pt x="60" y="492"/>
                  </a:lnTo>
                  <a:lnTo>
                    <a:pt x="100" y="468"/>
                  </a:lnTo>
                  <a:lnTo>
                    <a:pt x="100" y="468"/>
                  </a:lnTo>
                  <a:lnTo>
                    <a:pt x="90" y="452"/>
                  </a:lnTo>
                  <a:lnTo>
                    <a:pt x="82" y="436"/>
                  </a:lnTo>
                  <a:lnTo>
                    <a:pt x="78" y="418"/>
                  </a:lnTo>
                  <a:lnTo>
                    <a:pt x="76" y="398"/>
                  </a:lnTo>
                  <a:lnTo>
                    <a:pt x="76" y="380"/>
                  </a:lnTo>
                  <a:lnTo>
                    <a:pt x="78" y="362"/>
                  </a:lnTo>
                  <a:lnTo>
                    <a:pt x="84" y="344"/>
                  </a:lnTo>
                  <a:lnTo>
                    <a:pt x="92" y="328"/>
                  </a:lnTo>
                  <a:lnTo>
                    <a:pt x="92" y="328"/>
                  </a:lnTo>
                  <a:lnTo>
                    <a:pt x="102" y="314"/>
                  </a:lnTo>
                  <a:lnTo>
                    <a:pt x="110" y="304"/>
                  </a:lnTo>
                  <a:lnTo>
                    <a:pt x="122" y="294"/>
                  </a:lnTo>
                  <a:lnTo>
                    <a:pt x="132" y="286"/>
                  </a:lnTo>
                  <a:lnTo>
                    <a:pt x="154" y="272"/>
                  </a:lnTo>
                  <a:lnTo>
                    <a:pt x="176" y="264"/>
                  </a:lnTo>
                  <a:lnTo>
                    <a:pt x="200" y="258"/>
                  </a:lnTo>
                  <a:lnTo>
                    <a:pt x="224" y="256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6" y="226"/>
                  </a:lnTo>
                  <a:lnTo>
                    <a:pt x="264" y="202"/>
                  </a:lnTo>
                  <a:lnTo>
                    <a:pt x="264" y="176"/>
                  </a:lnTo>
                  <a:lnTo>
                    <a:pt x="266" y="152"/>
                  </a:lnTo>
                  <a:lnTo>
                    <a:pt x="270" y="130"/>
                  </a:lnTo>
                  <a:lnTo>
                    <a:pt x="272" y="112"/>
                  </a:lnTo>
                  <a:lnTo>
                    <a:pt x="276" y="96"/>
                  </a:lnTo>
                  <a:lnTo>
                    <a:pt x="282" y="84"/>
                  </a:lnTo>
                  <a:lnTo>
                    <a:pt x="282" y="84"/>
                  </a:lnTo>
                  <a:lnTo>
                    <a:pt x="292" y="72"/>
                  </a:lnTo>
                  <a:lnTo>
                    <a:pt x="304" y="62"/>
                  </a:lnTo>
                  <a:lnTo>
                    <a:pt x="330" y="44"/>
                  </a:lnTo>
                  <a:lnTo>
                    <a:pt x="344" y="34"/>
                  </a:lnTo>
                  <a:lnTo>
                    <a:pt x="356" y="26"/>
                  </a:lnTo>
                  <a:lnTo>
                    <a:pt x="368" y="14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88" y="6"/>
                  </a:lnTo>
                  <a:lnTo>
                    <a:pt x="398" y="10"/>
                  </a:lnTo>
                  <a:lnTo>
                    <a:pt x="416" y="16"/>
                  </a:lnTo>
                  <a:lnTo>
                    <a:pt x="434" y="20"/>
                  </a:lnTo>
                  <a:lnTo>
                    <a:pt x="450" y="20"/>
                  </a:lnTo>
                  <a:lnTo>
                    <a:pt x="466" y="22"/>
                  </a:lnTo>
                  <a:lnTo>
                    <a:pt x="478" y="24"/>
                  </a:lnTo>
                  <a:lnTo>
                    <a:pt x="482" y="28"/>
                  </a:lnTo>
                  <a:lnTo>
                    <a:pt x="486" y="32"/>
                  </a:lnTo>
                  <a:lnTo>
                    <a:pt x="490" y="36"/>
                  </a:lnTo>
                  <a:lnTo>
                    <a:pt x="494" y="42"/>
                  </a:lnTo>
                  <a:lnTo>
                    <a:pt x="494" y="42"/>
                  </a:lnTo>
                  <a:close/>
                </a:path>
              </a:pathLst>
            </a:custGeom>
            <a:solidFill>
              <a:srgbClr val="96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1292040" y="6994440"/>
              <a:ext cx="2041560" cy="157176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1286" h="990">
                  <a:moveTo>
                    <a:pt x="1286" y="398"/>
                  </a:moveTo>
                  <a:lnTo>
                    <a:pt x="1286" y="398"/>
                  </a:lnTo>
                  <a:lnTo>
                    <a:pt x="1272" y="408"/>
                  </a:lnTo>
                  <a:lnTo>
                    <a:pt x="1256" y="418"/>
                  </a:lnTo>
                  <a:lnTo>
                    <a:pt x="1218" y="440"/>
                  </a:lnTo>
                  <a:lnTo>
                    <a:pt x="1182" y="460"/>
                  </a:lnTo>
                  <a:lnTo>
                    <a:pt x="1152" y="476"/>
                  </a:lnTo>
                  <a:lnTo>
                    <a:pt x="1152" y="476"/>
                  </a:lnTo>
                  <a:lnTo>
                    <a:pt x="1138" y="440"/>
                  </a:lnTo>
                  <a:lnTo>
                    <a:pt x="1120" y="402"/>
                  </a:lnTo>
                  <a:lnTo>
                    <a:pt x="1104" y="368"/>
                  </a:lnTo>
                  <a:lnTo>
                    <a:pt x="1092" y="336"/>
                  </a:lnTo>
                  <a:lnTo>
                    <a:pt x="1092" y="336"/>
                  </a:lnTo>
                  <a:lnTo>
                    <a:pt x="1072" y="342"/>
                  </a:lnTo>
                  <a:lnTo>
                    <a:pt x="1056" y="346"/>
                  </a:lnTo>
                  <a:lnTo>
                    <a:pt x="1046" y="352"/>
                  </a:lnTo>
                  <a:lnTo>
                    <a:pt x="1046" y="352"/>
                  </a:lnTo>
                  <a:lnTo>
                    <a:pt x="1058" y="380"/>
                  </a:lnTo>
                  <a:lnTo>
                    <a:pt x="1070" y="410"/>
                  </a:lnTo>
                  <a:lnTo>
                    <a:pt x="1092" y="470"/>
                  </a:lnTo>
                  <a:lnTo>
                    <a:pt x="1092" y="470"/>
                  </a:lnTo>
                  <a:lnTo>
                    <a:pt x="1078" y="460"/>
                  </a:lnTo>
                  <a:lnTo>
                    <a:pt x="1062" y="454"/>
                  </a:lnTo>
                  <a:lnTo>
                    <a:pt x="1046" y="448"/>
                  </a:lnTo>
                  <a:lnTo>
                    <a:pt x="1030" y="446"/>
                  </a:lnTo>
                  <a:lnTo>
                    <a:pt x="1014" y="444"/>
                  </a:lnTo>
                  <a:lnTo>
                    <a:pt x="998" y="444"/>
                  </a:lnTo>
                  <a:lnTo>
                    <a:pt x="980" y="446"/>
                  </a:lnTo>
                  <a:lnTo>
                    <a:pt x="964" y="448"/>
                  </a:lnTo>
                  <a:lnTo>
                    <a:pt x="948" y="452"/>
                  </a:lnTo>
                  <a:lnTo>
                    <a:pt x="934" y="458"/>
                  </a:lnTo>
                  <a:lnTo>
                    <a:pt x="918" y="464"/>
                  </a:lnTo>
                  <a:lnTo>
                    <a:pt x="904" y="472"/>
                  </a:lnTo>
                  <a:lnTo>
                    <a:pt x="892" y="480"/>
                  </a:lnTo>
                  <a:lnTo>
                    <a:pt x="882" y="490"/>
                  </a:lnTo>
                  <a:lnTo>
                    <a:pt x="872" y="502"/>
                  </a:lnTo>
                  <a:lnTo>
                    <a:pt x="864" y="512"/>
                  </a:lnTo>
                  <a:lnTo>
                    <a:pt x="864" y="512"/>
                  </a:lnTo>
                  <a:lnTo>
                    <a:pt x="848" y="500"/>
                  </a:lnTo>
                  <a:lnTo>
                    <a:pt x="832" y="490"/>
                  </a:lnTo>
                  <a:lnTo>
                    <a:pt x="816" y="480"/>
                  </a:lnTo>
                  <a:lnTo>
                    <a:pt x="798" y="470"/>
                  </a:lnTo>
                  <a:lnTo>
                    <a:pt x="780" y="464"/>
                  </a:lnTo>
                  <a:lnTo>
                    <a:pt x="760" y="460"/>
                  </a:lnTo>
                  <a:lnTo>
                    <a:pt x="740" y="456"/>
                  </a:lnTo>
                  <a:lnTo>
                    <a:pt x="718" y="456"/>
                  </a:lnTo>
                  <a:lnTo>
                    <a:pt x="718" y="456"/>
                  </a:lnTo>
                  <a:lnTo>
                    <a:pt x="682" y="400"/>
                  </a:lnTo>
                  <a:lnTo>
                    <a:pt x="648" y="342"/>
                  </a:lnTo>
                  <a:lnTo>
                    <a:pt x="608" y="362"/>
                  </a:lnTo>
                  <a:lnTo>
                    <a:pt x="608" y="362"/>
                  </a:lnTo>
                  <a:lnTo>
                    <a:pt x="654" y="456"/>
                  </a:lnTo>
                  <a:lnTo>
                    <a:pt x="692" y="536"/>
                  </a:lnTo>
                  <a:lnTo>
                    <a:pt x="722" y="604"/>
                  </a:lnTo>
                  <a:lnTo>
                    <a:pt x="722" y="604"/>
                  </a:lnTo>
                  <a:lnTo>
                    <a:pt x="706" y="620"/>
                  </a:lnTo>
                  <a:lnTo>
                    <a:pt x="690" y="636"/>
                  </a:lnTo>
                  <a:lnTo>
                    <a:pt x="676" y="656"/>
                  </a:lnTo>
                  <a:lnTo>
                    <a:pt x="662" y="676"/>
                  </a:lnTo>
                  <a:lnTo>
                    <a:pt x="636" y="716"/>
                  </a:lnTo>
                  <a:lnTo>
                    <a:pt x="624" y="736"/>
                  </a:lnTo>
                  <a:lnTo>
                    <a:pt x="610" y="754"/>
                  </a:lnTo>
                  <a:lnTo>
                    <a:pt x="610" y="754"/>
                  </a:lnTo>
                  <a:lnTo>
                    <a:pt x="552" y="670"/>
                  </a:lnTo>
                  <a:lnTo>
                    <a:pt x="504" y="596"/>
                  </a:lnTo>
                  <a:lnTo>
                    <a:pt x="464" y="530"/>
                  </a:lnTo>
                  <a:lnTo>
                    <a:pt x="418" y="552"/>
                  </a:lnTo>
                  <a:lnTo>
                    <a:pt x="418" y="552"/>
                  </a:lnTo>
                  <a:lnTo>
                    <a:pt x="426" y="576"/>
                  </a:lnTo>
                  <a:lnTo>
                    <a:pt x="438" y="600"/>
                  </a:lnTo>
                  <a:lnTo>
                    <a:pt x="452" y="622"/>
                  </a:lnTo>
                  <a:lnTo>
                    <a:pt x="464" y="646"/>
                  </a:lnTo>
                  <a:lnTo>
                    <a:pt x="464" y="646"/>
                  </a:lnTo>
                  <a:lnTo>
                    <a:pt x="456" y="664"/>
                  </a:lnTo>
                  <a:lnTo>
                    <a:pt x="444" y="686"/>
                  </a:lnTo>
                  <a:lnTo>
                    <a:pt x="418" y="730"/>
                  </a:lnTo>
                  <a:lnTo>
                    <a:pt x="386" y="778"/>
                  </a:lnTo>
                  <a:lnTo>
                    <a:pt x="352" y="826"/>
                  </a:lnTo>
                  <a:lnTo>
                    <a:pt x="286" y="918"/>
                  </a:lnTo>
                  <a:lnTo>
                    <a:pt x="260" y="958"/>
                  </a:lnTo>
                  <a:lnTo>
                    <a:pt x="238" y="990"/>
                  </a:lnTo>
                  <a:lnTo>
                    <a:pt x="238" y="990"/>
                  </a:lnTo>
                  <a:lnTo>
                    <a:pt x="200" y="984"/>
                  </a:lnTo>
                  <a:lnTo>
                    <a:pt x="166" y="976"/>
                  </a:lnTo>
                  <a:lnTo>
                    <a:pt x="134" y="966"/>
                  </a:lnTo>
                  <a:lnTo>
                    <a:pt x="104" y="954"/>
                  </a:lnTo>
                  <a:lnTo>
                    <a:pt x="76" y="942"/>
                  </a:lnTo>
                  <a:lnTo>
                    <a:pt x="50" y="930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152" y="736"/>
                  </a:lnTo>
                  <a:lnTo>
                    <a:pt x="234" y="646"/>
                  </a:lnTo>
                  <a:lnTo>
                    <a:pt x="310" y="556"/>
                  </a:lnTo>
                  <a:lnTo>
                    <a:pt x="310" y="556"/>
                  </a:lnTo>
                  <a:lnTo>
                    <a:pt x="320" y="544"/>
                  </a:lnTo>
                  <a:lnTo>
                    <a:pt x="330" y="532"/>
                  </a:lnTo>
                  <a:lnTo>
                    <a:pt x="338" y="516"/>
                  </a:lnTo>
                  <a:lnTo>
                    <a:pt x="344" y="500"/>
                  </a:lnTo>
                  <a:lnTo>
                    <a:pt x="356" y="466"/>
                  </a:lnTo>
                  <a:lnTo>
                    <a:pt x="364" y="428"/>
                  </a:lnTo>
                  <a:lnTo>
                    <a:pt x="370" y="390"/>
                  </a:lnTo>
                  <a:lnTo>
                    <a:pt x="374" y="352"/>
                  </a:lnTo>
                  <a:lnTo>
                    <a:pt x="376" y="316"/>
                  </a:lnTo>
                  <a:lnTo>
                    <a:pt x="378" y="284"/>
                  </a:lnTo>
                  <a:lnTo>
                    <a:pt x="378" y="284"/>
                  </a:lnTo>
                  <a:lnTo>
                    <a:pt x="380" y="248"/>
                  </a:lnTo>
                  <a:lnTo>
                    <a:pt x="386" y="212"/>
                  </a:lnTo>
                  <a:lnTo>
                    <a:pt x="396" y="178"/>
                  </a:lnTo>
                  <a:lnTo>
                    <a:pt x="408" y="144"/>
                  </a:lnTo>
                  <a:lnTo>
                    <a:pt x="424" y="116"/>
                  </a:lnTo>
                  <a:lnTo>
                    <a:pt x="440" y="90"/>
                  </a:lnTo>
                  <a:lnTo>
                    <a:pt x="458" y="70"/>
                  </a:lnTo>
                  <a:lnTo>
                    <a:pt x="468" y="64"/>
                  </a:lnTo>
                  <a:lnTo>
                    <a:pt x="478" y="58"/>
                  </a:lnTo>
                  <a:lnTo>
                    <a:pt x="478" y="58"/>
                  </a:lnTo>
                  <a:lnTo>
                    <a:pt x="490" y="52"/>
                  </a:lnTo>
                  <a:lnTo>
                    <a:pt x="504" y="48"/>
                  </a:lnTo>
                  <a:lnTo>
                    <a:pt x="520" y="46"/>
                  </a:lnTo>
                  <a:lnTo>
                    <a:pt x="536" y="44"/>
                  </a:lnTo>
                  <a:lnTo>
                    <a:pt x="570" y="42"/>
                  </a:lnTo>
                  <a:lnTo>
                    <a:pt x="602" y="46"/>
                  </a:lnTo>
                  <a:lnTo>
                    <a:pt x="632" y="48"/>
                  </a:lnTo>
                  <a:lnTo>
                    <a:pt x="656" y="52"/>
                  </a:lnTo>
                  <a:lnTo>
                    <a:pt x="678" y="58"/>
                  </a:lnTo>
                  <a:lnTo>
                    <a:pt x="678" y="58"/>
                  </a:lnTo>
                  <a:lnTo>
                    <a:pt x="698" y="76"/>
                  </a:lnTo>
                  <a:lnTo>
                    <a:pt x="718" y="96"/>
                  </a:lnTo>
                  <a:lnTo>
                    <a:pt x="746" y="116"/>
                  </a:lnTo>
                  <a:lnTo>
                    <a:pt x="762" y="126"/>
                  </a:lnTo>
                  <a:lnTo>
                    <a:pt x="778" y="136"/>
                  </a:lnTo>
                  <a:lnTo>
                    <a:pt x="796" y="144"/>
                  </a:lnTo>
                  <a:lnTo>
                    <a:pt x="814" y="150"/>
                  </a:lnTo>
                  <a:lnTo>
                    <a:pt x="832" y="154"/>
                  </a:lnTo>
                  <a:lnTo>
                    <a:pt x="852" y="156"/>
                  </a:lnTo>
                  <a:lnTo>
                    <a:pt x="870" y="156"/>
                  </a:lnTo>
                  <a:lnTo>
                    <a:pt x="890" y="152"/>
                  </a:lnTo>
                  <a:lnTo>
                    <a:pt x="890" y="152"/>
                  </a:lnTo>
                  <a:lnTo>
                    <a:pt x="904" y="146"/>
                  </a:lnTo>
                  <a:lnTo>
                    <a:pt x="918" y="140"/>
                  </a:lnTo>
                  <a:lnTo>
                    <a:pt x="930" y="134"/>
                  </a:lnTo>
                  <a:lnTo>
                    <a:pt x="940" y="124"/>
                  </a:lnTo>
                  <a:lnTo>
                    <a:pt x="948" y="116"/>
                  </a:lnTo>
                  <a:lnTo>
                    <a:pt x="954" y="106"/>
                  </a:lnTo>
                  <a:lnTo>
                    <a:pt x="960" y="96"/>
                  </a:lnTo>
                  <a:lnTo>
                    <a:pt x="966" y="84"/>
                  </a:lnTo>
                  <a:lnTo>
                    <a:pt x="972" y="62"/>
                  </a:lnTo>
                  <a:lnTo>
                    <a:pt x="976" y="42"/>
                  </a:lnTo>
                  <a:lnTo>
                    <a:pt x="976" y="22"/>
                  </a:lnTo>
                  <a:lnTo>
                    <a:pt x="974" y="4"/>
                  </a:lnTo>
                  <a:lnTo>
                    <a:pt x="974" y="4"/>
                  </a:lnTo>
                  <a:lnTo>
                    <a:pt x="982" y="2"/>
                  </a:lnTo>
                  <a:lnTo>
                    <a:pt x="994" y="0"/>
                  </a:lnTo>
                  <a:lnTo>
                    <a:pt x="1006" y="2"/>
                  </a:lnTo>
                  <a:lnTo>
                    <a:pt x="1018" y="4"/>
                  </a:lnTo>
                  <a:lnTo>
                    <a:pt x="1032" y="10"/>
                  </a:lnTo>
                  <a:lnTo>
                    <a:pt x="1046" y="16"/>
                  </a:lnTo>
                  <a:lnTo>
                    <a:pt x="1060" y="26"/>
                  </a:lnTo>
                  <a:lnTo>
                    <a:pt x="1072" y="38"/>
                  </a:lnTo>
                  <a:lnTo>
                    <a:pt x="1072" y="38"/>
                  </a:lnTo>
                  <a:lnTo>
                    <a:pt x="1086" y="58"/>
                  </a:lnTo>
                  <a:lnTo>
                    <a:pt x="1108" y="92"/>
                  </a:lnTo>
                  <a:lnTo>
                    <a:pt x="1170" y="192"/>
                  </a:lnTo>
                  <a:lnTo>
                    <a:pt x="1236" y="306"/>
                  </a:lnTo>
                  <a:lnTo>
                    <a:pt x="1286" y="398"/>
                  </a:lnTo>
                  <a:lnTo>
                    <a:pt x="1286" y="398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7134480" y="768348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4" h="46">
                  <a:moveTo>
                    <a:pt x="84" y="18"/>
                  </a:moveTo>
                  <a:lnTo>
                    <a:pt x="84" y="18"/>
                  </a:lnTo>
                  <a:lnTo>
                    <a:pt x="70" y="30"/>
                  </a:lnTo>
                  <a:lnTo>
                    <a:pt x="64" y="38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56" y="46"/>
                  </a:lnTo>
                  <a:lnTo>
                    <a:pt x="50" y="44"/>
                  </a:lnTo>
                  <a:lnTo>
                    <a:pt x="30" y="3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8" y="2"/>
                  </a:lnTo>
                  <a:lnTo>
                    <a:pt x="60" y="6"/>
                  </a:lnTo>
                  <a:lnTo>
                    <a:pt x="84" y="18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2240" y="7651800"/>
              <a:ext cx="380880" cy="3301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40" h="208">
                  <a:moveTo>
                    <a:pt x="240" y="88"/>
                  </a:moveTo>
                  <a:lnTo>
                    <a:pt x="240" y="88"/>
                  </a:lnTo>
                  <a:lnTo>
                    <a:pt x="194" y="116"/>
                  </a:lnTo>
                  <a:lnTo>
                    <a:pt x="146" y="146"/>
                  </a:lnTo>
                  <a:lnTo>
                    <a:pt x="94" y="178"/>
                  </a:lnTo>
                  <a:lnTo>
                    <a:pt x="44" y="208"/>
                  </a:lnTo>
                  <a:lnTo>
                    <a:pt x="44" y="208"/>
                  </a:lnTo>
                  <a:lnTo>
                    <a:pt x="36" y="198"/>
                  </a:lnTo>
                  <a:lnTo>
                    <a:pt x="30" y="188"/>
                  </a:lnTo>
                  <a:lnTo>
                    <a:pt x="20" y="164"/>
                  </a:lnTo>
                  <a:lnTo>
                    <a:pt x="10" y="142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8" y="84"/>
                  </a:lnTo>
                  <a:lnTo>
                    <a:pt x="100" y="54"/>
                  </a:lnTo>
                  <a:lnTo>
                    <a:pt x="152" y="24"/>
                  </a:lnTo>
                  <a:lnTo>
                    <a:pt x="200" y="0"/>
                  </a:lnTo>
                  <a:lnTo>
                    <a:pt x="24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3524040" y="7794720"/>
              <a:ext cx="542880" cy="4762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342" h="300">
                  <a:moveTo>
                    <a:pt x="342" y="0"/>
                  </a:moveTo>
                  <a:lnTo>
                    <a:pt x="342" y="0"/>
                  </a:lnTo>
                  <a:lnTo>
                    <a:pt x="320" y="8"/>
                  </a:lnTo>
                  <a:lnTo>
                    <a:pt x="302" y="18"/>
                  </a:lnTo>
                  <a:lnTo>
                    <a:pt x="286" y="28"/>
                  </a:lnTo>
                  <a:lnTo>
                    <a:pt x="274" y="40"/>
                  </a:lnTo>
                  <a:lnTo>
                    <a:pt x="264" y="50"/>
                  </a:lnTo>
                  <a:lnTo>
                    <a:pt x="256" y="62"/>
                  </a:lnTo>
                  <a:lnTo>
                    <a:pt x="242" y="86"/>
                  </a:lnTo>
                  <a:lnTo>
                    <a:pt x="230" y="106"/>
                  </a:lnTo>
                  <a:lnTo>
                    <a:pt x="224" y="114"/>
                  </a:lnTo>
                  <a:lnTo>
                    <a:pt x="216" y="122"/>
                  </a:lnTo>
                  <a:lnTo>
                    <a:pt x="206" y="128"/>
                  </a:lnTo>
                  <a:lnTo>
                    <a:pt x="194" y="132"/>
                  </a:lnTo>
                  <a:lnTo>
                    <a:pt x="180" y="134"/>
                  </a:lnTo>
                  <a:lnTo>
                    <a:pt x="164" y="132"/>
                  </a:lnTo>
                  <a:lnTo>
                    <a:pt x="164" y="132"/>
                  </a:lnTo>
                  <a:lnTo>
                    <a:pt x="144" y="140"/>
                  </a:lnTo>
                  <a:lnTo>
                    <a:pt x="128" y="148"/>
                  </a:lnTo>
                  <a:lnTo>
                    <a:pt x="114" y="158"/>
                  </a:lnTo>
                  <a:lnTo>
                    <a:pt x="104" y="170"/>
                  </a:lnTo>
                  <a:lnTo>
                    <a:pt x="96" y="182"/>
                  </a:lnTo>
                  <a:lnTo>
                    <a:pt x="90" y="196"/>
                  </a:lnTo>
                  <a:lnTo>
                    <a:pt x="88" y="210"/>
                  </a:lnTo>
                  <a:lnTo>
                    <a:pt x="86" y="226"/>
                  </a:lnTo>
                  <a:lnTo>
                    <a:pt x="84" y="252"/>
                  </a:lnTo>
                  <a:lnTo>
                    <a:pt x="88" y="276"/>
                  </a:lnTo>
                  <a:lnTo>
                    <a:pt x="92" y="300"/>
                  </a:lnTo>
                  <a:lnTo>
                    <a:pt x="92" y="300"/>
                  </a:lnTo>
                  <a:lnTo>
                    <a:pt x="64" y="234"/>
                  </a:lnTo>
                  <a:lnTo>
                    <a:pt x="40" y="176"/>
                  </a:lnTo>
                  <a:lnTo>
                    <a:pt x="20" y="12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0" y="58"/>
                  </a:lnTo>
                  <a:lnTo>
                    <a:pt x="80" y="42"/>
                  </a:lnTo>
                  <a:lnTo>
                    <a:pt x="122" y="30"/>
                  </a:lnTo>
                  <a:lnTo>
                    <a:pt x="164" y="20"/>
                  </a:lnTo>
                  <a:lnTo>
                    <a:pt x="206" y="14"/>
                  </a:lnTo>
                  <a:lnTo>
                    <a:pt x="252" y="8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89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349520" y="7817040"/>
              <a:ext cx="428400" cy="4633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70" h="292">
                  <a:moveTo>
                    <a:pt x="252" y="132"/>
                  </a:moveTo>
                  <a:lnTo>
                    <a:pt x="252" y="132"/>
                  </a:lnTo>
                  <a:lnTo>
                    <a:pt x="264" y="174"/>
                  </a:lnTo>
                  <a:lnTo>
                    <a:pt x="268" y="194"/>
                  </a:lnTo>
                  <a:lnTo>
                    <a:pt x="270" y="214"/>
                  </a:lnTo>
                  <a:lnTo>
                    <a:pt x="270" y="224"/>
                  </a:lnTo>
                  <a:lnTo>
                    <a:pt x="268" y="234"/>
                  </a:lnTo>
                  <a:lnTo>
                    <a:pt x="264" y="244"/>
                  </a:lnTo>
                  <a:lnTo>
                    <a:pt x="260" y="254"/>
                  </a:lnTo>
                  <a:lnTo>
                    <a:pt x="254" y="264"/>
                  </a:lnTo>
                  <a:lnTo>
                    <a:pt x="246" y="274"/>
                  </a:lnTo>
                  <a:lnTo>
                    <a:pt x="236" y="282"/>
                  </a:lnTo>
                  <a:lnTo>
                    <a:pt x="224" y="292"/>
                  </a:lnTo>
                  <a:lnTo>
                    <a:pt x="224" y="292"/>
                  </a:lnTo>
                  <a:lnTo>
                    <a:pt x="218" y="272"/>
                  </a:lnTo>
                  <a:lnTo>
                    <a:pt x="212" y="254"/>
                  </a:lnTo>
                  <a:lnTo>
                    <a:pt x="202" y="238"/>
                  </a:lnTo>
                  <a:lnTo>
                    <a:pt x="192" y="224"/>
                  </a:lnTo>
                  <a:lnTo>
                    <a:pt x="182" y="212"/>
                  </a:lnTo>
                  <a:lnTo>
                    <a:pt x="170" y="200"/>
                  </a:lnTo>
                  <a:lnTo>
                    <a:pt x="146" y="182"/>
                  </a:lnTo>
                  <a:lnTo>
                    <a:pt x="124" y="166"/>
                  </a:lnTo>
                  <a:lnTo>
                    <a:pt x="104" y="150"/>
                  </a:lnTo>
                  <a:lnTo>
                    <a:pt x="96" y="144"/>
                  </a:lnTo>
                  <a:lnTo>
                    <a:pt x="88" y="136"/>
                  </a:lnTo>
                  <a:lnTo>
                    <a:pt x="84" y="128"/>
                  </a:lnTo>
                  <a:lnTo>
                    <a:pt x="82" y="118"/>
                  </a:lnTo>
                  <a:lnTo>
                    <a:pt x="82" y="118"/>
                  </a:lnTo>
                  <a:lnTo>
                    <a:pt x="80" y="110"/>
                  </a:lnTo>
                  <a:lnTo>
                    <a:pt x="78" y="100"/>
                  </a:lnTo>
                  <a:lnTo>
                    <a:pt x="68" y="78"/>
                  </a:lnTo>
                  <a:lnTo>
                    <a:pt x="54" y="60"/>
                  </a:lnTo>
                  <a:lnTo>
                    <a:pt x="40" y="40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8"/>
                  </a:lnTo>
                  <a:lnTo>
                    <a:pt x="76" y="18"/>
                  </a:lnTo>
                  <a:lnTo>
                    <a:pt x="114" y="30"/>
                  </a:lnTo>
                  <a:lnTo>
                    <a:pt x="150" y="44"/>
                  </a:lnTo>
                  <a:lnTo>
                    <a:pt x="182" y="62"/>
                  </a:lnTo>
                  <a:lnTo>
                    <a:pt x="196" y="72"/>
                  </a:lnTo>
                  <a:lnTo>
                    <a:pt x="210" y="82"/>
                  </a:lnTo>
                  <a:lnTo>
                    <a:pt x="222" y="94"/>
                  </a:lnTo>
                  <a:lnTo>
                    <a:pt x="234" y="106"/>
                  </a:lnTo>
                  <a:lnTo>
                    <a:pt x="244" y="118"/>
                  </a:lnTo>
                  <a:lnTo>
                    <a:pt x="252" y="132"/>
                  </a:lnTo>
                  <a:lnTo>
                    <a:pt x="252" y="132"/>
                  </a:lnTo>
                  <a:close/>
                </a:path>
              </a:pathLst>
            </a:custGeom>
            <a:solidFill>
              <a:srgbClr val="b89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3755880" y="7823160"/>
              <a:ext cx="857160" cy="6220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40" h="392">
                  <a:moveTo>
                    <a:pt x="384" y="128"/>
                  </a:moveTo>
                  <a:lnTo>
                    <a:pt x="384" y="128"/>
                  </a:lnTo>
                  <a:lnTo>
                    <a:pt x="388" y="146"/>
                  </a:lnTo>
                  <a:lnTo>
                    <a:pt x="398" y="160"/>
                  </a:lnTo>
                  <a:lnTo>
                    <a:pt x="408" y="174"/>
                  </a:lnTo>
                  <a:lnTo>
                    <a:pt x="420" y="184"/>
                  </a:lnTo>
                  <a:lnTo>
                    <a:pt x="434" y="194"/>
                  </a:lnTo>
                  <a:lnTo>
                    <a:pt x="450" y="204"/>
                  </a:lnTo>
                  <a:lnTo>
                    <a:pt x="480" y="222"/>
                  </a:lnTo>
                  <a:lnTo>
                    <a:pt x="494" y="230"/>
                  </a:lnTo>
                  <a:lnTo>
                    <a:pt x="508" y="240"/>
                  </a:lnTo>
                  <a:lnTo>
                    <a:pt x="520" y="250"/>
                  </a:lnTo>
                  <a:lnTo>
                    <a:pt x="528" y="262"/>
                  </a:lnTo>
                  <a:lnTo>
                    <a:pt x="536" y="276"/>
                  </a:lnTo>
                  <a:lnTo>
                    <a:pt x="540" y="294"/>
                  </a:lnTo>
                  <a:lnTo>
                    <a:pt x="538" y="312"/>
                  </a:lnTo>
                  <a:lnTo>
                    <a:pt x="534" y="334"/>
                  </a:lnTo>
                  <a:lnTo>
                    <a:pt x="534" y="334"/>
                  </a:lnTo>
                  <a:lnTo>
                    <a:pt x="480" y="352"/>
                  </a:lnTo>
                  <a:lnTo>
                    <a:pt x="428" y="366"/>
                  </a:lnTo>
                  <a:lnTo>
                    <a:pt x="380" y="376"/>
                  </a:lnTo>
                  <a:lnTo>
                    <a:pt x="332" y="384"/>
                  </a:lnTo>
                  <a:lnTo>
                    <a:pt x="290" y="388"/>
                  </a:lnTo>
                  <a:lnTo>
                    <a:pt x="250" y="392"/>
                  </a:lnTo>
                  <a:lnTo>
                    <a:pt x="212" y="392"/>
                  </a:lnTo>
                  <a:lnTo>
                    <a:pt x="178" y="390"/>
                  </a:lnTo>
                  <a:lnTo>
                    <a:pt x="148" y="388"/>
                  </a:lnTo>
                  <a:lnTo>
                    <a:pt x="122" y="384"/>
                  </a:lnTo>
                  <a:lnTo>
                    <a:pt x="80" y="376"/>
                  </a:lnTo>
                  <a:lnTo>
                    <a:pt x="54" y="368"/>
                  </a:lnTo>
                  <a:lnTo>
                    <a:pt x="44" y="364"/>
                  </a:lnTo>
                  <a:lnTo>
                    <a:pt x="44" y="364"/>
                  </a:lnTo>
                  <a:lnTo>
                    <a:pt x="104" y="352"/>
                  </a:lnTo>
                  <a:lnTo>
                    <a:pt x="156" y="336"/>
                  </a:lnTo>
                  <a:lnTo>
                    <a:pt x="202" y="322"/>
                  </a:lnTo>
                  <a:lnTo>
                    <a:pt x="240" y="306"/>
                  </a:lnTo>
                  <a:lnTo>
                    <a:pt x="270" y="288"/>
                  </a:lnTo>
                  <a:lnTo>
                    <a:pt x="294" y="272"/>
                  </a:lnTo>
                  <a:lnTo>
                    <a:pt x="304" y="262"/>
                  </a:lnTo>
                  <a:lnTo>
                    <a:pt x="312" y="254"/>
                  </a:lnTo>
                  <a:lnTo>
                    <a:pt x="318" y="244"/>
                  </a:lnTo>
                  <a:lnTo>
                    <a:pt x="322" y="236"/>
                  </a:lnTo>
                  <a:lnTo>
                    <a:pt x="242" y="238"/>
                  </a:lnTo>
                  <a:lnTo>
                    <a:pt x="242" y="238"/>
                  </a:lnTo>
                  <a:lnTo>
                    <a:pt x="222" y="254"/>
                  </a:lnTo>
                  <a:lnTo>
                    <a:pt x="200" y="270"/>
                  </a:lnTo>
                  <a:lnTo>
                    <a:pt x="174" y="282"/>
                  </a:lnTo>
                  <a:lnTo>
                    <a:pt x="146" y="294"/>
                  </a:lnTo>
                  <a:lnTo>
                    <a:pt x="118" y="302"/>
                  </a:lnTo>
                  <a:lnTo>
                    <a:pt x="90" y="308"/>
                  </a:lnTo>
                  <a:lnTo>
                    <a:pt x="66" y="312"/>
                  </a:lnTo>
                  <a:lnTo>
                    <a:pt x="46" y="312"/>
                  </a:lnTo>
                  <a:lnTo>
                    <a:pt x="46" y="312"/>
                  </a:lnTo>
                  <a:lnTo>
                    <a:pt x="38" y="306"/>
                  </a:lnTo>
                  <a:lnTo>
                    <a:pt x="30" y="302"/>
                  </a:lnTo>
                  <a:lnTo>
                    <a:pt x="18" y="288"/>
                  </a:lnTo>
                  <a:lnTo>
                    <a:pt x="10" y="270"/>
                  </a:lnTo>
                  <a:lnTo>
                    <a:pt x="4" y="250"/>
                  </a:lnTo>
                  <a:lnTo>
                    <a:pt x="0" y="230"/>
                  </a:lnTo>
                  <a:lnTo>
                    <a:pt x="0" y="212"/>
                  </a:lnTo>
                  <a:lnTo>
                    <a:pt x="4" y="196"/>
                  </a:lnTo>
                  <a:lnTo>
                    <a:pt x="8" y="188"/>
                  </a:lnTo>
                  <a:lnTo>
                    <a:pt x="14" y="184"/>
                  </a:lnTo>
                  <a:lnTo>
                    <a:pt x="14" y="184"/>
                  </a:lnTo>
                  <a:lnTo>
                    <a:pt x="20" y="176"/>
                  </a:lnTo>
                  <a:lnTo>
                    <a:pt x="28" y="172"/>
                  </a:lnTo>
                  <a:lnTo>
                    <a:pt x="36" y="170"/>
                  </a:lnTo>
                  <a:lnTo>
                    <a:pt x="44" y="168"/>
                  </a:lnTo>
                  <a:lnTo>
                    <a:pt x="62" y="164"/>
                  </a:lnTo>
                  <a:lnTo>
                    <a:pt x="78" y="164"/>
                  </a:lnTo>
                  <a:lnTo>
                    <a:pt x="96" y="160"/>
                  </a:lnTo>
                  <a:lnTo>
                    <a:pt x="104" y="156"/>
                  </a:lnTo>
                  <a:lnTo>
                    <a:pt x="112" y="150"/>
                  </a:lnTo>
                  <a:lnTo>
                    <a:pt x="122" y="142"/>
                  </a:lnTo>
                  <a:lnTo>
                    <a:pt x="130" y="134"/>
                  </a:lnTo>
                  <a:lnTo>
                    <a:pt x="138" y="120"/>
                  </a:lnTo>
                  <a:lnTo>
                    <a:pt x="146" y="106"/>
                  </a:lnTo>
                  <a:lnTo>
                    <a:pt x="146" y="106"/>
                  </a:lnTo>
                  <a:lnTo>
                    <a:pt x="156" y="84"/>
                  </a:lnTo>
                  <a:lnTo>
                    <a:pt x="170" y="66"/>
                  </a:lnTo>
                  <a:lnTo>
                    <a:pt x="186" y="48"/>
                  </a:lnTo>
                  <a:lnTo>
                    <a:pt x="202" y="34"/>
                  </a:lnTo>
                  <a:lnTo>
                    <a:pt x="220" y="22"/>
                  </a:lnTo>
                  <a:lnTo>
                    <a:pt x="240" y="12"/>
                  </a:lnTo>
                  <a:lnTo>
                    <a:pt x="26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6" y="4"/>
                  </a:lnTo>
                  <a:lnTo>
                    <a:pt x="318" y="8"/>
                  </a:lnTo>
                  <a:lnTo>
                    <a:pt x="328" y="16"/>
                  </a:lnTo>
                  <a:lnTo>
                    <a:pt x="336" y="26"/>
                  </a:lnTo>
                  <a:lnTo>
                    <a:pt x="344" y="36"/>
                  </a:lnTo>
                  <a:lnTo>
                    <a:pt x="358" y="60"/>
                  </a:lnTo>
                  <a:lnTo>
                    <a:pt x="370" y="86"/>
                  </a:lnTo>
                  <a:lnTo>
                    <a:pt x="378" y="108"/>
                  </a:lnTo>
                  <a:lnTo>
                    <a:pt x="384" y="128"/>
                  </a:lnTo>
                  <a:lnTo>
                    <a:pt x="38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232080" y="7620120"/>
              <a:ext cx="1739880" cy="100008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096" h="630">
                  <a:moveTo>
                    <a:pt x="892" y="60"/>
                  </a:moveTo>
                  <a:lnTo>
                    <a:pt x="892" y="60"/>
                  </a:lnTo>
                  <a:lnTo>
                    <a:pt x="926" y="78"/>
                  </a:lnTo>
                  <a:lnTo>
                    <a:pt x="958" y="96"/>
                  </a:lnTo>
                  <a:lnTo>
                    <a:pt x="984" y="116"/>
                  </a:lnTo>
                  <a:lnTo>
                    <a:pt x="1008" y="134"/>
                  </a:lnTo>
                  <a:lnTo>
                    <a:pt x="1028" y="156"/>
                  </a:lnTo>
                  <a:lnTo>
                    <a:pt x="1046" y="176"/>
                  </a:lnTo>
                  <a:lnTo>
                    <a:pt x="1060" y="196"/>
                  </a:lnTo>
                  <a:lnTo>
                    <a:pt x="1070" y="216"/>
                  </a:lnTo>
                  <a:lnTo>
                    <a:pt x="1080" y="238"/>
                  </a:lnTo>
                  <a:lnTo>
                    <a:pt x="1086" y="258"/>
                  </a:lnTo>
                  <a:lnTo>
                    <a:pt x="1092" y="280"/>
                  </a:lnTo>
                  <a:lnTo>
                    <a:pt x="1094" y="300"/>
                  </a:lnTo>
                  <a:lnTo>
                    <a:pt x="1096" y="320"/>
                  </a:lnTo>
                  <a:lnTo>
                    <a:pt x="1096" y="342"/>
                  </a:lnTo>
                  <a:lnTo>
                    <a:pt x="1092" y="380"/>
                  </a:lnTo>
                  <a:lnTo>
                    <a:pt x="1092" y="380"/>
                  </a:lnTo>
                  <a:lnTo>
                    <a:pt x="1090" y="394"/>
                  </a:lnTo>
                  <a:lnTo>
                    <a:pt x="1086" y="406"/>
                  </a:lnTo>
                  <a:lnTo>
                    <a:pt x="1076" y="432"/>
                  </a:lnTo>
                  <a:lnTo>
                    <a:pt x="1062" y="456"/>
                  </a:lnTo>
                  <a:lnTo>
                    <a:pt x="1046" y="480"/>
                  </a:lnTo>
                  <a:lnTo>
                    <a:pt x="1026" y="500"/>
                  </a:lnTo>
                  <a:lnTo>
                    <a:pt x="1006" y="520"/>
                  </a:lnTo>
                  <a:lnTo>
                    <a:pt x="984" y="536"/>
                  </a:lnTo>
                  <a:lnTo>
                    <a:pt x="962" y="552"/>
                  </a:lnTo>
                  <a:lnTo>
                    <a:pt x="962" y="552"/>
                  </a:lnTo>
                  <a:lnTo>
                    <a:pt x="912" y="572"/>
                  </a:lnTo>
                  <a:lnTo>
                    <a:pt x="856" y="590"/>
                  </a:lnTo>
                  <a:lnTo>
                    <a:pt x="796" y="606"/>
                  </a:lnTo>
                  <a:lnTo>
                    <a:pt x="728" y="618"/>
                  </a:lnTo>
                  <a:lnTo>
                    <a:pt x="654" y="626"/>
                  </a:lnTo>
                  <a:lnTo>
                    <a:pt x="572" y="630"/>
                  </a:lnTo>
                  <a:lnTo>
                    <a:pt x="484" y="628"/>
                  </a:lnTo>
                  <a:lnTo>
                    <a:pt x="388" y="622"/>
                  </a:lnTo>
                  <a:lnTo>
                    <a:pt x="388" y="622"/>
                  </a:lnTo>
                  <a:lnTo>
                    <a:pt x="346" y="618"/>
                  </a:lnTo>
                  <a:lnTo>
                    <a:pt x="294" y="614"/>
                  </a:lnTo>
                  <a:lnTo>
                    <a:pt x="236" y="604"/>
                  </a:lnTo>
                  <a:lnTo>
                    <a:pt x="178" y="592"/>
                  </a:lnTo>
                  <a:lnTo>
                    <a:pt x="148" y="584"/>
                  </a:lnTo>
                  <a:lnTo>
                    <a:pt x="120" y="576"/>
                  </a:lnTo>
                  <a:lnTo>
                    <a:pt x="94" y="566"/>
                  </a:lnTo>
                  <a:lnTo>
                    <a:pt x="70" y="554"/>
                  </a:lnTo>
                  <a:lnTo>
                    <a:pt x="48" y="540"/>
                  </a:lnTo>
                  <a:lnTo>
                    <a:pt x="28" y="524"/>
                  </a:lnTo>
                  <a:lnTo>
                    <a:pt x="12" y="508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96"/>
                  </a:lnTo>
                  <a:lnTo>
                    <a:pt x="18" y="500"/>
                  </a:lnTo>
                  <a:lnTo>
                    <a:pt x="36" y="504"/>
                  </a:lnTo>
                  <a:lnTo>
                    <a:pt x="52" y="506"/>
                  </a:lnTo>
                  <a:lnTo>
                    <a:pt x="68" y="504"/>
                  </a:lnTo>
                  <a:lnTo>
                    <a:pt x="80" y="500"/>
                  </a:lnTo>
                  <a:lnTo>
                    <a:pt x="88" y="494"/>
                  </a:lnTo>
                  <a:lnTo>
                    <a:pt x="96" y="490"/>
                  </a:lnTo>
                  <a:lnTo>
                    <a:pt x="96" y="490"/>
                  </a:lnTo>
                  <a:lnTo>
                    <a:pt x="100" y="496"/>
                  </a:lnTo>
                  <a:lnTo>
                    <a:pt x="108" y="502"/>
                  </a:lnTo>
                  <a:lnTo>
                    <a:pt x="124" y="516"/>
                  </a:lnTo>
                  <a:lnTo>
                    <a:pt x="148" y="526"/>
                  </a:lnTo>
                  <a:lnTo>
                    <a:pt x="174" y="536"/>
                  </a:lnTo>
                  <a:lnTo>
                    <a:pt x="204" y="546"/>
                  </a:lnTo>
                  <a:lnTo>
                    <a:pt x="234" y="554"/>
                  </a:lnTo>
                  <a:lnTo>
                    <a:pt x="262" y="558"/>
                  </a:lnTo>
                  <a:lnTo>
                    <a:pt x="288" y="562"/>
                  </a:lnTo>
                  <a:lnTo>
                    <a:pt x="288" y="562"/>
                  </a:lnTo>
                  <a:lnTo>
                    <a:pt x="334" y="570"/>
                  </a:lnTo>
                  <a:lnTo>
                    <a:pt x="384" y="574"/>
                  </a:lnTo>
                  <a:lnTo>
                    <a:pt x="436" y="578"/>
                  </a:lnTo>
                  <a:lnTo>
                    <a:pt x="490" y="580"/>
                  </a:lnTo>
                  <a:lnTo>
                    <a:pt x="546" y="580"/>
                  </a:lnTo>
                  <a:lnTo>
                    <a:pt x="602" y="578"/>
                  </a:lnTo>
                  <a:lnTo>
                    <a:pt x="658" y="574"/>
                  </a:lnTo>
                  <a:lnTo>
                    <a:pt x="712" y="568"/>
                  </a:lnTo>
                  <a:lnTo>
                    <a:pt x="764" y="560"/>
                  </a:lnTo>
                  <a:lnTo>
                    <a:pt x="814" y="550"/>
                  </a:lnTo>
                  <a:lnTo>
                    <a:pt x="862" y="536"/>
                  </a:lnTo>
                  <a:lnTo>
                    <a:pt x="904" y="520"/>
                  </a:lnTo>
                  <a:lnTo>
                    <a:pt x="924" y="512"/>
                  </a:lnTo>
                  <a:lnTo>
                    <a:pt x="942" y="502"/>
                  </a:lnTo>
                  <a:lnTo>
                    <a:pt x="960" y="492"/>
                  </a:lnTo>
                  <a:lnTo>
                    <a:pt x="974" y="482"/>
                  </a:lnTo>
                  <a:lnTo>
                    <a:pt x="988" y="470"/>
                  </a:lnTo>
                  <a:lnTo>
                    <a:pt x="1000" y="458"/>
                  </a:lnTo>
                  <a:lnTo>
                    <a:pt x="1010" y="444"/>
                  </a:lnTo>
                  <a:lnTo>
                    <a:pt x="1020" y="430"/>
                  </a:lnTo>
                  <a:lnTo>
                    <a:pt x="1020" y="430"/>
                  </a:lnTo>
                  <a:lnTo>
                    <a:pt x="1028" y="414"/>
                  </a:lnTo>
                  <a:lnTo>
                    <a:pt x="1034" y="398"/>
                  </a:lnTo>
                  <a:lnTo>
                    <a:pt x="1040" y="382"/>
                  </a:lnTo>
                  <a:lnTo>
                    <a:pt x="1044" y="364"/>
                  </a:lnTo>
                  <a:lnTo>
                    <a:pt x="1046" y="346"/>
                  </a:lnTo>
                  <a:lnTo>
                    <a:pt x="1046" y="328"/>
                  </a:lnTo>
                  <a:lnTo>
                    <a:pt x="1044" y="312"/>
                  </a:lnTo>
                  <a:lnTo>
                    <a:pt x="1042" y="294"/>
                  </a:lnTo>
                  <a:lnTo>
                    <a:pt x="1036" y="276"/>
                  </a:lnTo>
                  <a:lnTo>
                    <a:pt x="1030" y="258"/>
                  </a:lnTo>
                  <a:lnTo>
                    <a:pt x="1020" y="240"/>
                  </a:lnTo>
                  <a:lnTo>
                    <a:pt x="1010" y="222"/>
                  </a:lnTo>
                  <a:lnTo>
                    <a:pt x="998" y="206"/>
                  </a:lnTo>
                  <a:lnTo>
                    <a:pt x="982" y="188"/>
                  </a:lnTo>
                  <a:lnTo>
                    <a:pt x="966" y="172"/>
                  </a:lnTo>
                  <a:lnTo>
                    <a:pt x="948" y="156"/>
                  </a:lnTo>
                  <a:lnTo>
                    <a:pt x="948" y="156"/>
                  </a:lnTo>
                  <a:lnTo>
                    <a:pt x="914" y="136"/>
                  </a:lnTo>
                  <a:lnTo>
                    <a:pt x="876" y="116"/>
                  </a:lnTo>
                  <a:lnTo>
                    <a:pt x="834" y="100"/>
                  </a:lnTo>
                  <a:lnTo>
                    <a:pt x="788" y="86"/>
                  </a:lnTo>
                  <a:lnTo>
                    <a:pt x="738" y="74"/>
                  </a:lnTo>
                  <a:lnTo>
                    <a:pt x="688" y="66"/>
                  </a:lnTo>
                  <a:lnTo>
                    <a:pt x="634" y="62"/>
                  </a:lnTo>
                  <a:lnTo>
                    <a:pt x="580" y="60"/>
                  </a:lnTo>
                  <a:lnTo>
                    <a:pt x="580" y="60"/>
                  </a:lnTo>
                  <a:lnTo>
                    <a:pt x="496" y="62"/>
                  </a:lnTo>
                  <a:lnTo>
                    <a:pt x="454" y="64"/>
                  </a:lnTo>
                  <a:lnTo>
                    <a:pt x="414" y="66"/>
                  </a:lnTo>
                  <a:lnTo>
                    <a:pt x="372" y="70"/>
                  </a:lnTo>
                  <a:lnTo>
                    <a:pt x="332" y="76"/>
                  </a:lnTo>
                  <a:lnTo>
                    <a:pt x="294" y="84"/>
                  </a:lnTo>
                  <a:lnTo>
                    <a:pt x="254" y="94"/>
                  </a:lnTo>
                  <a:lnTo>
                    <a:pt x="254" y="94"/>
                  </a:lnTo>
                  <a:lnTo>
                    <a:pt x="248" y="90"/>
                  </a:lnTo>
                  <a:lnTo>
                    <a:pt x="244" y="84"/>
                  </a:lnTo>
                  <a:lnTo>
                    <a:pt x="242" y="78"/>
                  </a:lnTo>
                  <a:lnTo>
                    <a:pt x="240" y="72"/>
                  </a:lnTo>
                  <a:lnTo>
                    <a:pt x="236" y="60"/>
                  </a:lnTo>
                  <a:lnTo>
                    <a:pt x="234" y="46"/>
                  </a:lnTo>
                  <a:lnTo>
                    <a:pt x="234" y="46"/>
                  </a:lnTo>
                  <a:lnTo>
                    <a:pt x="260" y="36"/>
                  </a:lnTo>
                  <a:lnTo>
                    <a:pt x="292" y="28"/>
                  </a:lnTo>
                  <a:lnTo>
                    <a:pt x="326" y="20"/>
                  </a:lnTo>
                  <a:lnTo>
                    <a:pt x="364" y="14"/>
                  </a:lnTo>
                  <a:lnTo>
                    <a:pt x="406" y="10"/>
                  </a:lnTo>
                  <a:lnTo>
                    <a:pt x="450" y="6"/>
                  </a:lnTo>
                  <a:lnTo>
                    <a:pt x="494" y="2"/>
                  </a:lnTo>
                  <a:lnTo>
                    <a:pt x="540" y="0"/>
                  </a:lnTo>
                  <a:lnTo>
                    <a:pt x="540" y="0"/>
                  </a:lnTo>
                  <a:lnTo>
                    <a:pt x="586" y="0"/>
                  </a:lnTo>
                  <a:lnTo>
                    <a:pt x="634" y="2"/>
                  </a:lnTo>
                  <a:lnTo>
                    <a:pt x="680" y="6"/>
                  </a:lnTo>
                  <a:lnTo>
                    <a:pt x="724" y="12"/>
                  </a:lnTo>
                  <a:lnTo>
                    <a:pt x="768" y="20"/>
                  </a:lnTo>
                  <a:lnTo>
                    <a:pt x="812" y="30"/>
                  </a:lnTo>
                  <a:lnTo>
                    <a:pt x="852" y="44"/>
                  </a:lnTo>
                  <a:lnTo>
                    <a:pt x="892" y="60"/>
                  </a:lnTo>
                  <a:lnTo>
                    <a:pt x="892" y="60"/>
                  </a:lnTo>
                  <a:close/>
                </a:path>
              </a:pathLst>
            </a:custGeom>
            <a:solidFill>
              <a:srgbClr val="e6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3079440" y="7947000"/>
              <a:ext cx="88560" cy="1648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6" h="104">
                  <a:moveTo>
                    <a:pt x="56" y="96"/>
                  </a:moveTo>
                  <a:lnTo>
                    <a:pt x="56" y="96"/>
                  </a:lnTo>
                  <a:lnTo>
                    <a:pt x="42" y="98"/>
                  </a:lnTo>
                  <a:lnTo>
                    <a:pt x="28" y="102"/>
                  </a:lnTo>
                  <a:lnTo>
                    <a:pt x="20" y="102"/>
                  </a:lnTo>
                  <a:lnTo>
                    <a:pt x="14" y="104"/>
                  </a:lnTo>
                  <a:lnTo>
                    <a:pt x="6" y="102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4" y="50"/>
                  </a:lnTo>
                  <a:lnTo>
                    <a:pt x="8" y="2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12"/>
                  </a:lnTo>
                  <a:lnTo>
                    <a:pt x="32" y="22"/>
                  </a:lnTo>
                  <a:lnTo>
                    <a:pt x="36" y="34"/>
                  </a:lnTo>
                  <a:lnTo>
                    <a:pt x="40" y="46"/>
                  </a:lnTo>
                  <a:lnTo>
                    <a:pt x="46" y="72"/>
                  </a:lnTo>
                  <a:lnTo>
                    <a:pt x="50" y="84"/>
                  </a:lnTo>
                  <a:lnTo>
                    <a:pt x="56" y="96"/>
                  </a:lnTo>
                  <a:lnTo>
                    <a:pt x="56" y="96"/>
                  </a:lnTo>
                  <a:close/>
                </a:path>
              </a:pathLst>
            </a:custGeom>
            <a:solidFill>
              <a:srgbClr val="e6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2247840" y="8013600"/>
              <a:ext cx="396720" cy="45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50" h="288">
                  <a:moveTo>
                    <a:pt x="250" y="68"/>
                  </a:moveTo>
                  <a:lnTo>
                    <a:pt x="250" y="68"/>
                  </a:lnTo>
                  <a:lnTo>
                    <a:pt x="234" y="96"/>
                  </a:lnTo>
                  <a:lnTo>
                    <a:pt x="220" y="124"/>
                  </a:lnTo>
                  <a:lnTo>
                    <a:pt x="192" y="178"/>
                  </a:lnTo>
                  <a:lnTo>
                    <a:pt x="164" y="234"/>
                  </a:lnTo>
                  <a:lnTo>
                    <a:pt x="148" y="262"/>
                  </a:lnTo>
                  <a:lnTo>
                    <a:pt x="130" y="288"/>
                  </a:lnTo>
                  <a:lnTo>
                    <a:pt x="130" y="288"/>
                  </a:lnTo>
                  <a:lnTo>
                    <a:pt x="116" y="286"/>
                  </a:lnTo>
                  <a:lnTo>
                    <a:pt x="100" y="284"/>
                  </a:lnTo>
                  <a:lnTo>
                    <a:pt x="62" y="276"/>
                  </a:lnTo>
                  <a:lnTo>
                    <a:pt x="26" y="264"/>
                  </a:lnTo>
                  <a:lnTo>
                    <a:pt x="12" y="256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84" y="130"/>
                  </a:lnTo>
                  <a:lnTo>
                    <a:pt x="132" y="56"/>
                  </a:lnTo>
                  <a:lnTo>
                    <a:pt x="152" y="24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202" y="28"/>
                  </a:lnTo>
                  <a:lnTo>
                    <a:pt x="232" y="52"/>
                  </a:lnTo>
                  <a:lnTo>
                    <a:pt x="250" y="68"/>
                  </a:lnTo>
                  <a:lnTo>
                    <a:pt x="25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6302520" y="8207640"/>
              <a:ext cx="320400" cy="2156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02" h="136">
                  <a:moveTo>
                    <a:pt x="156" y="0"/>
                  </a:moveTo>
                  <a:lnTo>
                    <a:pt x="202" y="14"/>
                  </a:lnTo>
                  <a:lnTo>
                    <a:pt x="202" y="14"/>
                  </a:lnTo>
                  <a:lnTo>
                    <a:pt x="190" y="38"/>
                  </a:lnTo>
                  <a:lnTo>
                    <a:pt x="178" y="60"/>
                  </a:lnTo>
                  <a:lnTo>
                    <a:pt x="164" y="78"/>
                  </a:lnTo>
                  <a:lnTo>
                    <a:pt x="146" y="96"/>
                  </a:lnTo>
                  <a:lnTo>
                    <a:pt x="128" y="110"/>
                  </a:lnTo>
                  <a:lnTo>
                    <a:pt x="106" y="122"/>
                  </a:lnTo>
                  <a:lnTo>
                    <a:pt x="80" y="130"/>
                  </a:lnTo>
                  <a:lnTo>
                    <a:pt x="52" y="136"/>
                  </a:lnTo>
                  <a:lnTo>
                    <a:pt x="52" y="136"/>
                  </a:lnTo>
                  <a:lnTo>
                    <a:pt x="40" y="118"/>
                  </a:lnTo>
                  <a:lnTo>
                    <a:pt x="22" y="100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8" y="82"/>
                  </a:lnTo>
                  <a:lnTo>
                    <a:pt x="22" y="78"/>
                  </a:lnTo>
                  <a:lnTo>
                    <a:pt x="42" y="74"/>
                  </a:lnTo>
                  <a:lnTo>
                    <a:pt x="64" y="66"/>
                  </a:lnTo>
                  <a:lnTo>
                    <a:pt x="88" y="54"/>
                  </a:lnTo>
                  <a:lnTo>
                    <a:pt x="114" y="40"/>
                  </a:lnTo>
                  <a:lnTo>
                    <a:pt x="126" y="32"/>
                  </a:lnTo>
                  <a:lnTo>
                    <a:pt x="136" y="22"/>
                  </a:lnTo>
                  <a:lnTo>
                    <a:pt x="146" y="12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07080" y="8264520"/>
              <a:ext cx="171360" cy="222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08" h="140">
                  <a:moveTo>
                    <a:pt x="108" y="14"/>
                  </a:moveTo>
                  <a:lnTo>
                    <a:pt x="108" y="14"/>
                  </a:lnTo>
                  <a:lnTo>
                    <a:pt x="104" y="42"/>
                  </a:lnTo>
                  <a:lnTo>
                    <a:pt x="100" y="70"/>
                  </a:lnTo>
                  <a:lnTo>
                    <a:pt x="86" y="140"/>
                  </a:lnTo>
                  <a:lnTo>
                    <a:pt x="86" y="140"/>
                  </a:lnTo>
                  <a:lnTo>
                    <a:pt x="70" y="134"/>
                  </a:lnTo>
                  <a:lnTo>
                    <a:pt x="56" y="126"/>
                  </a:lnTo>
                  <a:lnTo>
                    <a:pt x="42" y="116"/>
                  </a:lnTo>
                  <a:lnTo>
                    <a:pt x="28" y="104"/>
                  </a:lnTo>
                  <a:lnTo>
                    <a:pt x="8" y="86"/>
                  </a:lnTo>
                  <a:lnTo>
                    <a:pt x="0" y="78"/>
                  </a:lnTo>
                  <a:lnTo>
                    <a:pt x="64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6810480" y="8280360"/>
              <a:ext cx="164880" cy="758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4" h="478">
                  <a:moveTo>
                    <a:pt x="104" y="18"/>
                  </a:moveTo>
                  <a:lnTo>
                    <a:pt x="104" y="18"/>
                  </a:lnTo>
                  <a:lnTo>
                    <a:pt x="104" y="150"/>
                  </a:lnTo>
                  <a:lnTo>
                    <a:pt x="104" y="298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86" y="474"/>
                  </a:lnTo>
                  <a:lnTo>
                    <a:pt x="58" y="476"/>
                  </a:lnTo>
                  <a:lnTo>
                    <a:pt x="28" y="478"/>
                  </a:lnTo>
                  <a:lnTo>
                    <a:pt x="14" y="476"/>
                  </a:lnTo>
                  <a:lnTo>
                    <a:pt x="0" y="474"/>
                  </a:lnTo>
                  <a:lnTo>
                    <a:pt x="0" y="474"/>
                  </a:lnTo>
                  <a:lnTo>
                    <a:pt x="26" y="20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84" y="12"/>
                  </a:lnTo>
                  <a:lnTo>
                    <a:pt x="104" y="18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707840" y="5860800"/>
              <a:ext cx="1692360" cy="11239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1066" h="708">
                  <a:moveTo>
                    <a:pt x="982" y="48"/>
                  </a:moveTo>
                  <a:lnTo>
                    <a:pt x="982" y="48"/>
                  </a:lnTo>
                  <a:lnTo>
                    <a:pt x="998" y="40"/>
                  </a:lnTo>
                  <a:lnTo>
                    <a:pt x="1012" y="34"/>
                  </a:lnTo>
                  <a:lnTo>
                    <a:pt x="1026" y="34"/>
                  </a:lnTo>
                  <a:lnTo>
                    <a:pt x="1038" y="36"/>
                  </a:lnTo>
                  <a:lnTo>
                    <a:pt x="1048" y="40"/>
                  </a:lnTo>
                  <a:lnTo>
                    <a:pt x="1056" y="48"/>
                  </a:lnTo>
                  <a:lnTo>
                    <a:pt x="1062" y="56"/>
                  </a:lnTo>
                  <a:lnTo>
                    <a:pt x="1064" y="68"/>
                  </a:lnTo>
                  <a:lnTo>
                    <a:pt x="1064" y="68"/>
                  </a:lnTo>
                  <a:lnTo>
                    <a:pt x="1066" y="86"/>
                  </a:lnTo>
                  <a:lnTo>
                    <a:pt x="1062" y="100"/>
                  </a:lnTo>
                  <a:lnTo>
                    <a:pt x="1058" y="112"/>
                  </a:lnTo>
                  <a:lnTo>
                    <a:pt x="1050" y="122"/>
                  </a:lnTo>
                  <a:lnTo>
                    <a:pt x="1040" y="128"/>
                  </a:lnTo>
                  <a:lnTo>
                    <a:pt x="1028" y="134"/>
                  </a:lnTo>
                  <a:lnTo>
                    <a:pt x="1016" y="138"/>
                  </a:lnTo>
                  <a:lnTo>
                    <a:pt x="1002" y="140"/>
                  </a:lnTo>
                  <a:lnTo>
                    <a:pt x="1002" y="140"/>
                  </a:lnTo>
                  <a:lnTo>
                    <a:pt x="1006" y="182"/>
                  </a:lnTo>
                  <a:lnTo>
                    <a:pt x="1006" y="222"/>
                  </a:lnTo>
                  <a:lnTo>
                    <a:pt x="1002" y="262"/>
                  </a:lnTo>
                  <a:lnTo>
                    <a:pt x="996" y="298"/>
                  </a:lnTo>
                  <a:lnTo>
                    <a:pt x="988" y="332"/>
                  </a:lnTo>
                  <a:lnTo>
                    <a:pt x="978" y="364"/>
                  </a:lnTo>
                  <a:lnTo>
                    <a:pt x="964" y="396"/>
                  </a:lnTo>
                  <a:lnTo>
                    <a:pt x="950" y="424"/>
                  </a:lnTo>
                  <a:lnTo>
                    <a:pt x="934" y="452"/>
                  </a:lnTo>
                  <a:lnTo>
                    <a:pt x="914" y="478"/>
                  </a:lnTo>
                  <a:lnTo>
                    <a:pt x="894" y="504"/>
                  </a:lnTo>
                  <a:lnTo>
                    <a:pt x="872" y="528"/>
                  </a:lnTo>
                  <a:lnTo>
                    <a:pt x="850" y="550"/>
                  </a:lnTo>
                  <a:lnTo>
                    <a:pt x="824" y="572"/>
                  </a:lnTo>
                  <a:lnTo>
                    <a:pt x="800" y="592"/>
                  </a:lnTo>
                  <a:lnTo>
                    <a:pt x="772" y="610"/>
                  </a:lnTo>
                  <a:lnTo>
                    <a:pt x="772" y="610"/>
                  </a:lnTo>
                  <a:lnTo>
                    <a:pt x="742" y="626"/>
                  </a:lnTo>
                  <a:lnTo>
                    <a:pt x="712" y="644"/>
                  </a:lnTo>
                  <a:lnTo>
                    <a:pt x="682" y="660"/>
                  </a:lnTo>
                  <a:lnTo>
                    <a:pt x="666" y="666"/>
                  </a:lnTo>
                  <a:lnTo>
                    <a:pt x="650" y="672"/>
                  </a:lnTo>
                  <a:lnTo>
                    <a:pt x="650" y="672"/>
                  </a:lnTo>
                  <a:lnTo>
                    <a:pt x="626" y="680"/>
                  </a:lnTo>
                  <a:lnTo>
                    <a:pt x="600" y="688"/>
                  </a:lnTo>
                  <a:lnTo>
                    <a:pt x="574" y="694"/>
                  </a:lnTo>
                  <a:lnTo>
                    <a:pt x="546" y="698"/>
                  </a:lnTo>
                  <a:lnTo>
                    <a:pt x="520" y="702"/>
                  </a:lnTo>
                  <a:lnTo>
                    <a:pt x="494" y="704"/>
                  </a:lnTo>
                  <a:lnTo>
                    <a:pt x="466" y="706"/>
                  </a:lnTo>
                  <a:lnTo>
                    <a:pt x="440" y="706"/>
                  </a:lnTo>
                  <a:lnTo>
                    <a:pt x="440" y="706"/>
                  </a:lnTo>
                  <a:lnTo>
                    <a:pt x="392" y="708"/>
                  </a:lnTo>
                  <a:lnTo>
                    <a:pt x="346" y="708"/>
                  </a:lnTo>
                  <a:lnTo>
                    <a:pt x="302" y="704"/>
                  </a:lnTo>
                  <a:lnTo>
                    <a:pt x="260" y="694"/>
                  </a:lnTo>
                  <a:lnTo>
                    <a:pt x="238" y="688"/>
                  </a:lnTo>
                  <a:lnTo>
                    <a:pt x="218" y="682"/>
                  </a:lnTo>
                  <a:lnTo>
                    <a:pt x="198" y="674"/>
                  </a:lnTo>
                  <a:lnTo>
                    <a:pt x="180" y="664"/>
                  </a:lnTo>
                  <a:lnTo>
                    <a:pt x="162" y="652"/>
                  </a:lnTo>
                  <a:lnTo>
                    <a:pt x="144" y="640"/>
                  </a:lnTo>
                  <a:lnTo>
                    <a:pt x="126" y="628"/>
                  </a:lnTo>
                  <a:lnTo>
                    <a:pt x="110" y="612"/>
                  </a:lnTo>
                  <a:lnTo>
                    <a:pt x="110" y="612"/>
                  </a:lnTo>
                  <a:lnTo>
                    <a:pt x="90" y="620"/>
                  </a:lnTo>
                  <a:lnTo>
                    <a:pt x="70" y="626"/>
                  </a:lnTo>
                  <a:lnTo>
                    <a:pt x="54" y="626"/>
                  </a:lnTo>
                  <a:lnTo>
                    <a:pt x="38" y="620"/>
                  </a:lnTo>
                  <a:lnTo>
                    <a:pt x="26" y="614"/>
                  </a:lnTo>
                  <a:lnTo>
                    <a:pt x="14" y="602"/>
                  </a:lnTo>
                  <a:lnTo>
                    <a:pt x="6" y="586"/>
                  </a:lnTo>
                  <a:lnTo>
                    <a:pt x="0" y="570"/>
                  </a:lnTo>
                  <a:lnTo>
                    <a:pt x="0" y="570"/>
                  </a:lnTo>
                  <a:lnTo>
                    <a:pt x="2" y="554"/>
                  </a:lnTo>
                  <a:lnTo>
                    <a:pt x="8" y="542"/>
                  </a:lnTo>
                  <a:lnTo>
                    <a:pt x="14" y="534"/>
                  </a:lnTo>
                  <a:lnTo>
                    <a:pt x="22" y="528"/>
                  </a:lnTo>
                  <a:lnTo>
                    <a:pt x="30" y="526"/>
                  </a:lnTo>
                  <a:lnTo>
                    <a:pt x="40" y="522"/>
                  </a:lnTo>
                  <a:lnTo>
                    <a:pt x="58" y="520"/>
                  </a:lnTo>
                  <a:lnTo>
                    <a:pt x="58" y="520"/>
                  </a:lnTo>
                  <a:lnTo>
                    <a:pt x="48" y="446"/>
                  </a:lnTo>
                  <a:lnTo>
                    <a:pt x="46" y="406"/>
                  </a:lnTo>
                  <a:lnTo>
                    <a:pt x="46" y="368"/>
                  </a:lnTo>
                  <a:lnTo>
                    <a:pt x="46" y="328"/>
                  </a:lnTo>
                  <a:lnTo>
                    <a:pt x="48" y="290"/>
                  </a:lnTo>
                  <a:lnTo>
                    <a:pt x="52" y="252"/>
                  </a:lnTo>
                  <a:lnTo>
                    <a:pt x="60" y="214"/>
                  </a:lnTo>
                  <a:lnTo>
                    <a:pt x="60" y="214"/>
                  </a:lnTo>
                  <a:lnTo>
                    <a:pt x="76" y="188"/>
                  </a:lnTo>
                  <a:lnTo>
                    <a:pt x="92" y="166"/>
                  </a:lnTo>
                  <a:lnTo>
                    <a:pt x="108" y="144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164" y="134"/>
                  </a:lnTo>
                  <a:lnTo>
                    <a:pt x="200" y="144"/>
                  </a:lnTo>
                  <a:lnTo>
                    <a:pt x="234" y="150"/>
                  </a:lnTo>
                  <a:lnTo>
                    <a:pt x="270" y="156"/>
                  </a:lnTo>
                  <a:lnTo>
                    <a:pt x="306" y="158"/>
                  </a:lnTo>
                  <a:lnTo>
                    <a:pt x="342" y="158"/>
                  </a:lnTo>
                  <a:lnTo>
                    <a:pt x="378" y="156"/>
                  </a:lnTo>
                  <a:lnTo>
                    <a:pt x="412" y="150"/>
                  </a:lnTo>
                  <a:lnTo>
                    <a:pt x="448" y="144"/>
                  </a:lnTo>
                  <a:lnTo>
                    <a:pt x="482" y="136"/>
                  </a:lnTo>
                  <a:lnTo>
                    <a:pt x="516" y="128"/>
                  </a:lnTo>
                  <a:lnTo>
                    <a:pt x="548" y="116"/>
                  </a:lnTo>
                  <a:lnTo>
                    <a:pt x="580" y="104"/>
                  </a:lnTo>
                  <a:lnTo>
                    <a:pt x="610" y="90"/>
                  </a:lnTo>
                  <a:lnTo>
                    <a:pt x="640" y="76"/>
                  </a:lnTo>
                  <a:lnTo>
                    <a:pt x="668" y="60"/>
                  </a:lnTo>
                  <a:lnTo>
                    <a:pt x="618" y="20"/>
                  </a:lnTo>
                  <a:lnTo>
                    <a:pt x="618" y="20"/>
                  </a:lnTo>
                  <a:lnTo>
                    <a:pt x="706" y="8"/>
                  </a:lnTo>
                  <a:lnTo>
                    <a:pt x="756" y="2"/>
                  </a:lnTo>
                  <a:lnTo>
                    <a:pt x="808" y="0"/>
                  </a:lnTo>
                  <a:lnTo>
                    <a:pt x="834" y="0"/>
                  </a:lnTo>
                  <a:lnTo>
                    <a:pt x="858" y="2"/>
                  </a:lnTo>
                  <a:lnTo>
                    <a:pt x="882" y="4"/>
                  </a:lnTo>
                  <a:lnTo>
                    <a:pt x="906" y="8"/>
                  </a:lnTo>
                  <a:lnTo>
                    <a:pt x="928" y="16"/>
                  </a:lnTo>
                  <a:lnTo>
                    <a:pt x="948" y="24"/>
                  </a:lnTo>
                  <a:lnTo>
                    <a:pt x="966" y="34"/>
                  </a:lnTo>
                  <a:lnTo>
                    <a:pt x="982" y="48"/>
                  </a:lnTo>
                  <a:lnTo>
                    <a:pt x="982" y="4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2492280" y="7020000"/>
              <a:ext cx="260280" cy="1490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4" h="94">
                  <a:moveTo>
                    <a:pt x="118" y="94"/>
                  </a:moveTo>
                  <a:lnTo>
                    <a:pt x="118" y="94"/>
                  </a:lnTo>
                  <a:lnTo>
                    <a:pt x="98" y="92"/>
                  </a:lnTo>
                  <a:lnTo>
                    <a:pt x="80" y="90"/>
                  </a:lnTo>
                  <a:lnTo>
                    <a:pt x="64" y="84"/>
                  </a:lnTo>
                  <a:lnTo>
                    <a:pt x="50" y="76"/>
                  </a:lnTo>
                  <a:lnTo>
                    <a:pt x="36" y="68"/>
                  </a:lnTo>
                  <a:lnTo>
                    <a:pt x="24" y="5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2" y="36"/>
                  </a:lnTo>
                  <a:lnTo>
                    <a:pt x="62" y="34"/>
                  </a:lnTo>
                  <a:lnTo>
                    <a:pt x="82" y="32"/>
                  </a:lnTo>
                  <a:lnTo>
                    <a:pt x="102" y="28"/>
                  </a:lnTo>
                  <a:lnTo>
                    <a:pt x="122" y="20"/>
                  </a:lnTo>
                  <a:lnTo>
                    <a:pt x="142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4" y="14"/>
                  </a:lnTo>
                  <a:lnTo>
                    <a:pt x="164" y="28"/>
                  </a:lnTo>
                  <a:lnTo>
                    <a:pt x="162" y="46"/>
                  </a:lnTo>
                  <a:lnTo>
                    <a:pt x="158" y="62"/>
                  </a:lnTo>
                  <a:lnTo>
                    <a:pt x="154" y="70"/>
                  </a:lnTo>
                  <a:lnTo>
                    <a:pt x="150" y="76"/>
                  </a:lnTo>
                  <a:lnTo>
                    <a:pt x="144" y="84"/>
                  </a:lnTo>
                  <a:lnTo>
                    <a:pt x="136" y="88"/>
                  </a:lnTo>
                  <a:lnTo>
                    <a:pt x="128" y="92"/>
                  </a:lnTo>
                  <a:lnTo>
                    <a:pt x="118" y="94"/>
                  </a:lnTo>
                  <a:lnTo>
                    <a:pt x="118" y="9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3305160" y="7975800"/>
              <a:ext cx="311040" cy="380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96" h="240">
                  <a:moveTo>
                    <a:pt x="196" y="238"/>
                  </a:moveTo>
                  <a:lnTo>
                    <a:pt x="196" y="238"/>
                  </a:lnTo>
                  <a:lnTo>
                    <a:pt x="186" y="238"/>
                  </a:lnTo>
                  <a:lnTo>
                    <a:pt x="176" y="238"/>
                  </a:lnTo>
                  <a:lnTo>
                    <a:pt x="154" y="240"/>
                  </a:lnTo>
                  <a:lnTo>
                    <a:pt x="142" y="240"/>
                  </a:lnTo>
                  <a:lnTo>
                    <a:pt x="134" y="238"/>
                  </a:lnTo>
                  <a:lnTo>
                    <a:pt x="126" y="236"/>
                  </a:lnTo>
                  <a:lnTo>
                    <a:pt x="118" y="228"/>
                  </a:lnTo>
                  <a:lnTo>
                    <a:pt x="118" y="228"/>
                  </a:lnTo>
                  <a:lnTo>
                    <a:pt x="120" y="212"/>
                  </a:lnTo>
                  <a:lnTo>
                    <a:pt x="118" y="198"/>
                  </a:lnTo>
                  <a:lnTo>
                    <a:pt x="112" y="184"/>
                  </a:lnTo>
                  <a:lnTo>
                    <a:pt x="104" y="172"/>
                  </a:lnTo>
                  <a:lnTo>
                    <a:pt x="86" y="148"/>
                  </a:lnTo>
                  <a:lnTo>
                    <a:pt x="76" y="136"/>
                  </a:lnTo>
                  <a:lnTo>
                    <a:pt x="68" y="124"/>
                  </a:lnTo>
                  <a:lnTo>
                    <a:pt x="68" y="124"/>
                  </a:lnTo>
                  <a:lnTo>
                    <a:pt x="62" y="110"/>
                  </a:lnTo>
                  <a:lnTo>
                    <a:pt x="54" y="102"/>
                  </a:lnTo>
                  <a:lnTo>
                    <a:pt x="44" y="94"/>
                  </a:lnTo>
                  <a:lnTo>
                    <a:pt x="32" y="90"/>
                  </a:lnTo>
                  <a:lnTo>
                    <a:pt x="22" y="84"/>
                  </a:lnTo>
                  <a:lnTo>
                    <a:pt x="12" y="78"/>
                  </a:lnTo>
                  <a:lnTo>
                    <a:pt x="6" y="68"/>
                  </a:lnTo>
                  <a:lnTo>
                    <a:pt x="0" y="56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120" y="66"/>
                  </a:lnTo>
                  <a:lnTo>
                    <a:pt x="154" y="144"/>
                  </a:lnTo>
                  <a:lnTo>
                    <a:pt x="196" y="238"/>
                  </a:lnTo>
                  <a:lnTo>
                    <a:pt x="196" y="23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2581200" y="8153640"/>
              <a:ext cx="790560" cy="27288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98" h="172">
                  <a:moveTo>
                    <a:pt x="498" y="94"/>
                  </a:moveTo>
                  <a:lnTo>
                    <a:pt x="498" y="94"/>
                  </a:lnTo>
                  <a:lnTo>
                    <a:pt x="488" y="100"/>
                  </a:lnTo>
                  <a:lnTo>
                    <a:pt x="478" y="106"/>
                  </a:lnTo>
                  <a:lnTo>
                    <a:pt x="468" y="110"/>
                  </a:lnTo>
                  <a:lnTo>
                    <a:pt x="458" y="112"/>
                  </a:lnTo>
                  <a:lnTo>
                    <a:pt x="440" y="112"/>
                  </a:lnTo>
                  <a:lnTo>
                    <a:pt x="420" y="110"/>
                  </a:lnTo>
                  <a:lnTo>
                    <a:pt x="402" y="104"/>
                  </a:lnTo>
                  <a:lnTo>
                    <a:pt x="386" y="98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288" y="110"/>
                  </a:lnTo>
                  <a:lnTo>
                    <a:pt x="242" y="128"/>
                  </a:lnTo>
                  <a:lnTo>
                    <a:pt x="190" y="144"/>
                  </a:lnTo>
                  <a:lnTo>
                    <a:pt x="138" y="158"/>
                  </a:lnTo>
                  <a:lnTo>
                    <a:pt x="86" y="168"/>
                  </a:lnTo>
                  <a:lnTo>
                    <a:pt x="62" y="172"/>
                  </a:lnTo>
                  <a:lnTo>
                    <a:pt x="40" y="172"/>
                  </a:lnTo>
                  <a:lnTo>
                    <a:pt x="20" y="172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16" y="142"/>
                  </a:lnTo>
                  <a:lnTo>
                    <a:pt x="30" y="112"/>
                  </a:lnTo>
                  <a:lnTo>
                    <a:pt x="46" y="84"/>
                  </a:lnTo>
                  <a:lnTo>
                    <a:pt x="54" y="7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176" y="48"/>
                  </a:lnTo>
                  <a:lnTo>
                    <a:pt x="274" y="36"/>
                  </a:lnTo>
                  <a:lnTo>
                    <a:pt x="322" y="28"/>
                  </a:lnTo>
                  <a:lnTo>
                    <a:pt x="364" y="20"/>
                  </a:lnTo>
                  <a:lnTo>
                    <a:pt x="364" y="20"/>
                  </a:lnTo>
                  <a:lnTo>
                    <a:pt x="378" y="12"/>
                  </a:lnTo>
                  <a:lnTo>
                    <a:pt x="390" y="4"/>
                  </a:lnTo>
                  <a:lnTo>
                    <a:pt x="402" y="0"/>
                  </a:lnTo>
                  <a:lnTo>
                    <a:pt x="412" y="0"/>
                  </a:lnTo>
                  <a:lnTo>
                    <a:pt x="424" y="0"/>
                  </a:lnTo>
                  <a:lnTo>
                    <a:pt x="434" y="4"/>
                  </a:lnTo>
                  <a:lnTo>
                    <a:pt x="442" y="8"/>
                  </a:lnTo>
                  <a:lnTo>
                    <a:pt x="452" y="14"/>
                  </a:lnTo>
                  <a:lnTo>
                    <a:pt x="460" y="22"/>
                  </a:lnTo>
                  <a:lnTo>
                    <a:pt x="468" y="32"/>
                  </a:lnTo>
                  <a:lnTo>
                    <a:pt x="480" y="52"/>
                  </a:lnTo>
                  <a:lnTo>
                    <a:pt x="490" y="72"/>
                  </a:lnTo>
                  <a:lnTo>
                    <a:pt x="498" y="94"/>
                  </a:lnTo>
                  <a:lnTo>
                    <a:pt x="498" y="9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3117600" y="8436240"/>
              <a:ext cx="1869840" cy="1521000"/>
            </a:xfrm>
            <a:custGeom>
              <a:avLst/>
              <a:gdLst>
                <a:gd name="textAreaLeft" fmla="*/ 0 w 1869840"/>
                <a:gd name="textAreaRight" fmla="*/ 1870200 w 186984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1178" h="958">
                  <a:moveTo>
                    <a:pt x="1164" y="834"/>
                  </a:moveTo>
                  <a:lnTo>
                    <a:pt x="1164" y="834"/>
                  </a:lnTo>
                  <a:lnTo>
                    <a:pt x="1142" y="848"/>
                  </a:lnTo>
                  <a:lnTo>
                    <a:pt x="1118" y="862"/>
                  </a:lnTo>
                  <a:lnTo>
                    <a:pt x="1092" y="874"/>
                  </a:lnTo>
                  <a:lnTo>
                    <a:pt x="1064" y="886"/>
                  </a:lnTo>
                  <a:lnTo>
                    <a:pt x="1034" y="898"/>
                  </a:lnTo>
                  <a:lnTo>
                    <a:pt x="1004" y="908"/>
                  </a:lnTo>
                  <a:lnTo>
                    <a:pt x="938" y="926"/>
                  </a:lnTo>
                  <a:lnTo>
                    <a:pt x="868" y="940"/>
                  </a:lnTo>
                  <a:lnTo>
                    <a:pt x="794" y="950"/>
                  </a:lnTo>
                  <a:lnTo>
                    <a:pt x="718" y="956"/>
                  </a:lnTo>
                  <a:lnTo>
                    <a:pt x="640" y="958"/>
                  </a:lnTo>
                  <a:lnTo>
                    <a:pt x="640" y="958"/>
                  </a:lnTo>
                  <a:lnTo>
                    <a:pt x="554" y="956"/>
                  </a:lnTo>
                  <a:lnTo>
                    <a:pt x="468" y="952"/>
                  </a:lnTo>
                  <a:lnTo>
                    <a:pt x="384" y="944"/>
                  </a:lnTo>
                  <a:lnTo>
                    <a:pt x="304" y="930"/>
                  </a:lnTo>
                  <a:lnTo>
                    <a:pt x="264" y="924"/>
                  </a:lnTo>
                  <a:lnTo>
                    <a:pt x="226" y="914"/>
                  </a:lnTo>
                  <a:lnTo>
                    <a:pt x="190" y="904"/>
                  </a:lnTo>
                  <a:lnTo>
                    <a:pt x="156" y="894"/>
                  </a:lnTo>
                  <a:lnTo>
                    <a:pt x="122" y="882"/>
                  </a:lnTo>
                  <a:lnTo>
                    <a:pt x="92" y="868"/>
                  </a:lnTo>
                  <a:lnTo>
                    <a:pt x="62" y="854"/>
                  </a:lnTo>
                  <a:lnTo>
                    <a:pt x="36" y="83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22"/>
                  </a:lnTo>
                  <a:lnTo>
                    <a:pt x="16" y="34"/>
                  </a:lnTo>
                  <a:lnTo>
                    <a:pt x="28" y="48"/>
                  </a:lnTo>
                  <a:lnTo>
                    <a:pt x="38" y="60"/>
                  </a:lnTo>
                  <a:lnTo>
                    <a:pt x="52" y="70"/>
                  </a:lnTo>
                  <a:lnTo>
                    <a:pt x="66" y="82"/>
                  </a:lnTo>
                  <a:lnTo>
                    <a:pt x="96" y="100"/>
                  </a:lnTo>
                  <a:lnTo>
                    <a:pt x="132" y="116"/>
                  </a:lnTo>
                  <a:lnTo>
                    <a:pt x="170" y="130"/>
                  </a:lnTo>
                  <a:lnTo>
                    <a:pt x="210" y="142"/>
                  </a:lnTo>
                  <a:lnTo>
                    <a:pt x="252" y="152"/>
                  </a:lnTo>
                  <a:lnTo>
                    <a:pt x="298" y="160"/>
                  </a:lnTo>
                  <a:lnTo>
                    <a:pt x="344" y="168"/>
                  </a:lnTo>
                  <a:lnTo>
                    <a:pt x="390" y="172"/>
                  </a:lnTo>
                  <a:lnTo>
                    <a:pt x="436" y="176"/>
                  </a:lnTo>
                  <a:lnTo>
                    <a:pt x="528" y="180"/>
                  </a:lnTo>
                  <a:lnTo>
                    <a:pt x="616" y="182"/>
                  </a:lnTo>
                  <a:lnTo>
                    <a:pt x="616" y="182"/>
                  </a:lnTo>
                  <a:lnTo>
                    <a:pt x="702" y="180"/>
                  </a:lnTo>
                  <a:lnTo>
                    <a:pt x="788" y="174"/>
                  </a:lnTo>
                  <a:lnTo>
                    <a:pt x="832" y="170"/>
                  </a:lnTo>
                  <a:lnTo>
                    <a:pt x="874" y="164"/>
                  </a:lnTo>
                  <a:lnTo>
                    <a:pt x="916" y="156"/>
                  </a:lnTo>
                  <a:lnTo>
                    <a:pt x="956" y="146"/>
                  </a:lnTo>
                  <a:lnTo>
                    <a:pt x="994" y="136"/>
                  </a:lnTo>
                  <a:lnTo>
                    <a:pt x="1030" y="122"/>
                  </a:lnTo>
                  <a:lnTo>
                    <a:pt x="1062" y="108"/>
                  </a:lnTo>
                  <a:lnTo>
                    <a:pt x="1092" y="92"/>
                  </a:lnTo>
                  <a:lnTo>
                    <a:pt x="1120" y="72"/>
                  </a:lnTo>
                  <a:lnTo>
                    <a:pt x="1144" y="52"/>
                  </a:lnTo>
                  <a:lnTo>
                    <a:pt x="1154" y="40"/>
                  </a:lnTo>
                  <a:lnTo>
                    <a:pt x="1162" y="28"/>
                  </a:lnTo>
                  <a:lnTo>
                    <a:pt x="1172" y="14"/>
                  </a:lnTo>
                  <a:lnTo>
                    <a:pt x="1178" y="0"/>
                  </a:lnTo>
                  <a:lnTo>
                    <a:pt x="1178" y="0"/>
                  </a:lnTo>
                  <a:lnTo>
                    <a:pt x="1178" y="164"/>
                  </a:lnTo>
                  <a:lnTo>
                    <a:pt x="1172" y="424"/>
                  </a:lnTo>
                  <a:lnTo>
                    <a:pt x="1164" y="834"/>
                  </a:lnTo>
                  <a:lnTo>
                    <a:pt x="1164" y="834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647800" y="9163080"/>
              <a:ext cx="231480" cy="231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6" h="146">
                  <a:moveTo>
                    <a:pt x="146" y="0"/>
                  </a:moveTo>
                  <a:lnTo>
                    <a:pt x="146" y="0"/>
                  </a:lnTo>
                  <a:lnTo>
                    <a:pt x="124" y="20"/>
                  </a:lnTo>
                  <a:lnTo>
                    <a:pt x="108" y="38"/>
                  </a:lnTo>
                  <a:lnTo>
                    <a:pt x="98" y="58"/>
                  </a:lnTo>
                  <a:lnTo>
                    <a:pt x="92" y="76"/>
                  </a:lnTo>
                  <a:lnTo>
                    <a:pt x="88" y="94"/>
                  </a:lnTo>
                  <a:lnTo>
                    <a:pt x="86" y="112"/>
                  </a:lnTo>
                  <a:lnTo>
                    <a:pt x="86" y="146"/>
                  </a:lnTo>
                  <a:lnTo>
                    <a:pt x="86" y="146"/>
                  </a:lnTo>
                  <a:lnTo>
                    <a:pt x="68" y="128"/>
                  </a:lnTo>
                  <a:lnTo>
                    <a:pt x="48" y="112"/>
                  </a:lnTo>
                  <a:lnTo>
                    <a:pt x="26" y="9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84"/>
                  </a:lnTo>
                  <a:lnTo>
                    <a:pt x="28" y="82"/>
                  </a:lnTo>
                  <a:lnTo>
                    <a:pt x="40" y="78"/>
                  </a:lnTo>
                  <a:lnTo>
                    <a:pt x="50" y="74"/>
                  </a:lnTo>
                  <a:lnTo>
                    <a:pt x="62" y="68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2" y="48"/>
                  </a:lnTo>
                  <a:lnTo>
                    <a:pt x="60" y="30"/>
                  </a:lnTo>
                  <a:lnTo>
                    <a:pt x="60" y="2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102" y="8"/>
                  </a:lnTo>
                  <a:lnTo>
                    <a:pt x="124" y="4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857320" y="9198360"/>
              <a:ext cx="177480" cy="2347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148">
                  <a:moveTo>
                    <a:pt x="108" y="0"/>
                  </a:moveTo>
                  <a:lnTo>
                    <a:pt x="108" y="0"/>
                  </a:lnTo>
                  <a:lnTo>
                    <a:pt x="112" y="66"/>
                  </a:lnTo>
                  <a:lnTo>
                    <a:pt x="112" y="102"/>
                  </a:lnTo>
                  <a:lnTo>
                    <a:pt x="112" y="12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0" y="124"/>
                  </a:lnTo>
                  <a:lnTo>
                    <a:pt x="0" y="102"/>
                  </a:lnTo>
                  <a:lnTo>
                    <a:pt x="4" y="80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32" y="36"/>
                  </a:lnTo>
                  <a:lnTo>
                    <a:pt x="42" y="28"/>
                  </a:lnTo>
                  <a:lnTo>
                    <a:pt x="52" y="20"/>
                  </a:lnTo>
                  <a:lnTo>
                    <a:pt x="64" y="12"/>
                  </a:lnTo>
                  <a:lnTo>
                    <a:pt x="78" y="6"/>
                  </a:lnTo>
                  <a:lnTo>
                    <a:pt x="9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60280" y="9318960"/>
              <a:ext cx="529920" cy="23148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34" h="146">
                  <a:moveTo>
                    <a:pt x="136" y="8"/>
                  </a:moveTo>
                  <a:lnTo>
                    <a:pt x="136" y="8"/>
                  </a:lnTo>
                  <a:lnTo>
                    <a:pt x="122" y="16"/>
                  </a:lnTo>
                  <a:lnTo>
                    <a:pt x="112" y="26"/>
                  </a:lnTo>
                  <a:lnTo>
                    <a:pt x="102" y="34"/>
                  </a:lnTo>
                  <a:lnTo>
                    <a:pt x="96" y="44"/>
                  </a:lnTo>
                  <a:lnTo>
                    <a:pt x="92" y="54"/>
                  </a:lnTo>
                  <a:lnTo>
                    <a:pt x="88" y="62"/>
                  </a:lnTo>
                  <a:lnTo>
                    <a:pt x="86" y="80"/>
                  </a:lnTo>
                  <a:lnTo>
                    <a:pt x="118" y="100"/>
                  </a:lnTo>
                  <a:lnTo>
                    <a:pt x="118" y="100"/>
                  </a:lnTo>
                  <a:lnTo>
                    <a:pt x="124" y="82"/>
                  </a:lnTo>
                  <a:lnTo>
                    <a:pt x="132" y="64"/>
                  </a:lnTo>
                  <a:lnTo>
                    <a:pt x="142" y="50"/>
                  </a:lnTo>
                  <a:lnTo>
                    <a:pt x="154" y="38"/>
                  </a:lnTo>
                  <a:lnTo>
                    <a:pt x="170" y="28"/>
                  </a:lnTo>
                  <a:lnTo>
                    <a:pt x="184" y="22"/>
                  </a:lnTo>
                  <a:lnTo>
                    <a:pt x="202" y="18"/>
                  </a:lnTo>
                  <a:lnTo>
                    <a:pt x="218" y="18"/>
                  </a:lnTo>
                  <a:lnTo>
                    <a:pt x="218" y="18"/>
                  </a:lnTo>
                  <a:lnTo>
                    <a:pt x="198" y="40"/>
                  </a:lnTo>
                  <a:lnTo>
                    <a:pt x="188" y="52"/>
                  </a:lnTo>
                  <a:lnTo>
                    <a:pt x="180" y="66"/>
                  </a:lnTo>
                  <a:lnTo>
                    <a:pt x="176" y="78"/>
                  </a:lnTo>
                  <a:lnTo>
                    <a:pt x="174" y="84"/>
                  </a:lnTo>
                  <a:lnTo>
                    <a:pt x="176" y="90"/>
                  </a:lnTo>
                  <a:lnTo>
                    <a:pt x="178" y="96"/>
                  </a:lnTo>
                  <a:lnTo>
                    <a:pt x="180" y="100"/>
                  </a:lnTo>
                  <a:lnTo>
                    <a:pt x="186" y="104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224" y="70"/>
                  </a:lnTo>
                  <a:lnTo>
                    <a:pt x="240" y="50"/>
                  </a:lnTo>
                  <a:lnTo>
                    <a:pt x="258" y="34"/>
                  </a:lnTo>
                  <a:lnTo>
                    <a:pt x="274" y="22"/>
                  </a:lnTo>
                  <a:lnTo>
                    <a:pt x="284" y="16"/>
                  </a:lnTo>
                  <a:lnTo>
                    <a:pt x="292" y="14"/>
                  </a:lnTo>
                  <a:lnTo>
                    <a:pt x="302" y="12"/>
                  </a:lnTo>
                  <a:lnTo>
                    <a:pt x="312" y="14"/>
                  </a:lnTo>
                  <a:lnTo>
                    <a:pt x="322" y="16"/>
                  </a:lnTo>
                  <a:lnTo>
                    <a:pt x="334" y="22"/>
                  </a:lnTo>
                  <a:lnTo>
                    <a:pt x="334" y="22"/>
                  </a:lnTo>
                  <a:lnTo>
                    <a:pt x="316" y="30"/>
                  </a:lnTo>
                  <a:lnTo>
                    <a:pt x="298" y="42"/>
                  </a:lnTo>
                  <a:lnTo>
                    <a:pt x="280" y="54"/>
                  </a:lnTo>
                  <a:lnTo>
                    <a:pt x="264" y="70"/>
                  </a:lnTo>
                  <a:lnTo>
                    <a:pt x="250" y="86"/>
                  </a:lnTo>
                  <a:lnTo>
                    <a:pt x="238" y="104"/>
                  </a:lnTo>
                  <a:lnTo>
                    <a:pt x="230" y="124"/>
                  </a:lnTo>
                  <a:lnTo>
                    <a:pt x="224" y="146"/>
                  </a:lnTo>
                  <a:lnTo>
                    <a:pt x="224" y="146"/>
                  </a:lnTo>
                  <a:lnTo>
                    <a:pt x="162" y="144"/>
                  </a:lnTo>
                  <a:lnTo>
                    <a:pt x="80" y="140"/>
                  </a:lnTo>
                  <a:lnTo>
                    <a:pt x="80" y="140"/>
                  </a:lnTo>
                  <a:lnTo>
                    <a:pt x="64" y="112"/>
                  </a:lnTo>
                  <a:lnTo>
                    <a:pt x="46" y="86"/>
                  </a:lnTo>
                  <a:lnTo>
                    <a:pt x="24" y="6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4"/>
                  </a:lnTo>
                  <a:lnTo>
                    <a:pt x="18" y="10"/>
                  </a:lnTo>
                  <a:lnTo>
                    <a:pt x="28" y="6"/>
                  </a:lnTo>
                  <a:lnTo>
                    <a:pt x="40" y="2"/>
                  </a:lnTo>
                  <a:lnTo>
                    <a:pt x="64" y="0"/>
                  </a:lnTo>
                  <a:lnTo>
                    <a:pt x="90" y="2"/>
                  </a:lnTo>
                  <a:lnTo>
                    <a:pt x="114" y="4"/>
                  </a:lnTo>
                  <a:lnTo>
                    <a:pt x="136" y="8"/>
                  </a:lnTo>
                  <a:lnTo>
                    <a:pt x="136" y="8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511360" y="9420480"/>
              <a:ext cx="241200" cy="129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52" h="82">
                  <a:moveTo>
                    <a:pt x="152" y="78"/>
                  </a:moveTo>
                  <a:lnTo>
                    <a:pt x="152" y="78"/>
                  </a:lnTo>
                  <a:lnTo>
                    <a:pt x="76" y="82"/>
                  </a:lnTo>
                  <a:lnTo>
                    <a:pt x="36" y="8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2" y="60"/>
                  </a:lnTo>
                  <a:lnTo>
                    <a:pt x="8" y="44"/>
                  </a:lnTo>
                  <a:lnTo>
                    <a:pt x="16" y="32"/>
                  </a:lnTo>
                  <a:lnTo>
                    <a:pt x="26" y="20"/>
                  </a:lnTo>
                  <a:lnTo>
                    <a:pt x="38" y="10"/>
                  </a:lnTo>
                  <a:lnTo>
                    <a:pt x="54" y="4"/>
                  </a:lnTo>
                  <a:lnTo>
                    <a:pt x="7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10" y="4"/>
                  </a:lnTo>
                  <a:lnTo>
                    <a:pt x="120" y="10"/>
                  </a:lnTo>
                  <a:lnTo>
                    <a:pt x="130" y="18"/>
                  </a:lnTo>
                  <a:lnTo>
                    <a:pt x="138" y="30"/>
                  </a:lnTo>
                  <a:lnTo>
                    <a:pt x="144" y="44"/>
                  </a:lnTo>
                  <a:lnTo>
                    <a:pt x="150" y="60"/>
                  </a:lnTo>
                  <a:lnTo>
                    <a:pt x="152" y="78"/>
                  </a:lnTo>
                  <a:lnTo>
                    <a:pt x="1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854080" y="9487080"/>
              <a:ext cx="183960" cy="66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6" h="42">
                  <a:moveTo>
                    <a:pt x="116" y="40"/>
                  </a:moveTo>
                  <a:lnTo>
                    <a:pt x="16" y="4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6" y="4"/>
                  </a:lnTo>
                  <a:lnTo>
                    <a:pt x="74" y="4"/>
                  </a:lnTo>
                  <a:lnTo>
                    <a:pt x="116" y="0"/>
                  </a:lnTo>
                  <a:lnTo>
                    <a:pt x="11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09520" y="9442800"/>
              <a:ext cx="101520" cy="110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4" h="70">
                  <a:moveTo>
                    <a:pt x="64" y="68"/>
                  </a:moveTo>
                  <a:lnTo>
                    <a:pt x="0" y="7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2" y="12"/>
                  </a:lnTo>
                  <a:lnTo>
                    <a:pt x="40" y="18"/>
                  </a:lnTo>
                  <a:lnTo>
                    <a:pt x="46" y="26"/>
                  </a:lnTo>
                  <a:lnTo>
                    <a:pt x="54" y="34"/>
                  </a:lnTo>
                  <a:lnTo>
                    <a:pt x="58" y="44"/>
                  </a:lnTo>
                  <a:lnTo>
                    <a:pt x="62" y="56"/>
                  </a:lnTo>
                  <a:lnTo>
                    <a:pt x="64" y="68"/>
                  </a:lnTo>
                  <a:lnTo>
                    <a:pt x="6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984320" y="9614160"/>
              <a:ext cx="819000" cy="759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16" h="48">
                  <a:moveTo>
                    <a:pt x="516" y="2"/>
                  </a:moveTo>
                  <a:lnTo>
                    <a:pt x="516" y="46"/>
                  </a:lnTo>
                  <a:lnTo>
                    <a:pt x="516" y="46"/>
                  </a:lnTo>
                  <a:lnTo>
                    <a:pt x="410" y="48"/>
                  </a:lnTo>
                  <a:lnTo>
                    <a:pt x="266" y="46"/>
                  </a:lnTo>
                  <a:lnTo>
                    <a:pt x="0" y="4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58" y="0"/>
                  </a:lnTo>
                  <a:lnTo>
                    <a:pt x="516" y="2"/>
                  </a:lnTo>
                  <a:lnTo>
                    <a:pt x="5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565360" y="6311880"/>
              <a:ext cx="107640" cy="75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8" h="48">
                  <a:moveTo>
                    <a:pt x="68" y="24"/>
                  </a:moveTo>
                  <a:lnTo>
                    <a:pt x="58" y="48"/>
                  </a:lnTo>
                  <a:lnTo>
                    <a:pt x="58" y="48"/>
                  </a:lnTo>
                  <a:lnTo>
                    <a:pt x="50" y="46"/>
                  </a:lnTo>
                  <a:lnTo>
                    <a:pt x="42" y="46"/>
                  </a:lnTo>
                  <a:lnTo>
                    <a:pt x="26" y="38"/>
                  </a:lnTo>
                  <a:lnTo>
                    <a:pt x="12" y="28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2" y="10"/>
                  </a:lnTo>
                  <a:lnTo>
                    <a:pt x="44" y="16"/>
                  </a:lnTo>
                  <a:lnTo>
                    <a:pt x="68" y="24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536560" y="6384960"/>
              <a:ext cx="301320" cy="23148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90" h="146">
                  <a:moveTo>
                    <a:pt x="182" y="0"/>
                  </a:moveTo>
                  <a:lnTo>
                    <a:pt x="182" y="0"/>
                  </a:lnTo>
                  <a:lnTo>
                    <a:pt x="186" y="18"/>
                  </a:lnTo>
                  <a:lnTo>
                    <a:pt x="190" y="36"/>
                  </a:lnTo>
                  <a:lnTo>
                    <a:pt x="188" y="54"/>
                  </a:lnTo>
                  <a:lnTo>
                    <a:pt x="186" y="72"/>
                  </a:lnTo>
                  <a:lnTo>
                    <a:pt x="178" y="88"/>
                  </a:lnTo>
                  <a:lnTo>
                    <a:pt x="166" y="104"/>
                  </a:lnTo>
                  <a:lnTo>
                    <a:pt x="150" y="11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14" y="138"/>
                  </a:lnTo>
                  <a:lnTo>
                    <a:pt x="100" y="142"/>
                  </a:lnTo>
                  <a:lnTo>
                    <a:pt x="84" y="146"/>
                  </a:lnTo>
                  <a:lnTo>
                    <a:pt x="68" y="146"/>
                  </a:lnTo>
                  <a:lnTo>
                    <a:pt x="52" y="144"/>
                  </a:lnTo>
                  <a:lnTo>
                    <a:pt x="36" y="138"/>
                  </a:lnTo>
                  <a:lnTo>
                    <a:pt x="18" y="126"/>
                  </a:lnTo>
                  <a:lnTo>
                    <a:pt x="0" y="110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36" y="100"/>
                  </a:lnTo>
                  <a:lnTo>
                    <a:pt x="48" y="108"/>
                  </a:lnTo>
                  <a:lnTo>
                    <a:pt x="60" y="112"/>
                  </a:lnTo>
                  <a:lnTo>
                    <a:pt x="74" y="114"/>
                  </a:lnTo>
                  <a:lnTo>
                    <a:pt x="86" y="114"/>
                  </a:lnTo>
                  <a:lnTo>
                    <a:pt x="98" y="110"/>
                  </a:lnTo>
                  <a:lnTo>
                    <a:pt x="110" y="106"/>
                  </a:lnTo>
                  <a:lnTo>
                    <a:pt x="120" y="100"/>
                  </a:lnTo>
                  <a:lnTo>
                    <a:pt x="120" y="100"/>
                  </a:lnTo>
                  <a:lnTo>
                    <a:pt x="132" y="94"/>
                  </a:lnTo>
                  <a:lnTo>
                    <a:pt x="140" y="86"/>
                  </a:lnTo>
                  <a:lnTo>
                    <a:pt x="148" y="76"/>
                  </a:lnTo>
                  <a:lnTo>
                    <a:pt x="154" y="66"/>
                  </a:lnTo>
                  <a:lnTo>
                    <a:pt x="158" y="54"/>
                  </a:lnTo>
                  <a:lnTo>
                    <a:pt x="158" y="40"/>
                  </a:lnTo>
                  <a:lnTo>
                    <a:pt x="156" y="26"/>
                  </a:lnTo>
                  <a:lnTo>
                    <a:pt x="150" y="1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1860480" y="6422760"/>
              <a:ext cx="69840" cy="168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4" h="106">
                  <a:moveTo>
                    <a:pt x="42" y="86"/>
                  </a:moveTo>
                  <a:lnTo>
                    <a:pt x="16" y="106"/>
                  </a:lnTo>
                  <a:lnTo>
                    <a:pt x="16" y="106"/>
                  </a:lnTo>
                  <a:lnTo>
                    <a:pt x="8" y="92"/>
                  </a:lnTo>
                  <a:lnTo>
                    <a:pt x="4" y="80"/>
                  </a:lnTo>
                  <a:lnTo>
                    <a:pt x="0" y="66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4" y="26"/>
                  </a:lnTo>
                  <a:lnTo>
                    <a:pt x="8" y="12"/>
                  </a:lnTo>
                  <a:lnTo>
                    <a:pt x="14" y="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6" y="24"/>
                  </a:lnTo>
                  <a:lnTo>
                    <a:pt x="34" y="44"/>
                  </a:lnTo>
                  <a:lnTo>
                    <a:pt x="34" y="54"/>
                  </a:lnTo>
                  <a:lnTo>
                    <a:pt x="34" y="64"/>
                  </a:lnTo>
                  <a:lnTo>
                    <a:pt x="38" y="76"/>
                  </a:lnTo>
                  <a:lnTo>
                    <a:pt x="42" y="86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2895480" y="6105240"/>
              <a:ext cx="171360" cy="1746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8" h="110">
                  <a:moveTo>
                    <a:pt x="54" y="0"/>
                  </a:moveTo>
                  <a:lnTo>
                    <a:pt x="54" y="0"/>
                  </a:lnTo>
                  <a:lnTo>
                    <a:pt x="42" y="2"/>
                  </a:lnTo>
                  <a:lnTo>
                    <a:pt x="32" y="6"/>
                  </a:lnTo>
                  <a:lnTo>
                    <a:pt x="24" y="10"/>
                  </a:lnTo>
                  <a:lnTo>
                    <a:pt x="16" y="18"/>
                  </a:lnTo>
                  <a:lnTo>
                    <a:pt x="8" y="26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4" y="78"/>
                  </a:lnTo>
                  <a:lnTo>
                    <a:pt x="8" y="86"/>
                  </a:lnTo>
                  <a:lnTo>
                    <a:pt x="16" y="94"/>
                  </a:lnTo>
                  <a:lnTo>
                    <a:pt x="24" y="102"/>
                  </a:lnTo>
                  <a:lnTo>
                    <a:pt x="32" y="106"/>
                  </a:lnTo>
                  <a:lnTo>
                    <a:pt x="42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66" y="110"/>
                  </a:lnTo>
                  <a:lnTo>
                    <a:pt x="76" y="106"/>
                  </a:lnTo>
                  <a:lnTo>
                    <a:pt x="84" y="102"/>
                  </a:lnTo>
                  <a:lnTo>
                    <a:pt x="92" y="94"/>
                  </a:lnTo>
                  <a:lnTo>
                    <a:pt x="100" y="86"/>
                  </a:lnTo>
                  <a:lnTo>
                    <a:pt x="104" y="78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8" y="44"/>
                  </a:lnTo>
                  <a:lnTo>
                    <a:pt x="104" y="34"/>
                  </a:lnTo>
                  <a:lnTo>
                    <a:pt x="100" y="26"/>
                  </a:lnTo>
                  <a:lnTo>
                    <a:pt x="92" y="18"/>
                  </a:lnTo>
                  <a:lnTo>
                    <a:pt x="84" y="10"/>
                  </a:lnTo>
                  <a:lnTo>
                    <a:pt x="76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2155680" y="6521400"/>
              <a:ext cx="174600" cy="174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10" h="110">
                  <a:moveTo>
                    <a:pt x="54" y="0"/>
                  </a:moveTo>
                  <a:lnTo>
                    <a:pt x="54" y="0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8" y="86"/>
                  </a:lnTo>
                  <a:lnTo>
                    <a:pt x="16" y="94"/>
                  </a:lnTo>
                  <a:lnTo>
                    <a:pt x="24" y="100"/>
                  </a:lnTo>
                  <a:lnTo>
                    <a:pt x="32" y="106"/>
                  </a:lnTo>
                  <a:lnTo>
                    <a:pt x="44" y="108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66" y="108"/>
                  </a:lnTo>
                  <a:lnTo>
                    <a:pt x="76" y="106"/>
                  </a:lnTo>
                  <a:lnTo>
                    <a:pt x="84" y="100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4" y="76"/>
                  </a:lnTo>
                  <a:lnTo>
                    <a:pt x="108" y="66"/>
                  </a:lnTo>
                  <a:lnTo>
                    <a:pt x="110" y="54"/>
                  </a:lnTo>
                  <a:lnTo>
                    <a:pt x="110" y="54"/>
                  </a:lnTo>
                  <a:lnTo>
                    <a:pt x="108" y="44"/>
                  </a:lnTo>
                  <a:lnTo>
                    <a:pt x="104" y="34"/>
                  </a:lnTo>
                  <a:lnTo>
                    <a:pt x="100" y="24"/>
                  </a:lnTo>
                  <a:lnTo>
                    <a:pt x="94" y="16"/>
                  </a:lnTo>
                  <a:lnTo>
                    <a:pt x="84" y="10"/>
                  </a:lnTo>
                  <a:lnTo>
                    <a:pt x="76" y="4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698560" y="7794720"/>
              <a:ext cx="336240" cy="3492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12" h="220">
                  <a:moveTo>
                    <a:pt x="212" y="40"/>
                  </a:moveTo>
                  <a:lnTo>
                    <a:pt x="212" y="40"/>
                  </a:lnTo>
                  <a:lnTo>
                    <a:pt x="200" y="56"/>
                  </a:lnTo>
                  <a:lnTo>
                    <a:pt x="190" y="72"/>
                  </a:lnTo>
                  <a:lnTo>
                    <a:pt x="180" y="92"/>
                  </a:lnTo>
                  <a:lnTo>
                    <a:pt x="174" y="112"/>
                  </a:lnTo>
                  <a:lnTo>
                    <a:pt x="170" y="132"/>
                  </a:lnTo>
                  <a:lnTo>
                    <a:pt x="168" y="154"/>
                  </a:lnTo>
                  <a:lnTo>
                    <a:pt x="168" y="176"/>
                  </a:lnTo>
                  <a:lnTo>
                    <a:pt x="170" y="200"/>
                  </a:lnTo>
                  <a:lnTo>
                    <a:pt x="170" y="200"/>
                  </a:lnTo>
                  <a:lnTo>
                    <a:pt x="158" y="206"/>
                  </a:lnTo>
                  <a:lnTo>
                    <a:pt x="142" y="210"/>
                  </a:lnTo>
                  <a:lnTo>
                    <a:pt x="124" y="214"/>
                  </a:lnTo>
                  <a:lnTo>
                    <a:pt x="104" y="218"/>
                  </a:lnTo>
                  <a:lnTo>
                    <a:pt x="84" y="220"/>
                  </a:lnTo>
                  <a:lnTo>
                    <a:pt x="66" y="220"/>
                  </a:lnTo>
                  <a:lnTo>
                    <a:pt x="48" y="218"/>
                  </a:lnTo>
                  <a:lnTo>
                    <a:pt x="34" y="214"/>
                  </a:lnTo>
                  <a:lnTo>
                    <a:pt x="34" y="214"/>
                  </a:lnTo>
                  <a:lnTo>
                    <a:pt x="28" y="208"/>
                  </a:lnTo>
                  <a:lnTo>
                    <a:pt x="22" y="202"/>
                  </a:lnTo>
                  <a:lnTo>
                    <a:pt x="16" y="196"/>
                  </a:lnTo>
                  <a:lnTo>
                    <a:pt x="14" y="188"/>
                  </a:lnTo>
                  <a:lnTo>
                    <a:pt x="10" y="172"/>
                  </a:lnTo>
                  <a:lnTo>
                    <a:pt x="8" y="154"/>
                  </a:lnTo>
                  <a:lnTo>
                    <a:pt x="8" y="110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48"/>
                  </a:lnTo>
                  <a:lnTo>
                    <a:pt x="6" y="40"/>
                  </a:lnTo>
                  <a:lnTo>
                    <a:pt x="14" y="32"/>
                  </a:lnTo>
                  <a:lnTo>
                    <a:pt x="24" y="24"/>
                  </a:lnTo>
                  <a:lnTo>
                    <a:pt x="34" y="18"/>
                  </a:lnTo>
                  <a:lnTo>
                    <a:pt x="48" y="12"/>
                  </a:lnTo>
                  <a:lnTo>
                    <a:pt x="62" y="8"/>
                  </a:lnTo>
                  <a:lnTo>
                    <a:pt x="78" y="4"/>
                  </a:lnTo>
                  <a:lnTo>
                    <a:pt x="94" y="2"/>
                  </a:lnTo>
                  <a:lnTo>
                    <a:pt x="112" y="0"/>
                  </a:lnTo>
                  <a:lnTo>
                    <a:pt x="130" y="2"/>
                  </a:lnTo>
                  <a:lnTo>
                    <a:pt x="146" y="4"/>
                  </a:lnTo>
                  <a:lnTo>
                    <a:pt x="164" y="10"/>
                  </a:lnTo>
                  <a:lnTo>
                    <a:pt x="182" y="18"/>
                  </a:lnTo>
                  <a:lnTo>
                    <a:pt x="198" y="28"/>
                  </a:lnTo>
                  <a:lnTo>
                    <a:pt x="212" y="40"/>
                  </a:lnTo>
                  <a:lnTo>
                    <a:pt x="212" y="4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1339560" y="8109000"/>
              <a:ext cx="1311120" cy="1117440"/>
            </a:xfrm>
            <a:custGeom>
              <a:avLst/>
              <a:gdLst>
                <a:gd name="textAreaLeft" fmla="*/ 0 w 1311120"/>
                <a:gd name="textAreaRight" fmla="*/ 1311480 w 1311120"/>
                <a:gd name="textAreaTop" fmla="*/ 0 h 1117440"/>
                <a:gd name="textAreaBottom" fmla="*/ 1117800 h 1117440"/>
              </a:gdLst>
              <a:ahLst/>
              <a:rect l="textAreaLeft" t="textAreaTop" r="textAreaRight" b="textAreaBottom"/>
              <a:pathLst>
                <a:path w="826" h="704">
                  <a:moveTo>
                    <a:pt x="530" y="110"/>
                  </a:moveTo>
                  <a:lnTo>
                    <a:pt x="530" y="110"/>
                  </a:lnTo>
                  <a:lnTo>
                    <a:pt x="528" y="116"/>
                  </a:lnTo>
                  <a:lnTo>
                    <a:pt x="524" y="124"/>
                  </a:lnTo>
                  <a:lnTo>
                    <a:pt x="514" y="136"/>
                  </a:lnTo>
                  <a:lnTo>
                    <a:pt x="504" y="150"/>
                  </a:lnTo>
                  <a:lnTo>
                    <a:pt x="500" y="156"/>
                  </a:lnTo>
                  <a:lnTo>
                    <a:pt x="496" y="164"/>
                  </a:lnTo>
                  <a:lnTo>
                    <a:pt x="496" y="164"/>
                  </a:lnTo>
                  <a:lnTo>
                    <a:pt x="504" y="174"/>
                  </a:lnTo>
                  <a:lnTo>
                    <a:pt x="510" y="188"/>
                  </a:lnTo>
                  <a:lnTo>
                    <a:pt x="518" y="214"/>
                  </a:lnTo>
                  <a:lnTo>
                    <a:pt x="524" y="226"/>
                  </a:lnTo>
                  <a:lnTo>
                    <a:pt x="530" y="238"/>
                  </a:lnTo>
                  <a:lnTo>
                    <a:pt x="540" y="248"/>
                  </a:lnTo>
                  <a:lnTo>
                    <a:pt x="552" y="254"/>
                  </a:lnTo>
                  <a:lnTo>
                    <a:pt x="738" y="292"/>
                  </a:lnTo>
                  <a:lnTo>
                    <a:pt x="738" y="292"/>
                  </a:lnTo>
                  <a:lnTo>
                    <a:pt x="742" y="284"/>
                  </a:lnTo>
                  <a:lnTo>
                    <a:pt x="746" y="274"/>
                  </a:lnTo>
                  <a:lnTo>
                    <a:pt x="754" y="266"/>
                  </a:lnTo>
                  <a:lnTo>
                    <a:pt x="762" y="256"/>
                  </a:lnTo>
                  <a:lnTo>
                    <a:pt x="774" y="252"/>
                  </a:lnTo>
                  <a:lnTo>
                    <a:pt x="780" y="250"/>
                  </a:lnTo>
                  <a:lnTo>
                    <a:pt x="786" y="250"/>
                  </a:lnTo>
                  <a:lnTo>
                    <a:pt x="794" y="252"/>
                  </a:lnTo>
                  <a:lnTo>
                    <a:pt x="802" y="256"/>
                  </a:lnTo>
                  <a:lnTo>
                    <a:pt x="802" y="256"/>
                  </a:lnTo>
                  <a:lnTo>
                    <a:pt x="814" y="454"/>
                  </a:lnTo>
                  <a:lnTo>
                    <a:pt x="826" y="672"/>
                  </a:lnTo>
                  <a:lnTo>
                    <a:pt x="826" y="672"/>
                  </a:lnTo>
                  <a:lnTo>
                    <a:pt x="802" y="680"/>
                  </a:lnTo>
                  <a:lnTo>
                    <a:pt x="776" y="688"/>
                  </a:lnTo>
                  <a:lnTo>
                    <a:pt x="746" y="692"/>
                  </a:lnTo>
                  <a:lnTo>
                    <a:pt x="714" y="696"/>
                  </a:lnTo>
                  <a:lnTo>
                    <a:pt x="646" y="702"/>
                  </a:lnTo>
                  <a:lnTo>
                    <a:pt x="576" y="704"/>
                  </a:lnTo>
                  <a:lnTo>
                    <a:pt x="510" y="704"/>
                  </a:lnTo>
                  <a:lnTo>
                    <a:pt x="452" y="702"/>
                  </a:lnTo>
                  <a:lnTo>
                    <a:pt x="410" y="700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94" y="688"/>
                  </a:lnTo>
                  <a:lnTo>
                    <a:pt x="398" y="672"/>
                  </a:lnTo>
                  <a:lnTo>
                    <a:pt x="412" y="626"/>
                  </a:lnTo>
                  <a:lnTo>
                    <a:pt x="442" y="498"/>
                  </a:lnTo>
                  <a:lnTo>
                    <a:pt x="474" y="360"/>
                  </a:lnTo>
                  <a:lnTo>
                    <a:pt x="498" y="256"/>
                  </a:lnTo>
                  <a:lnTo>
                    <a:pt x="436" y="264"/>
                  </a:lnTo>
                  <a:lnTo>
                    <a:pt x="436" y="264"/>
                  </a:lnTo>
                  <a:lnTo>
                    <a:pt x="434" y="298"/>
                  </a:lnTo>
                  <a:lnTo>
                    <a:pt x="426" y="344"/>
                  </a:lnTo>
                  <a:lnTo>
                    <a:pt x="416" y="394"/>
                  </a:lnTo>
                  <a:lnTo>
                    <a:pt x="400" y="446"/>
                  </a:lnTo>
                  <a:lnTo>
                    <a:pt x="380" y="498"/>
                  </a:lnTo>
                  <a:lnTo>
                    <a:pt x="370" y="520"/>
                  </a:lnTo>
                  <a:lnTo>
                    <a:pt x="358" y="542"/>
                  </a:lnTo>
                  <a:lnTo>
                    <a:pt x="346" y="560"/>
                  </a:lnTo>
                  <a:lnTo>
                    <a:pt x="334" y="576"/>
                  </a:lnTo>
                  <a:lnTo>
                    <a:pt x="322" y="588"/>
                  </a:lnTo>
                  <a:lnTo>
                    <a:pt x="308" y="598"/>
                  </a:lnTo>
                  <a:lnTo>
                    <a:pt x="308" y="598"/>
                  </a:lnTo>
                  <a:lnTo>
                    <a:pt x="290" y="600"/>
                  </a:lnTo>
                  <a:lnTo>
                    <a:pt x="272" y="602"/>
                  </a:lnTo>
                  <a:lnTo>
                    <a:pt x="252" y="604"/>
                  </a:lnTo>
                  <a:lnTo>
                    <a:pt x="234" y="602"/>
                  </a:lnTo>
                  <a:lnTo>
                    <a:pt x="218" y="600"/>
                  </a:lnTo>
                  <a:lnTo>
                    <a:pt x="200" y="598"/>
                  </a:lnTo>
                  <a:lnTo>
                    <a:pt x="166" y="588"/>
                  </a:lnTo>
                  <a:lnTo>
                    <a:pt x="134" y="576"/>
                  </a:lnTo>
                  <a:lnTo>
                    <a:pt x="106" y="560"/>
                  </a:lnTo>
                  <a:lnTo>
                    <a:pt x="78" y="542"/>
                  </a:lnTo>
                  <a:lnTo>
                    <a:pt x="52" y="522"/>
                  </a:lnTo>
                  <a:lnTo>
                    <a:pt x="52" y="522"/>
                  </a:lnTo>
                  <a:lnTo>
                    <a:pt x="40" y="512"/>
                  </a:lnTo>
                  <a:lnTo>
                    <a:pt x="30" y="500"/>
                  </a:lnTo>
                  <a:lnTo>
                    <a:pt x="22" y="486"/>
                  </a:lnTo>
                  <a:lnTo>
                    <a:pt x="14" y="474"/>
                  </a:lnTo>
                  <a:lnTo>
                    <a:pt x="10" y="460"/>
                  </a:lnTo>
                  <a:lnTo>
                    <a:pt x="6" y="446"/>
                  </a:lnTo>
                  <a:lnTo>
                    <a:pt x="2" y="418"/>
                  </a:lnTo>
                  <a:lnTo>
                    <a:pt x="0" y="390"/>
                  </a:lnTo>
                  <a:lnTo>
                    <a:pt x="4" y="360"/>
                  </a:lnTo>
                  <a:lnTo>
                    <a:pt x="8" y="330"/>
                  </a:lnTo>
                  <a:lnTo>
                    <a:pt x="14" y="300"/>
                  </a:lnTo>
                  <a:lnTo>
                    <a:pt x="14" y="300"/>
                  </a:lnTo>
                  <a:lnTo>
                    <a:pt x="38" y="310"/>
                  </a:lnTo>
                  <a:lnTo>
                    <a:pt x="64" y="320"/>
                  </a:lnTo>
                  <a:lnTo>
                    <a:pt x="90" y="328"/>
                  </a:lnTo>
                  <a:lnTo>
                    <a:pt x="116" y="334"/>
                  </a:lnTo>
                  <a:lnTo>
                    <a:pt x="144" y="340"/>
                  </a:lnTo>
                  <a:lnTo>
                    <a:pt x="172" y="344"/>
                  </a:lnTo>
                  <a:lnTo>
                    <a:pt x="198" y="346"/>
                  </a:lnTo>
                  <a:lnTo>
                    <a:pt x="224" y="348"/>
                  </a:lnTo>
                  <a:lnTo>
                    <a:pt x="224" y="348"/>
                  </a:lnTo>
                  <a:lnTo>
                    <a:pt x="242" y="328"/>
                  </a:lnTo>
                  <a:lnTo>
                    <a:pt x="258" y="308"/>
                  </a:lnTo>
                  <a:lnTo>
                    <a:pt x="288" y="264"/>
                  </a:lnTo>
                  <a:lnTo>
                    <a:pt x="316" y="216"/>
                  </a:lnTo>
                  <a:lnTo>
                    <a:pt x="332" y="194"/>
                  </a:lnTo>
                  <a:lnTo>
                    <a:pt x="348" y="172"/>
                  </a:lnTo>
                  <a:lnTo>
                    <a:pt x="348" y="172"/>
                  </a:lnTo>
                  <a:lnTo>
                    <a:pt x="404" y="86"/>
                  </a:lnTo>
                  <a:lnTo>
                    <a:pt x="434" y="42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82" y="26"/>
                  </a:lnTo>
                  <a:lnTo>
                    <a:pt x="500" y="52"/>
                  </a:lnTo>
                  <a:lnTo>
                    <a:pt x="518" y="80"/>
                  </a:lnTo>
                  <a:lnTo>
                    <a:pt x="524" y="94"/>
                  </a:lnTo>
                  <a:lnTo>
                    <a:pt x="530" y="110"/>
                  </a:lnTo>
                  <a:lnTo>
                    <a:pt x="530" y="11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05040" y="8429760"/>
              <a:ext cx="323640" cy="6508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204" h="410">
                  <a:moveTo>
                    <a:pt x="190" y="0"/>
                  </a:moveTo>
                  <a:lnTo>
                    <a:pt x="190" y="0"/>
                  </a:lnTo>
                  <a:lnTo>
                    <a:pt x="204" y="392"/>
                  </a:lnTo>
                  <a:lnTo>
                    <a:pt x="204" y="392"/>
                  </a:lnTo>
                  <a:lnTo>
                    <a:pt x="168" y="400"/>
                  </a:lnTo>
                  <a:lnTo>
                    <a:pt x="122" y="408"/>
                  </a:lnTo>
                  <a:lnTo>
                    <a:pt x="98" y="410"/>
                  </a:lnTo>
                  <a:lnTo>
                    <a:pt x="74" y="410"/>
                  </a:lnTo>
                  <a:lnTo>
                    <a:pt x="50" y="410"/>
                  </a:lnTo>
                  <a:lnTo>
                    <a:pt x="28" y="408"/>
                  </a:lnTo>
                  <a:lnTo>
                    <a:pt x="28" y="408"/>
                  </a:lnTo>
                  <a:lnTo>
                    <a:pt x="16" y="320"/>
                  </a:lnTo>
                  <a:lnTo>
                    <a:pt x="8" y="232"/>
                  </a:lnTo>
                  <a:lnTo>
                    <a:pt x="2" y="1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30" y="48"/>
                  </a:lnTo>
                  <a:lnTo>
                    <a:pt x="62" y="38"/>
                  </a:lnTo>
                  <a:lnTo>
                    <a:pt x="124" y="2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473200" y="7804080"/>
              <a:ext cx="139680" cy="190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88" h="120">
                  <a:moveTo>
                    <a:pt x="86" y="120"/>
                  </a:moveTo>
                  <a:lnTo>
                    <a:pt x="86" y="120"/>
                  </a:lnTo>
                  <a:lnTo>
                    <a:pt x="88" y="104"/>
                  </a:lnTo>
                  <a:lnTo>
                    <a:pt x="86" y="90"/>
                  </a:lnTo>
                  <a:lnTo>
                    <a:pt x="82" y="72"/>
                  </a:lnTo>
                  <a:lnTo>
                    <a:pt x="80" y="62"/>
                  </a:lnTo>
                  <a:lnTo>
                    <a:pt x="74" y="52"/>
                  </a:lnTo>
                  <a:lnTo>
                    <a:pt x="68" y="42"/>
                  </a:lnTo>
                  <a:lnTo>
                    <a:pt x="58" y="32"/>
                  </a:lnTo>
                  <a:lnTo>
                    <a:pt x="48" y="22"/>
                  </a:lnTo>
                  <a:lnTo>
                    <a:pt x="34" y="1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2"/>
                  </a:lnTo>
                  <a:lnTo>
                    <a:pt x="6" y="26"/>
                  </a:lnTo>
                  <a:lnTo>
                    <a:pt x="12" y="44"/>
                  </a:lnTo>
                  <a:lnTo>
                    <a:pt x="22" y="62"/>
                  </a:lnTo>
                  <a:lnTo>
                    <a:pt x="38" y="82"/>
                  </a:lnTo>
                  <a:lnTo>
                    <a:pt x="48" y="92"/>
                  </a:lnTo>
                  <a:lnTo>
                    <a:pt x="58" y="102"/>
                  </a:lnTo>
                  <a:lnTo>
                    <a:pt x="70" y="110"/>
                  </a:lnTo>
                  <a:lnTo>
                    <a:pt x="86" y="120"/>
                  </a:lnTo>
                  <a:lnTo>
                    <a:pt x="86" y="120"/>
                  </a:lnTo>
                  <a:close/>
                </a:path>
              </a:pathLst>
            </a:custGeom>
            <a:solidFill>
              <a:srgbClr val="f19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5048280" y="4670280"/>
              <a:ext cx="3444840" cy="5264640"/>
            </a:xfrm>
            <a:custGeom>
              <a:avLst/>
              <a:gdLst>
                <a:gd name="textAreaLeft" fmla="*/ 0 w 3444840"/>
                <a:gd name="textAreaRight" fmla="*/ 3445200 w 3444840"/>
                <a:gd name="textAreaTop" fmla="*/ 0 h 5264640"/>
                <a:gd name="textAreaBottom" fmla="*/ 5265000 h 5264640"/>
              </a:gdLst>
              <a:ahLst/>
              <a:rect l="textAreaLeft" t="textAreaTop" r="textAreaRight" b="textAreaBottom"/>
              <a:pathLst>
                <a:path w="2170" h="3316">
                  <a:moveTo>
                    <a:pt x="2154" y="1526"/>
                  </a:moveTo>
                  <a:lnTo>
                    <a:pt x="2154" y="1526"/>
                  </a:lnTo>
                  <a:lnTo>
                    <a:pt x="2048" y="1540"/>
                  </a:lnTo>
                  <a:lnTo>
                    <a:pt x="1980" y="1548"/>
                  </a:lnTo>
                  <a:lnTo>
                    <a:pt x="1980" y="1548"/>
                  </a:lnTo>
                  <a:lnTo>
                    <a:pt x="2022" y="1532"/>
                  </a:lnTo>
                  <a:lnTo>
                    <a:pt x="2074" y="1514"/>
                  </a:lnTo>
                  <a:lnTo>
                    <a:pt x="2100" y="1504"/>
                  </a:lnTo>
                  <a:lnTo>
                    <a:pt x="2122" y="1494"/>
                  </a:lnTo>
                  <a:lnTo>
                    <a:pt x="2138" y="1484"/>
                  </a:lnTo>
                  <a:lnTo>
                    <a:pt x="2142" y="1480"/>
                  </a:lnTo>
                  <a:lnTo>
                    <a:pt x="2146" y="1474"/>
                  </a:lnTo>
                  <a:lnTo>
                    <a:pt x="2146" y="1474"/>
                  </a:lnTo>
                  <a:lnTo>
                    <a:pt x="2136" y="1452"/>
                  </a:lnTo>
                  <a:lnTo>
                    <a:pt x="2128" y="1428"/>
                  </a:lnTo>
                  <a:lnTo>
                    <a:pt x="2114" y="1376"/>
                  </a:lnTo>
                  <a:lnTo>
                    <a:pt x="2098" y="1324"/>
                  </a:lnTo>
                  <a:lnTo>
                    <a:pt x="2090" y="1300"/>
                  </a:lnTo>
                  <a:lnTo>
                    <a:pt x="2080" y="1276"/>
                  </a:lnTo>
                  <a:lnTo>
                    <a:pt x="2080" y="1276"/>
                  </a:lnTo>
                  <a:lnTo>
                    <a:pt x="2066" y="1292"/>
                  </a:lnTo>
                  <a:lnTo>
                    <a:pt x="2050" y="1308"/>
                  </a:lnTo>
                  <a:lnTo>
                    <a:pt x="2032" y="1326"/>
                  </a:lnTo>
                  <a:lnTo>
                    <a:pt x="2024" y="1332"/>
                  </a:lnTo>
                  <a:lnTo>
                    <a:pt x="2014" y="1338"/>
                  </a:lnTo>
                  <a:lnTo>
                    <a:pt x="2004" y="1344"/>
                  </a:lnTo>
                  <a:lnTo>
                    <a:pt x="1994" y="1346"/>
                  </a:lnTo>
                  <a:lnTo>
                    <a:pt x="1984" y="1346"/>
                  </a:lnTo>
                  <a:lnTo>
                    <a:pt x="1972" y="1344"/>
                  </a:lnTo>
                  <a:lnTo>
                    <a:pt x="1960" y="1340"/>
                  </a:lnTo>
                  <a:lnTo>
                    <a:pt x="1946" y="1332"/>
                  </a:lnTo>
                  <a:lnTo>
                    <a:pt x="1934" y="1320"/>
                  </a:lnTo>
                  <a:lnTo>
                    <a:pt x="1920" y="1304"/>
                  </a:lnTo>
                  <a:lnTo>
                    <a:pt x="1920" y="1304"/>
                  </a:lnTo>
                  <a:lnTo>
                    <a:pt x="1922" y="1248"/>
                  </a:lnTo>
                  <a:lnTo>
                    <a:pt x="1924" y="1192"/>
                  </a:lnTo>
                  <a:lnTo>
                    <a:pt x="1922" y="1134"/>
                  </a:lnTo>
                  <a:lnTo>
                    <a:pt x="1918" y="1106"/>
                  </a:lnTo>
                  <a:lnTo>
                    <a:pt x="1914" y="1078"/>
                  </a:lnTo>
                  <a:lnTo>
                    <a:pt x="1910" y="1050"/>
                  </a:lnTo>
                  <a:lnTo>
                    <a:pt x="1902" y="1024"/>
                  </a:lnTo>
                  <a:lnTo>
                    <a:pt x="1894" y="998"/>
                  </a:lnTo>
                  <a:lnTo>
                    <a:pt x="1884" y="972"/>
                  </a:lnTo>
                  <a:lnTo>
                    <a:pt x="1874" y="950"/>
                  </a:lnTo>
                  <a:lnTo>
                    <a:pt x="1860" y="926"/>
                  </a:lnTo>
                  <a:lnTo>
                    <a:pt x="1846" y="906"/>
                  </a:lnTo>
                  <a:lnTo>
                    <a:pt x="1828" y="886"/>
                  </a:lnTo>
                  <a:lnTo>
                    <a:pt x="1828" y="886"/>
                  </a:lnTo>
                  <a:lnTo>
                    <a:pt x="1812" y="922"/>
                  </a:lnTo>
                  <a:lnTo>
                    <a:pt x="1802" y="942"/>
                  </a:lnTo>
                  <a:lnTo>
                    <a:pt x="1788" y="962"/>
                  </a:lnTo>
                  <a:lnTo>
                    <a:pt x="1788" y="962"/>
                  </a:lnTo>
                  <a:lnTo>
                    <a:pt x="1780" y="952"/>
                  </a:lnTo>
                  <a:lnTo>
                    <a:pt x="1772" y="938"/>
                  </a:lnTo>
                  <a:lnTo>
                    <a:pt x="1764" y="922"/>
                  </a:lnTo>
                  <a:lnTo>
                    <a:pt x="1754" y="912"/>
                  </a:lnTo>
                  <a:lnTo>
                    <a:pt x="1754" y="912"/>
                  </a:lnTo>
                  <a:lnTo>
                    <a:pt x="1772" y="902"/>
                  </a:lnTo>
                  <a:lnTo>
                    <a:pt x="1790" y="892"/>
                  </a:lnTo>
                  <a:lnTo>
                    <a:pt x="1804" y="880"/>
                  </a:lnTo>
                  <a:lnTo>
                    <a:pt x="1818" y="868"/>
                  </a:lnTo>
                  <a:lnTo>
                    <a:pt x="1830" y="856"/>
                  </a:lnTo>
                  <a:lnTo>
                    <a:pt x="1840" y="844"/>
                  </a:lnTo>
                  <a:lnTo>
                    <a:pt x="1858" y="818"/>
                  </a:lnTo>
                  <a:lnTo>
                    <a:pt x="1870" y="794"/>
                  </a:lnTo>
                  <a:lnTo>
                    <a:pt x="1880" y="774"/>
                  </a:lnTo>
                  <a:lnTo>
                    <a:pt x="1886" y="756"/>
                  </a:lnTo>
                  <a:lnTo>
                    <a:pt x="1886" y="756"/>
                  </a:lnTo>
                  <a:lnTo>
                    <a:pt x="1844" y="704"/>
                  </a:lnTo>
                  <a:lnTo>
                    <a:pt x="1766" y="612"/>
                  </a:lnTo>
                  <a:lnTo>
                    <a:pt x="1828" y="566"/>
                  </a:lnTo>
                  <a:lnTo>
                    <a:pt x="1718" y="432"/>
                  </a:lnTo>
                  <a:lnTo>
                    <a:pt x="1658" y="476"/>
                  </a:lnTo>
                  <a:lnTo>
                    <a:pt x="1658" y="476"/>
                  </a:lnTo>
                  <a:lnTo>
                    <a:pt x="1608" y="418"/>
                  </a:lnTo>
                  <a:lnTo>
                    <a:pt x="1528" y="322"/>
                  </a:lnTo>
                  <a:lnTo>
                    <a:pt x="1442" y="220"/>
                  </a:lnTo>
                  <a:lnTo>
                    <a:pt x="1378" y="148"/>
                  </a:lnTo>
                  <a:lnTo>
                    <a:pt x="1378" y="148"/>
                  </a:lnTo>
                  <a:lnTo>
                    <a:pt x="1382" y="132"/>
                  </a:lnTo>
                  <a:lnTo>
                    <a:pt x="1384" y="114"/>
                  </a:lnTo>
                  <a:lnTo>
                    <a:pt x="1384" y="94"/>
                  </a:lnTo>
                  <a:lnTo>
                    <a:pt x="1382" y="82"/>
                  </a:lnTo>
                  <a:lnTo>
                    <a:pt x="1380" y="72"/>
                  </a:lnTo>
                  <a:lnTo>
                    <a:pt x="1376" y="60"/>
                  </a:lnTo>
                  <a:lnTo>
                    <a:pt x="1370" y="50"/>
                  </a:lnTo>
                  <a:lnTo>
                    <a:pt x="1364" y="40"/>
                  </a:lnTo>
                  <a:lnTo>
                    <a:pt x="1354" y="30"/>
                  </a:lnTo>
                  <a:lnTo>
                    <a:pt x="1342" y="24"/>
                  </a:lnTo>
                  <a:lnTo>
                    <a:pt x="1328" y="16"/>
                  </a:lnTo>
                  <a:lnTo>
                    <a:pt x="1328" y="16"/>
                  </a:lnTo>
                  <a:lnTo>
                    <a:pt x="1310" y="8"/>
                  </a:lnTo>
                  <a:lnTo>
                    <a:pt x="1290" y="2"/>
                  </a:lnTo>
                  <a:lnTo>
                    <a:pt x="1274" y="0"/>
                  </a:lnTo>
                  <a:lnTo>
                    <a:pt x="1256" y="0"/>
                  </a:lnTo>
                  <a:lnTo>
                    <a:pt x="1238" y="2"/>
                  </a:lnTo>
                  <a:lnTo>
                    <a:pt x="1222" y="8"/>
                  </a:lnTo>
                  <a:lnTo>
                    <a:pt x="1204" y="14"/>
                  </a:lnTo>
                  <a:lnTo>
                    <a:pt x="1188" y="22"/>
                  </a:lnTo>
                  <a:lnTo>
                    <a:pt x="1154" y="40"/>
                  </a:lnTo>
                  <a:lnTo>
                    <a:pt x="1120" y="56"/>
                  </a:lnTo>
                  <a:lnTo>
                    <a:pt x="1102" y="62"/>
                  </a:lnTo>
                  <a:lnTo>
                    <a:pt x="1084" y="68"/>
                  </a:lnTo>
                  <a:lnTo>
                    <a:pt x="1066" y="70"/>
                  </a:lnTo>
                  <a:lnTo>
                    <a:pt x="1048" y="72"/>
                  </a:lnTo>
                  <a:lnTo>
                    <a:pt x="1048" y="72"/>
                  </a:lnTo>
                  <a:lnTo>
                    <a:pt x="1020" y="60"/>
                  </a:lnTo>
                  <a:lnTo>
                    <a:pt x="992" y="54"/>
                  </a:lnTo>
                  <a:lnTo>
                    <a:pt x="964" y="50"/>
                  </a:lnTo>
                  <a:lnTo>
                    <a:pt x="936" y="48"/>
                  </a:lnTo>
                  <a:lnTo>
                    <a:pt x="908" y="48"/>
                  </a:lnTo>
                  <a:lnTo>
                    <a:pt x="878" y="52"/>
                  </a:lnTo>
                  <a:lnTo>
                    <a:pt x="820" y="58"/>
                  </a:lnTo>
                  <a:lnTo>
                    <a:pt x="820" y="58"/>
                  </a:lnTo>
                  <a:lnTo>
                    <a:pt x="802" y="68"/>
                  </a:lnTo>
                  <a:lnTo>
                    <a:pt x="784" y="78"/>
                  </a:lnTo>
                  <a:lnTo>
                    <a:pt x="766" y="90"/>
                  </a:lnTo>
                  <a:lnTo>
                    <a:pt x="748" y="104"/>
                  </a:lnTo>
                  <a:lnTo>
                    <a:pt x="734" y="120"/>
                  </a:lnTo>
                  <a:lnTo>
                    <a:pt x="720" y="138"/>
                  </a:lnTo>
                  <a:lnTo>
                    <a:pt x="710" y="156"/>
                  </a:lnTo>
                  <a:lnTo>
                    <a:pt x="700" y="174"/>
                  </a:lnTo>
                  <a:lnTo>
                    <a:pt x="700" y="174"/>
                  </a:lnTo>
                  <a:lnTo>
                    <a:pt x="698" y="204"/>
                  </a:lnTo>
                  <a:lnTo>
                    <a:pt x="702" y="234"/>
                  </a:lnTo>
                  <a:lnTo>
                    <a:pt x="708" y="260"/>
                  </a:lnTo>
                  <a:lnTo>
                    <a:pt x="718" y="284"/>
                  </a:lnTo>
                  <a:lnTo>
                    <a:pt x="732" y="308"/>
                  </a:lnTo>
                  <a:lnTo>
                    <a:pt x="750" y="328"/>
                  </a:lnTo>
                  <a:lnTo>
                    <a:pt x="770" y="346"/>
                  </a:lnTo>
                  <a:lnTo>
                    <a:pt x="796" y="364"/>
                  </a:lnTo>
                  <a:lnTo>
                    <a:pt x="796" y="364"/>
                  </a:lnTo>
                  <a:lnTo>
                    <a:pt x="812" y="372"/>
                  </a:lnTo>
                  <a:lnTo>
                    <a:pt x="830" y="376"/>
                  </a:lnTo>
                  <a:lnTo>
                    <a:pt x="846" y="378"/>
                  </a:lnTo>
                  <a:lnTo>
                    <a:pt x="864" y="378"/>
                  </a:lnTo>
                  <a:lnTo>
                    <a:pt x="880" y="374"/>
                  </a:lnTo>
                  <a:lnTo>
                    <a:pt x="898" y="370"/>
                  </a:lnTo>
                  <a:lnTo>
                    <a:pt x="932" y="362"/>
                  </a:lnTo>
                  <a:lnTo>
                    <a:pt x="948" y="358"/>
                  </a:lnTo>
                  <a:lnTo>
                    <a:pt x="964" y="356"/>
                  </a:lnTo>
                  <a:lnTo>
                    <a:pt x="980" y="354"/>
                  </a:lnTo>
                  <a:lnTo>
                    <a:pt x="996" y="356"/>
                  </a:lnTo>
                  <a:lnTo>
                    <a:pt x="1012" y="362"/>
                  </a:lnTo>
                  <a:lnTo>
                    <a:pt x="1026" y="372"/>
                  </a:lnTo>
                  <a:lnTo>
                    <a:pt x="1040" y="386"/>
                  </a:lnTo>
                  <a:lnTo>
                    <a:pt x="1054" y="406"/>
                  </a:lnTo>
                  <a:lnTo>
                    <a:pt x="1054" y="406"/>
                  </a:lnTo>
                  <a:lnTo>
                    <a:pt x="1110" y="482"/>
                  </a:lnTo>
                  <a:lnTo>
                    <a:pt x="1164" y="556"/>
                  </a:lnTo>
                  <a:lnTo>
                    <a:pt x="1216" y="630"/>
                  </a:lnTo>
                  <a:lnTo>
                    <a:pt x="1240" y="670"/>
                  </a:lnTo>
                  <a:lnTo>
                    <a:pt x="1266" y="710"/>
                  </a:lnTo>
                  <a:lnTo>
                    <a:pt x="1266" y="710"/>
                  </a:lnTo>
                  <a:lnTo>
                    <a:pt x="1214" y="710"/>
                  </a:lnTo>
                  <a:lnTo>
                    <a:pt x="1152" y="712"/>
                  </a:lnTo>
                  <a:lnTo>
                    <a:pt x="1084" y="716"/>
                  </a:lnTo>
                  <a:lnTo>
                    <a:pt x="1016" y="720"/>
                  </a:lnTo>
                  <a:lnTo>
                    <a:pt x="904" y="730"/>
                  </a:lnTo>
                  <a:lnTo>
                    <a:pt x="856" y="734"/>
                  </a:lnTo>
                  <a:lnTo>
                    <a:pt x="856" y="734"/>
                  </a:lnTo>
                  <a:lnTo>
                    <a:pt x="868" y="750"/>
                  </a:lnTo>
                  <a:lnTo>
                    <a:pt x="878" y="768"/>
                  </a:lnTo>
                  <a:lnTo>
                    <a:pt x="890" y="790"/>
                  </a:lnTo>
                  <a:lnTo>
                    <a:pt x="898" y="812"/>
                  </a:lnTo>
                  <a:lnTo>
                    <a:pt x="902" y="824"/>
                  </a:lnTo>
                  <a:lnTo>
                    <a:pt x="904" y="834"/>
                  </a:lnTo>
                  <a:lnTo>
                    <a:pt x="904" y="846"/>
                  </a:lnTo>
                  <a:lnTo>
                    <a:pt x="902" y="856"/>
                  </a:lnTo>
                  <a:lnTo>
                    <a:pt x="898" y="864"/>
                  </a:lnTo>
                  <a:lnTo>
                    <a:pt x="892" y="872"/>
                  </a:lnTo>
                  <a:lnTo>
                    <a:pt x="896" y="904"/>
                  </a:lnTo>
                  <a:lnTo>
                    <a:pt x="808" y="966"/>
                  </a:lnTo>
                  <a:lnTo>
                    <a:pt x="808" y="966"/>
                  </a:lnTo>
                  <a:lnTo>
                    <a:pt x="794" y="962"/>
                  </a:lnTo>
                  <a:lnTo>
                    <a:pt x="784" y="958"/>
                  </a:lnTo>
                  <a:lnTo>
                    <a:pt x="770" y="956"/>
                  </a:lnTo>
                  <a:lnTo>
                    <a:pt x="756" y="954"/>
                  </a:lnTo>
                  <a:lnTo>
                    <a:pt x="740" y="956"/>
                  </a:lnTo>
                  <a:lnTo>
                    <a:pt x="724" y="960"/>
                  </a:lnTo>
                  <a:lnTo>
                    <a:pt x="716" y="964"/>
                  </a:lnTo>
                  <a:lnTo>
                    <a:pt x="710" y="970"/>
                  </a:lnTo>
                  <a:lnTo>
                    <a:pt x="710" y="970"/>
                  </a:lnTo>
                  <a:lnTo>
                    <a:pt x="698" y="986"/>
                  </a:lnTo>
                  <a:lnTo>
                    <a:pt x="690" y="1004"/>
                  </a:lnTo>
                  <a:lnTo>
                    <a:pt x="686" y="1022"/>
                  </a:lnTo>
                  <a:lnTo>
                    <a:pt x="686" y="1038"/>
                  </a:lnTo>
                  <a:lnTo>
                    <a:pt x="686" y="1056"/>
                  </a:lnTo>
                  <a:lnTo>
                    <a:pt x="688" y="1074"/>
                  </a:lnTo>
                  <a:lnTo>
                    <a:pt x="694" y="1110"/>
                  </a:lnTo>
                  <a:lnTo>
                    <a:pt x="694" y="1110"/>
                  </a:lnTo>
                  <a:lnTo>
                    <a:pt x="680" y="1140"/>
                  </a:lnTo>
                  <a:lnTo>
                    <a:pt x="666" y="1180"/>
                  </a:lnTo>
                  <a:lnTo>
                    <a:pt x="642" y="1246"/>
                  </a:lnTo>
                  <a:lnTo>
                    <a:pt x="642" y="1246"/>
                  </a:lnTo>
                  <a:lnTo>
                    <a:pt x="608" y="1276"/>
                  </a:lnTo>
                  <a:lnTo>
                    <a:pt x="576" y="1296"/>
                  </a:lnTo>
                  <a:lnTo>
                    <a:pt x="576" y="1296"/>
                  </a:lnTo>
                  <a:lnTo>
                    <a:pt x="560" y="1290"/>
                  </a:lnTo>
                  <a:lnTo>
                    <a:pt x="546" y="1284"/>
                  </a:lnTo>
                  <a:lnTo>
                    <a:pt x="532" y="1284"/>
                  </a:lnTo>
                  <a:lnTo>
                    <a:pt x="520" y="1284"/>
                  </a:lnTo>
                  <a:lnTo>
                    <a:pt x="506" y="1288"/>
                  </a:lnTo>
                  <a:lnTo>
                    <a:pt x="496" y="1296"/>
                  </a:lnTo>
                  <a:lnTo>
                    <a:pt x="486" y="1306"/>
                  </a:lnTo>
                  <a:lnTo>
                    <a:pt x="478" y="1320"/>
                  </a:lnTo>
                  <a:lnTo>
                    <a:pt x="478" y="1320"/>
                  </a:lnTo>
                  <a:lnTo>
                    <a:pt x="468" y="1318"/>
                  </a:lnTo>
                  <a:lnTo>
                    <a:pt x="454" y="1320"/>
                  </a:lnTo>
                  <a:lnTo>
                    <a:pt x="440" y="1324"/>
                  </a:lnTo>
                  <a:lnTo>
                    <a:pt x="424" y="1332"/>
                  </a:lnTo>
                  <a:lnTo>
                    <a:pt x="408" y="1342"/>
                  </a:lnTo>
                  <a:lnTo>
                    <a:pt x="392" y="1354"/>
                  </a:lnTo>
                  <a:lnTo>
                    <a:pt x="374" y="1368"/>
                  </a:lnTo>
                  <a:lnTo>
                    <a:pt x="358" y="1382"/>
                  </a:lnTo>
                  <a:lnTo>
                    <a:pt x="344" y="1398"/>
                  </a:lnTo>
                  <a:lnTo>
                    <a:pt x="330" y="1414"/>
                  </a:lnTo>
                  <a:lnTo>
                    <a:pt x="318" y="1432"/>
                  </a:lnTo>
                  <a:lnTo>
                    <a:pt x="310" y="1448"/>
                  </a:lnTo>
                  <a:lnTo>
                    <a:pt x="304" y="1466"/>
                  </a:lnTo>
                  <a:lnTo>
                    <a:pt x="302" y="1480"/>
                  </a:lnTo>
                  <a:lnTo>
                    <a:pt x="302" y="1496"/>
                  </a:lnTo>
                  <a:lnTo>
                    <a:pt x="304" y="1502"/>
                  </a:lnTo>
                  <a:lnTo>
                    <a:pt x="308" y="1510"/>
                  </a:lnTo>
                  <a:lnTo>
                    <a:pt x="108" y="1674"/>
                  </a:lnTo>
                  <a:lnTo>
                    <a:pt x="108" y="1674"/>
                  </a:lnTo>
                  <a:lnTo>
                    <a:pt x="112" y="1694"/>
                  </a:lnTo>
                  <a:lnTo>
                    <a:pt x="118" y="1714"/>
                  </a:lnTo>
                  <a:lnTo>
                    <a:pt x="126" y="1732"/>
                  </a:lnTo>
                  <a:lnTo>
                    <a:pt x="136" y="1750"/>
                  </a:lnTo>
                  <a:lnTo>
                    <a:pt x="148" y="1768"/>
                  </a:lnTo>
                  <a:lnTo>
                    <a:pt x="162" y="1782"/>
                  </a:lnTo>
                  <a:lnTo>
                    <a:pt x="176" y="1794"/>
                  </a:lnTo>
                  <a:lnTo>
                    <a:pt x="196" y="1804"/>
                  </a:lnTo>
                  <a:lnTo>
                    <a:pt x="196" y="1804"/>
                  </a:lnTo>
                  <a:lnTo>
                    <a:pt x="210" y="1794"/>
                  </a:lnTo>
                  <a:lnTo>
                    <a:pt x="232" y="1778"/>
                  </a:lnTo>
                  <a:lnTo>
                    <a:pt x="288" y="1732"/>
                  </a:lnTo>
                  <a:lnTo>
                    <a:pt x="380" y="1658"/>
                  </a:lnTo>
                  <a:lnTo>
                    <a:pt x="380" y="1658"/>
                  </a:lnTo>
                  <a:lnTo>
                    <a:pt x="396" y="1748"/>
                  </a:lnTo>
                  <a:lnTo>
                    <a:pt x="414" y="1840"/>
                  </a:lnTo>
                  <a:lnTo>
                    <a:pt x="432" y="1934"/>
                  </a:lnTo>
                  <a:lnTo>
                    <a:pt x="446" y="2024"/>
                  </a:lnTo>
                  <a:lnTo>
                    <a:pt x="470" y="2044"/>
                  </a:lnTo>
                  <a:lnTo>
                    <a:pt x="470" y="2044"/>
                  </a:lnTo>
                  <a:lnTo>
                    <a:pt x="458" y="2068"/>
                  </a:lnTo>
                  <a:lnTo>
                    <a:pt x="442" y="2090"/>
                  </a:lnTo>
                  <a:lnTo>
                    <a:pt x="426" y="2110"/>
                  </a:lnTo>
                  <a:lnTo>
                    <a:pt x="416" y="2118"/>
                  </a:lnTo>
                  <a:lnTo>
                    <a:pt x="406" y="2124"/>
                  </a:lnTo>
                  <a:lnTo>
                    <a:pt x="406" y="2124"/>
                  </a:lnTo>
                  <a:lnTo>
                    <a:pt x="432" y="2166"/>
                  </a:lnTo>
                  <a:lnTo>
                    <a:pt x="444" y="2190"/>
                  </a:lnTo>
                  <a:lnTo>
                    <a:pt x="458" y="2218"/>
                  </a:lnTo>
                  <a:lnTo>
                    <a:pt x="458" y="2218"/>
                  </a:lnTo>
                  <a:lnTo>
                    <a:pt x="462" y="2224"/>
                  </a:lnTo>
                  <a:lnTo>
                    <a:pt x="466" y="2234"/>
                  </a:lnTo>
                  <a:lnTo>
                    <a:pt x="468" y="2242"/>
                  </a:lnTo>
                  <a:lnTo>
                    <a:pt x="468" y="2252"/>
                  </a:lnTo>
                  <a:lnTo>
                    <a:pt x="466" y="2262"/>
                  </a:lnTo>
                  <a:lnTo>
                    <a:pt x="462" y="2270"/>
                  </a:lnTo>
                  <a:lnTo>
                    <a:pt x="456" y="2280"/>
                  </a:lnTo>
                  <a:lnTo>
                    <a:pt x="446" y="2288"/>
                  </a:lnTo>
                  <a:lnTo>
                    <a:pt x="446" y="2288"/>
                  </a:lnTo>
                  <a:lnTo>
                    <a:pt x="430" y="2300"/>
                  </a:lnTo>
                  <a:lnTo>
                    <a:pt x="408" y="2318"/>
                  </a:lnTo>
                  <a:lnTo>
                    <a:pt x="354" y="2370"/>
                  </a:lnTo>
                  <a:lnTo>
                    <a:pt x="288" y="2430"/>
                  </a:lnTo>
                  <a:lnTo>
                    <a:pt x="256" y="2458"/>
                  </a:lnTo>
                  <a:lnTo>
                    <a:pt x="222" y="2482"/>
                  </a:lnTo>
                  <a:lnTo>
                    <a:pt x="222" y="2482"/>
                  </a:lnTo>
                  <a:lnTo>
                    <a:pt x="238" y="2512"/>
                  </a:lnTo>
                  <a:lnTo>
                    <a:pt x="248" y="2536"/>
                  </a:lnTo>
                  <a:lnTo>
                    <a:pt x="252" y="2548"/>
                  </a:lnTo>
                  <a:lnTo>
                    <a:pt x="252" y="2556"/>
                  </a:lnTo>
                  <a:lnTo>
                    <a:pt x="252" y="2556"/>
                  </a:lnTo>
                  <a:lnTo>
                    <a:pt x="246" y="2564"/>
                  </a:lnTo>
                  <a:lnTo>
                    <a:pt x="238" y="2572"/>
                  </a:lnTo>
                  <a:lnTo>
                    <a:pt x="222" y="2584"/>
                  </a:lnTo>
                  <a:lnTo>
                    <a:pt x="206" y="2596"/>
                  </a:lnTo>
                  <a:lnTo>
                    <a:pt x="188" y="2608"/>
                  </a:lnTo>
                  <a:lnTo>
                    <a:pt x="188" y="2608"/>
                  </a:lnTo>
                  <a:lnTo>
                    <a:pt x="140" y="2586"/>
                  </a:lnTo>
                  <a:lnTo>
                    <a:pt x="116" y="2574"/>
                  </a:lnTo>
                  <a:lnTo>
                    <a:pt x="94" y="2558"/>
                  </a:lnTo>
                  <a:lnTo>
                    <a:pt x="94" y="2558"/>
                  </a:lnTo>
                  <a:lnTo>
                    <a:pt x="86" y="2556"/>
                  </a:lnTo>
                  <a:lnTo>
                    <a:pt x="76" y="2556"/>
                  </a:lnTo>
                  <a:lnTo>
                    <a:pt x="48" y="2558"/>
                  </a:lnTo>
                  <a:lnTo>
                    <a:pt x="20" y="2562"/>
                  </a:lnTo>
                  <a:lnTo>
                    <a:pt x="8" y="2566"/>
                  </a:lnTo>
                  <a:lnTo>
                    <a:pt x="0" y="2570"/>
                  </a:lnTo>
                  <a:lnTo>
                    <a:pt x="0" y="2570"/>
                  </a:lnTo>
                  <a:lnTo>
                    <a:pt x="0" y="2578"/>
                  </a:lnTo>
                  <a:lnTo>
                    <a:pt x="2" y="2588"/>
                  </a:lnTo>
                  <a:lnTo>
                    <a:pt x="8" y="2602"/>
                  </a:lnTo>
                  <a:lnTo>
                    <a:pt x="16" y="2616"/>
                  </a:lnTo>
                  <a:lnTo>
                    <a:pt x="36" y="2652"/>
                  </a:lnTo>
                  <a:lnTo>
                    <a:pt x="64" y="2690"/>
                  </a:lnTo>
                  <a:lnTo>
                    <a:pt x="122" y="2764"/>
                  </a:lnTo>
                  <a:lnTo>
                    <a:pt x="168" y="2820"/>
                  </a:lnTo>
                  <a:lnTo>
                    <a:pt x="168" y="2820"/>
                  </a:lnTo>
                  <a:lnTo>
                    <a:pt x="180" y="2824"/>
                  </a:lnTo>
                  <a:lnTo>
                    <a:pt x="192" y="2826"/>
                  </a:lnTo>
                  <a:lnTo>
                    <a:pt x="204" y="2826"/>
                  </a:lnTo>
                  <a:lnTo>
                    <a:pt x="214" y="2824"/>
                  </a:lnTo>
                  <a:lnTo>
                    <a:pt x="224" y="2820"/>
                  </a:lnTo>
                  <a:lnTo>
                    <a:pt x="234" y="2814"/>
                  </a:lnTo>
                  <a:lnTo>
                    <a:pt x="254" y="2802"/>
                  </a:lnTo>
                  <a:lnTo>
                    <a:pt x="274" y="2788"/>
                  </a:lnTo>
                  <a:lnTo>
                    <a:pt x="294" y="2774"/>
                  </a:lnTo>
                  <a:lnTo>
                    <a:pt x="314" y="2764"/>
                  </a:lnTo>
                  <a:lnTo>
                    <a:pt x="326" y="2760"/>
                  </a:lnTo>
                  <a:lnTo>
                    <a:pt x="336" y="2758"/>
                  </a:lnTo>
                  <a:lnTo>
                    <a:pt x="336" y="2758"/>
                  </a:lnTo>
                  <a:lnTo>
                    <a:pt x="340" y="2762"/>
                  </a:lnTo>
                  <a:lnTo>
                    <a:pt x="340" y="2764"/>
                  </a:lnTo>
                  <a:lnTo>
                    <a:pt x="340" y="2768"/>
                  </a:lnTo>
                  <a:lnTo>
                    <a:pt x="340" y="2768"/>
                  </a:lnTo>
                  <a:lnTo>
                    <a:pt x="352" y="2772"/>
                  </a:lnTo>
                  <a:lnTo>
                    <a:pt x="364" y="2774"/>
                  </a:lnTo>
                  <a:lnTo>
                    <a:pt x="374" y="2772"/>
                  </a:lnTo>
                  <a:lnTo>
                    <a:pt x="384" y="2768"/>
                  </a:lnTo>
                  <a:lnTo>
                    <a:pt x="404" y="2760"/>
                  </a:lnTo>
                  <a:lnTo>
                    <a:pt x="424" y="2752"/>
                  </a:lnTo>
                  <a:lnTo>
                    <a:pt x="424" y="2752"/>
                  </a:lnTo>
                  <a:lnTo>
                    <a:pt x="440" y="2742"/>
                  </a:lnTo>
                  <a:lnTo>
                    <a:pt x="454" y="2730"/>
                  </a:lnTo>
                  <a:lnTo>
                    <a:pt x="480" y="2702"/>
                  </a:lnTo>
                  <a:lnTo>
                    <a:pt x="494" y="2688"/>
                  </a:lnTo>
                  <a:lnTo>
                    <a:pt x="506" y="2676"/>
                  </a:lnTo>
                  <a:lnTo>
                    <a:pt x="522" y="2668"/>
                  </a:lnTo>
                  <a:lnTo>
                    <a:pt x="530" y="2666"/>
                  </a:lnTo>
                  <a:lnTo>
                    <a:pt x="540" y="2664"/>
                  </a:lnTo>
                  <a:lnTo>
                    <a:pt x="540" y="2664"/>
                  </a:lnTo>
                  <a:lnTo>
                    <a:pt x="560" y="2674"/>
                  </a:lnTo>
                  <a:lnTo>
                    <a:pt x="582" y="2684"/>
                  </a:lnTo>
                  <a:lnTo>
                    <a:pt x="630" y="2702"/>
                  </a:lnTo>
                  <a:lnTo>
                    <a:pt x="678" y="2724"/>
                  </a:lnTo>
                  <a:lnTo>
                    <a:pt x="700" y="2736"/>
                  </a:lnTo>
                  <a:lnTo>
                    <a:pt x="720" y="2748"/>
                  </a:lnTo>
                  <a:lnTo>
                    <a:pt x="720" y="2748"/>
                  </a:lnTo>
                  <a:lnTo>
                    <a:pt x="768" y="2864"/>
                  </a:lnTo>
                  <a:lnTo>
                    <a:pt x="820" y="2994"/>
                  </a:lnTo>
                  <a:lnTo>
                    <a:pt x="860" y="3100"/>
                  </a:lnTo>
                  <a:lnTo>
                    <a:pt x="870" y="3134"/>
                  </a:lnTo>
                  <a:lnTo>
                    <a:pt x="874" y="3144"/>
                  </a:lnTo>
                  <a:lnTo>
                    <a:pt x="874" y="3148"/>
                  </a:lnTo>
                  <a:lnTo>
                    <a:pt x="874" y="3148"/>
                  </a:lnTo>
                  <a:lnTo>
                    <a:pt x="854" y="3162"/>
                  </a:lnTo>
                  <a:lnTo>
                    <a:pt x="832" y="3174"/>
                  </a:lnTo>
                  <a:lnTo>
                    <a:pt x="790" y="3196"/>
                  </a:lnTo>
                  <a:lnTo>
                    <a:pt x="748" y="3218"/>
                  </a:lnTo>
                  <a:lnTo>
                    <a:pt x="728" y="3232"/>
                  </a:lnTo>
                  <a:lnTo>
                    <a:pt x="708" y="3244"/>
                  </a:lnTo>
                  <a:lnTo>
                    <a:pt x="708" y="3244"/>
                  </a:lnTo>
                  <a:lnTo>
                    <a:pt x="706" y="3248"/>
                  </a:lnTo>
                  <a:lnTo>
                    <a:pt x="706" y="3252"/>
                  </a:lnTo>
                  <a:lnTo>
                    <a:pt x="708" y="3262"/>
                  </a:lnTo>
                  <a:lnTo>
                    <a:pt x="714" y="3272"/>
                  </a:lnTo>
                  <a:lnTo>
                    <a:pt x="722" y="3284"/>
                  </a:lnTo>
                  <a:lnTo>
                    <a:pt x="740" y="3304"/>
                  </a:lnTo>
                  <a:lnTo>
                    <a:pt x="750" y="3312"/>
                  </a:lnTo>
                  <a:lnTo>
                    <a:pt x="756" y="3316"/>
                  </a:lnTo>
                  <a:lnTo>
                    <a:pt x="756" y="3316"/>
                  </a:lnTo>
                  <a:lnTo>
                    <a:pt x="790" y="3312"/>
                  </a:lnTo>
                  <a:lnTo>
                    <a:pt x="834" y="3308"/>
                  </a:lnTo>
                  <a:lnTo>
                    <a:pt x="938" y="3306"/>
                  </a:lnTo>
                  <a:lnTo>
                    <a:pt x="1038" y="3304"/>
                  </a:lnTo>
                  <a:lnTo>
                    <a:pt x="1076" y="3302"/>
                  </a:lnTo>
                  <a:lnTo>
                    <a:pt x="1100" y="3300"/>
                  </a:lnTo>
                  <a:lnTo>
                    <a:pt x="1100" y="3300"/>
                  </a:lnTo>
                  <a:lnTo>
                    <a:pt x="1112" y="3296"/>
                  </a:lnTo>
                  <a:lnTo>
                    <a:pt x="1122" y="3290"/>
                  </a:lnTo>
                  <a:lnTo>
                    <a:pt x="1130" y="3282"/>
                  </a:lnTo>
                  <a:lnTo>
                    <a:pt x="1134" y="3274"/>
                  </a:lnTo>
                  <a:lnTo>
                    <a:pt x="1138" y="3266"/>
                  </a:lnTo>
                  <a:lnTo>
                    <a:pt x="1140" y="3256"/>
                  </a:lnTo>
                  <a:lnTo>
                    <a:pt x="1140" y="3236"/>
                  </a:lnTo>
                  <a:lnTo>
                    <a:pt x="1136" y="3216"/>
                  </a:lnTo>
                  <a:lnTo>
                    <a:pt x="1134" y="3194"/>
                  </a:lnTo>
                  <a:lnTo>
                    <a:pt x="1134" y="3184"/>
                  </a:lnTo>
                  <a:lnTo>
                    <a:pt x="1136" y="3172"/>
                  </a:lnTo>
                  <a:lnTo>
                    <a:pt x="1138" y="3162"/>
                  </a:lnTo>
                  <a:lnTo>
                    <a:pt x="1142" y="3154"/>
                  </a:lnTo>
                  <a:lnTo>
                    <a:pt x="1142" y="3154"/>
                  </a:lnTo>
                  <a:lnTo>
                    <a:pt x="1154" y="3150"/>
                  </a:lnTo>
                  <a:lnTo>
                    <a:pt x="1176" y="3144"/>
                  </a:lnTo>
                  <a:lnTo>
                    <a:pt x="1190" y="3138"/>
                  </a:lnTo>
                  <a:lnTo>
                    <a:pt x="1202" y="3132"/>
                  </a:lnTo>
                  <a:lnTo>
                    <a:pt x="1212" y="3126"/>
                  </a:lnTo>
                  <a:lnTo>
                    <a:pt x="1218" y="3120"/>
                  </a:lnTo>
                  <a:lnTo>
                    <a:pt x="1218" y="3120"/>
                  </a:lnTo>
                  <a:lnTo>
                    <a:pt x="1206" y="3100"/>
                  </a:lnTo>
                  <a:lnTo>
                    <a:pt x="1196" y="3080"/>
                  </a:lnTo>
                  <a:lnTo>
                    <a:pt x="1186" y="3060"/>
                  </a:lnTo>
                  <a:lnTo>
                    <a:pt x="1180" y="3038"/>
                  </a:lnTo>
                  <a:lnTo>
                    <a:pt x="1174" y="3016"/>
                  </a:lnTo>
                  <a:lnTo>
                    <a:pt x="1168" y="2992"/>
                  </a:lnTo>
                  <a:lnTo>
                    <a:pt x="1164" y="2970"/>
                  </a:lnTo>
                  <a:lnTo>
                    <a:pt x="1162" y="2946"/>
                  </a:lnTo>
                  <a:lnTo>
                    <a:pt x="1160" y="2922"/>
                  </a:lnTo>
                  <a:lnTo>
                    <a:pt x="1162" y="2898"/>
                  </a:lnTo>
                  <a:lnTo>
                    <a:pt x="1164" y="2852"/>
                  </a:lnTo>
                  <a:lnTo>
                    <a:pt x="1172" y="2806"/>
                  </a:lnTo>
                  <a:lnTo>
                    <a:pt x="1184" y="2762"/>
                  </a:lnTo>
                  <a:lnTo>
                    <a:pt x="1184" y="2762"/>
                  </a:lnTo>
                  <a:lnTo>
                    <a:pt x="1206" y="2754"/>
                  </a:lnTo>
                  <a:lnTo>
                    <a:pt x="1232" y="2744"/>
                  </a:lnTo>
                  <a:lnTo>
                    <a:pt x="1286" y="2716"/>
                  </a:lnTo>
                  <a:lnTo>
                    <a:pt x="1336" y="2688"/>
                  </a:lnTo>
                  <a:lnTo>
                    <a:pt x="1364" y="2670"/>
                  </a:lnTo>
                  <a:lnTo>
                    <a:pt x="1256" y="2318"/>
                  </a:lnTo>
                  <a:lnTo>
                    <a:pt x="1256" y="2318"/>
                  </a:lnTo>
                  <a:lnTo>
                    <a:pt x="1256" y="2304"/>
                  </a:lnTo>
                  <a:lnTo>
                    <a:pt x="1260" y="2288"/>
                  </a:lnTo>
                  <a:lnTo>
                    <a:pt x="1264" y="2274"/>
                  </a:lnTo>
                  <a:lnTo>
                    <a:pt x="1272" y="2260"/>
                  </a:lnTo>
                  <a:lnTo>
                    <a:pt x="1288" y="2232"/>
                  </a:lnTo>
                  <a:lnTo>
                    <a:pt x="1296" y="2218"/>
                  </a:lnTo>
                  <a:lnTo>
                    <a:pt x="1302" y="2204"/>
                  </a:lnTo>
                  <a:lnTo>
                    <a:pt x="1302" y="2204"/>
                  </a:lnTo>
                  <a:lnTo>
                    <a:pt x="1312" y="2184"/>
                  </a:lnTo>
                  <a:lnTo>
                    <a:pt x="1318" y="2166"/>
                  </a:lnTo>
                  <a:lnTo>
                    <a:pt x="1322" y="2148"/>
                  </a:lnTo>
                  <a:lnTo>
                    <a:pt x="1322" y="2130"/>
                  </a:lnTo>
                  <a:lnTo>
                    <a:pt x="1322" y="2114"/>
                  </a:lnTo>
                  <a:lnTo>
                    <a:pt x="1318" y="2096"/>
                  </a:lnTo>
                  <a:lnTo>
                    <a:pt x="1312" y="2080"/>
                  </a:lnTo>
                  <a:lnTo>
                    <a:pt x="1306" y="2064"/>
                  </a:lnTo>
                  <a:lnTo>
                    <a:pt x="1290" y="2032"/>
                  </a:lnTo>
                  <a:lnTo>
                    <a:pt x="1274" y="2000"/>
                  </a:lnTo>
                  <a:lnTo>
                    <a:pt x="1258" y="1968"/>
                  </a:lnTo>
                  <a:lnTo>
                    <a:pt x="1252" y="1950"/>
                  </a:lnTo>
                  <a:lnTo>
                    <a:pt x="1248" y="1934"/>
                  </a:lnTo>
                  <a:lnTo>
                    <a:pt x="1248" y="1934"/>
                  </a:lnTo>
                  <a:lnTo>
                    <a:pt x="1308" y="1932"/>
                  </a:lnTo>
                  <a:lnTo>
                    <a:pt x="1364" y="1930"/>
                  </a:lnTo>
                  <a:lnTo>
                    <a:pt x="1390" y="1928"/>
                  </a:lnTo>
                  <a:lnTo>
                    <a:pt x="1418" y="1924"/>
                  </a:lnTo>
                  <a:lnTo>
                    <a:pt x="1446" y="1918"/>
                  </a:lnTo>
                  <a:lnTo>
                    <a:pt x="1474" y="1910"/>
                  </a:lnTo>
                  <a:lnTo>
                    <a:pt x="1474" y="1910"/>
                  </a:lnTo>
                  <a:lnTo>
                    <a:pt x="1482" y="1920"/>
                  </a:lnTo>
                  <a:lnTo>
                    <a:pt x="1494" y="1928"/>
                  </a:lnTo>
                  <a:lnTo>
                    <a:pt x="1510" y="1936"/>
                  </a:lnTo>
                  <a:lnTo>
                    <a:pt x="1530" y="1942"/>
                  </a:lnTo>
                  <a:lnTo>
                    <a:pt x="1552" y="1946"/>
                  </a:lnTo>
                  <a:lnTo>
                    <a:pt x="1576" y="1946"/>
                  </a:lnTo>
                  <a:lnTo>
                    <a:pt x="1602" y="1944"/>
                  </a:lnTo>
                  <a:lnTo>
                    <a:pt x="1628" y="1938"/>
                  </a:lnTo>
                  <a:lnTo>
                    <a:pt x="1628" y="1938"/>
                  </a:lnTo>
                  <a:lnTo>
                    <a:pt x="1640" y="1932"/>
                  </a:lnTo>
                  <a:lnTo>
                    <a:pt x="1650" y="1924"/>
                  </a:lnTo>
                  <a:lnTo>
                    <a:pt x="1660" y="1914"/>
                  </a:lnTo>
                  <a:lnTo>
                    <a:pt x="1668" y="1902"/>
                  </a:lnTo>
                  <a:lnTo>
                    <a:pt x="1674" y="1890"/>
                  </a:lnTo>
                  <a:lnTo>
                    <a:pt x="1678" y="1876"/>
                  </a:lnTo>
                  <a:lnTo>
                    <a:pt x="1680" y="1864"/>
                  </a:lnTo>
                  <a:lnTo>
                    <a:pt x="1682" y="1852"/>
                  </a:lnTo>
                  <a:lnTo>
                    <a:pt x="1682" y="1852"/>
                  </a:lnTo>
                  <a:lnTo>
                    <a:pt x="1704" y="1840"/>
                  </a:lnTo>
                  <a:lnTo>
                    <a:pt x="1724" y="1824"/>
                  </a:lnTo>
                  <a:lnTo>
                    <a:pt x="1762" y="1796"/>
                  </a:lnTo>
                  <a:lnTo>
                    <a:pt x="1792" y="1770"/>
                  </a:lnTo>
                  <a:lnTo>
                    <a:pt x="1810" y="1752"/>
                  </a:lnTo>
                  <a:lnTo>
                    <a:pt x="1810" y="1752"/>
                  </a:lnTo>
                  <a:lnTo>
                    <a:pt x="1828" y="1734"/>
                  </a:lnTo>
                  <a:lnTo>
                    <a:pt x="1850" y="1710"/>
                  </a:lnTo>
                  <a:lnTo>
                    <a:pt x="1858" y="1696"/>
                  </a:lnTo>
                  <a:lnTo>
                    <a:pt x="1866" y="1684"/>
                  </a:lnTo>
                  <a:lnTo>
                    <a:pt x="1872" y="1670"/>
                  </a:lnTo>
                  <a:lnTo>
                    <a:pt x="1876" y="1658"/>
                  </a:lnTo>
                  <a:lnTo>
                    <a:pt x="1876" y="1658"/>
                  </a:lnTo>
                  <a:lnTo>
                    <a:pt x="1892" y="1658"/>
                  </a:lnTo>
                  <a:lnTo>
                    <a:pt x="1920" y="1664"/>
                  </a:lnTo>
                  <a:lnTo>
                    <a:pt x="2002" y="1684"/>
                  </a:lnTo>
                  <a:lnTo>
                    <a:pt x="2168" y="1728"/>
                  </a:lnTo>
                  <a:lnTo>
                    <a:pt x="2168" y="1728"/>
                  </a:lnTo>
                  <a:lnTo>
                    <a:pt x="2170" y="1706"/>
                  </a:lnTo>
                  <a:lnTo>
                    <a:pt x="2170" y="1676"/>
                  </a:lnTo>
                  <a:lnTo>
                    <a:pt x="2164" y="1608"/>
                  </a:lnTo>
                  <a:lnTo>
                    <a:pt x="2158" y="1552"/>
                  </a:lnTo>
                  <a:lnTo>
                    <a:pt x="2154" y="1526"/>
                  </a:lnTo>
                  <a:lnTo>
                    <a:pt x="2154" y="1526"/>
                  </a:lnTo>
                  <a:close/>
                  <a:moveTo>
                    <a:pt x="592" y="1752"/>
                  </a:moveTo>
                  <a:lnTo>
                    <a:pt x="592" y="1752"/>
                  </a:lnTo>
                  <a:lnTo>
                    <a:pt x="586" y="1724"/>
                  </a:lnTo>
                  <a:lnTo>
                    <a:pt x="578" y="1698"/>
                  </a:lnTo>
                  <a:lnTo>
                    <a:pt x="560" y="1648"/>
                  </a:lnTo>
                  <a:lnTo>
                    <a:pt x="542" y="1596"/>
                  </a:lnTo>
                  <a:lnTo>
                    <a:pt x="534" y="1570"/>
                  </a:lnTo>
                  <a:lnTo>
                    <a:pt x="528" y="1542"/>
                  </a:lnTo>
                  <a:lnTo>
                    <a:pt x="528" y="1542"/>
                  </a:lnTo>
                  <a:lnTo>
                    <a:pt x="562" y="1510"/>
                  </a:lnTo>
                  <a:lnTo>
                    <a:pt x="598" y="1482"/>
                  </a:lnTo>
                  <a:lnTo>
                    <a:pt x="632" y="1454"/>
                  </a:lnTo>
                  <a:lnTo>
                    <a:pt x="664" y="1426"/>
                  </a:lnTo>
                  <a:lnTo>
                    <a:pt x="664" y="1426"/>
                  </a:lnTo>
                  <a:lnTo>
                    <a:pt x="670" y="1436"/>
                  </a:lnTo>
                  <a:lnTo>
                    <a:pt x="674" y="1448"/>
                  </a:lnTo>
                  <a:lnTo>
                    <a:pt x="676" y="1464"/>
                  </a:lnTo>
                  <a:lnTo>
                    <a:pt x="676" y="1480"/>
                  </a:lnTo>
                  <a:lnTo>
                    <a:pt x="672" y="1500"/>
                  </a:lnTo>
                  <a:lnTo>
                    <a:pt x="668" y="1522"/>
                  </a:lnTo>
                  <a:lnTo>
                    <a:pt x="656" y="1566"/>
                  </a:lnTo>
                  <a:lnTo>
                    <a:pt x="640" y="1616"/>
                  </a:lnTo>
                  <a:lnTo>
                    <a:pt x="622" y="1664"/>
                  </a:lnTo>
                  <a:lnTo>
                    <a:pt x="604" y="1710"/>
                  </a:lnTo>
                  <a:lnTo>
                    <a:pt x="592" y="1752"/>
                  </a:lnTo>
                  <a:lnTo>
                    <a:pt x="592" y="1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6292800" y="4749480"/>
              <a:ext cx="844560" cy="4251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32" h="268">
                  <a:moveTo>
                    <a:pt x="532" y="40"/>
                  </a:moveTo>
                  <a:lnTo>
                    <a:pt x="520" y="86"/>
                  </a:lnTo>
                  <a:lnTo>
                    <a:pt x="520" y="86"/>
                  </a:lnTo>
                  <a:lnTo>
                    <a:pt x="490" y="112"/>
                  </a:lnTo>
                  <a:lnTo>
                    <a:pt x="460" y="134"/>
                  </a:lnTo>
                  <a:lnTo>
                    <a:pt x="398" y="178"/>
                  </a:lnTo>
                  <a:lnTo>
                    <a:pt x="334" y="220"/>
                  </a:lnTo>
                  <a:lnTo>
                    <a:pt x="304" y="244"/>
                  </a:lnTo>
                  <a:lnTo>
                    <a:pt x="274" y="268"/>
                  </a:lnTo>
                  <a:lnTo>
                    <a:pt x="274" y="268"/>
                  </a:lnTo>
                  <a:lnTo>
                    <a:pt x="258" y="258"/>
                  </a:lnTo>
                  <a:lnTo>
                    <a:pt x="244" y="250"/>
                  </a:lnTo>
                  <a:lnTo>
                    <a:pt x="230" y="246"/>
                  </a:lnTo>
                  <a:lnTo>
                    <a:pt x="216" y="246"/>
                  </a:lnTo>
                  <a:lnTo>
                    <a:pt x="202" y="246"/>
                  </a:lnTo>
                  <a:lnTo>
                    <a:pt x="188" y="248"/>
                  </a:lnTo>
                  <a:lnTo>
                    <a:pt x="160" y="254"/>
                  </a:lnTo>
                  <a:lnTo>
                    <a:pt x="130" y="262"/>
                  </a:lnTo>
                  <a:lnTo>
                    <a:pt x="116" y="266"/>
                  </a:lnTo>
                  <a:lnTo>
                    <a:pt x="102" y="268"/>
                  </a:lnTo>
                  <a:lnTo>
                    <a:pt x="88" y="268"/>
                  </a:lnTo>
                  <a:lnTo>
                    <a:pt x="74" y="266"/>
                  </a:lnTo>
                  <a:lnTo>
                    <a:pt x="60" y="262"/>
                  </a:lnTo>
                  <a:lnTo>
                    <a:pt x="46" y="254"/>
                  </a:lnTo>
                  <a:lnTo>
                    <a:pt x="46" y="254"/>
                  </a:lnTo>
                  <a:lnTo>
                    <a:pt x="30" y="244"/>
                  </a:lnTo>
                  <a:lnTo>
                    <a:pt x="20" y="234"/>
                  </a:lnTo>
                  <a:lnTo>
                    <a:pt x="12" y="220"/>
                  </a:lnTo>
                  <a:lnTo>
                    <a:pt x="6" y="206"/>
                  </a:lnTo>
                  <a:lnTo>
                    <a:pt x="4" y="190"/>
                  </a:lnTo>
                  <a:lnTo>
                    <a:pt x="2" y="174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2" y="128"/>
                  </a:lnTo>
                  <a:lnTo>
                    <a:pt x="6" y="116"/>
                  </a:lnTo>
                  <a:lnTo>
                    <a:pt x="12" y="104"/>
                  </a:lnTo>
                  <a:lnTo>
                    <a:pt x="20" y="92"/>
                  </a:lnTo>
                  <a:lnTo>
                    <a:pt x="30" y="82"/>
                  </a:lnTo>
                  <a:lnTo>
                    <a:pt x="40" y="7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78" y="48"/>
                  </a:lnTo>
                  <a:lnTo>
                    <a:pt x="94" y="44"/>
                  </a:lnTo>
                  <a:lnTo>
                    <a:pt x="110" y="42"/>
                  </a:lnTo>
                  <a:lnTo>
                    <a:pt x="126" y="42"/>
                  </a:lnTo>
                  <a:lnTo>
                    <a:pt x="140" y="44"/>
                  </a:lnTo>
                  <a:lnTo>
                    <a:pt x="156" y="46"/>
                  </a:lnTo>
                  <a:lnTo>
                    <a:pt x="184" y="54"/>
                  </a:lnTo>
                  <a:lnTo>
                    <a:pt x="214" y="64"/>
                  </a:lnTo>
                  <a:lnTo>
                    <a:pt x="244" y="70"/>
                  </a:lnTo>
                  <a:lnTo>
                    <a:pt x="260" y="72"/>
                  </a:lnTo>
                  <a:lnTo>
                    <a:pt x="276" y="74"/>
                  </a:lnTo>
                  <a:lnTo>
                    <a:pt x="292" y="72"/>
                  </a:lnTo>
                  <a:lnTo>
                    <a:pt x="308" y="70"/>
                  </a:lnTo>
                  <a:lnTo>
                    <a:pt x="308" y="70"/>
                  </a:lnTo>
                  <a:lnTo>
                    <a:pt x="348" y="56"/>
                  </a:lnTo>
                  <a:lnTo>
                    <a:pt x="388" y="44"/>
                  </a:lnTo>
                  <a:lnTo>
                    <a:pt x="408" y="36"/>
                  </a:lnTo>
                  <a:lnTo>
                    <a:pt x="428" y="26"/>
                  </a:lnTo>
                  <a:lnTo>
                    <a:pt x="446" y="14"/>
                  </a:lnTo>
                  <a:lnTo>
                    <a:pt x="464" y="0"/>
                  </a:lnTo>
                  <a:lnTo>
                    <a:pt x="464" y="0"/>
                  </a:lnTo>
                  <a:lnTo>
                    <a:pt x="484" y="0"/>
                  </a:lnTo>
                  <a:lnTo>
                    <a:pt x="496" y="2"/>
                  </a:lnTo>
                  <a:lnTo>
                    <a:pt x="506" y="6"/>
                  </a:lnTo>
                  <a:lnTo>
                    <a:pt x="516" y="12"/>
                  </a:lnTo>
                  <a:lnTo>
                    <a:pt x="524" y="18"/>
                  </a:lnTo>
                  <a:lnTo>
                    <a:pt x="530" y="28"/>
                  </a:lnTo>
                  <a:lnTo>
                    <a:pt x="532" y="40"/>
                  </a:lnTo>
                  <a:lnTo>
                    <a:pt x="53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4225680" y="5219280"/>
              <a:ext cx="1241280" cy="83808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782" h="528">
                  <a:moveTo>
                    <a:pt x="782" y="0"/>
                  </a:moveTo>
                  <a:lnTo>
                    <a:pt x="782" y="0"/>
                  </a:lnTo>
                  <a:lnTo>
                    <a:pt x="726" y="20"/>
                  </a:lnTo>
                  <a:lnTo>
                    <a:pt x="670" y="42"/>
                  </a:lnTo>
                  <a:lnTo>
                    <a:pt x="614" y="68"/>
                  </a:lnTo>
                  <a:lnTo>
                    <a:pt x="560" y="98"/>
                  </a:lnTo>
                  <a:lnTo>
                    <a:pt x="506" y="130"/>
                  </a:lnTo>
                  <a:lnTo>
                    <a:pt x="454" y="164"/>
                  </a:lnTo>
                  <a:lnTo>
                    <a:pt x="404" y="200"/>
                  </a:lnTo>
                  <a:lnTo>
                    <a:pt x="354" y="238"/>
                  </a:lnTo>
                  <a:lnTo>
                    <a:pt x="306" y="276"/>
                  </a:lnTo>
                  <a:lnTo>
                    <a:pt x="262" y="314"/>
                  </a:lnTo>
                  <a:lnTo>
                    <a:pt x="220" y="352"/>
                  </a:lnTo>
                  <a:lnTo>
                    <a:pt x="178" y="390"/>
                  </a:lnTo>
                  <a:lnTo>
                    <a:pt x="106" y="462"/>
                  </a:lnTo>
                  <a:lnTo>
                    <a:pt x="48" y="528"/>
                  </a:lnTo>
                  <a:lnTo>
                    <a:pt x="0" y="480"/>
                  </a:lnTo>
                  <a:lnTo>
                    <a:pt x="0" y="480"/>
                  </a:lnTo>
                  <a:lnTo>
                    <a:pt x="18" y="458"/>
                  </a:lnTo>
                  <a:lnTo>
                    <a:pt x="40" y="434"/>
                  </a:lnTo>
                  <a:lnTo>
                    <a:pt x="96" y="378"/>
                  </a:lnTo>
                  <a:lnTo>
                    <a:pt x="164" y="318"/>
                  </a:lnTo>
                  <a:lnTo>
                    <a:pt x="236" y="256"/>
                  </a:lnTo>
                  <a:lnTo>
                    <a:pt x="310" y="198"/>
                  </a:lnTo>
                  <a:lnTo>
                    <a:pt x="380" y="144"/>
                  </a:lnTo>
                  <a:lnTo>
                    <a:pt x="442" y="102"/>
                  </a:lnTo>
                  <a:lnTo>
                    <a:pt x="468" y="86"/>
                  </a:lnTo>
                  <a:lnTo>
                    <a:pt x="490" y="74"/>
                  </a:lnTo>
                  <a:lnTo>
                    <a:pt x="490" y="74"/>
                  </a:lnTo>
                  <a:lnTo>
                    <a:pt x="510" y="64"/>
                  </a:lnTo>
                  <a:lnTo>
                    <a:pt x="532" y="54"/>
                  </a:lnTo>
                  <a:lnTo>
                    <a:pt x="580" y="38"/>
                  </a:lnTo>
                  <a:lnTo>
                    <a:pt x="628" y="26"/>
                  </a:lnTo>
                  <a:lnTo>
                    <a:pt x="674" y="16"/>
                  </a:lnTo>
                  <a:lnTo>
                    <a:pt x="716" y="8"/>
                  </a:lnTo>
                  <a:lnTo>
                    <a:pt x="750" y="4"/>
                  </a:lnTo>
                  <a:lnTo>
                    <a:pt x="782" y="0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5610240" y="6864120"/>
              <a:ext cx="212400" cy="20628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4" h="130">
                  <a:moveTo>
                    <a:pt x="134" y="38"/>
                  </a:moveTo>
                  <a:lnTo>
                    <a:pt x="134" y="38"/>
                  </a:lnTo>
                  <a:lnTo>
                    <a:pt x="134" y="62"/>
                  </a:lnTo>
                  <a:lnTo>
                    <a:pt x="134" y="72"/>
                  </a:lnTo>
                  <a:lnTo>
                    <a:pt x="132" y="82"/>
                  </a:lnTo>
                  <a:lnTo>
                    <a:pt x="128" y="92"/>
                  </a:lnTo>
                  <a:lnTo>
                    <a:pt x="122" y="100"/>
                  </a:lnTo>
                  <a:lnTo>
                    <a:pt x="110" y="108"/>
                  </a:lnTo>
                  <a:lnTo>
                    <a:pt x="94" y="118"/>
                  </a:lnTo>
                  <a:lnTo>
                    <a:pt x="94" y="118"/>
                  </a:lnTo>
                  <a:lnTo>
                    <a:pt x="70" y="126"/>
                  </a:lnTo>
                  <a:lnTo>
                    <a:pt x="56" y="128"/>
                  </a:lnTo>
                  <a:lnTo>
                    <a:pt x="44" y="130"/>
                  </a:lnTo>
                  <a:lnTo>
                    <a:pt x="32" y="130"/>
                  </a:lnTo>
                  <a:lnTo>
                    <a:pt x="20" y="126"/>
                  </a:lnTo>
                  <a:lnTo>
                    <a:pt x="10" y="118"/>
                  </a:lnTo>
                  <a:lnTo>
                    <a:pt x="2" y="108"/>
                  </a:lnTo>
                  <a:lnTo>
                    <a:pt x="2" y="108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2" y="80"/>
                  </a:lnTo>
                  <a:lnTo>
                    <a:pt x="10" y="66"/>
                  </a:lnTo>
                  <a:lnTo>
                    <a:pt x="20" y="52"/>
                  </a:lnTo>
                  <a:lnTo>
                    <a:pt x="34" y="38"/>
                  </a:lnTo>
                  <a:lnTo>
                    <a:pt x="50" y="26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8" y="4"/>
                  </a:lnTo>
                  <a:lnTo>
                    <a:pt x="126" y="10"/>
                  </a:lnTo>
                  <a:lnTo>
                    <a:pt x="130" y="18"/>
                  </a:lnTo>
                  <a:lnTo>
                    <a:pt x="134" y="28"/>
                  </a:lnTo>
                  <a:lnTo>
                    <a:pt x="134" y="38"/>
                  </a:lnTo>
                  <a:lnTo>
                    <a:pt x="134" y="3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6559560" y="6000480"/>
              <a:ext cx="1355760" cy="1320840"/>
            </a:xfrm>
            <a:custGeom>
              <a:avLst/>
              <a:gdLst>
                <a:gd name="textAreaLeft" fmla="*/ 0 w 1355760"/>
                <a:gd name="textAreaRight" fmla="*/ 1356120 w 135576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854" h="832">
                  <a:moveTo>
                    <a:pt x="240" y="246"/>
                  </a:moveTo>
                  <a:lnTo>
                    <a:pt x="240" y="246"/>
                  </a:lnTo>
                  <a:lnTo>
                    <a:pt x="294" y="310"/>
                  </a:lnTo>
                  <a:lnTo>
                    <a:pt x="350" y="374"/>
                  </a:lnTo>
                  <a:lnTo>
                    <a:pt x="408" y="436"/>
                  </a:lnTo>
                  <a:lnTo>
                    <a:pt x="468" y="498"/>
                  </a:lnTo>
                  <a:lnTo>
                    <a:pt x="526" y="556"/>
                  </a:lnTo>
                  <a:lnTo>
                    <a:pt x="586" y="608"/>
                  </a:lnTo>
                  <a:lnTo>
                    <a:pt x="644" y="658"/>
                  </a:lnTo>
                  <a:lnTo>
                    <a:pt x="702" y="700"/>
                  </a:lnTo>
                  <a:lnTo>
                    <a:pt x="702" y="700"/>
                  </a:lnTo>
                  <a:lnTo>
                    <a:pt x="780" y="742"/>
                  </a:lnTo>
                  <a:lnTo>
                    <a:pt x="854" y="786"/>
                  </a:lnTo>
                  <a:lnTo>
                    <a:pt x="820" y="832"/>
                  </a:lnTo>
                  <a:lnTo>
                    <a:pt x="820" y="832"/>
                  </a:lnTo>
                  <a:lnTo>
                    <a:pt x="784" y="812"/>
                  </a:lnTo>
                  <a:lnTo>
                    <a:pt x="740" y="788"/>
                  </a:lnTo>
                  <a:lnTo>
                    <a:pt x="686" y="752"/>
                  </a:lnTo>
                  <a:lnTo>
                    <a:pt x="656" y="730"/>
                  </a:lnTo>
                  <a:lnTo>
                    <a:pt x="620" y="704"/>
                  </a:lnTo>
                  <a:lnTo>
                    <a:pt x="620" y="704"/>
                  </a:lnTo>
                  <a:lnTo>
                    <a:pt x="582" y="670"/>
                  </a:lnTo>
                  <a:lnTo>
                    <a:pt x="534" y="630"/>
                  </a:lnTo>
                  <a:lnTo>
                    <a:pt x="434" y="538"/>
                  </a:lnTo>
                  <a:lnTo>
                    <a:pt x="338" y="444"/>
                  </a:lnTo>
                  <a:lnTo>
                    <a:pt x="298" y="404"/>
                  </a:lnTo>
                  <a:lnTo>
                    <a:pt x="266" y="370"/>
                  </a:lnTo>
                  <a:lnTo>
                    <a:pt x="266" y="370"/>
                  </a:lnTo>
                  <a:lnTo>
                    <a:pt x="206" y="306"/>
                  </a:lnTo>
                  <a:lnTo>
                    <a:pt x="130" y="226"/>
                  </a:lnTo>
                  <a:lnTo>
                    <a:pt x="94" y="184"/>
                  </a:lnTo>
                  <a:lnTo>
                    <a:pt x="58" y="140"/>
                  </a:lnTo>
                  <a:lnTo>
                    <a:pt x="26" y="96"/>
                  </a:lnTo>
                  <a:lnTo>
                    <a:pt x="12" y="7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36"/>
                  </a:lnTo>
                  <a:lnTo>
                    <a:pt x="16" y="2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74" y="56"/>
                  </a:lnTo>
                  <a:lnTo>
                    <a:pt x="122" y="120"/>
                  </a:lnTo>
                  <a:lnTo>
                    <a:pt x="150" y="152"/>
                  </a:lnTo>
                  <a:lnTo>
                    <a:pt x="180" y="186"/>
                  </a:lnTo>
                  <a:lnTo>
                    <a:pt x="208" y="216"/>
                  </a:lnTo>
                  <a:lnTo>
                    <a:pt x="240" y="246"/>
                  </a:lnTo>
                  <a:lnTo>
                    <a:pt x="240" y="246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191800" y="6823080"/>
              <a:ext cx="174600" cy="231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10" h="146">
                  <a:moveTo>
                    <a:pt x="110" y="90"/>
                  </a:moveTo>
                  <a:lnTo>
                    <a:pt x="110" y="90"/>
                  </a:lnTo>
                  <a:lnTo>
                    <a:pt x="100" y="98"/>
                  </a:lnTo>
                  <a:lnTo>
                    <a:pt x="86" y="108"/>
                  </a:lnTo>
                  <a:lnTo>
                    <a:pt x="48" y="126"/>
                  </a:lnTo>
                  <a:lnTo>
                    <a:pt x="14" y="140"/>
                  </a:lnTo>
                  <a:lnTo>
                    <a:pt x="0" y="14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6" y="52"/>
                  </a:lnTo>
                  <a:lnTo>
                    <a:pt x="38" y="32"/>
                  </a:lnTo>
                  <a:lnTo>
                    <a:pt x="62" y="14"/>
                  </a:lnTo>
                  <a:lnTo>
                    <a:pt x="86" y="0"/>
                  </a:lnTo>
                  <a:lnTo>
                    <a:pt x="110" y="9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074080" y="7013520"/>
              <a:ext cx="53640" cy="101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" h="64">
                  <a:moveTo>
                    <a:pt x="34" y="42"/>
                  </a:moveTo>
                  <a:lnTo>
                    <a:pt x="34" y="42"/>
                  </a:lnTo>
                  <a:lnTo>
                    <a:pt x="26" y="50"/>
                  </a:lnTo>
                  <a:lnTo>
                    <a:pt x="18" y="58"/>
                  </a:lnTo>
                  <a:lnTo>
                    <a:pt x="10" y="64"/>
                  </a:lnTo>
                  <a:lnTo>
                    <a:pt x="6" y="64"/>
                  </a:lnTo>
                  <a:lnTo>
                    <a:pt x="0" y="64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4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4" y="42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128080" y="7191360"/>
              <a:ext cx="282240" cy="1108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78" h="70">
                  <a:moveTo>
                    <a:pt x="178" y="70"/>
                  </a:moveTo>
                  <a:lnTo>
                    <a:pt x="178" y="70"/>
                  </a:lnTo>
                  <a:lnTo>
                    <a:pt x="156" y="64"/>
                  </a:lnTo>
                  <a:lnTo>
                    <a:pt x="130" y="58"/>
                  </a:lnTo>
                  <a:lnTo>
                    <a:pt x="70" y="4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2" y="10"/>
                  </a:lnTo>
                  <a:lnTo>
                    <a:pt x="44" y="8"/>
                  </a:lnTo>
                  <a:lnTo>
                    <a:pt x="84" y="6"/>
                  </a:lnTo>
                  <a:lnTo>
                    <a:pt x="126" y="6"/>
                  </a:lnTo>
                  <a:lnTo>
                    <a:pt x="150" y="4"/>
                  </a:lnTo>
                  <a:lnTo>
                    <a:pt x="174" y="0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6775560" y="4962240"/>
              <a:ext cx="1158840" cy="1076400"/>
            </a:xfrm>
            <a:custGeom>
              <a:avLst/>
              <a:gdLst>
                <a:gd name="textAreaLeft" fmla="*/ 0 w 1158840"/>
                <a:gd name="textAreaRight" fmla="*/ 1159200 w 115884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730" h="678">
                  <a:moveTo>
                    <a:pt x="730" y="572"/>
                  </a:moveTo>
                  <a:lnTo>
                    <a:pt x="730" y="572"/>
                  </a:lnTo>
                  <a:lnTo>
                    <a:pt x="724" y="590"/>
                  </a:lnTo>
                  <a:lnTo>
                    <a:pt x="714" y="608"/>
                  </a:lnTo>
                  <a:lnTo>
                    <a:pt x="704" y="626"/>
                  </a:lnTo>
                  <a:lnTo>
                    <a:pt x="690" y="642"/>
                  </a:lnTo>
                  <a:lnTo>
                    <a:pt x="676" y="656"/>
                  </a:lnTo>
                  <a:lnTo>
                    <a:pt x="662" y="666"/>
                  </a:lnTo>
                  <a:lnTo>
                    <a:pt x="646" y="674"/>
                  </a:lnTo>
                  <a:lnTo>
                    <a:pt x="630" y="678"/>
                  </a:lnTo>
                  <a:lnTo>
                    <a:pt x="630" y="678"/>
                  </a:lnTo>
                  <a:lnTo>
                    <a:pt x="598" y="644"/>
                  </a:lnTo>
                  <a:lnTo>
                    <a:pt x="580" y="628"/>
                  </a:lnTo>
                  <a:lnTo>
                    <a:pt x="560" y="614"/>
                  </a:lnTo>
                  <a:lnTo>
                    <a:pt x="540" y="600"/>
                  </a:lnTo>
                  <a:lnTo>
                    <a:pt x="518" y="586"/>
                  </a:lnTo>
                  <a:lnTo>
                    <a:pt x="496" y="574"/>
                  </a:lnTo>
                  <a:lnTo>
                    <a:pt x="472" y="562"/>
                  </a:lnTo>
                  <a:lnTo>
                    <a:pt x="448" y="552"/>
                  </a:lnTo>
                  <a:lnTo>
                    <a:pt x="422" y="542"/>
                  </a:lnTo>
                  <a:lnTo>
                    <a:pt x="394" y="534"/>
                  </a:lnTo>
                  <a:lnTo>
                    <a:pt x="366" y="528"/>
                  </a:lnTo>
                  <a:lnTo>
                    <a:pt x="336" y="522"/>
                  </a:lnTo>
                  <a:lnTo>
                    <a:pt x="304" y="520"/>
                  </a:lnTo>
                  <a:lnTo>
                    <a:pt x="272" y="518"/>
                  </a:lnTo>
                  <a:lnTo>
                    <a:pt x="238" y="516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32" y="160"/>
                  </a:lnTo>
                  <a:lnTo>
                    <a:pt x="66" y="138"/>
                  </a:lnTo>
                  <a:lnTo>
                    <a:pt x="128" y="90"/>
                  </a:lnTo>
                  <a:lnTo>
                    <a:pt x="188" y="42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730" y="572"/>
                  </a:lnTo>
                  <a:lnTo>
                    <a:pt x="730" y="572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740720" y="5457600"/>
              <a:ext cx="98280" cy="110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62" h="70">
                  <a:moveTo>
                    <a:pt x="62" y="56"/>
                  </a:moveTo>
                  <a:lnTo>
                    <a:pt x="40" y="70"/>
                  </a:lnTo>
                  <a:lnTo>
                    <a:pt x="0" y="16"/>
                  </a:lnTo>
                  <a:lnTo>
                    <a:pt x="22" y="0"/>
                  </a:lnTo>
                  <a:lnTo>
                    <a:pt x="62" y="56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5892840" y="6746760"/>
              <a:ext cx="190440" cy="244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20" h="154">
                  <a:moveTo>
                    <a:pt x="120" y="56"/>
                  </a:moveTo>
                  <a:lnTo>
                    <a:pt x="120" y="56"/>
                  </a:lnTo>
                  <a:lnTo>
                    <a:pt x="66" y="10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2" y="150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2" y="11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10" y="98"/>
                  </a:lnTo>
                  <a:lnTo>
                    <a:pt x="16" y="96"/>
                  </a:lnTo>
                  <a:lnTo>
                    <a:pt x="22" y="94"/>
                  </a:lnTo>
                  <a:lnTo>
                    <a:pt x="28" y="88"/>
                  </a:lnTo>
                  <a:lnTo>
                    <a:pt x="38" y="7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50" y="58"/>
                  </a:lnTo>
                  <a:lnTo>
                    <a:pt x="58" y="48"/>
                  </a:lnTo>
                  <a:lnTo>
                    <a:pt x="76" y="30"/>
                  </a:lnTo>
                  <a:lnTo>
                    <a:pt x="98" y="1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0" y="26"/>
                  </a:lnTo>
                  <a:lnTo>
                    <a:pt x="120" y="56"/>
                  </a:lnTo>
                  <a:lnTo>
                    <a:pt x="120" y="56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5315040" y="7146720"/>
              <a:ext cx="380880" cy="269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40" h="170">
                  <a:moveTo>
                    <a:pt x="240" y="4"/>
                  </a:moveTo>
                  <a:lnTo>
                    <a:pt x="240" y="4"/>
                  </a:lnTo>
                  <a:lnTo>
                    <a:pt x="186" y="48"/>
                  </a:lnTo>
                  <a:lnTo>
                    <a:pt x="132" y="94"/>
                  </a:lnTo>
                  <a:lnTo>
                    <a:pt x="80" y="134"/>
                  </a:lnTo>
                  <a:lnTo>
                    <a:pt x="36" y="170"/>
                  </a:lnTo>
                  <a:lnTo>
                    <a:pt x="36" y="170"/>
                  </a:lnTo>
                  <a:lnTo>
                    <a:pt x="28" y="168"/>
                  </a:lnTo>
                  <a:lnTo>
                    <a:pt x="20" y="164"/>
                  </a:lnTo>
                  <a:lnTo>
                    <a:pt x="14" y="160"/>
                  </a:lnTo>
                  <a:lnTo>
                    <a:pt x="8" y="154"/>
                  </a:lnTo>
                  <a:lnTo>
                    <a:pt x="6" y="148"/>
                  </a:lnTo>
                  <a:lnTo>
                    <a:pt x="2" y="140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80" y="60"/>
                  </a:lnTo>
                  <a:lnTo>
                    <a:pt x="122" y="3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64" y="4"/>
                  </a:lnTo>
                  <a:lnTo>
                    <a:pt x="172" y="8"/>
                  </a:lnTo>
                  <a:lnTo>
                    <a:pt x="192" y="10"/>
                  </a:lnTo>
                  <a:lnTo>
                    <a:pt x="214" y="10"/>
                  </a:lnTo>
                  <a:lnTo>
                    <a:pt x="240" y="4"/>
                  </a:lnTo>
                  <a:lnTo>
                    <a:pt x="240" y="4"/>
                  </a:lnTo>
                  <a:close/>
                </a:path>
              </a:pathLst>
            </a:custGeom>
            <a:solidFill>
              <a:srgbClr val="e4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6165720" y="6175080"/>
              <a:ext cx="1473120" cy="15112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928" h="952">
                  <a:moveTo>
                    <a:pt x="268" y="52"/>
                  </a:moveTo>
                  <a:lnTo>
                    <a:pt x="268" y="52"/>
                  </a:lnTo>
                  <a:lnTo>
                    <a:pt x="248" y="68"/>
                  </a:lnTo>
                  <a:lnTo>
                    <a:pt x="232" y="80"/>
                  </a:lnTo>
                  <a:lnTo>
                    <a:pt x="218" y="86"/>
                  </a:lnTo>
                  <a:lnTo>
                    <a:pt x="206" y="88"/>
                  </a:lnTo>
                  <a:lnTo>
                    <a:pt x="194" y="88"/>
                  </a:lnTo>
                  <a:lnTo>
                    <a:pt x="184" y="88"/>
                  </a:lnTo>
                  <a:lnTo>
                    <a:pt x="160" y="86"/>
                  </a:lnTo>
                  <a:lnTo>
                    <a:pt x="160" y="86"/>
                  </a:lnTo>
                  <a:lnTo>
                    <a:pt x="162" y="94"/>
                  </a:lnTo>
                  <a:lnTo>
                    <a:pt x="166" y="102"/>
                  </a:lnTo>
                  <a:lnTo>
                    <a:pt x="174" y="114"/>
                  </a:lnTo>
                  <a:lnTo>
                    <a:pt x="182" y="124"/>
                  </a:lnTo>
                  <a:lnTo>
                    <a:pt x="208" y="148"/>
                  </a:lnTo>
                  <a:lnTo>
                    <a:pt x="238" y="170"/>
                  </a:lnTo>
                  <a:lnTo>
                    <a:pt x="276" y="192"/>
                  </a:lnTo>
                  <a:lnTo>
                    <a:pt x="296" y="202"/>
                  </a:lnTo>
                  <a:lnTo>
                    <a:pt x="316" y="210"/>
                  </a:lnTo>
                  <a:lnTo>
                    <a:pt x="336" y="218"/>
                  </a:lnTo>
                  <a:lnTo>
                    <a:pt x="358" y="224"/>
                  </a:lnTo>
                  <a:lnTo>
                    <a:pt x="380" y="228"/>
                  </a:lnTo>
                  <a:lnTo>
                    <a:pt x="400" y="228"/>
                  </a:lnTo>
                  <a:lnTo>
                    <a:pt x="400" y="228"/>
                  </a:lnTo>
                  <a:lnTo>
                    <a:pt x="410" y="228"/>
                  </a:lnTo>
                  <a:lnTo>
                    <a:pt x="420" y="232"/>
                  </a:lnTo>
                  <a:lnTo>
                    <a:pt x="428" y="236"/>
                  </a:lnTo>
                  <a:lnTo>
                    <a:pt x="434" y="242"/>
                  </a:lnTo>
                  <a:lnTo>
                    <a:pt x="448" y="258"/>
                  </a:lnTo>
                  <a:lnTo>
                    <a:pt x="456" y="264"/>
                  </a:lnTo>
                  <a:lnTo>
                    <a:pt x="464" y="268"/>
                  </a:lnTo>
                  <a:lnTo>
                    <a:pt x="504" y="312"/>
                  </a:lnTo>
                  <a:lnTo>
                    <a:pt x="504" y="312"/>
                  </a:lnTo>
                  <a:lnTo>
                    <a:pt x="492" y="318"/>
                  </a:lnTo>
                  <a:lnTo>
                    <a:pt x="480" y="322"/>
                  </a:lnTo>
                  <a:lnTo>
                    <a:pt x="468" y="324"/>
                  </a:lnTo>
                  <a:lnTo>
                    <a:pt x="454" y="324"/>
                  </a:lnTo>
                  <a:lnTo>
                    <a:pt x="426" y="324"/>
                  </a:lnTo>
                  <a:lnTo>
                    <a:pt x="396" y="322"/>
                  </a:lnTo>
                  <a:lnTo>
                    <a:pt x="396" y="322"/>
                  </a:lnTo>
                  <a:lnTo>
                    <a:pt x="430" y="354"/>
                  </a:lnTo>
                  <a:lnTo>
                    <a:pt x="448" y="370"/>
                  </a:lnTo>
                  <a:lnTo>
                    <a:pt x="468" y="386"/>
                  </a:lnTo>
                  <a:lnTo>
                    <a:pt x="490" y="398"/>
                  </a:lnTo>
                  <a:lnTo>
                    <a:pt x="514" y="412"/>
                  </a:lnTo>
                  <a:lnTo>
                    <a:pt x="540" y="422"/>
                  </a:lnTo>
                  <a:lnTo>
                    <a:pt x="570" y="430"/>
                  </a:lnTo>
                  <a:lnTo>
                    <a:pt x="570" y="430"/>
                  </a:lnTo>
                  <a:lnTo>
                    <a:pt x="588" y="432"/>
                  </a:lnTo>
                  <a:lnTo>
                    <a:pt x="606" y="436"/>
                  </a:lnTo>
                  <a:lnTo>
                    <a:pt x="622" y="442"/>
                  </a:lnTo>
                  <a:lnTo>
                    <a:pt x="638" y="450"/>
                  </a:lnTo>
                  <a:lnTo>
                    <a:pt x="652" y="460"/>
                  </a:lnTo>
                  <a:lnTo>
                    <a:pt x="666" y="470"/>
                  </a:lnTo>
                  <a:lnTo>
                    <a:pt x="692" y="494"/>
                  </a:lnTo>
                  <a:lnTo>
                    <a:pt x="744" y="548"/>
                  </a:lnTo>
                  <a:lnTo>
                    <a:pt x="772" y="576"/>
                  </a:lnTo>
                  <a:lnTo>
                    <a:pt x="788" y="588"/>
                  </a:lnTo>
                  <a:lnTo>
                    <a:pt x="804" y="600"/>
                  </a:lnTo>
                  <a:lnTo>
                    <a:pt x="804" y="600"/>
                  </a:lnTo>
                  <a:lnTo>
                    <a:pt x="818" y="612"/>
                  </a:lnTo>
                  <a:lnTo>
                    <a:pt x="832" y="624"/>
                  </a:lnTo>
                  <a:lnTo>
                    <a:pt x="860" y="642"/>
                  </a:lnTo>
                  <a:lnTo>
                    <a:pt x="890" y="660"/>
                  </a:lnTo>
                  <a:lnTo>
                    <a:pt x="904" y="672"/>
                  </a:lnTo>
                  <a:lnTo>
                    <a:pt x="916" y="684"/>
                  </a:lnTo>
                  <a:lnTo>
                    <a:pt x="916" y="684"/>
                  </a:lnTo>
                  <a:lnTo>
                    <a:pt x="920" y="696"/>
                  </a:lnTo>
                  <a:lnTo>
                    <a:pt x="924" y="708"/>
                  </a:lnTo>
                  <a:lnTo>
                    <a:pt x="928" y="734"/>
                  </a:lnTo>
                  <a:lnTo>
                    <a:pt x="928" y="764"/>
                  </a:lnTo>
                  <a:lnTo>
                    <a:pt x="924" y="794"/>
                  </a:lnTo>
                  <a:lnTo>
                    <a:pt x="916" y="822"/>
                  </a:lnTo>
                  <a:lnTo>
                    <a:pt x="906" y="848"/>
                  </a:lnTo>
                  <a:lnTo>
                    <a:pt x="894" y="868"/>
                  </a:lnTo>
                  <a:lnTo>
                    <a:pt x="888" y="876"/>
                  </a:lnTo>
                  <a:lnTo>
                    <a:pt x="880" y="884"/>
                  </a:lnTo>
                  <a:lnTo>
                    <a:pt x="880" y="884"/>
                  </a:lnTo>
                  <a:lnTo>
                    <a:pt x="900" y="894"/>
                  </a:lnTo>
                  <a:lnTo>
                    <a:pt x="908" y="900"/>
                  </a:lnTo>
                  <a:lnTo>
                    <a:pt x="914" y="908"/>
                  </a:lnTo>
                  <a:lnTo>
                    <a:pt x="918" y="914"/>
                  </a:lnTo>
                  <a:lnTo>
                    <a:pt x="918" y="922"/>
                  </a:lnTo>
                  <a:lnTo>
                    <a:pt x="916" y="930"/>
                  </a:lnTo>
                  <a:lnTo>
                    <a:pt x="908" y="938"/>
                  </a:lnTo>
                  <a:lnTo>
                    <a:pt x="908" y="938"/>
                  </a:lnTo>
                  <a:lnTo>
                    <a:pt x="894" y="946"/>
                  </a:lnTo>
                  <a:lnTo>
                    <a:pt x="878" y="950"/>
                  </a:lnTo>
                  <a:lnTo>
                    <a:pt x="862" y="952"/>
                  </a:lnTo>
                  <a:lnTo>
                    <a:pt x="846" y="948"/>
                  </a:lnTo>
                  <a:lnTo>
                    <a:pt x="832" y="942"/>
                  </a:lnTo>
                  <a:lnTo>
                    <a:pt x="818" y="934"/>
                  </a:lnTo>
                  <a:lnTo>
                    <a:pt x="806" y="924"/>
                  </a:lnTo>
                  <a:lnTo>
                    <a:pt x="794" y="910"/>
                  </a:lnTo>
                  <a:lnTo>
                    <a:pt x="794" y="910"/>
                  </a:lnTo>
                  <a:lnTo>
                    <a:pt x="754" y="920"/>
                  </a:lnTo>
                  <a:lnTo>
                    <a:pt x="710" y="928"/>
                  </a:lnTo>
                  <a:lnTo>
                    <a:pt x="664" y="930"/>
                  </a:lnTo>
                  <a:lnTo>
                    <a:pt x="616" y="930"/>
                  </a:lnTo>
                  <a:lnTo>
                    <a:pt x="566" y="926"/>
                  </a:lnTo>
                  <a:lnTo>
                    <a:pt x="516" y="918"/>
                  </a:lnTo>
                  <a:lnTo>
                    <a:pt x="462" y="904"/>
                  </a:lnTo>
                  <a:lnTo>
                    <a:pt x="408" y="886"/>
                  </a:lnTo>
                  <a:lnTo>
                    <a:pt x="408" y="886"/>
                  </a:lnTo>
                  <a:lnTo>
                    <a:pt x="382" y="876"/>
                  </a:lnTo>
                  <a:lnTo>
                    <a:pt x="356" y="864"/>
                  </a:lnTo>
                  <a:lnTo>
                    <a:pt x="304" y="836"/>
                  </a:lnTo>
                  <a:lnTo>
                    <a:pt x="256" y="804"/>
                  </a:lnTo>
                  <a:lnTo>
                    <a:pt x="210" y="770"/>
                  </a:lnTo>
                  <a:lnTo>
                    <a:pt x="168" y="734"/>
                  </a:lnTo>
                  <a:lnTo>
                    <a:pt x="130" y="696"/>
                  </a:lnTo>
                  <a:lnTo>
                    <a:pt x="98" y="660"/>
                  </a:lnTo>
                  <a:lnTo>
                    <a:pt x="72" y="624"/>
                  </a:lnTo>
                  <a:lnTo>
                    <a:pt x="72" y="624"/>
                  </a:lnTo>
                  <a:lnTo>
                    <a:pt x="50" y="582"/>
                  </a:lnTo>
                  <a:lnTo>
                    <a:pt x="30" y="540"/>
                  </a:lnTo>
                  <a:lnTo>
                    <a:pt x="16" y="498"/>
                  </a:lnTo>
                  <a:lnTo>
                    <a:pt x="6" y="456"/>
                  </a:lnTo>
                  <a:lnTo>
                    <a:pt x="2" y="414"/>
                  </a:lnTo>
                  <a:lnTo>
                    <a:pt x="0" y="370"/>
                  </a:lnTo>
                  <a:lnTo>
                    <a:pt x="2" y="328"/>
                  </a:lnTo>
                  <a:lnTo>
                    <a:pt x="8" y="284"/>
                  </a:lnTo>
                  <a:lnTo>
                    <a:pt x="8" y="284"/>
                  </a:lnTo>
                  <a:lnTo>
                    <a:pt x="16" y="256"/>
                  </a:lnTo>
                  <a:lnTo>
                    <a:pt x="26" y="228"/>
                  </a:lnTo>
                  <a:lnTo>
                    <a:pt x="36" y="204"/>
                  </a:lnTo>
                  <a:lnTo>
                    <a:pt x="48" y="180"/>
                  </a:lnTo>
                  <a:lnTo>
                    <a:pt x="60" y="158"/>
                  </a:lnTo>
                  <a:lnTo>
                    <a:pt x="74" y="138"/>
                  </a:lnTo>
                  <a:lnTo>
                    <a:pt x="88" y="118"/>
                  </a:lnTo>
                  <a:lnTo>
                    <a:pt x="104" y="100"/>
                  </a:lnTo>
                  <a:lnTo>
                    <a:pt x="134" y="68"/>
                  </a:lnTo>
                  <a:lnTo>
                    <a:pt x="166" y="40"/>
                  </a:lnTo>
                  <a:lnTo>
                    <a:pt x="196" y="18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38" y="10"/>
                  </a:lnTo>
                  <a:lnTo>
                    <a:pt x="252" y="22"/>
                  </a:lnTo>
                  <a:lnTo>
                    <a:pt x="258" y="28"/>
                  </a:lnTo>
                  <a:lnTo>
                    <a:pt x="262" y="34"/>
                  </a:lnTo>
                  <a:lnTo>
                    <a:pt x="266" y="44"/>
                  </a:lnTo>
                  <a:lnTo>
                    <a:pt x="268" y="52"/>
                  </a:lnTo>
                  <a:lnTo>
                    <a:pt x="268" y="52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6197760" y="6251400"/>
              <a:ext cx="88560" cy="1173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6" h="74">
                  <a:moveTo>
                    <a:pt x="56" y="4"/>
                  </a:moveTo>
                  <a:lnTo>
                    <a:pt x="56" y="4"/>
                  </a:lnTo>
                  <a:lnTo>
                    <a:pt x="48" y="12"/>
                  </a:lnTo>
                  <a:lnTo>
                    <a:pt x="40" y="20"/>
                  </a:lnTo>
                  <a:lnTo>
                    <a:pt x="28" y="38"/>
                  </a:lnTo>
                  <a:lnTo>
                    <a:pt x="16" y="5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6" y="24"/>
                  </a:lnTo>
                  <a:lnTo>
                    <a:pt x="12" y="12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4"/>
                  </a:lnTo>
                  <a:lnTo>
                    <a:pt x="56" y="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5988240" y="7165800"/>
              <a:ext cx="257040" cy="7174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62" h="452">
                  <a:moveTo>
                    <a:pt x="160" y="88"/>
                  </a:moveTo>
                  <a:lnTo>
                    <a:pt x="160" y="88"/>
                  </a:lnTo>
                  <a:lnTo>
                    <a:pt x="150" y="116"/>
                  </a:lnTo>
                  <a:lnTo>
                    <a:pt x="142" y="144"/>
                  </a:lnTo>
                  <a:lnTo>
                    <a:pt x="128" y="202"/>
                  </a:lnTo>
                  <a:lnTo>
                    <a:pt x="114" y="258"/>
                  </a:lnTo>
                  <a:lnTo>
                    <a:pt x="102" y="308"/>
                  </a:lnTo>
                  <a:lnTo>
                    <a:pt x="102" y="308"/>
                  </a:lnTo>
                  <a:lnTo>
                    <a:pt x="78" y="342"/>
                  </a:lnTo>
                  <a:lnTo>
                    <a:pt x="52" y="378"/>
                  </a:lnTo>
                  <a:lnTo>
                    <a:pt x="26" y="414"/>
                  </a:lnTo>
                  <a:lnTo>
                    <a:pt x="2" y="452"/>
                  </a:lnTo>
                  <a:lnTo>
                    <a:pt x="2" y="452"/>
                  </a:lnTo>
                  <a:lnTo>
                    <a:pt x="0" y="428"/>
                  </a:lnTo>
                  <a:lnTo>
                    <a:pt x="0" y="402"/>
                  </a:lnTo>
                  <a:lnTo>
                    <a:pt x="4" y="376"/>
                  </a:lnTo>
                  <a:lnTo>
                    <a:pt x="8" y="346"/>
                  </a:lnTo>
                  <a:lnTo>
                    <a:pt x="16" y="316"/>
                  </a:lnTo>
                  <a:lnTo>
                    <a:pt x="24" y="284"/>
                  </a:lnTo>
                  <a:lnTo>
                    <a:pt x="44" y="218"/>
                  </a:lnTo>
                  <a:lnTo>
                    <a:pt x="68" y="154"/>
                  </a:lnTo>
                  <a:lnTo>
                    <a:pt x="92" y="94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4" y="12"/>
                  </a:lnTo>
                  <a:lnTo>
                    <a:pt x="138" y="24"/>
                  </a:lnTo>
                  <a:lnTo>
                    <a:pt x="150" y="46"/>
                  </a:lnTo>
                  <a:lnTo>
                    <a:pt x="156" y="58"/>
                  </a:lnTo>
                  <a:lnTo>
                    <a:pt x="160" y="68"/>
                  </a:lnTo>
                  <a:lnTo>
                    <a:pt x="162" y="78"/>
                  </a:lnTo>
                  <a:lnTo>
                    <a:pt x="160" y="88"/>
                  </a:lnTo>
                  <a:lnTo>
                    <a:pt x="160" y="88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5743440" y="7178760"/>
              <a:ext cx="187200" cy="628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118" h="396">
                  <a:moveTo>
                    <a:pt x="92" y="192"/>
                  </a:moveTo>
                  <a:lnTo>
                    <a:pt x="92" y="192"/>
                  </a:lnTo>
                  <a:lnTo>
                    <a:pt x="118" y="262"/>
                  </a:lnTo>
                  <a:lnTo>
                    <a:pt x="118" y="262"/>
                  </a:lnTo>
                  <a:lnTo>
                    <a:pt x="106" y="296"/>
                  </a:lnTo>
                  <a:lnTo>
                    <a:pt x="96" y="330"/>
                  </a:lnTo>
                  <a:lnTo>
                    <a:pt x="84" y="364"/>
                  </a:lnTo>
                  <a:lnTo>
                    <a:pt x="76" y="380"/>
                  </a:lnTo>
                  <a:lnTo>
                    <a:pt x="66" y="396"/>
                  </a:lnTo>
                  <a:lnTo>
                    <a:pt x="66" y="396"/>
                  </a:lnTo>
                  <a:lnTo>
                    <a:pt x="62" y="390"/>
                  </a:lnTo>
                  <a:lnTo>
                    <a:pt x="58" y="378"/>
                  </a:lnTo>
                  <a:lnTo>
                    <a:pt x="48" y="346"/>
                  </a:lnTo>
                  <a:lnTo>
                    <a:pt x="40" y="304"/>
                  </a:lnTo>
                  <a:lnTo>
                    <a:pt x="32" y="252"/>
                  </a:lnTo>
                  <a:lnTo>
                    <a:pt x="16" y="140"/>
                  </a:lnTo>
                  <a:lnTo>
                    <a:pt x="0" y="3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92" y="192"/>
                  </a:lnTo>
                  <a:lnTo>
                    <a:pt x="92" y="192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6553080" y="5867280"/>
              <a:ext cx="1571400" cy="129528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990" h="816">
                  <a:moveTo>
                    <a:pt x="838" y="304"/>
                  </a:moveTo>
                  <a:lnTo>
                    <a:pt x="838" y="304"/>
                  </a:lnTo>
                  <a:lnTo>
                    <a:pt x="846" y="294"/>
                  </a:lnTo>
                  <a:lnTo>
                    <a:pt x="854" y="284"/>
                  </a:lnTo>
                  <a:lnTo>
                    <a:pt x="868" y="264"/>
                  </a:lnTo>
                  <a:lnTo>
                    <a:pt x="878" y="244"/>
                  </a:lnTo>
                  <a:lnTo>
                    <a:pt x="888" y="224"/>
                  </a:lnTo>
                  <a:lnTo>
                    <a:pt x="888" y="224"/>
                  </a:lnTo>
                  <a:lnTo>
                    <a:pt x="896" y="242"/>
                  </a:lnTo>
                  <a:lnTo>
                    <a:pt x="906" y="270"/>
                  </a:lnTo>
                  <a:lnTo>
                    <a:pt x="914" y="306"/>
                  </a:lnTo>
                  <a:lnTo>
                    <a:pt x="920" y="348"/>
                  </a:lnTo>
                  <a:lnTo>
                    <a:pt x="926" y="396"/>
                  </a:lnTo>
                  <a:lnTo>
                    <a:pt x="928" y="450"/>
                  </a:lnTo>
                  <a:lnTo>
                    <a:pt x="926" y="508"/>
                  </a:lnTo>
                  <a:lnTo>
                    <a:pt x="924" y="538"/>
                  </a:lnTo>
                  <a:lnTo>
                    <a:pt x="920" y="568"/>
                  </a:lnTo>
                  <a:lnTo>
                    <a:pt x="920" y="568"/>
                  </a:lnTo>
                  <a:lnTo>
                    <a:pt x="948" y="592"/>
                  </a:lnTo>
                  <a:lnTo>
                    <a:pt x="960" y="604"/>
                  </a:lnTo>
                  <a:lnTo>
                    <a:pt x="970" y="618"/>
                  </a:lnTo>
                  <a:lnTo>
                    <a:pt x="980" y="634"/>
                  </a:lnTo>
                  <a:lnTo>
                    <a:pt x="986" y="650"/>
                  </a:lnTo>
                  <a:lnTo>
                    <a:pt x="990" y="668"/>
                  </a:lnTo>
                  <a:lnTo>
                    <a:pt x="990" y="686"/>
                  </a:lnTo>
                  <a:lnTo>
                    <a:pt x="990" y="686"/>
                  </a:lnTo>
                  <a:lnTo>
                    <a:pt x="974" y="672"/>
                  </a:lnTo>
                  <a:lnTo>
                    <a:pt x="958" y="658"/>
                  </a:lnTo>
                  <a:lnTo>
                    <a:pt x="948" y="652"/>
                  </a:lnTo>
                  <a:lnTo>
                    <a:pt x="940" y="650"/>
                  </a:lnTo>
                  <a:lnTo>
                    <a:pt x="928" y="650"/>
                  </a:lnTo>
                  <a:lnTo>
                    <a:pt x="918" y="656"/>
                  </a:lnTo>
                  <a:lnTo>
                    <a:pt x="918" y="656"/>
                  </a:lnTo>
                  <a:lnTo>
                    <a:pt x="914" y="664"/>
                  </a:lnTo>
                  <a:lnTo>
                    <a:pt x="912" y="676"/>
                  </a:lnTo>
                  <a:lnTo>
                    <a:pt x="910" y="698"/>
                  </a:lnTo>
                  <a:lnTo>
                    <a:pt x="910" y="744"/>
                  </a:lnTo>
                  <a:lnTo>
                    <a:pt x="910" y="766"/>
                  </a:lnTo>
                  <a:lnTo>
                    <a:pt x="908" y="776"/>
                  </a:lnTo>
                  <a:lnTo>
                    <a:pt x="904" y="786"/>
                  </a:lnTo>
                  <a:lnTo>
                    <a:pt x="900" y="796"/>
                  </a:lnTo>
                  <a:lnTo>
                    <a:pt x="896" y="804"/>
                  </a:lnTo>
                  <a:lnTo>
                    <a:pt x="888" y="810"/>
                  </a:lnTo>
                  <a:lnTo>
                    <a:pt x="880" y="816"/>
                  </a:lnTo>
                  <a:lnTo>
                    <a:pt x="880" y="816"/>
                  </a:lnTo>
                  <a:lnTo>
                    <a:pt x="838" y="800"/>
                  </a:lnTo>
                  <a:lnTo>
                    <a:pt x="798" y="780"/>
                  </a:lnTo>
                  <a:lnTo>
                    <a:pt x="760" y="758"/>
                  </a:lnTo>
                  <a:lnTo>
                    <a:pt x="722" y="734"/>
                  </a:lnTo>
                  <a:lnTo>
                    <a:pt x="686" y="708"/>
                  </a:lnTo>
                  <a:lnTo>
                    <a:pt x="650" y="682"/>
                  </a:lnTo>
                  <a:lnTo>
                    <a:pt x="614" y="652"/>
                  </a:lnTo>
                  <a:lnTo>
                    <a:pt x="582" y="622"/>
                  </a:lnTo>
                  <a:lnTo>
                    <a:pt x="516" y="560"/>
                  </a:lnTo>
                  <a:lnTo>
                    <a:pt x="452" y="496"/>
                  </a:lnTo>
                  <a:lnTo>
                    <a:pt x="334" y="370"/>
                  </a:lnTo>
                  <a:lnTo>
                    <a:pt x="334" y="370"/>
                  </a:lnTo>
                  <a:lnTo>
                    <a:pt x="284" y="312"/>
                  </a:lnTo>
                  <a:lnTo>
                    <a:pt x="234" y="252"/>
                  </a:lnTo>
                  <a:lnTo>
                    <a:pt x="182" y="192"/>
                  </a:lnTo>
                  <a:lnTo>
                    <a:pt x="134" y="130"/>
                  </a:lnTo>
                  <a:lnTo>
                    <a:pt x="134" y="130"/>
                  </a:lnTo>
                  <a:lnTo>
                    <a:pt x="154" y="130"/>
                  </a:lnTo>
                  <a:lnTo>
                    <a:pt x="176" y="126"/>
                  </a:lnTo>
                  <a:lnTo>
                    <a:pt x="188" y="122"/>
                  </a:lnTo>
                  <a:lnTo>
                    <a:pt x="198" y="118"/>
                  </a:lnTo>
                  <a:lnTo>
                    <a:pt x="206" y="112"/>
                  </a:lnTo>
                  <a:lnTo>
                    <a:pt x="214" y="106"/>
                  </a:lnTo>
                  <a:lnTo>
                    <a:pt x="214" y="106"/>
                  </a:lnTo>
                  <a:lnTo>
                    <a:pt x="174" y="100"/>
                  </a:lnTo>
                  <a:lnTo>
                    <a:pt x="142" y="92"/>
                  </a:lnTo>
                  <a:lnTo>
                    <a:pt x="118" y="80"/>
                  </a:lnTo>
                  <a:lnTo>
                    <a:pt x="98" y="68"/>
                  </a:lnTo>
                  <a:lnTo>
                    <a:pt x="80" y="56"/>
                  </a:lnTo>
                  <a:lnTo>
                    <a:pt x="58" y="44"/>
                  </a:lnTo>
                  <a:lnTo>
                    <a:pt x="32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6" y="20"/>
                  </a:lnTo>
                  <a:lnTo>
                    <a:pt x="96" y="20"/>
                  </a:lnTo>
                  <a:lnTo>
                    <a:pt x="148" y="18"/>
                  </a:lnTo>
                  <a:lnTo>
                    <a:pt x="200" y="12"/>
                  </a:lnTo>
                  <a:lnTo>
                    <a:pt x="302" y="4"/>
                  </a:lnTo>
                  <a:lnTo>
                    <a:pt x="350" y="0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40" y="4"/>
                  </a:lnTo>
                  <a:lnTo>
                    <a:pt x="468" y="8"/>
                  </a:lnTo>
                  <a:lnTo>
                    <a:pt x="496" y="14"/>
                  </a:lnTo>
                  <a:lnTo>
                    <a:pt x="526" y="22"/>
                  </a:lnTo>
                  <a:lnTo>
                    <a:pt x="556" y="34"/>
                  </a:lnTo>
                  <a:lnTo>
                    <a:pt x="588" y="46"/>
                  </a:lnTo>
                  <a:lnTo>
                    <a:pt x="618" y="62"/>
                  </a:lnTo>
                  <a:lnTo>
                    <a:pt x="650" y="80"/>
                  </a:lnTo>
                  <a:lnTo>
                    <a:pt x="680" y="100"/>
                  </a:lnTo>
                  <a:lnTo>
                    <a:pt x="710" y="124"/>
                  </a:lnTo>
                  <a:lnTo>
                    <a:pt x="740" y="152"/>
                  </a:lnTo>
                  <a:lnTo>
                    <a:pt x="768" y="184"/>
                  </a:lnTo>
                  <a:lnTo>
                    <a:pt x="792" y="220"/>
                  </a:lnTo>
                  <a:lnTo>
                    <a:pt x="816" y="260"/>
                  </a:lnTo>
                  <a:lnTo>
                    <a:pt x="838" y="304"/>
                  </a:lnTo>
                  <a:lnTo>
                    <a:pt x="838" y="304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6543720" y="6343560"/>
              <a:ext cx="222120" cy="120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0" h="76">
                  <a:moveTo>
                    <a:pt x="140" y="76"/>
                  </a:moveTo>
                  <a:lnTo>
                    <a:pt x="140" y="76"/>
                  </a:lnTo>
                  <a:lnTo>
                    <a:pt x="102" y="64"/>
                  </a:lnTo>
                  <a:lnTo>
                    <a:pt x="66" y="52"/>
                  </a:lnTo>
                  <a:lnTo>
                    <a:pt x="48" y="44"/>
                  </a:lnTo>
                  <a:lnTo>
                    <a:pt x="30" y="36"/>
                  </a:lnTo>
                  <a:lnTo>
                    <a:pt x="14" y="2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0" y="2"/>
                  </a:lnTo>
                  <a:lnTo>
                    <a:pt x="70" y="6"/>
                  </a:lnTo>
                  <a:lnTo>
                    <a:pt x="78" y="10"/>
                  </a:lnTo>
                  <a:lnTo>
                    <a:pt x="86" y="16"/>
                  </a:lnTo>
                  <a:lnTo>
                    <a:pt x="100" y="30"/>
                  </a:lnTo>
                  <a:lnTo>
                    <a:pt x="112" y="46"/>
                  </a:lnTo>
                  <a:lnTo>
                    <a:pt x="126" y="62"/>
                  </a:lnTo>
                  <a:lnTo>
                    <a:pt x="140" y="76"/>
                  </a:lnTo>
                  <a:lnTo>
                    <a:pt x="140" y="76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2"/>
            <p:cNvSpPr/>
            <p:nvPr/>
          </p:nvSpPr>
          <p:spPr>
            <a:xfrm>
              <a:off x="6934320" y="6721560"/>
              <a:ext cx="145800" cy="633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2" h="40">
                  <a:moveTo>
                    <a:pt x="92" y="40"/>
                  </a:moveTo>
                  <a:lnTo>
                    <a:pt x="92" y="40"/>
                  </a:lnTo>
                  <a:lnTo>
                    <a:pt x="78" y="40"/>
                  </a:lnTo>
                  <a:lnTo>
                    <a:pt x="64" y="36"/>
                  </a:lnTo>
                  <a:lnTo>
                    <a:pt x="50" y="32"/>
                  </a:lnTo>
                  <a:lnTo>
                    <a:pt x="38" y="26"/>
                  </a:lnTo>
                  <a:lnTo>
                    <a:pt x="16" y="1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6" y="4"/>
                  </a:lnTo>
                  <a:lnTo>
                    <a:pt x="58" y="8"/>
                  </a:lnTo>
                  <a:lnTo>
                    <a:pt x="68" y="16"/>
                  </a:lnTo>
                  <a:lnTo>
                    <a:pt x="80" y="26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3"/>
            <p:cNvSpPr/>
            <p:nvPr/>
          </p:nvSpPr>
          <p:spPr>
            <a:xfrm>
              <a:off x="7689960" y="7315200"/>
              <a:ext cx="161640" cy="2286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02" h="144">
                  <a:moveTo>
                    <a:pt x="102" y="68"/>
                  </a:moveTo>
                  <a:lnTo>
                    <a:pt x="102" y="68"/>
                  </a:lnTo>
                  <a:lnTo>
                    <a:pt x="76" y="92"/>
                  </a:lnTo>
                  <a:lnTo>
                    <a:pt x="50" y="112"/>
                  </a:lnTo>
                  <a:lnTo>
                    <a:pt x="24" y="128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8" y="126"/>
                  </a:lnTo>
                  <a:lnTo>
                    <a:pt x="14" y="108"/>
                  </a:lnTo>
                  <a:lnTo>
                    <a:pt x="18" y="90"/>
                  </a:lnTo>
                  <a:lnTo>
                    <a:pt x="20" y="72"/>
                  </a:lnTo>
                  <a:lnTo>
                    <a:pt x="22" y="54"/>
                  </a:lnTo>
                  <a:lnTo>
                    <a:pt x="20" y="36"/>
                  </a:lnTo>
                  <a:lnTo>
                    <a:pt x="16" y="18"/>
                  </a:lnTo>
                  <a:lnTo>
                    <a:pt x="10" y="0"/>
                  </a:lnTo>
                  <a:lnTo>
                    <a:pt x="102" y="68"/>
                  </a:lnTo>
                  <a:close/>
                </a:path>
              </a:pathLst>
            </a:custGeom>
            <a:solidFill>
              <a:srgbClr val="97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6451560" y="7524720"/>
              <a:ext cx="82440" cy="9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2" h="62">
                  <a:moveTo>
                    <a:pt x="52" y="22"/>
                  </a:moveTo>
                  <a:lnTo>
                    <a:pt x="38" y="6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34"/>
                  </a:lnTo>
                  <a:lnTo>
                    <a:pt x="10" y="2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42" y="16"/>
                  </a:lnTo>
                  <a:lnTo>
                    <a:pt x="52" y="22"/>
                  </a:lnTo>
                  <a:lnTo>
                    <a:pt x="5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6585120" y="7597800"/>
              <a:ext cx="91800" cy="75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8" h="48">
                  <a:moveTo>
                    <a:pt x="58" y="26"/>
                  </a:moveTo>
                  <a:lnTo>
                    <a:pt x="44" y="48"/>
                  </a:lnTo>
                  <a:lnTo>
                    <a:pt x="0" y="3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36" y="14"/>
                  </a:lnTo>
                  <a:lnTo>
                    <a:pt x="58" y="26"/>
                  </a:lnTo>
                  <a:lnTo>
                    <a:pt x="5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6283440" y="7416720"/>
              <a:ext cx="136440" cy="164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6" h="104">
                  <a:moveTo>
                    <a:pt x="86" y="36"/>
                  </a:moveTo>
                  <a:lnTo>
                    <a:pt x="86" y="36"/>
                  </a:lnTo>
                  <a:lnTo>
                    <a:pt x="78" y="54"/>
                  </a:lnTo>
                  <a:lnTo>
                    <a:pt x="66" y="72"/>
                  </a:lnTo>
                  <a:lnTo>
                    <a:pt x="52" y="92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36" y="104"/>
                  </a:lnTo>
                  <a:lnTo>
                    <a:pt x="24" y="100"/>
                  </a:lnTo>
                  <a:lnTo>
                    <a:pt x="18" y="96"/>
                  </a:lnTo>
                  <a:lnTo>
                    <a:pt x="10" y="92"/>
                  </a:lnTo>
                  <a:lnTo>
                    <a:pt x="6" y="86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12" y="14"/>
                  </a:lnTo>
                  <a:lnTo>
                    <a:pt x="2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60" y="14"/>
                  </a:lnTo>
                  <a:lnTo>
                    <a:pt x="72" y="24"/>
                  </a:lnTo>
                  <a:lnTo>
                    <a:pt x="86" y="36"/>
                  </a:lnTo>
                  <a:lnTo>
                    <a:pt x="86" y="36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5972040" y="7667640"/>
              <a:ext cx="1104840" cy="1339920"/>
            </a:xfrm>
            <a:custGeom>
              <a:avLst/>
              <a:gdLst>
                <a:gd name="textAreaLeft" fmla="*/ 0 w 1104840"/>
                <a:gd name="textAreaRight" fmla="*/ 1104840 w 1104840"/>
                <a:gd name="textAreaTop" fmla="*/ 0 h 1339920"/>
                <a:gd name="textAreaBottom" fmla="*/ 1340280 h 1339920"/>
              </a:gdLst>
              <a:ahLst/>
              <a:rect l="textAreaLeft" t="textAreaTop" r="textAreaRight" b="textAreaBottom"/>
              <a:pathLst>
                <a:path w="696" h="844">
                  <a:moveTo>
                    <a:pt x="674" y="212"/>
                  </a:moveTo>
                  <a:lnTo>
                    <a:pt x="674" y="212"/>
                  </a:lnTo>
                  <a:lnTo>
                    <a:pt x="676" y="224"/>
                  </a:lnTo>
                  <a:lnTo>
                    <a:pt x="676" y="238"/>
                  </a:lnTo>
                  <a:lnTo>
                    <a:pt x="676" y="250"/>
                  </a:lnTo>
                  <a:lnTo>
                    <a:pt x="674" y="262"/>
                  </a:lnTo>
                  <a:lnTo>
                    <a:pt x="666" y="288"/>
                  </a:lnTo>
                  <a:lnTo>
                    <a:pt x="656" y="312"/>
                  </a:lnTo>
                  <a:lnTo>
                    <a:pt x="644" y="338"/>
                  </a:lnTo>
                  <a:lnTo>
                    <a:pt x="630" y="362"/>
                  </a:lnTo>
                  <a:lnTo>
                    <a:pt x="602" y="410"/>
                  </a:lnTo>
                  <a:lnTo>
                    <a:pt x="602" y="410"/>
                  </a:lnTo>
                  <a:lnTo>
                    <a:pt x="614" y="456"/>
                  </a:lnTo>
                  <a:lnTo>
                    <a:pt x="624" y="506"/>
                  </a:lnTo>
                  <a:lnTo>
                    <a:pt x="636" y="554"/>
                  </a:lnTo>
                  <a:lnTo>
                    <a:pt x="642" y="578"/>
                  </a:lnTo>
                  <a:lnTo>
                    <a:pt x="650" y="602"/>
                  </a:lnTo>
                  <a:lnTo>
                    <a:pt x="650" y="602"/>
                  </a:lnTo>
                  <a:lnTo>
                    <a:pt x="668" y="678"/>
                  </a:lnTo>
                  <a:lnTo>
                    <a:pt x="678" y="714"/>
                  </a:lnTo>
                  <a:lnTo>
                    <a:pt x="690" y="752"/>
                  </a:lnTo>
                  <a:lnTo>
                    <a:pt x="690" y="752"/>
                  </a:lnTo>
                  <a:lnTo>
                    <a:pt x="694" y="760"/>
                  </a:lnTo>
                  <a:lnTo>
                    <a:pt x="696" y="768"/>
                  </a:lnTo>
                  <a:lnTo>
                    <a:pt x="694" y="776"/>
                  </a:lnTo>
                  <a:lnTo>
                    <a:pt x="692" y="782"/>
                  </a:lnTo>
                  <a:lnTo>
                    <a:pt x="690" y="786"/>
                  </a:lnTo>
                  <a:lnTo>
                    <a:pt x="684" y="792"/>
                  </a:lnTo>
                  <a:lnTo>
                    <a:pt x="672" y="798"/>
                  </a:lnTo>
                  <a:lnTo>
                    <a:pt x="658" y="804"/>
                  </a:lnTo>
                  <a:lnTo>
                    <a:pt x="642" y="808"/>
                  </a:lnTo>
                  <a:lnTo>
                    <a:pt x="626" y="812"/>
                  </a:lnTo>
                  <a:lnTo>
                    <a:pt x="614" y="818"/>
                  </a:lnTo>
                  <a:lnTo>
                    <a:pt x="614" y="818"/>
                  </a:lnTo>
                  <a:lnTo>
                    <a:pt x="576" y="828"/>
                  </a:lnTo>
                  <a:lnTo>
                    <a:pt x="536" y="834"/>
                  </a:lnTo>
                  <a:lnTo>
                    <a:pt x="456" y="844"/>
                  </a:lnTo>
                  <a:lnTo>
                    <a:pt x="460" y="830"/>
                  </a:lnTo>
                  <a:lnTo>
                    <a:pt x="460" y="830"/>
                  </a:lnTo>
                  <a:lnTo>
                    <a:pt x="458" y="414"/>
                  </a:lnTo>
                  <a:lnTo>
                    <a:pt x="458" y="414"/>
                  </a:lnTo>
                  <a:lnTo>
                    <a:pt x="462" y="410"/>
                  </a:lnTo>
                  <a:lnTo>
                    <a:pt x="468" y="406"/>
                  </a:lnTo>
                  <a:lnTo>
                    <a:pt x="482" y="404"/>
                  </a:lnTo>
                  <a:lnTo>
                    <a:pt x="494" y="400"/>
                  </a:lnTo>
                  <a:lnTo>
                    <a:pt x="500" y="396"/>
                  </a:lnTo>
                  <a:lnTo>
                    <a:pt x="504" y="392"/>
                  </a:lnTo>
                  <a:lnTo>
                    <a:pt x="504" y="392"/>
                  </a:lnTo>
                  <a:lnTo>
                    <a:pt x="506" y="384"/>
                  </a:lnTo>
                  <a:lnTo>
                    <a:pt x="504" y="376"/>
                  </a:lnTo>
                  <a:lnTo>
                    <a:pt x="500" y="358"/>
                  </a:lnTo>
                  <a:lnTo>
                    <a:pt x="492" y="336"/>
                  </a:lnTo>
                  <a:lnTo>
                    <a:pt x="492" y="336"/>
                  </a:lnTo>
                  <a:lnTo>
                    <a:pt x="474" y="342"/>
                  </a:lnTo>
                  <a:lnTo>
                    <a:pt x="454" y="346"/>
                  </a:lnTo>
                  <a:lnTo>
                    <a:pt x="436" y="348"/>
                  </a:lnTo>
                  <a:lnTo>
                    <a:pt x="416" y="348"/>
                  </a:lnTo>
                  <a:lnTo>
                    <a:pt x="398" y="348"/>
                  </a:lnTo>
                  <a:lnTo>
                    <a:pt x="380" y="346"/>
                  </a:lnTo>
                  <a:lnTo>
                    <a:pt x="346" y="340"/>
                  </a:lnTo>
                  <a:lnTo>
                    <a:pt x="312" y="330"/>
                  </a:lnTo>
                  <a:lnTo>
                    <a:pt x="276" y="320"/>
                  </a:lnTo>
                  <a:lnTo>
                    <a:pt x="242" y="308"/>
                  </a:lnTo>
                  <a:lnTo>
                    <a:pt x="206" y="298"/>
                  </a:lnTo>
                  <a:lnTo>
                    <a:pt x="206" y="298"/>
                  </a:lnTo>
                  <a:lnTo>
                    <a:pt x="150" y="284"/>
                  </a:lnTo>
                  <a:lnTo>
                    <a:pt x="98" y="27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24" y="224"/>
                  </a:lnTo>
                  <a:lnTo>
                    <a:pt x="50" y="194"/>
                  </a:lnTo>
                  <a:lnTo>
                    <a:pt x="96" y="128"/>
                  </a:lnTo>
                  <a:lnTo>
                    <a:pt x="144" y="60"/>
                  </a:lnTo>
                  <a:lnTo>
                    <a:pt x="166" y="2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224" y="6"/>
                  </a:lnTo>
                  <a:lnTo>
                    <a:pt x="284" y="20"/>
                  </a:lnTo>
                  <a:lnTo>
                    <a:pt x="358" y="42"/>
                  </a:lnTo>
                  <a:lnTo>
                    <a:pt x="442" y="68"/>
                  </a:lnTo>
                  <a:lnTo>
                    <a:pt x="482" y="84"/>
                  </a:lnTo>
                  <a:lnTo>
                    <a:pt x="524" y="100"/>
                  </a:lnTo>
                  <a:lnTo>
                    <a:pt x="560" y="116"/>
                  </a:lnTo>
                  <a:lnTo>
                    <a:pt x="594" y="134"/>
                  </a:lnTo>
                  <a:lnTo>
                    <a:pt x="624" y="154"/>
                  </a:lnTo>
                  <a:lnTo>
                    <a:pt x="648" y="172"/>
                  </a:lnTo>
                  <a:lnTo>
                    <a:pt x="658" y="182"/>
                  </a:lnTo>
                  <a:lnTo>
                    <a:pt x="664" y="192"/>
                  </a:lnTo>
                  <a:lnTo>
                    <a:pt x="670" y="202"/>
                  </a:lnTo>
                  <a:lnTo>
                    <a:pt x="674" y="212"/>
                  </a:lnTo>
                  <a:lnTo>
                    <a:pt x="674" y="212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5842080" y="8131320"/>
              <a:ext cx="212400" cy="1364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34" h="86">
                  <a:moveTo>
                    <a:pt x="134" y="38"/>
                  </a:moveTo>
                  <a:lnTo>
                    <a:pt x="134" y="38"/>
                  </a:lnTo>
                  <a:lnTo>
                    <a:pt x="132" y="46"/>
                  </a:lnTo>
                  <a:lnTo>
                    <a:pt x="126" y="52"/>
                  </a:lnTo>
                  <a:lnTo>
                    <a:pt x="120" y="58"/>
                  </a:lnTo>
                  <a:lnTo>
                    <a:pt x="112" y="64"/>
                  </a:lnTo>
                  <a:lnTo>
                    <a:pt x="98" y="74"/>
                  </a:lnTo>
                  <a:lnTo>
                    <a:pt x="92" y="80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70" y="86"/>
                  </a:lnTo>
                  <a:lnTo>
                    <a:pt x="56" y="84"/>
                  </a:lnTo>
                  <a:lnTo>
                    <a:pt x="44" y="76"/>
                  </a:lnTo>
                  <a:lnTo>
                    <a:pt x="34" y="66"/>
                  </a:lnTo>
                  <a:lnTo>
                    <a:pt x="24" y="56"/>
                  </a:lnTo>
                  <a:lnTo>
                    <a:pt x="16" y="4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76" y="16"/>
                  </a:lnTo>
                  <a:lnTo>
                    <a:pt x="106" y="26"/>
                  </a:lnTo>
                  <a:lnTo>
                    <a:pt x="134" y="38"/>
                  </a:lnTo>
                  <a:lnTo>
                    <a:pt x="134" y="38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5540400" y="8391600"/>
              <a:ext cx="774720" cy="5587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488" h="352">
                  <a:moveTo>
                    <a:pt x="152" y="6"/>
                  </a:moveTo>
                  <a:lnTo>
                    <a:pt x="152" y="6"/>
                  </a:lnTo>
                  <a:lnTo>
                    <a:pt x="160" y="2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2"/>
                  </a:lnTo>
                  <a:lnTo>
                    <a:pt x="188" y="4"/>
                  </a:lnTo>
                  <a:lnTo>
                    <a:pt x="194" y="8"/>
                  </a:lnTo>
                  <a:lnTo>
                    <a:pt x="206" y="20"/>
                  </a:lnTo>
                  <a:lnTo>
                    <a:pt x="216" y="36"/>
                  </a:lnTo>
                  <a:lnTo>
                    <a:pt x="226" y="54"/>
                  </a:lnTo>
                  <a:lnTo>
                    <a:pt x="234" y="74"/>
                  </a:lnTo>
                  <a:lnTo>
                    <a:pt x="242" y="94"/>
                  </a:lnTo>
                  <a:lnTo>
                    <a:pt x="378" y="38"/>
                  </a:lnTo>
                  <a:lnTo>
                    <a:pt x="378" y="38"/>
                  </a:lnTo>
                  <a:lnTo>
                    <a:pt x="386" y="54"/>
                  </a:lnTo>
                  <a:lnTo>
                    <a:pt x="398" y="70"/>
                  </a:lnTo>
                  <a:lnTo>
                    <a:pt x="412" y="86"/>
                  </a:lnTo>
                  <a:lnTo>
                    <a:pt x="426" y="102"/>
                  </a:lnTo>
                  <a:lnTo>
                    <a:pt x="460" y="130"/>
                  </a:lnTo>
                  <a:lnTo>
                    <a:pt x="488" y="152"/>
                  </a:lnTo>
                  <a:lnTo>
                    <a:pt x="488" y="152"/>
                  </a:lnTo>
                  <a:lnTo>
                    <a:pt x="484" y="184"/>
                  </a:lnTo>
                  <a:lnTo>
                    <a:pt x="478" y="252"/>
                  </a:lnTo>
                  <a:lnTo>
                    <a:pt x="470" y="352"/>
                  </a:lnTo>
                  <a:lnTo>
                    <a:pt x="470" y="352"/>
                  </a:lnTo>
                  <a:lnTo>
                    <a:pt x="416" y="328"/>
                  </a:lnTo>
                  <a:lnTo>
                    <a:pt x="362" y="302"/>
                  </a:lnTo>
                  <a:lnTo>
                    <a:pt x="308" y="274"/>
                  </a:lnTo>
                  <a:lnTo>
                    <a:pt x="254" y="242"/>
                  </a:lnTo>
                  <a:lnTo>
                    <a:pt x="254" y="242"/>
                  </a:lnTo>
                  <a:lnTo>
                    <a:pt x="218" y="258"/>
                  </a:lnTo>
                  <a:lnTo>
                    <a:pt x="172" y="282"/>
                  </a:lnTo>
                  <a:lnTo>
                    <a:pt x="128" y="310"/>
                  </a:lnTo>
                  <a:lnTo>
                    <a:pt x="106" y="324"/>
                  </a:lnTo>
                  <a:lnTo>
                    <a:pt x="90" y="338"/>
                  </a:lnTo>
                  <a:lnTo>
                    <a:pt x="90" y="338"/>
                  </a:lnTo>
                  <a:lnTo>
                    <a:pt x="66" y="292"/>
                  </a:lnTo>
                  <a:lnTo>
                    <a:pt x="44" y="248"/>
                  </a:lnTo>
                  <a:lnTo>
                    <a:pt x="20" y="204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8" y="136"/>
                  </a:lnTo>
                  <a:lnTo>
                    <a:pt x="42" y="112"/>
                  </a:lnTo>
                  <a:lnTo>
                    <a:pt x="92" y="62"/>
                  </a:lnTo>
                  <a:lnTo>
                    <a:pt x="152" y="6"/>
                  </a:lnTo>
                  <a:lnTo>
                    <a:pt x="152" y="6"/>
                  </a:lnTo>
                  <a:close/>
                </a:path>
              </a:pathLst>
            </a:custGeom>
            <a:solidFill>
              <a:srgbClr val="007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6381720" y="9106200"/>
              <a:ext cx="438120" cy="4982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276" h="314">
                  <a:moveTo>
                    <a:pt x="276" y="312"/>
                  </a:moveTo>
                  <a:lnTo>
                    <a:pt x="276" y="312"/>
                  </a:lnTo>
                  <a:lnTo>
                    <a:pt x="260" y="314"/>
                  </a:lnTo>
                  <a:lnTo>
                    <a:pt x="236" y="314"/>
                  </a:lnTo>
                  <a:lnTo>
                    <a:pt x="180" y="310"/>
                  </a:lnTo>
                  <a:lnTo>
                    <a:pt x="130" y="306"/>
                  </a:lnTo>
                  <a:lnTo>
                    <a:pt x="100" y="302"/>
                  </a:lnTo>
                  <a:lnTo>
                    <a:pt x="100" y="302"/>
                  </a:lnTo>
                  <a:lnTo>
                    <a:pt x="92" y="282"/>
                  </a:lnTo>
                  <a:lnTo>
                    <a:pt x="78" y="246"/>
                  </a:lnTo>
                  <a:lnTo>
                    <a:pt x="44" y="15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0" y="18"/>
                  </a:lnTo>
                  <a:lnTo>
                    <a:pt x="122" y="14"/>
                  </a:lnTo>
                  <a:lnTo>
                    <a:pt x="198" y="6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6" y="38"/>
                  </a:lnTo>
                  <a:lnTo>
                    <a:pt x="254" y="130"/>
                  </a:lnTo>
                  <a:lnTo>
                    <a:pt x="256" y="182"/>
                  </a:lnTo>
                  <a:lnTo>
                    <a:pt x="260" y="234"/>
                  </a:lnTo>
                  <a:lnTo>
                    <a:pt x="266" y="278"/>
                  </a:lnTo>
                  <a:lnTo>
                    <a:pt x="272" y="298"/>
                  </a:lnTo>
                  <a:lnTo>
                    <a:pt x="276" y="312"/>
                  </a:lnTo>
                  <a:lnTo>
                    <a:pt x="276" y="312"/>
                  </a:lnTo>
                  <a:close/>
                </a:path>
              </a:pathLst>
            </a:custGeom>
            <a:solidFill>
              <a:srgbClr val="007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6604200" y="6975360"/>
              <a:ext cx="339480" cy="3459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214" h="218">
                  <a:moveTo>
                    <a:pt x="214" y="166"/>
                  </a:moveTo>
                  <a:lnTo>
                    <a:pt x="214" y="166"/>
                  </a:lnTo>
                  <a:lnTo>
                    <a:pt x="192" y="184"/>
                  </a:lnTo>
                  <a:lnTo>
                    <a:pt x="170" y="198"/>
                  </a:lnTo>
                  <a:lnTo>
                    <a:pt x="146" y="210"/>
                  </a:lnTo>
                  <a:lnTo>
                    <a:pt x="120" y="216"/>
                  </a:lnTo>
                  <a:lnTo>
                    <a:pt x="108" y="216"/>
                  </a:lnTo>
                  <a:lnTo>
                    <a:pt x="96" y="218"/>
                  </a:lnTo>
                  <a:lnTo>
                    <a:pt x="84" y="216"/>
                  </a:lnTo>
                  <a:lnTo>
                    <a:pt x="72" y="214"/>
                  </a:lnTo>
                  <a:lnTo>
                    <a:pt x="60" y="210"/>
                  </a:lnTo>
                  <a:lnTo>
                    <a:pt x="48" y="204"/>
                  </a:lnTo>
                  <a:lnTo>
                    <a:pt x="36" y="196"/>
                  </a:lnTo>
                  <a:lnTo>
                    <a:pt x="26" y="188"/>
                  </a:lnTo>
                  <a:lnTo>
                    <a:pt x="26" y="188"/>
                  </a:lnTo>
                  <a:lnTo>
                    <a:pt x="18" y="176"/>
                  </a:lnTo>
                  <a:lnTo>
                    <a:pt x="10" y="162"/>
                  </a:lnTo>
                  <a:lnTo>
                    <a:pt x="6" y="150"/>
                  </a:lnTo>
                  <a:lnTo>
                    <a:pt x="2" y="136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12" y="54"/>
                  </a:lnTo>
                  <a:lnTo>
                    <a:pt x="22" y="32"/>
                  </a:lnTo>
                  <a:lnTo>
                    <a:pt x="30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60" y="24"/>
                  </a:lnTo>
                  <a:lnTo>
                    <a:pt x="80" y="46"/>
                  </a:lnTo>
                  <a:lnTo>
                    <a:pt x="102" y="68"/>
                  </a:lnTo>
                  <a:lnTo>
                    <a:pt x="124" y="88"/>
                  </a:lnTo>
                  <a:lnTo>
                    <a:pt x="214" y="166"/>
                  </a:lnTo>
                  <a:lnTo>
                    <a:pt x="214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6661080" y="7070760"/>
              <a:ext cx="193680" cy="193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2" h="122">
                  <a:moveTo>
                    <a:pt x="122" y="104"/>
                  </a:moveTo>
                  <a:lnTo>
                    <a:pt x="122" y="104"/>
                  </a:lnTo>
                  <a:lnTo>
                    <a:pt x="98" y="114"/>
                  </a:lnTo>
                  <a:lnTo>
                    <a:pt x="84" y="118"/>
                  </a:lnTo>
                  <a:lnTo>
                    <a:pt x="72" y="122"/>
                  </a:lnTo>
                  <a:lnTo>
                    <a:pt x="58" y="122"/>
                  </a:lnTo>
                  <a:lnTo>
                    <a:pt x="44" y="120"/>
                  </a:lnTo>
                  <a:lnTo>
                    <a:pt x="32" y="11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8" y="96"/>
                  </a:lnTo>
                  <a:lnTo>
                    <a:pt x="4" y="84"/>
                  </a:lnTo>
                  <a:lnTo>
                    <a:pt x="0" y="72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4" y="3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2" y="16"/>
                  </a:lnTo>
                  <a:lnTo>
                    <a:pt x="34" y="30"/>
                  </a:lnTo>
                  <a:lnTo>
                    <a:pt x="62" y="56"/>
                  </a:lnTo>
                  <a:lnTo>
                    <a:pt x="92" y="82"/>
                  </a:lnTo>
                  <a:lnTo>
                    <a:pt x="122" y="104"/>
                  </a:lnTo>
                  <a:lnTo>
                    <a:pt x="122" y="104"/>
                  </a:lnTo>
                  <a:close/>
                </a:path>
              </a:pathLst>
            </a:custGeom>
            <a:solidFill>
              <a:srgbClr val="e838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7417080" y="7207200"/>
              <a:ext cx="85680" cy="142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90">
                  <a:moveTo>
                    <a:pt x="54" y="68"/>
                  </a:moveTo>
                  <a:lnTo>
                    <a:pt x="24" y="90"/>
                  </a:lnTo>
                  <a:lnTo>
                    <a:pt x="24" y="90"/>
                  </a:lnTo>
                  <a:lnTo>
                    <a:pt x="26" y="80"/>
                  </a:lnTo>
                  <a:lnTo>
                    <a:pt x="26" y="72"/>
                  </a:lnTo>
                  <a:lnTo>
                    <a:pt x="26" y="62"/>
                  </a:lnTo>
                  <a:lnTo>
                    <a:pt x="24" y="54"/>
                  </a:lnTo>
                  <a:lnTo>
                    <a:pt x="20" y="44"/>
                  </a:lnTo>
                  <a:lnTo>
                    <a:pt x="14" y="34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6" y="22"/>
                  </a:lnTo>
                  <a:lnTo>
                    <a:pt x="50" y="30"/>
                  </a:lnTo>
                  <a:lnTo>
                    <a:pt x="54" y="50"/>
                  </a:lnTo>
                  <a:lnTo>
                    <a:pt x="54" y="60"/>
                  </a:lnTo>
                  <a:lnTo>
                    <a:pt x="54" y="68"/>
                  </a:lnTo>
                  <a:lnTo>
                    <a:pt x="5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74"/>
            <p:cNvSpPr/>
            <p:nvPr/>
          </p:nvSpPr>
          <p:spPr>
            <a:xfrm>
              <a:off x="5851440" y="6750000"/>
              <a:ext cx="85680" cy="91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4" h="58">
                  <a:moveTo>
                    <a:pt x="42" y="4"/>
                  </a:moveTo>
                  <a:lnTo>
                    <a:pt x="42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12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8" y="58"/>
                  </a:lnTo>
                  <a:lnTo>
                    <a:pt x="22" y="58"/>
                  </a:lnTo>
                  <a:lnTo>
                    <a:pt x="32" y="56"/>
                  </a:lnTo>
                  <a:lnTo>
                    <a:pt x="42" y="5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4" y="32"/>
                  </a:lnTo>
                  <a:lnTo>
                    <a:pt x="54" y="20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cd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5"/>
            <p:cNvSpPr/>
            <p:nvPr/>
          </p:nvSpPr>
          <p:spPr>
            <a:xfrm>
              <a:off x="6426360" y="6711840"/>
              <a:ext cx="168120" cy="1713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6" h="108">
                  <a:moveTo>
                    <a:pt x="54" y="0"/>
                  </a:moveTo>
                  <a:lnTo>
                    <a:pt x="54" y="0"/>
                  </a:lnTo>
                  <a:lnTo>
                    <a:pt x="42" y="2"/>
                  </a:lnTo>
                  <a:lnTo>
                    <a:pt x="32" y="6"/>
                  </a:lnTo>
                  <a:lnTo>
                    <a:pt x="22" y="10"/>
                  </a:lnTo>
                  <a:lnTo>
                    <a:pt x="14" y="16"/>
                  </a:lnTo>
                  <a:lnTo>
                    <a:pt x="8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4" y="76"/>
                  </a:lnTo>
                  <a:lnTo>
                    <a:pt x="8" y="84"/>
                  </a:lnTo>
                  <a:lnTo>
                    <a:pt x="14" y="92"/>
                  </a:lnTo>
                  <a:lnTo>
                    <a:pt x="22" y="100"/>
                  </a:lnTo>
                  <a:lnTo>
                    <a:pt x="32" y="104"/>
                  </a:lnTo>
                  <a:lnTo>
                    <a:pt x="42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4" y="108"/>
                  </a:lnTo>
                  <a:lnTo>
                    <a:pt x="74" y="104"/>
                  </a:lnTo>
                  <a:lnTo>
                    <a:pt x="84" y="100"/>
                  </a:lnTo>
                  <a:lnTo>
                    <a:pt x="92" y="92"/>
                  </a:lnTo>
                  <a:lnTo>
                    <a:pt x="98" y="84"/>
                  </a:lnTo>
                  <a:lnTo>
                    <a:pt x="102" y="76"/>
                  </a:lnTo>
                  <a:lnTo>
                    <a:pt x="106" y="66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6" y="44"/>
                  </a:lnTo>
                  <a:lnTo>
                    <a:pt x="102" y="34"/>
                  </a:lnTo>
                  <a:lnTo>
                    <a:pt x="98" y="24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74" y="6"/>
                  </a:lnTo>
                  <a:lnTo>
                    <a:pt x="64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7077240" y="724536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54" y="0"/>
                  </a:moveTo>
                  <a:lnTo>
                    <a:pt x="54" y="0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4" y="10"/>
                  </a:lnTo>
                  <a:lnTo>
                    <a:pt x="16" y="16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" y="64"/>
                  </a:lnTo>
                  <a:lnTo>
                    <a:pt x="4" y="74"/>
                  </a:lnTo>
                  <a:lnTo>
                    <a:pt x="10" y="84"/>
                  </a:lnTo>
                  <a:lnTo>
                    <a:pt x="16" y="92"/>
                  </a:lnTo>
                  <a:lnTo>
                    <a:pt x="24" y="98"/>
                  </a:lnTo>
                  <a:lnTo>
                    <a:pt x="34" y="104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6" y="106"/>
                  </a:lnTo>
                  <a:lnTo>
                    <a:pt x="76" y="104"/>
                  </a:lnTo>
                  <a:lnTo>
                    <a:pt x="84" y="98"/>
                  </a:lnTo>
                  <a:lnTo>
                    <a:pt x="92" y="92"/>
                  </a:lnTo>
                  <a:lnTo>
                    <a:pt x="98" y="84"/>
                  </a:lnTo>
                  <a:lnTo>
                    <a:pt x="104" y="74"/>
                  </a:lnTo>
                  <a:lnTo>
                    <a:pt x="108" y="64"/>
                  </a:lnTo>
                  <a:lnTo>
                    <a:pt x="108" y="54"/>
                  </a:lnTo>
                  <a:lnTo>
                    <a:pt x="108" y="54"/>
                  </a:lnTo>
                  <a:lnTo>
                    <a:pt x="108" y="42"/>
                  </a:lnTo>
                  <a:lnTo>
                    <a:pt x="104" y="32"/>
                  </a:lnTo>
                  <a:lnTo>
                    <a:pt x="98" y="24"/>
                  </a:lnTo>
                  <a:lnTo>
                    <a:pt x="92" y="16"/>
                  </a:lnTo>
                  <a:lnTo>
                    <a:pt x="84" y="10"/>
                  </a:lnTo>
                  <a:lnTo>
                    <a:pt x="76" y="4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136760" y="5619600"/>
              <a:ext cx="1123920" cy="127620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708" h="804">
                  <a:moveTo>
                    <a:pt x="708" y="0"/>
                  </a:moveTo>
                  <a:lnTo>
                    <a:pt x="708" y="0"/>
                  </a:lnTo>
                  <a:lnTo>
                    <a:pt x="632" y="56"/>
                  </a:lnTo>
                  <a:lnTo>
                    <a:pt x="562" y="114"/>
                  </a:lnTo>
                  <a:lnTo>
                    <a:pt x="498" y="170"/>
                  </a:lnTo>
                  <a:lnTo>
                    <a:pt x="440" y="226"/>
                  </a:lnTo>
                  <a:lnTo>
                    <a:pt x="388" y="284"/>
                  </a:lnTo>
                  <a:lnTo>
                    <a:pt x="340" y="338"/>
                  </a:lnTo>
                  <a:lnTo>
                    <a:pt x="296" y="392"/>
                  </a:lnTo>
                  <a:lnTo>
                    <a:pt x="258" y="446"/>
                  </a:lnTo>
                  <a:lnTo>
                    <a:pt x="222" y="498"/>
                  </a:lnTo>
                  <a:lnTo>
                    <a:pt x="192" y="548"/>
                  </a:lnTo>
                  <a:lnTo>
                    <a:pt x="164" y="596"/>
                  </a:lnTo>
                  <a:lnTo>
                    <a:pt x="140" y="644"/>
                  </a:lnTo>
                  <a:lnTo>
                    <a:pt x="118" y="688"/>
                  </a:lnTo>
                  <a:lnTo>
                    <a:pt x="98" y="728"/>
                  </a:lnTo>
                  <a:lnTo>
                    <a:pt x="66" y="804"/>
                  </a:lnTo>
                  <a:lnTo>
                    <a:pt x="0" y="742"/>
                  </a:lnTo>
                  <a:lnTo>
                    <a:pt x="0" y="742"/>
                  </a:lnTo>
                  <a:lnTo>
                    <a:pt x="28" y="686"/>
                  </a:lnTo>
                  <a:lnTo>
                    <a:pt x="64" y="620"/>
                  </a:lnTo>
                  <a:lnTo>
                    <a:pt x="112" y="544"/>
                  </a:lnTo>
                  <a:lnTo>
                    <a:pt x="164" y="464"/>
                  </a:lnTo>
                  <a:lnTo>
                    <a:pt x="224" y="382"/>
                  </a:lnTo>
                  <a:lnTo>
                    <a:pt x="256" y="342"/>
                  </a:lnTo>
                  <a:lnTo>
                    <a:pt x="286" y="304"/>
                  </a:lnTo>
                  <a:lnTo>
                    <a:pt x="320" y="268"/>
                  </a:lnTo>
                  <a:lnTo>
                    <a:pt x="352" y="234"/>
                  </a:lnTo>
                  <a:lnTo>
                    <a:pt x="384" y="202"/>
                  </a:lnTo>
                  <a:lnTo>
                    <a:pt x="418" y="174"/>
                  </a:lnTo>
                  <a:lnTo>
                    <a:pt x="418" y="174"/>
                  </a:lnTo>
                  <a:lnTo>
                    <a:pt x="456" y="144"/>
                  </a:lnTo>
                  <a:lnTo>
                    <a:pt x="502" y="114"/>
                  </a:lnTo>
                  <a:lnTo>
                    <a:pt x="550" y="86"/>
                  </a:lnTo>
                  <a:lnTo>
                    <a:pt x="598" y="58"/>
                  </a:lnTo>
                  <a:lnTo>
                    <a:pt x="676" y="16"/>
                  </a:lnTo>
                  <a:lnTo>
                    <a:pt x="708" y="0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84"/>
          <p:cNvGrpSpPr/>
          <p:nvPr/>
        </p:nvGrpSpPr>
        <p:grpSpPr>
          <a:xfrm>
            <a:off x="36649080" y="1181160"/>
            <a:ext cx="5543640" cy="9029520"/>
            <a:chOff x="36649080" y="1181160"/>
            <a:chExt cx="5543640" cy="9029520"/>
          </a:xfrm>
        </p:grpSpPr>
        <p:sp>
          <p:nvSpPr>
            <p:cNvPr id="118" name="Freeform 78"/>
            <p:cNvSpPr/>
            <p:nvPr/>
          </p:nvSpPr>
          <p:spPr>
            <a:xfrm>
              <a:off x="36649080" y="1181160"/>
              <a:ext cx="5543640" cy="902952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9029520"/>
                <a:gd name="textAreaBottom" fmla="*/ 9029880 h 9029520"/>
              </a:gdLst>
              <a:ahLst/>
              <a:rect l="textAreaLeft" t="textAreaTop" r="textAreaRight" b="textAreaBottom"/>
              <a:pathLst>
                <a:path w="3492" h="5688">
                  <a:moveTo>
                    <a:pt x="1970" y="156"/>
                  </a:moveTo>
                  <a:lnTo>
                    <a:pt x="1970" y="156"/>
                  </a:lnTo>
                  <a:lnTo>
                    <a:pt x="2016" y="228"/>
                  </a:lnTo>
                  <a:lnTo>
                    <a:pt x="2038" y="264"/>
                  </a:lnTo>
                  <a:lnTo>
                    <a:pt x="2058" y="300"/>
                  </a:lnTo>
                  <a:lnTo>
                    <a:pt x="2076" y="336"/>
                  </a:lnTo>
                  <a:lnTo>
                    <a:pt x="2092" y="374"/>
                  </a:lnTo>
                  <a:lnTo>
                    <a:pt x="2106" y="414"/>
                  </a:lnTo>
                  <a:lnTo>
                    <a:pt x="2120" y="454"/>
                  </a:lnTo>
                  <a:lnTo>
                    <a:pt x="2120" y="454"/>
                  </a:lnTo>
                  <a:lnTo>
                    <a:pt x="2142" y="502"/>
                  </a:lnTo>
                  <a:lnTo>
                    <a:pt x="2162" y="552"/>
                  </a:lnTo>
                  <a:lnTo>
                    <a:pt x="2178" y="602"/>
                  </a:lnTo>
                  <a:lnTo>
                    <a:pt x="2194" y="654"/>
                  </a:lnTo>
                  <a:lnTo>
                    <a:pt x="2206" y="706"/>
                  </a:lnTo>
                  <a:lnTo>
                    <a:pt x="2214" y="760"/>
                  </a:lnTo>
                  <a:lnTo>
                    <a:pt x="2222" y="814"/>
                  </a:lnTo>
                  <a:lnTo>
                    <a:pt x="2226" y="870"/>
                  </a:lnTo>
                  <a:lnTo>
                    <a:pt x="2226" y="870"/>
                  </a:lnTo>
                  <a:lnTo>
                    <a:pt x="2248" y="840"/>
                  </a:lnTo>
                  <a:lnTo>
                    <a:pt x="2268" y="810"/>
                  </a:lnTo>
                  <a:lnTo>
                    <a:pt x="2308" y="748"/>
                  </a:lnTo>
                  <a:lnTo>
                    <a:pt x="2330" y="718"/>
                  </a:lnTo>
                  <a:lnTo>
                    <a:pt x="2352" y="690"/>
                  </a:lnTo>
                  <a:lnTo>
                    <a:pt x="2376" y="662"/>
                  </a:lnTo>
                  <a:lnTo>
                    <a:pt x="2402" y="638"/>
                  </a:lnTo>
                  <a:lnTo>
                    <a:pt x="2402" y="638"/>
                  </a:lnTo>
                  <a:lnTo>
                    <a:pt x="2404" y="626"/>
                  </a:lnTo>
                  <a:lnTo>
                    <a:pt x="2410" y="618"/>
                  </a:lnTo>
                  <a:lnTo>
                    <a:pt x="2418" y="612"/>
                  </a:lnTo>
                  <a:lnTo>
                    <a:pt x="2428" y="606"/>
                  </a:lnTo>
                  <a:lnTo>
                    <a:pt x="2452" y="596"/>
                  </a:lnTo>
                  <a:lnTo>
                    <a:pt x="2472" y="588"/>
                  </a:lnTo>
                  <a:lnTo>
                    <a:pt x="2472" y="588"/>
                  </a:lnTo>
                  <a:lnTo>
                    <a:pt x="2490" y="594"/>
                  </a:lnTo>
                  <a:lnTo>
                    <a:pt x="2506" y="602"/>
                  </a:lnTo>
                  <a:lnTo>
                    <a:pt x="2522" y="612"/>
                  </a:lnTo>
                  <a:lnTo>
                    <a:pt x="2536" y="622"/>
                  </a:lnTo>
                  <a:lnTo>
                    <a:pt x="2560" y="650"/>
                  </a:lnTo>
                  <a:lnTo>
                    <a:pt x="2586" y="678"/>
                  </a:lnTo>
                  <a:lnTo>
                    <a:pt x="2586" y="678"/>
                  </a:lnTo>
                  <a:lnTo>
                    <a:pt x="2620" y="728"/>
                  </a:lnTo>
                  <a:lnTo>
                    <a:pt x="2652" y="780"/>
                  </a:lnTo>
                  <a:lnTo>
                    <a:pt x="2684" y="832"/>
                  </a:lnTo>
                  <a:lnTo>
                    <a:pt x="2714" y="886"/>
                  </a:lnTo>
                  <a:lnTo>
                    <a:pt x="2742" y="942"/>
                  </a:lnTo>
                  <a:lnTo>
                    <a:pt x="2768" y="998"/>
                  </a:lnTo>
                  <a:lnTo>
                    <a:pt x="2790" y="1054"/>
                  </a:lnTo>
                  <a:lnTo>
                    <a:pt x="2812" y="1112"/>
                  </a:lnTo>
                  <a:lnTo>
                    <a:pt x="2830" y="1172"/>
                  </a:lnTo>
                  <a:lnTo>
                    <a:pt x="2846" y="1232"/>
                  </a:lnTo>
                  <a:lnTo>
                    <a:pt x="2860" y="1292"/>
                  </a:lnTo>
                  <a:lnTo>
                    <a:pt x="2868" y="1352"/>
                  </a:lnTo>
                  <a:lnTo>
                    <a:pt x="2874" y="1412"/>
                  </a:lnTo>
                  <a:lnTo>
                    <a:pt x="2876" y="1474"/>
                  </a:lnTo>
                  <a:lnTo>
                    <a:pt x="2874" y="1536"/>
                  </a:lnTo>
                  <a:lnTo>
                    <a:pt x="2868" y="1596"/>
                  </a:lnTo>
                  <a:lnTo>
                    <a:pt x="2850" y="2362"/>
                  </a:lnTo>
                  <a:lnTo>
                    <a:pt x="2850" y="2380"/>
                  </a:lnTo>
                  <a:lnTo>
                    <a:pt x="2850" y="2380"/>
                  </a:lnTo>
                  <a:lnTo>
                    <a:pt x="2870" y="2384"/>
                  </a:lnTo>
                  <a:lnTo>
                    <a:pt x="2890" y="2386"/>
                  </a:lnTo>
                  <a:lnTo>
                    <a:pt x="2900" y="2390"/>
                  </a:lnTo>
                  <a:lnTo>
                    <a:pt x="2908" y="2394"/>
                  </a:lnTo>
                  <a:lnTo>
                    <a:pt x="2914" y="2402"/>
                  </a:lnTo>
                  <a:lnTo>
                    <a:pt x="2918" y="2414"/>
                  </a:lnTo>
                  <a:lnTo>
                    <a:pt x="2918" y="2414"/>
                  </a:lnTo>
                  <a:lnTo>
                    <a:pt x="2918" y="2434"/>
                  </a:lnTo>
                  <a:lnTo>
                    <a:pt x="2914" y="2456"/>
                  </a:lnTo>
                  <a:lnTo>
                    <a:pt x="2910" y="2476"/>
                  </a:lnTo>
                  <a:lnTo>
                    <a:pt x="2902" y="2496"/>
                  </a:lnTo>
                  <a:lnTo>
                    <a:pt x="2888" y="2538"/>
                  </a:lnTo>
                  <a:lnTo>
                    <a:pt x="2882" y="2558"/>
                  </a:lnTo>
                  <a:lnTo>
                    <a:pt x="2880" y="2580"/>
                  </a:lnTo>
                  <a:lnTo>
                    <a:pt x="2880" y="2580"/>
                  </a:lnTo>
                  <a:lnTo>
                    <a:pt x="2910" y="2588"/>
                  </a:lnTo>
                  <a:lnTo>
                    <a:pt x="2942" y="2594"/>
                  </a:lnTo>
                  <a:lnTo>
                    <a:pt x="3004" y="2604"/>
                  </a:lnTo>
                  <a:lnTo>
                    <a:pt x="3070" y="2612"/>
                  </a:lnTo>
                  <a:lnTo>
                    <a:pt x="3100" y="2616"/>
                  </a:lnTo>
                  <a:lnTo>
                    <a:pt x="3132" y="2622"/>
                  </a:lnTo>
                  <a:lnTo>
                    <a:pt x="3132" y="2622"/>
                  </a:lnTo>
                  <a:lnTo>
                    <a:pt x="3132" y="2630"/>
                  </a:lnTo>
                  <a:lnTo>
                    <a:pt x="3134" y="2638"/>
                  </a:lnTo>
                  <a:lnTo>
                    <a:pt x="3136" y="2644"/>
                  </a:lnTo>
                  <a:lnTo>
                    <a:pt x="3140" y="2650"/>
                  </a:lnTo>
                  <a:lnTo>
                    <a:pt x="3148" y="2660"/>
                  </a:lnTo>
                  <a:lnTo>
                    <a:pt x="3156" y="2674"/>
                  </a:lnTo>
                  <a:lnTo>
                    <a:pt x="3156" y="2674"/>
                  </a:lnTo>
                  <a:lnTo>
                    <a:pt x="3152" y="2692"/>
                  </a:lnTo>
                  <a:lnTo>
                    <a:pt x="3142" y="2708"/>
                  </a:lnTo>
                  <a:lnTo>
                    <a:pt x="3132" y="2724"/>
                  </a:lnTo>
                  <a:lnTo>
                    <a:pt x="3120" y="2740"/>
                  </a:lnTo>
                  <a:lnTo>
                    <a:pt x="3096" y="2772"/>
                  </a:lnTo>
                  <a:lnTo>
                    <a:pt x="3086" y="2788"/>
                  </a:lnTo>
                  <a:lnTo>
                    <a:pt x="3078" y="2806"/>
                  </a:lnTo>
                  <a:lnTo>
                    <a:pt x="3078" y="2806"/>
                  </a:lnTo>
                  <a:lnTo>
                    <a:pt x="3104" y="2820"/>
                  </a:lnTo>
                  <a:lnTo>
                    <a:pt x="3118" y="2824"/>
                  </a:lnTo>
                  <a:lnTo>
                    <a:pt x="3126" y="2824"/>
                  </a:lnTo>
                  <a:lnTo>
                    <a:pt x="3134" y="2824"/>
                  </a:lnTo>
                  <a:lnTo>
                    <a:pt x="3134" y="2824"/>
                  </a:lnTo>
                  <a:lnTo>
                    <a:pt x="3154" y="2834"/>
                  </a:lnTo>
                  <a:lnTo>
                    <a:pt x="3176" y="2840"/>
                  </a:lnTo>
                  <a:lnTo>
                    <a:pt x="3218" y="2852"/>
                  </a:lnTo>
                  <a:lnTo>
                    <a:pt x="3238" y="2860"/>
                  </a:lnTo>
                  <a:lnTo>
                    <a:pt x="3246" y="2866"/>
                  </a:lnTo>
                  <a:lnTo>
                    <a:pt x="3254" y="2872"/>
                  </a:lnTo>
                  <a:lnTo>
                    <a:pt x="3262" y="2880"/>
                  </a:lnTo>
                  <a:lnTo>
                    <a:pt x="3266" y="2888"/>
                  </a:lnTo>
                  <a:lnTo>
                    <a:pt x="3272" y="2900"/>
                  </a:lnTo>
                  <a:lnTo>
                    <a:pt x="3274" y="2912"/>
                  </a:lnTo>
                  <a:lnTo>
                    <a:pt x="3274" y="2912"/>
                  </a:lnTo>
                  <a:lnTo>
                    <a:pt x="3262" y="2938"/>
                  </a:lnTo>
                  <a:lnTo>
                    <a:pt x="3246" y="2966"/>
                  </a:lnTo>
                  <a:lnTo>
                    <a:pt x="3228" y="2992"/>
                  </a:lnTo>
                  <a:lnTo>
                    <a:pt x="3210" y="3020"/>
                  </a:lnTo>
                  <a:lnTo>
                    <a:pt x="3210" y="3020"/>
                  </a:lnTo>
                  <a:lnTo>
                    <a:pt x="3234" y="3028"/>
                  </a:lnTo>
                  <a:lnTo>
                    <a:pt x="3258" y="3034"/>
                  </a:lnTo>
                  <a:lnTo>
                    <a:pt x="3284" y="3038"/>
                  </a:lnTo>
                  <a:lnTo>
                    <a:pt x="3310" y="3046"/>
                  </a:lnTo>
                  <a:lnTo>
                    <a:pt x="3334" y="3054"/>
                  </a:lnTo>
                  <a:lnTo>
                    <a:pt x="3344" y="3060"/>
                  </a:lnTo>
                  <a:lnTo>
                    <a:pt x="3354" y="3068"/>
                  </a:lnTo>
                  <a:lnTo>
                    <a:pt x="3362" y="3076"/>
                  </a:lnTo>
                  <a:lnTo>
                    <a:pt x="3368" y="3086"/>
                  </a:lnTo>
                  <a:lnTo>
                    <a:pt x="3374" y="3098"/>
                  </a:lnTo>
                  <a:lnTo>
                    <a:pt x="3378" y="3112"/>
                  </a:lnTo>
                  <a:lnTo>
                    <a:pt x="3378" y="3112"/>
                  </a:lnTo>
                  <a:lnTo>
                    <a:pt x="3376" y="3124"/>
                  </a:lnTo>
                  <a:lnTo>
                    <a:pt x="3372" y="3136"/>
                  </a:lnTo>
                  <a:lnTo>
                    <a:pt x="3366" y="3150"/>
                  </a:lnTo>
                  <a:lnTo>
                    <a:pt x="3358" y="3162"/>
                  </a:lnTo>
                  <a:lnTo>
                    <a:pt x="3344" y="3186"/>
                  </a:lnTo>
                  <a:lnTo>
                    <a:pt x="3338" y="3198"/>
                  </a:lnTo>
                  <a:lnTo>
                    <a:pt x="3336" y="3210"/>
                  </a:lnTo>
                  <a:lnTo>
                    <a:pt x="3336" y="3210"/>
                  </a:lnTo>
                  <a:lnTo>
                    <a:pt x="3348" y="3224"/>
                  </a:lnTo>
                  <a:lnTo>
                    <a:pt x="3362" y="3234"/>
                  </a:lnTo>
                  <a:lnTo>
                    <a:pt x="3380" y="3242"/>
                  </a:lnTo>
                  <a:lnTo>
                    <a:pt x="3396" y="3248"/>
                  </a:lnTo>
                  <a:lnTo>
                    <a:pt x="3432" y="3258"/>
                  </a:lnTo>
                  <a:lnTo>
                    <a:pt x="3450" y="3264"/>
                  </a:lnTo>
                  <a:lnTo>
                    <a:pt x="3468" y="3272"/>
                  </a:lnTo>
                  <a:lnTo>
                    <a:pt x="3468" y="3272"/>
                  </a:lnTo>
                  <a:lnTo>
                    <a:pt x="3468" y="3280"/>
                  </a:lnTo>
                  <a:lnTo>
                    <a:pt x="3474" y="3288"/>
                  </a:lnTo>
                  <a:lnTo>
                    <a:pt x="3484" y="3304"/>
                  </a:lnTo>
                  <a:lnTo>
                    <a:pt x="3490" y="3312"/>
                  </a:lnTo>
                  <a:lnTo>
                    <a:pt x="3492" y="3320"/>
                  </a:lnTo>
                  <a:lnTo>
                    <a:pt x="3492" y="3330"/>
                  </a:lnTo>
                  <a:lnTo>
                    <a:pt x="3488" y="3340"/>
                  </a:lnTo>
                  <a:lnTo>
                    <a:pt x="3488" y="3340"/>
                  </a:lnTo>
                  <a:lnTo>
                    <a:pt x="3474" y="3366"/>
                  </a:lnTo>
                  <a:lnTo>
                    <a:pt x="3458" y="3388"/>
                  </a:lnTo>
                  <a:lnTo>
                    <a:pt x="3442" y="3408"/>
                  </a:lnTo>
                  <a:lnTo>
                    <a:pt x="3424" y="3428"/>
                  </a:lnTo>
                  <a:lnTo>
                    <a:pt x="3386" y="3468"/>
                  </a:lnTo>
                  <a:lnTo>
                    <a:pt x="3368" y="3490"/>
                  </a:lnTo>
                  <a:lnTo>
                    <a:pt x="3352" y="3514"/>
                  </a:lnTo>
                  <a:lnTo>
                    <a:pt x="3352" y="3514"/>
                  </a:lnTo>
                  <a:lnTo>
                    <a:pt x="3370" y="3574"/>
                  </a:lnTo>
                  <a:lnTo>
                    <a:pt x="3382" y="3638"/>
                  </a:lnTo>
                  <a:lnTo>
                    <a:pt x="3390" y="3702"/>
                  </a:lnTo>
                  <a:lnTo>
                    <a:pt x="3396" y="3768"/>
                  </a:lnTo>
                  <a:lnTo>
                    <a:pt x="3396" y="3832"/>
                  </a:lnTo>
                  <a:lnTo>
                    <a:pt x="3392" y="3898"/>
                  </a:lnTo>
                  <a:lnTo>
                    <a:pt x="3384" y="3964"/>
                  </a:lnTo>
                  <a:lnTo>
                    <a:pt x="3378" y="3996"/>
                  </a:lnTo>
                  <a:lnTo>
                    <a:pt x="3370" y="4028"/>
                  </a:lnTo>
                  <a:lnTo>
                    <a:pt x="3346" y="4162"/>
                  </a:lnTo>
                  <a:lnTo>
                    <a:pt x="3346" y="4162"/>
                  </a:lnTo>
                  <a:lnTo>
                    <a:pt x="3338" y="4174"/>
                  </a:lnTo>
                  <a:lnTo>
                    <a:pt x="3328" y="4180"/>
                  </a:lnTo>
                  <a:lnTo>
                    <a:pt x="3318" y="4186"/>
                  </a:lnTo>
                  <a:lnTo>
                    <a:pt x="3306" y="4188"/>
                  </a:lnTo>
                  <a:lnTo>
                    <a:pt x="3294" y="4188"/>
                  </a:lnTo>
                  <a:lnTo>
                    <a:pt x="3280" y="4186"/>
                  </a:lnTo>
                  <a:lnTo>
                    <a:pt x="3256" y="4184"/>
                  </a:lnTo>
                  <a:lnTo>
                    <a:pt x="3256" y="4184"/>
                  </a:lnTo>
                  <a:lnTo>
                    <a:pt x="3156" y="4110"/>
                  </a:lnTo>
                  <a:lnTo>
                    <a:pt x="3104" y="4072"/>
                  </a:lnTo>
                  <a:lnTo>
                    <a:pt x="3050" y="4038"/>
                  </a:lnTo>
                  <a:lnTo>
                    <a:pt x="3040" y="4038"/>
                  </a:lnTo>
                  <a:lnTo>
                    <a:pt x="3040" y="4038"/>
                  </a:lnTo>
                  <a:lnTo>
                    <a:pt x="2974" y="4118"/>
                  </a:lnTo>
                  <a:lnTo>
                    <a:pt x="2944" y="4156"/>
                  </a:lnTo>
                  <a:lnTo>
                    <a:pt x="2930" y="4178"/>
                  </a:lnTo>
                  <a:lnTo>
                    <a:pt x="2918" y="4198"/>
                  </a:lnTo>
                  <a:lnTo>
                    <a:pt x="2910" y="4198"/>
                  </a:lnTo>
                  <a:lnTo>
                    <a:pt x="2910" y="4198"/>
                  </a:lnTo>
                  <a:lnTo>
                    <a:pt x="2890" y="4222"/>
                  </a:lnTo>
                  <a:lnTo>
                    <a:pt x="2868" y="4250"/>
                  </a:lnTo>
                  <a:lnTo>
                    <a:pt x="2844" y="4274"/>
                  </a:lnTo>
                  <a:lnTo>
                    <a:pt x="2832" y="4284"/>
                  </a:lnTo>
                  <a:lnTo>
                    <a:pt x="2818" y="4294"/>
                  </a:lnTo>
                  <a:lnTo>
                    <a:pt x="2818" y="4294"/>
                  </a:lnTo>
                  <a:lnTo>
                    <a:pt x="2814" y="4356"/>
                  </a:lnTo>
                  <a:lnTo>
                    <a:pt x="2810" y="4416"/>
                  </a:lnTo>
                  <a:lnTo>
                    <a:pt x="2806" y="4532"/>
                  </a:lnTo>
                  <a:lnTo>
                    <a:pt x="2800" y="4766"/>
                  </a:lnTo>
                  <a:lnTo>
                    <a:pt x="2800" y="4766"/>
                  </a:lnTo>
                  <a:lnTo>
                    <a:pt x="2812" y="4778"/>
                  </a:lnTo>
                  <a:lnTo>
                    <a:pt x="2824" y="4790"/>
                  </a:lnTo>
                  <a:lnTo>
                    <a:pt x="2842" y="4816"/>
                  </a:lnTo>
                  <a:lnTo>
                    <a:pt x="2858" y="4846"/>
                  </a:lnTo>
                  <a:lnTo>
                    <a:pt x="2874" y="4874"/>
                  </a:lnTo>
                  <a:lnTo>
                    <a:pt x="2888" y="4904"/>
                  </a:lnTo>
                  <a:lnTo>
                    <a:pt x="2904" y="4934"/>
                  </a:lnTo>
                  <a:lnTo>
                    <a:pt x="2922" y="4962"/>
                  </a:lnTo>
                  <a:lnTo>
                    <a:pt x="2944" y="4990"/>
                  </a:lnTo>
                  <a:lnTo>
                    <a:pt x="2944" y="4990"/>
                  </a:lnTo>
                  <a:lnTo>
                    <a:pt x="2966" y="5036"/>
                  </a:lnTo>
                  <a:lnTo>
                    <a:pt x="2990" y="5080"/>
                  </a:lnTo>
                  <a:lnTo>
                    <a:pt x="3042" y="5168"/>
                  </a:lnTo>
                  <a:lnTo>
                    <a:pt x="3096" y="5256"/>
                  </a:lnTo>
                  <a:lnTo>
                    <a:pt x="3122" y="5300"/>
                  </a:lnTo>
                  <a:lnTo>
                    <a:pt x="3146" y="5346"/>
                  </a:lnTo>
                  <a:lnTo>
                    <a:pt x="3146" y="5346"/>
                  </a:lnTo>
                  <a:lnTo>
                    <a:pt x="3156" y="5370"/>
                  </a:lnTo>
                  <a:lnTo>
                    <a:pt x="3168" y="5396"/>
                  </a:lnTo>
                  <a:lnTo>
                    <a:pt x="3182" y="5422"/>
                  </a:lnTo>
                  <a:lnTo>
                    <a:pt x="3190" y="5432"/>
                  </a:lnTo>
                  <a:lnTo>
                    <a:pt x="3200" y="5442"/>
                  </a:lnTo>
                  <a:lnTo>
                    <a:pt x="3200" y="5442"/>
                  </a:lnTo>
                  <a:lnTo>
                    <a:pt x="3208" y="5460"/>
                  </a:lnTo>
                  <a:lnTo>
                    <a:pt x="3216" y="5478"/>
                  </a:lnTo>
                  <a:lnTo>
                    <a:pt x="3236" y="5510"/>
                  </a:lnTo>
                  <a:lnTo>
                    <a:pt x="3258" y="5544"/>
                  </a:lnTo>
                  <a:lnTo>
                    <a:pt x="3282" y="5578"/>
                  </a:lnTo>
                  <a:lnTo>
                    <a:pt x="3282" y="5578"/>
                  </a:lnTo>
                  <a:lnTo>
                    <a:pt x="3286" y="5600"/>
                  </a:lnTo>
                  <a:lnTo>
                    <a:pt x="3290" y="5624"/>
                  </a:lnTo>
                  <a:lnTo>
                    <a:pt x="3290" y="5636"/>
                  </a:lnTo>
                  <a:lnTo>
                    <a:pt x="3288" y="5646"/>
                  </a:lnTo>
                  <a:lnTo>
                    <a:pt x="3282" y="5656"/>
                  </a:lnTo>
                  <a:lnTo>
                    <a:pt x="3272" y="5662"/>
                  </a:lnTo>
                  <a:lnTo>
                    <a:pt x="3272" y="5662"/>
                  </a:lnTo>
                  <a:lnTo>
                    <a:pt x="3266" y="5668"/>
                  </a:lnTo>
                  <a:lnTo>
                    <a:pt x="3260" y="5674"/>
                  </a:lnTo>
                  <a:lnTo>
                    <a:pt x="3248" y="5680"/>
                  </a:lnTo>
                  <a:lnTo>
                    <a:pt x="3232" y="5684"/>
                  </a:lnTo>
                  <a:lnTo>
                    <a:pt x="3218" y="5684"/>
                  </a:lnTo>
                  <a:lnTo>
                    <a:pt x="3186" y="5682"/>
                  </a:lnTo>
                  <a:lnTo>
                    <a:pt x="3156" y="5680"/>
                  </a:lnTo>
                  <a:lnTo>
                    <a:pt x="3156" y="5680"/>
                  </a:lnTo>
                  <a:lnTo>
                    <a:pt x="3146" y="5684"/>
                  </a:lnTo>
                  <a:lnTo>
                    <a:pt x="3136" y="5684"/>
                  </a:lnTo>
                  <a:lnTo>
                    <a:pt x="3124" y="5682"/>
                  </a:lnTo>
                  <a:lnTo>
                    <a:pt x="3114" y="5680"/>
                  </a:lnTo>
                  <a:lnTo>
                    <a:pt x="3102" y="5678"/>
                  </a:lnTo>
                  <a:lnTo>
                    <a:pt x="3090" y="5676"/>
                  </a:lnTo>
                  <a:lnTo>
                    <a:pt x="3080" y="5676"/>
                  </a:lnTo>
                  <a:lnTo>
                    <a:pt x="3068" y="5680"/>
                  </a:lnTo>
                  <a:lnTo>
                    <a:pt x="1740" y="5684"/>
                  </a:lnTo>
                  <a:lnTo>
                    <a:pt x="212" y="5688"/>
                  </a:lnTo>
                  <a:lnTo>
                    <a:pt x="212" y="5688"/>
                  </a:lnTo>
                  <a:lnTo>
                    <a:pt x="208" y="5682"/>
                  </a:lnTo>
                  <a:lnTo>
                    <a:pt x="202" y="5680"/>
                  </a:lnTo>
                  <a:lnTo>
                    <a:pt x="190" y="5678"/>
                  </a:lnTo>
                  <a:lnTo>
                    <a:pt x="178" y="5678"/>
                  </a:lnTo>
                  <a:lnTo>
                    <a:pt x="166" y="5680"/>
                  </a:lnTo>
                  <a:lnTo>
                    <a:pt x="154" y="5684"/>
                  </a:lnTo>
                  <a:lnTo>
                    <a:pt x="142" y="5684"/>
                  </a:lnTo>
                  <a:lnTo>
                    <a:pt x="130" y="5682"/>
                  </a:lnTo>
                  <a:lnTo>
                    <a:pt x="124" y="5678"/>
                  </a:lnTo>
                  <a:lnTo>
                    <a:pt x="118" y="5674"/>
                  </a:lnTo>
                  <a:lnTo>
                    <a:pt x="118" y="5674"/>
                  </a:lnTo>
                  <a:lnTo>
                    <a:pt x="110" y="5658"/>
                  </a:lnTo>
                  <a:lnTo>
                    <a:pt x="106" y="5644"/>
                  </a:lnTo>
                  <a:lnTo>
                    <a:pt x="106" y="5630"/>
                  </a:lnTo>
                  <a:lnTo>
                    <a:pt x="106" y="5618"/>
                  </a:lnTo>
                  <a:lnTo>
                    <a:pt x="108" y="5604"/>
                  </a:lnTo>
                  <a:lnTo>
                    <a:pt x="112" y="5592"/>
                  </a:lnTo>
                  <a:lnTo>
                    <a:pt x="124" y="5566"/>
                  </a:lnTo>
                  <a:lnTo>
                    <a:pt x="140" y="5542"/>
                  </a:lnTo>
                  <a:lnTo>
                    <a:pt x="156" y="5520"/>
                  </a:lnTo>
                  <a:lnTo>
                    <a:pt x="172" y="5496"/>
                  </a:lnTo>
                  <a:lnTo>
                    <a:pt x="184" y="5474"/>
                  </a:lnTo>
                  <a:lnTo>
                    <a:pt x="184" y="5474"/>
                  </a:lnTo>
                  <a:lnTo>
                    <a:pt x="266" y="5340"/>
                  </a:lnTo>
                  <a:lnTo>
                    <a:pt x="344" y="5210"/>
                  </a:lnTo>
                  <a:lnTo>
                    <a:pt x="386" y="5146"/>
                  </a:lnTo>
                  <a:lnTo>
                    <a:pt x="428" y="5082"/>
                  </a:lnTo>
                  <a:lnTo>
                    <a:pt x="472" y="5018"/>
                  </a:lnTo>
                  <a:lnTo>
                    <a:pt x="520" y="4956"/>
                  </a:lnTo>
                  <a:lnTo>
                    <a:pt x="520" y="4956"/>
                  </a:lnTo>
                  <a:lnTo>
                    <a:pt x="558" y="4898"/>
                  </a:lnTo>
                  <a:lnTo>
                    <a:pt x="600" y="4836"/>
                  </a:lnTo>
                  <a:lnTo>
                    <a:pt x="640" y="4776"/>
                  </a:lnTo>
                  <a:lnTo>
                    <a:pt x="658" y="4746"/>
                  </a:lnTo>
                  <a:lnTo>
                    <a:pt x="676" y="4714"/>
                  </a:lnTo>
                  <a:lnTo>
                    <a:pt x="676" y="4714"/>
                  </a:lnTo>
                  <a:lnTo>
                    <a:pt x="678" y="4594"/>
                  </a:lnTo>
                  <a:lnTo>
                    <a:pt x="684" y="4482"/>
                  </a:lnTo>
                  <a:lnTo>
                    <a:pt x="690" y="4372"/>
                  </a:lnTo>
                  <a:lnTo>
                    <a:pt x="698" y="4258"/>
                  </a:lnTo>
                  <a:lnTo>
                    <a:pt x="698" y="4258"/>
                  </a:lnTo>
                  <a:lnTo>
                    <a:pt x="652" y="4204"/>
                  </a:lnTo>
                  <a:lnTo>
                    <a:pt x="630" y="4178"/>
                  </a:lnTo>
                  <a:lnTo>
                    <a:pt x="606" y="4154"/>
                  </a:lnTo>
                  <a:lnTo>
                    <a:pt x="580" y="4130"/>
                  </a:lnTo>
                  <a:lnTo>
                    <a:pt x="556" y="4108"/>
                  </a:lnTo>
                  <a:lnTo>
                    <a:pt x="530" y="4088"/>
                  </a:lnTo>
                  <a:lnTo>
                    <a:pt x="502" y="4070"/>
                  </a:lnTo>
                  <a:lnTo>
                    <a:pt x="502" y="4070"/>
                  </a:lnTo>
                  <a:lnTo>
                    <a:pt x="468" y="4094"/>
                  </a:lnTo>
                  <a:lnTo>
                    <a:pt x="432" y="4118"/>
                  </a:lnTo>
                  <a:lnTo>
                    <a:pt x="414" y="4128"/>
                  </a:lnTo>
                  <a:lnTo>
                    <a:pt x="396" y="4138"/>
                  </a:lnTo>
                  <a:lnTo>
                    <a:pt x="374" y="4146"/>
                  </a:lnTo>
                  <a:lnTo>
                    <a:pt x="352" y="4152"/>
                  </a:lnTo>
                  <a:lnTo>
                    <a:pt x="352" y="4152"/>
                  </a:lnTo>
                  <a:lnTo>
                    <a:pt x="340" y="4154"/>
                  </a:lnTo>
                  <a:lnTo>
                    <a:pt x="328" y="4160"/>
                  </a:lnTo>
                  <a:lnTo>
                    <a:pt x="304" y="4170"/>
                  </a:lnTo>
                  <a:lnTo>
                    <a:pt x="292" y="4176"/>
                  </a:lnTo>
                  <a:lnTo>
                    <a:pt x="280" y="4180"/>
                  </a:lnTo>
                  <a:lnTo>
                    <a:pt x="266" y="4180"/>
                  </a:lnTo>
                  <a:lnTo>
                    <a:pt x="252" y="4178"/>
                  </a:lnTo>
                  <a:lnTo>
                    <a:pt x="252" y="4178"/>
                  </a:lnTo>
                  <a:lnTo>
                    <a:pt x="250" y="4168"/>
                  </a:lnTo>
                  <a:lnTo>
                    <a:pt x="248" y="4162"/>
                  </a:lnTo>
                  <a:lnTo>
                    <a:pt x="242" y="4156"/>
                  </a:lnTo>
                  <a:lnTo>
                    <a:pt x="236" y="4150"/>
                  </a:lnTo>
                  <a:lnTo>
                    <a:pt x="224" y="4142"/>
                  </a:lnTo>
                  <a:lnTo>
                    <a:pt x="210" y="4134"/>
                  </a:lnTo>
                  <a:lnTo>
                    <a:pt x="210" y="4134"/>
                  </a:lnTo>
                  <a:lnTo>
                    <a:pt x="202" y="4114"/>
                  </a:lnTo>
                  <a:lnTo>
                    <a:pt x="196" y="4094"/>
                  </a:lnTo>
                  <a:lnTo>
                    <a:pt x="192" y="4072"/>
                  </a:lnTo>
                  <a:lnTo>
                    <a:pt x="188" y="4050"/>
                  </a:lnTo>
                  <a:lnTo>
                    <a:pt x="184" y="4004"/>
                  </a:lnTo>
                  <a:lnTo>
                    <a:pt x="184" y="3956"/>
                  </a:lnTo>
                  <a:lnTo>
                    <a:pt x="186" y="3910"/>
                  </a:lnTo>
                  <a:lnTo>
                    <a:pt x="188" y="3864"/>
                  </a:lnTo>
                  <a:lnTo>
                    <a:pt x="196" y="3778"/>
                  </a:lnTo>
                  <a:lnTo>
                    <a:pt x="196" y="3778"/>
                  </a:lnTo>
                  <a:lnTo>
                    <a:pt x="186" y="3770"/>
                  </a:lnTo>
                  <a:lnTo>
                    <a:pt x="178" y="3762"/>
                  </a:lnTo>
                  <a:lnTo>
                    <a:pt x="156" y="3750"/>
                  </a:lnTo>
                  <a:lnTo>
                    <a:pt x="134" y="3738"/>
                  </a:lnTo>
                  <a:lnTo>
                    <a:pt x="112" y="3724"/>
                  </a:lnTo>
                  <a:lnTo>
                    <a:pt x="104" y="3718"/>
                  </a:lnTo>
                  <a:lnTo>
                    <a:pt x="96" y="3710"/>
                  </a:lnTo>
                  <a:lnTo>
                    <a:pt x="88" y="3702"/>
                  </a:lnTo>
                  <a:lnTo>
                    <a:pt x="82" y="3692"/>
                  </a:lnTo>
                  <a:lnTo>
                    <a:pt x="80" y="3680"/>
                  </a:lnTo>
                  <a:lnTo>
                    <a:pt x="78" y="3668"/>
                  </a:lnTo>
                  <a:lnTo>
                    <a:pt x="80" y="3654"/>
                  </a:lnTo>
                  <a:lnTo>
                    <a:pt x="86" y="3638"/>
                  </a:lnTo>
                  <a:lnTo>
                    <a:pt x="86" y="3638"/>
                  </a:lnTo>
                  <a:lnTo>
                    <a:pt x="124" y="3584"/>
                  </a:lnTo>
                  <a:lnTo>
                    <a:pt x="164" y="3528"/>
                  </a:lnTo>
                  <a:lnTo>
                    <a:pt x="164" y="3528"/>
                  </a:lnTo>
                  <a:lnTo>
                    <a:pt x="158" y="3520"/>
                  </a:lnTo>
                  <a:lnTo>
                    <a:pt x="150" y="3512"/>
                  </a:lnTo>
                  <a:lnTo>
                    <a:pt x="142" y="3506"/>
                  </a:lnTo>
                  <a:lnTo>
                    <a:pt x="132" y="3500"/>
                  </a:lnTo>
                  <a:lnTo>
                    <a:pt x="90" y="3480"/>
                  </a:lnTo>
                  <a:lnTo>
                    <a:pt x="74" y="3470"/>
                  </a:lnTo>
                  <a:lnTo>
                    <a:pt x="66" y="3464"/>
                  </a:lnTo>
                  <a:lnTo>
                    <a:pt x="62" y="3458"/>
                  </a:lnTo>
                  <a:lnTo>
                    <a:pt x="60" y="3450"/>
                  </a:lnTo>
                  <a:lnTo>
                    <a:pt x="60" y="3440"/>
                  </a:lnTo>
                  <a:lnTo>
                    <a:pt x="62" y="3430"/>
                  </a:lnTo>
                  <a:lnTo>
                    <a:pt x="68" y="3418"/>
                  </a:lnTo>
                  <a:lnTo>
                    <a:pt x="68" y="3418"/>
                  </a:lnTo>
                  <a:lnTo>
                    <a:pt x="62" y="3410"/>
                  </a:lnTo>
                  <a:lnTo>
                    <a:pt x="60" y="3404"/>
                  </a:lnTo>
                  <a:lnTo>
                    <a:pt x="58" y="3400"/>
                  </a:lnTo>
                  <a:lnTo>
                    <a:pt x="58" y="3394"/>
                  </a:lnTo>
                  <a:lnTo>
                    <a:pt x="60" y="3390"/>
                  </a:lnTo>
                  <a:lnTo>
                    <a:pt x="62" y="3386"/>
                  </a:lnTo>
                  <a:lnTo>
                    <a:pt x="72" y="3378"/>
                  </a:lnTo>
                  <a:lnTo>
                    <a:pt x="92" y="3364"/>
                  </a:lnTo>
                  <a:lnTo>
                    <a:pt x="102" y="3356"/>
                  </a:lnTo>
                  <a:lnTo>
                    <a:pt x="110" y="3346"/>
                  </a:lnTo>
                  <a:lnTo>
                    <a:pt x="110" y="3346"/>
                  </a:lnTo>
                  <a:lnTo>
                    <a:pt x="110" y="3340"/>
                  </a:lnTo>
                  <a:lnTo>
                    <a:pt x="112" y="3336"/>
                  </a:lnTo>
                  <a:lnTo>
                    <a:pt x="116" y="3336"/>
                  </a:lnTo>
                  <a:lnTo>
                    <a:pt x="120" y="3336"/>
                  </a:lnTo>
                  <a:lnTo>
                    <a:pt x="132" y="3334"/>
                  </a:lnTo>
                  <a:lnTo>
                    <a:pt x="136" y="3332"/>
                  </a:lnTo>
                  <a:lnTo>
                    <a:pt x="138" y="3328"/>
                  </a:lnTo>
                  <a:lnTo>
                    <a:pt x="138" y="3328"/>
                  </a:lnTo>
                  <a:lnTo>
                    <a:pt x="146" y="3318"/>
                  </a:lnTo>
                  <a:lnTo>
                    <a:pt x="152" y="3310"/>
                  </a:lnTo>
                  <a:lnTo>
                    <a:pt x="164" y="3290"/>
                  </a:lnTo>
                  <a:lnTo>
                    <a:pt x="164" y="3290"/>
                  </a:lnTo>
                  <a:lnTo>
                    <a:pt x="142" y="3274"/>
                  </a:lnTo>
                  <a:lnTo>
                    <a:pt x="118" y="3260"/>
                  </a:lnTo>
                  <a:lnTo>
                    <a:pt x="70" y="3238"/>
                  </a:lnTo>
                  <a:lnTo>
                    <a:pt x="48" y="3226"/>
                  </a:lnTo>
                  <a:lnTo>
                    <a:pt x="28" y="3212"/>
                  </a:lnTo>
                  <a:lnTo>
                    <a:pt x="18" y="3204"/>
                  </a:lnTo>
                  <a:lnTo>
                    <a:pt x="12" y="3196"/>
                  </a:lnTo>
                  <a:lnTo>
                    <a:pt x="4" y="3186"/>
                  </a:lnTo>
                  <a:lnTo>
                    <a:pt x="0" y="3176"/>
                  </a:lnTo>
                  <a:lnTo>
                    <a:pt x="0" y="3176"/>
                  </a:lnTo>
                  <a:lnTo>
                    <a:pt x="2" y="3162"/>
                  </a:lnTo>
                  <a:lnTo>
                    <a:pt x="6" y="3148"/>
                  </a:lnTo>
                  <a:lnTo>
                    <a:pt x="6" y="3134"/>
                  </a:lnTo>
                  <a:lnTo>
                    <a:pt x="6" y="3128"/>
                  </a:lnTo>
                  <a:lnTo>
                    <a:pt x="4" y="3122"/>
                  </a:lnTo>
                  <a:lnTo>
                    <a:pt x="4" y="3122"/>
                  </a:lnTo>
                  <a:lnTo>
                    <a:pt x="22" y="3112"/>
                  </a:lnTo>
                  <a:lnTo>
                    <a:pt x="40" y="3104"/>
                  </a:lnTo>
                  <a:lnTo>
                    <a:pt x="60" y="3098"/>
                  </a:lnTo>
                  <a:lnTo>
                    <a:pt x="80" y="3094"/>
                  </a:lnTo>
                  <a:lnTo>
                    <a:pt x="122" y="3088"/>
                  </a:lnTo>
                  <a:lnTo>
                    <a:pt x="164" y="3084"/>
                  </a:lnTo>
                  <a:lnTo>
                    <a:pt x="164" y="3084"/>
                  </a:lnTo>
                  <a:lnTo>
                    <a:pt x="148" y="3044"/>
                  </a:lnTo>
                  <a:lnTo>
                    <a:pt x="128" y="3006"/>
                  </a:lnTo>
                  <a:lnTo>
                    <a:pt x="110" y="2968"/>
                  </a:lnTo>
                  <a:lnTo>
                    <a:pt x="92" y="2930"/>
                  </a:lnTo>
                  <a:lnTo>
                    <a:pt x="92" y="2930"/>
                  </a:lnTo>
                  <a:lnTo>
                    <a:pt x="98" y="2918"/>
                  </a:lnTo>
                  <a:lnTo>
                    <a:pt x="102" y="2904"/>
                  </a:lnTo>
                  <a:lnTo>
                    <a:pt x="104" y="2890"/>
                  </a:lnTo>
                  <a:lnTo>
                    <a:pt x="102" y="2884"/>
                  </a:lnTo>
                  <a:lnTo>
                    <a:pt x="100" y="2876"/>
                  </a:lnTo>
                  <a:lnTo>
                    <a:pt x="100" y="2876"/>
                  </a:lnTo>
                  <a:lnTo>
                    <a:pt x="116" y="2872"/>
                  </a:lnTo>
                  <a:lnTo>
                    <a:pt x="130" y="2868"/>
                  </a:lnTo>
                  <a:lnTo>
                    <a:pt x="146" y="2866"/>
                  </a:lnTo>
                  <a:lnTo>
                    <a:pt x="162" y="2864"/>
                  </a:lnTo>
                  <a:lnTo>
                    <a:pt x="192" y="2866"/>
                  </a:lnTo>
                  <a:lnTo>
                    <a:pt x="222" y="2870"/>
                  </a:lnTo>
                  <a:lnTo>
                    <a:pt x="252" y="2874"/>
                  </a:lnTo>
                  <a:lnTo>
                    <a:pt x="284" y="2876"/>
                  </a:lnTo>
                  <a:lnTo>
                    <a:pt x="298" y="2876"/>
                  </a:lnTo>
                  <a:lnTo>
                    <a:pt x="314" y="2876"/>
                  </a:lnTo>
                  <a:lnTo>
                    <a:pt x="330" y="2874"/>
                  </a:lnTo>
                  <a:lnTo>
                    <a:pt x="344" y="2870"/>
                  </a:lnTo>
                  <a:lnTo>
                    <a:pt x="344" y="2870"/>
                  </a:lnTo>
                  <a:lnTo>
                    <a:pt x="346" y="2846"/>
                  </a:lnTo>
                  <a:lnTo>
                    <a:pt x="342" y="2824"/>
                  </a:lnTo>
                  <a:lnTo>
                    <a:pt x="336" y="2802"/>
                  </a:lnTo>
                  <a:lnTo>
                    <a:pt x="330" y="2778"/>
                  </a:lnTo>
                  <a:lnTo>
                    <a:pt x="324" y="2754"/>
                  </a:lnTo>
                  <a:lnTo>
                    <a:pt x="320" y="2732"/>
                  </a:lnTo>
                  <a:lnTo>
                    <a:pt x="320" y="2708"/>
                  </a:lnTo>
                  <a:lnTo>
                    <a:pt x="322" y="2696"/>
                  </a:lnTo>
                  <a:lnTo>
                    <a:pt x="324" y="2684"/>
                  </a:lnTo>
                  <a:lnTo>
                    <a:pt x="324" y="2684"/>
                  </a:lnTo>
                  <a:lnTo>
                    <a:pt x="318" y="2672"/>
                  </a:lnTo>
                  <a:lnTo>
                    <a:pt x="318" y="2668"/>
                  </a:lnTo>
                  <a:lnTo>
                    <a:pt x="318" y="2666"/>
                  </a:lnTo>
                  <a:lnTo>
                    <a:pt x="322" y="2662"/>
                  </a:lnTo>
                  <a:lnTo>
                    <a:pt x="330" y="2660"/>
                  </a:lnTo>
                  <a:lnTo>
                    <a:pt x="346" y="2658"/>
                  </a:lnTo>
                  <a:lnTo>
                    <a:pt x="354" y="2656"/>
                  </a:lnTo>
                  <a:lnTo>
                    <a:pt x="360" y="2652"/>
                  </a:lnTo>
                  <a:lnTo>
                    <a:pt x="360" y="2652"/>
                  </a:lnTo>
                  <a:lnTo>
                    <a:pt x="378" y="2664"/>
                  </a:lnTo>
                  <a:lnTo>
                    <a:pt x="396" y="2672"/>
                  </a:lnTo>
                  <a:lnTo>
                    <a:pt x="416" y="2678"/>
                  </a:lnTo>
                  <a:lnTo>
                    <a:pt x="438" y="2682"/>
                  </a:lnTo>
                  <a:lnTo>
                    <a:pt x="480" y="2690"/>
                  </a:lnTo>
                  <a:lnTo>
                    <a:pt x="502" y="2694"/>
                  </a:lnTo>
                  <a:lnTo>
                    <a:pt x="524" y="2702"/>
                  </a:lnTo>
                  <a:lnTo>
                    <a:pt x="524" y="2702"/>
                  </a:lnTo>
                  <a:lnTo>
                    <a:pt x="528" y="2676"/>
                  </a:lnTo>
                  <a:lnTo>
                    <a:pt x="530" y="2650"/>
                  </a:lnTo>
                  <a:lnTo>
                    <a:pt x="530" y="2624"/>
                  </a:lnTo>
                  <a:lnTo>
                    <a:pt x="528" y="2598"/>
                  </a:lnTo>
                  <a:lnTo>
                    <a:pt x="526" y="2572"/>
                  </a:lnTo>
                  <a:lnTo>
                    <a:pt x="526" y="2546"/>
                  </a:lnTo>
                  <a:lnTo>
                    <a:pt x="528" y="2522"/>
                  </a:lnTo>
                  <a:lnTo>
                    <a:pt x="534" y="2498"/>
                  </a:lnTo>
                  <a:lnTo>
                    <a:pt x="534" y="2488"/>
                  </a:lnTo>
                  <a:lnTo>
                    <a:pt x="534" y="2488"/>
                  </a:lnTo>
                  <a:lnTo>
                    <a:pt x="542" y="2484"/>
                  </a:lnTo>
                  <a:lnTo>
                    <a:pt x="550" y="2482"/>
                  </a:lnTo>
                  <a:lnTo>
                    <a:pt x="560" y="2482"/>
                  </a:lnTo>
                  <a:lnTo>
                    <a:pt x="568" y="2484"/>
                  </a:lnTo>
                  <a:lnTo>
                    <a:pt x="584" y="2490"/>
                  </a:lnTo>
                  <a:lnTo>
                    <a:pt x="602" y="2498"/>
                  </a:lnTo>
                  <a:lnTo>
                    <a:pt x="618" y="2508"/>
                  </a:lnTo>
                  <a:lnTo>
                    <a:pt x="636" y="2514"/>
                  </a:lnTo>
                  <a:lnTo>
                    <a:pt x="644" y="2514"/>
                  </a:lnTo>
                  <a:lnTo>
                    <a:pt x="652" y="2514"/>
                  </a:lnTo>
                  <a:lnTo>
                    <a:pt x="662" y="2510"/>
                  </a:lnTo>
                  <a:lnTo>
                    <a:pt x="670" y="2506"/>
                  </a:lnTo>
                  <a:lnTo>
                    <a:pt x="670" y="2506"/>
                  </a:lnTo>
                  <a:lnTo>
                    <a:pt x="666" y="2488"/>
                  </a:lnTo>
                  <a:lnTo>
                    <a:pt x="666" y="2468"/>
                  </a:lnTo>
                  <a:lnTo>
                    <a:pt x="666" y="2448"/>
                  </a:lnTo>
                  <a:lnTo>
                    <a:pt x="670" y="2428"/>
                  </a:lnTo>
                  <a:lnTo>
                    <a:pt x="674" y="2392"/>
                  </a:lnTo>
                  <a:lnTo>
                    <a:pt x="672" y="2374"/>
                  </a:lnTo>
                  <a:lnTo>
                    <a:pt x="670" y="2360"/>
                  </a:lnTo>
                  <a:lnTo>
                    <a:pt x="670" y="2360"/>
                  </a:lnTo>
                  <a:lnTo>
                    <a:pt x="672" y="2254"/>
                  </a:lnTo>
                  <a:lnTo>
                    <a:pt x="676" y="2148"/>
                  </a:lnTo>
                  <a:lnTo>
                    <a:pt x="688" y="1936"/>
                  </a:lnTo>
                  <a:lnTo>
                    <a:pt x="690" y="1830"/>
                  </a:lnTo>
                  <a:lnTo>
                    <a:pt x="692" y="1726"/>
                  </a:lnTo>
                  <a:lnTo>
                    <a:pt x="688" y="1622"/>
                  </a:lnTo>
                  <a:lnTo>
                    <a:pt x="686" y="1570"/>
                  </a:lnTo>
                  <a:lnTo>
                    <a:pt x="680" y="1518"/>
                  </a:lnTo>
                  <a:lnTo>
                    <a:pt x="680" y="1518"/>
                  </a:lnTo>
                  <a:lnTo>
                    <a:pt x="678" y="1472"/>
                  </a:lnTo>
                  <a:lnTo>
                    <a:pt x="678" y="1426"/>
                  </a:lnTo>
                  <a:lnTo>
                    <a:pt x="680" y="1380"/>
                  </a:lnTo>
                  <a:lnTo>
                    <a:pt x="682" y="1336"/>
                  </a:lnTo>
                  <a:lnTo>
                    <a:pt x="686" y="1294"/>
                  </a:lnTo>
                  <a:lnTo>
                    <a:pt x="692" y="1250"/>
                  </a:lnTo>
                  <a:lnTo>
                    <a:pt x="698" y="1208"/>
                  </a:lnTo>
                  <a:lnTo>
                    <a:pt x="706" y="1166"/>
                  </a:lnTo>
                  <a:lnTo>
                    <a:pt x="706" y="1166"/>
                  </a:lnTo>
                  <a:lnTo>
                    <a:pt x="722" y="1112"/>
                  </a:lnTo>
                  <a:lnTo>
                    <a:pt x="738" y="1058"/>
                  </a:lnTo>
                  <a:lnTo>
                    <a:pt x="748" y="1032"/>
                  </a:lnTo>
                  <a:lnTo>
                    <a:pt x="760" y="1006"/>
                  </a:lnTo>
                  <a:lnTo>
                    <a:pt x="772" y="980"/>
                  </a:lnTo>
                  <a:lnTo>
                    <a:pt x="788" y="956"/>
                  </a:lnTo>
                  <a:lnTo>
                    <a:pt x="788" y="956"/>
                  </a:lnTo>
                  <a:lnTo>
                    <a:pt x="810" y="902"/>
                  </a:lnTo>
                  <a:lnTo>
                    <a:pt x="836" y="850"/>
                  </a:lnTo>
                  <a:lnTo>
                    <a:pt x="864" y="796"/>
                  </a:lnTo>
                  <a:lnTo>
                    <a:pt x="896" y="742"/>
                  </a:lnTo>
                  <a:lnTo>
                    <a:pt x="930" y="692"/>
                  </a:lnTo>
                  <a:lnTo>
                    <a:pt x="948" y="668"/>
                  </a:lnTo>
                  <a:lnTo>
                    <a:pt x="968" y="644"/>
                  </a:lnTo>
                  <a:lnTo>
                    <a:pt x="990" y="622"/>
                  </a:lnTo>
                  <a:lnTo>
                    <a:pt x="1010" y="602"/>
                  </a:lnTo>
                  <a:lnTo>
                    <a:pt x="1034" y="582"/>
                  </a:lnTo>
                  <a:lnTo>
                    <a:pt x="1058" y="564"/>
                  </a:lnTo>
                  <a:lnTo>
                    <a:pt x="1058" y="564"/>
                  </a:lnTo>
                  <a:lnTo>
                    <a:pt x="1066" y="560"/>
                  </a:lnTo>
                  <a:lnTo>
                    <a:pt x="1074" y="558"/>
                  </a:lnTo>
                  <a:lnTo>
                    <a:pt x="1082" y="562"/>
                  </a:lnTo>
                  <a:lnTo>
                    <a:pt x="1088" y="566"/>
                  </a:lnTo>
                  <a:lnTo>
                    <a:pt x="1100" y="576"/>
                  </a:lnTo>
                  <a:lnTo>
                    <a:pt x="1106" y="582"/>
                  </a:lnTo>
                  <a:lnTo>
                    <a:pt x="1112" y="584"/>
                  </a:lnTo>
                  <a:lnTo>
                    <a:pt x="1112" y="584"/>
                  </a:lnTo>
                  <a:lnTo>
                    <a:pt x="1122" y="602"/>
                  </a:lnTo>
                  <a:lnTo>
                    <a:pt x="1134" y="620"/>
                  </a:lnTo>
                  <a:lnTo>
                    <a:pt x="1166" y="656"/>
                  </a:lnTo>
                  <a:lnTo>
                    <a:pt x="1198" y="692"/>
                  </a:lnTo>
                  <a:lnTo>
                    <a:pt x="1214" y="708"/>
                  </a:lnTo>
                  <a:lnTo>
                    <a:pt x="1226" y="724"/>
                  </a:lnTo>
                  <a:lnTo>
                    <a:pt x="1228" y="720"/>
                  </a:lnTo>
                  <a:lnTo>
                    <a:pt x="1226" y="724"/>
                  </a:lnTo>
                  <a:lnTo>
                    <a:pt x="1226" y="724"/>
                  </a:lnTo>
                  <a:lnTo>
                    <a:pt x="1286" y="806"/>
                  </a:lnTo>
                  <a:lnTo>
                    <a:pt x="1316" y="846"/>
                  </a:lnTo>
                  <a:lnTo>
                    <a:pt x="1342" y="888"/>
                  </a:lnTo>
                  <a:lnTo>
                    <a:pt x="1354" y="876"/>
                  </a:lnTo>
                  <a:lnTo>
                    <a:pt x="1354" y="876"/>
                  </a:lnTo>
                  <a:lnTo>
                    <a:pt x="1358" y="790"/>
                  </a:lnTo>
                  <a:lnTo>
                    <a:pt x="1366" y="710"/>
                  </a:lnTo>
                  <a:lnTo>
                    <a:pt x="1374" y="628"/>
                  </a:lnTo>
                  <a:lnTo>
                    <a:pt x="1388" y="546"/>
                  </a:lnTo>
                  <a:lnTo>
                    <a:pt x="1394" y="546"/>
                  </a:lnTo>
                  <a:lnTo>
                    <a:pt x="1394" y="546"/>
                  </a:lnTo>
                  <a:lnTo>
                    <a:pt x="1426" y="464"/>
                  </a:lnTo>
                  <a:lnTo>
                    <a:pt x="1464" y="382"/>
                  </a:lnTo>
                  <a:lnTo>
                    <a:pt x="1506" y="302"/>
                  </a:lnTo>
                  <a:lnTo>
                    <a:pt x="1554" y="226"/>
                  </a:lnTo>
                  <a:lnTo>
                    <a:pt x="1554" y="226"/>
                  </a:lnTo>
                  <a:lnTo>
                    <a:pt x="1562" y="220"/>
                  </a:lnTo>
                  <a:lnTo>
                    <a:pt x="1570" y="214"/>
                  </a:lnTo>
                  <a:lnTo>
                    <a:pt x="1576" y="206"/>
                  </a:lnTo>
                  <a:lnTo>
                    <a:pt x="1582" y="198"/>
                  </a:lnTo>
                  <a:lnTo>
                    <a:pt x="1592" y="178"/>
                  </a:lnTo>
                  <a:lnTo>
                    <a:pt x="1596" y="168"/>
                  </a:lnTo>
                  <a:lnTo>
                    <a:pt x="1602" y="162"/>
                  </a:lnTo>
                  <a:lnTo>
                    <a:pt x="1602" y="162"/>
                  </a:lnTo>
                  <a:lnTo>
                    <a:pt x="1624" y="138"/>
                  </a:lnTo>
                  <a:lnTo>
                    <a:pt x="1646" y="116"/>
                  </a:lnTo>
                  <a:lnTo>
                    <a:pt x="1672" y="96"/>
                  </a:lnTo>
                  <a:lnTo>
                    <a:pt x="1698" y="78"/>
                  </a:lnTo>
                  <a:lnTo>
                    <a:pt x="1750" y="40"/>
                  </a:lnTo>
                  <a:lnTo>
                    <a:pt x="1776" y="22"/>
                  </a:lnTo>
                  <a:lnTo>
                    <a:pt x="1802" y="0"/>
                  </a:lnTo>
                  <a:lnTo>
                    <a:pt x="1802" y="0"/>
                  </a:lnTo>
                  <a:lnTo>
                    <a:pt x="1828" y="14"/>
                  </a:lnTo>
                  <a:lnTo>
                    <a:pt x="1852" y="28"/>
                  </a:lnTo>
                  <a:lnTo>
                    <a:pt x="1874" y="48"/>
                  </a:lnTo>
                  <a:lnTo>
                    <a:pt x="1894" y="68"/>
                  </a:lnTo>
                  <a:lnTo>
                    <a:pt x="1932" y="112"/>
                  </a:lnTo>
                  <a:lnTo>
                    <a:pt x="1970" y="156"/>
                  </a:lnTo>
                  <a:lnTo>
                    <a:pt x="197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9"/>
            <p:cNvSpPr/>
            <p:nvPr/>
          </p:nvSpPr>
          <p:spPr>
            <a:xfrm>
              <a:off x="38944440" y="1355760"/>
              <a:ext cx="1092240" cy="193644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1936440"/>
                <a:gd name="textAreaBottom" fmla="*/ 1936800 h 1936440"/>
              </a:gdLst>
              <a:ahLst/>
              <a:rect l="textAreaLeft" t="textAreaTop" r="textAreaRight" b="textAreaBottom"/>
              <a:pathLst>
                <a:path w="688" h="1220">
                  <a:moveTo>
                    <a:pt x="460" y="94"/>
                  </a:moveTo>
                  <a:lnTo>
                    <a:pt x="460" y="94"/>
                  </a:lnTo>
                  <a:lnTo>
                    <a:pt x="482" y="130"/>
                  </a:lnTo>
                  <a:lnTo>
                    <a:pt x="504" y="166"/>
                  </a:lnTo>
                  <a:lnTo>
                    <a:pt x="528" y="202"/>
                  </a:lnTo>
                  <a:lnTo>
                    <a:pt x="542" y="218"/>
                  </a:lnTo>
                  <a:lnTo>
                    <a:pt x="556" y="232"/>
                  </a:lnTo>
                  <a:lnTo>
                    <a:pt x="556" y="232"/>
                  </a:lnTo>
                  <a:lnTo>
                    <a:pt x="558" y="256"/>
                  </a:lnTo>
                  <a:lnTo>
                    <a:pt x="564" y="280"/>
                  </a:lnTo>
                  <a:lnTo>
                    <a:pt x="574" y="302"/>
                  </a:lnTo>
                  <a:lnTo>
                    <a:pt x="584" y="326"/>
                  </a:lnTo>
                  <a:lnTo>
                    <a:pt x="606" y="372"/>
                  </a:lnTo>
                  <a:lnTo>
                    <a:pt x="614" y="396"/>
                  </a:lnTo>
                  <a:lnTo>
                    <a:pt x="620" y="420"/>
                  </a:lnTo>
                  <a:lnTo>
                    <a:pt x="620" y="420"/>
                  </a:lnTo>
                  <a:lnTo>
                    <a:pt x="628" y="426"/>
                  </a:lnTo>
                  <a:lnTo>
                    <a:pt x="634" y="434"/>
                  </a:lnTo>
                  <a:lnTo>
                    <a:pt x="638" y="442"/>
                  </a:lnTo>
                  <a:lnTo>
                    <a:pt x="640" y="452"/>
                  </a:lnTo>
                  <a:lnTo>
                    <a:pt x="642" y="464"/>
                  </a:lnTo>
                  <a:lnTo>
                    <a:pt x="644" y="474"/>
                  </a:lnTo>
                  <a:lnTo>
                    <a:pt x="648" y="482"/>
                  </a:lnTo>
                  <a:lnTo>
                    <a:pt x="656" y="490"/>
                  </a:lnTo>
                  <a:lnTo>
                    <a:pt x="656" y="490"/>
                  </a:lnTo>
                  <a:lnTo>
                    <a:pt x="658" y="500"/>
                  </a:lnTo>
                  <a:lnTo>
                    <a:pt x="660" y="514"/>
                  </a:lnTo>
                  <a:lnTo>
                    <a:pt x="664" y="530"/>
                  </a:lnTo>
                  <a:lnTo>
                    <a:pt x="670" y="542"/>
                  </a:lnTo>
                  <a:lnTo>
                    <a:pt x="670" y="542"/>
                  </a:lnTo>
                  <a:lnTo>
                    <a:pt x="680" y="620"/>
                  </a:lnTo>
                  <a:lnTo>
                    <a:pt x="686" y="702"/>
                  </a:lnTo>
                  <a:lnTo>
                    <a:pt x="688" y="744"/>
                  </a:lnTo>
                  <a:lnTo>
                    <a:pt x="688" y="786"/>
                  </a:lnTo>
                  <a:lnTo>
                    <a:pt x="686" y="830"/>
                  </a:lnTo>
                  <a:lnTo>
                    <a:pt x="682" y="870"/>
                  </a:lnTo>
                  <a:lnTo>
                    <a:pt x="676" y="912"/>
                  </a:lnTo>
                  <a:lnTo>
                    <a:pt x="666" y="952"/>
                  </a:lnTo>
                  <a:lnTo>
                    <a:pt x="654" y="990"/>
                  </a:lnTo>
                  <a:lnTo>
                    <a:pt x="638" y="1028"/>
                  </a:lnTo>
                  <a:lnTo>
                    <a:pt x="620" y="1062"/>
                  </a:lnTo>
                  <a:lnTo>
                    <a:pt x="608" y="1080"/>
                  </a:lnTo>
                  <a:lnTo>
                    <a:pt x="596" y="1094"/>
                  </a:lnTo>
                  <a:lnTo>
                    <a:pt x="582" y="1110"/>
                  </a:lnTo>
                  <a:lnTo>
                    <a:pt x="568" y="1124"/>
                  </a:lnTo>
                  <a:lnTo>
                    <a:pt x="552" y="1138"/>
                  </a:lnTo>
                  <a:lnTo>
                    <a:pt x="536" y="1152"/>
                  </a:lnTo>
                  <a:lnTo>
                    <a:pt x="536" y="1152"/>
                  </a:lnTo>
                  <a:lnTo>
                    <a:pt x="518" y="1164"/>
                  </a:lnTo>
                  <a:lnTo>
                    <a:pt x="500" y="1174"/>
                  </a:lnTo>
                  <a:lnTo>
                    <a:pt x="482" y="1184"/>
                  </a:lnTo>
                  <a:lnTo>
                    <a:pt x="464" y="1192"/>
                  </a:lnTo>
                  <a:lnTo>
                    <a:pt x="444" y="1200"/>
                  </a:lnTo>
                  <a:lnTo>
                    <a:pt x="424" y="1206"/>
                  </a:lnTo>
                  <a:lnTo>
                    <a:pt x="384" y="1214"/>
                  </a:lnTo>
                  <a:lnTo>
                    <a:pt x="340" y="1220"/>
                  </a:lnTo>
                  <a:lnTo>
                    <a:pt x="298" y="1220"/>
                  </a:lnTo>
                  <a:lnTo>
                    <a:pt x="254" y="1216"/>
                  </a:lnTo>
                  <a:lnTo>
                    <a:pt x="210" y="1210"/>
                  </a:lnTo>
                  <a:lnTo>
                    <a:pt x="210" y="1210"/>
                  </a:lnTo>
                  <a:lnTo>
                    <a:pt x="180" y="1198"/>
                  </a:lnTo>
                  <a:lnTo>
                    <a:pt x="154" y="1184"/>
                  </a:lnTo>
                  <a:lnTo>
                    <a:pt x="130" y="1166"/>
                  </a:lnTo>
                  <a:lnTo>
                    <a:pt x="108" y="1148"/>
                  </a:lnTo>
                  <a:lnTo>
                    <a:pt x="90" y="1126"/>
                  </a:lnTo>
                  <a:lnTo>
                    <a:pt x="74" y="1104"/>
                  </a:lnTo>
                  <a:lnTo>
                    <a:pt x="60" y="1080"/>
                  </a:lnTo>
                  <a:lnTo>
                    <a:pt x="48" y="1054"/>
                  </a:lnTo>
                  <a:lnTo>
                    <a:pt x="36" y="1026"/>
                  </a:lnTo>
                  <a:lnTo>
                    <a:pt x="28" y="998"/>
                  </a:lnTo>
                  <a:lnTo>
                    <a:pt x="20" y="970"/>
                  </a:lnTo>
                  <a:lnTo>
                    <a:pt x="14" y="940"/>
                  </a:lnTo>
                  <a:lnTo>
                    <a:pt x="6" y="882"/>
                  </a:lnTo>
                  <a:lnTo>
                    <a:pt x="0" y="824"/>
                  </a:lnTo>
                  <a:lnTo>
                    <a:pt x="0" y="824"/>
                  </a:lnTo>
                  <a:lnTo>
                    <a:pt x="8" y="704"/>
                  </a:lnTo>
                  <a:lnTo>
                    <a:pt x="12" y="642"/>
                  </a:lnTo>
                  <a:lnTo>
                    <a:pt x="20" y="582"/>
                  </a:lnTo>
                  <a:lnTo>
                    <a:pt x="32" y="524"/>
                  </a:lnTo>
                  <a:lnTo>
                    <a:pt x="46" y="466"/>
                  </a:lnTo>
                  <a:lnTo>
                    <a:pt x="56" y="438"/>
                  </a:lnTo>
                  <a:lnTo>
                    <a:pt x="66" y="410"/>
                  </a:lnTo>
                  <a:lnTo>
                    <a:pt x="76" y="384"/>
                  </a:lnTo>
                  <a:lnTo>
                    <a:pt x="90" y="358"/>
                  </a:lnTo>
                  <a:lnTo>
                    <a:pt x="90" y="358"/>
                  </a:lnTo>
                  <a:lnTo>
                    <a:pt x="114" y="306"/>
                  </a:lnTo>
                  <a:lnTo>
                    <a:pt x="140" y="256"/>
                  </a:lnTo>
                  <a:lnTo>
                    <a:pt x="170" y="206"/>
                  </a:lnTo>
                  <a:lnTo>
                    <a:pt x="202" y="158"/>
                  </a:lnTo>
                  <a:lnTo>
                    <a:pt x="238" y="114"/>
                  </a:lnTo>
                  <a:lnTo>
                    <a:pt x="258" y="92"/>
                  </a:lnTo>
                  <a:lnTo>
                    <a:pt x="278" y="72"/>
                  </a:lnTo>
                  <a:lnTo>
                    <a:pt x="298" y="52"/>
                  </a:lnTo>
                  <a:lnTo>
                    <a:pt x="320" y="34"/>
                  </a:lnTo>
                  <a:lnTo>
                    <a:pt x="344" y="16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82" y="8"/>
                  </a:lnTo>
                  <a:lnTo>
                    <a:pt x="394" y="18"/>
                  </a:lnTo>
                  <a:lnTo>
                    <a:pt x="406" y="30"/>
                  </a:lnTo>
                  <a:lnTo>
                    <a:pt x="418" y="44"/>
                  </a:lnTo>
                  <a:lnTo>
                    <a:pt x="438" y="70"/>
                  </a:lnTo>
                  <a:lnTo>
                    <a:pt x="448" y="84"/>
                  </a:lnTo>
                  <a:lnTo>
                    <a:pt x="460" y="94"/>
                  </a:lnTo>
                  <a:lnTo>
                    <a:pt x="460" y="9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39065400" y="1527120"/>
              <a:ext cx="853920" cy="1672920"/>
            </a:xfrm>
            <a:custGeom>
              <a:avLst/>
              <a:gdLst>
                <a:gd name="textAreaLeft" fmla="*/ 0 w 853920"/>
                <a:gd name="textAreaRight" fmla="*/ 854280 w 853920"/>
                <a:gd name="textAreaTop" fmla="*/ 0 h 1672920"/>
                <a:gd name="textAreaBottom" fmla="*/ 1673280 h 1672920"/>
              </a:gdLst>
              <a:ahLst/>
              <a:rect l="textAreaLeft" t="textAreaTop" r="textAreaRight" b="textAreaBottom"/>
              <a:pathLst>
                <a:path w="538" h="1054">
                  <a:moveTo>
                    <a:pt x="320" y="60"/>
                  </a:moveTo>
                  <a:lnTo>
                    <a:pt x="320" y="60"/>
                  </a:lnTo>
                  <a:lnTo>
                    <a:pt x="322" y="68"/>
                  </a:lnTo>
                  <a:lnTo>
                    <a:pt x="326" y="74"/>
                  </a:lnTo>
                  <a:lnTo>
                    <a:pt x="336" y="90"/>
                  </a:lnTo>
                  <a:lnTo>
                    <a:pt x="340" y="96"/>
                  </a:lnTo>
                  <a:lnTo>
                    <a:pt x="342" y="104"/>
                  </a:lnTo>
                  <a:lnTo>
                    <a:pt x="344" y="112"/>
                  </a:lnTo>
                  <a:lnTo>
                    <a:pt x="342" y="122"/>
                  </a:lnTo>
                  <a:lnTo>
                    <a:pt x="342" y="122"/>
                  </a:lnTo>
                  <a:lnTo>
                    <a:pt x="346" y="122"/>
                  </a:lnTo>
                  <a:lnTo>
                    <a:pt x="350" y="124"/>
                  </a:lnTo>
                  <a:lnTo>
                    <a:pt x="352" y="126"/>
                  </a:lnTo>
                  <a:lnTo>
                    <a:pt x="352" y="128"/>
                  </a:lnTo>
                  <a:lnTo>
                    <a:pt x="354" y="136"/>
                  </a:lnTo>
                  <a:lnTo>
                    <a:pt x="356" y="142"/>
                  </a:lnTo>
                  <a:lnTo>
                    <a:pt x="356" y="142"/>
                  </a:lnTo>
                  <a:lnTo>
                    <a:pt x="374" y="176"/>
                  </a:lnTo>
                  <a:lnTo>
                    <a:pt x="394" y="208"/>
                  </a:lnTo>
                  <a:lnTo>
                    <a:pt x="410" y="244"/>
                  </a:lnTo>
                  <a:lnTo>
                    <a:pt x="426" y="278"/>
                  </a:lnTo>
                  <a:lnTo>
                    <a:pt x="456" y="350"/>
                  </a:lnTo>
                  <a:lnTo>
                    <a:pt x="484" y="424"/>
                  </a:lnTo>
                  <a:lnTo>
                    <a:pt x="484" y="424"/>
                  </a:lnTo>
                  <a:lnTo>
                    <a:pt x="492" y="448"/>
                  </a:lnTo>
                  <a:lnTo>
                    <a:pt x="498" y="472"/>
                  </a:lnTo>
                  <a:lnTo>
                    <a:pt x="506" y="522"/>
                  </a:lnTo>
                  <a:lnTo>
                    <a:pt x="516" y="568"/>
                  </a:lnTo>
                  <a:lnTo>
                    <a:pt x="522" y="592"/>
                  </a:lnTo>
                  <a:lnTo>
                    <a:pt x="530" y="612"/>
                  </a:lnTo>
                  <a:lnTo>
                    <a:pt x="530" y="612"/>
                  </a:lnTo>
                  <a:lnTo>
                    <a:pt x="536" y="648"/>
                  </a:lnTo>
                  <a:lnTo>
                    <a:pt x="538" y="686"/>
                  </a:lnTo>
                  <a:lnTo>
                    <a:pt x="538" y="724"/>
                  </a:lnTo>
                  <a:lnTo>
                    <a:pt x="534" y="764"/>
                  </a:lnTo>
                  <a:lnTo>
                    <a:pt x="526" y="802"/>
                  </a:lnTo>
                  <a:lnTo>
                    <a:pt x="516" y="842"/>
                  </a:lnTo>
                  <a:lnTo>
                    <a:pt x="502" y="878"/>
                  </a:lnTo>
                  <a:lnTo>
                    <a:pt x="484" y="912"/>
                  </a:lnTo>
                  <a:lnTo>
                    <a:pt x="484" y="912"/>
                  </a:lnTo>
                  <a:lnTo>
                    <a:pt x="438" y="960"/>
                  </a:lnTo>
                  <a:lnTo>
                    <a:pt x="414" y="982"/>
                  </a:lnTo>
                  <a:lnTo>
                    <a:pt x="388" y="1002"/>
                  </a:lnTo>
                  <a:lnTo>
                    <a:pt x="360" y="1018"/>
                  </a:lnTo>
                  <a:lnTo>
                    <a:pt x="346" y="1026"/>
                  </a:lnTo>
                  <a:lnTo>
                    <a:pt x="332" y="1032"/>
                  </a:lnTo>
                  <a:lnTo>
                    <a:pt x="316" y="1036"/>
                  </a:lnTo>
                  <a:lnTo>
                    <a:pt x="300" y="1040"/>
                  </a:lnTo>
                  <a:lnTo>
                    <a:pt x="284" y="1042"/>
                  </a:lnTo>
                  <a:lnTo>
                    <a:pt x="266" y="1044"/>
                  </a:lnTo>
                  <a:lnTo>
                    <a:pt x="266" y="1044"/>
                  </a:lnTo>
                  <a:lnTo>
                    <a:pt x="256" y="1050"/>
                  </a:lnTo>
                  <a:lnTo>
                    <a:pt x="248" y="1054"/>
                  </a:lnTo>
                  <a:lnTo>
                    <a:pt x="238" y="1054"/>
                  </a:lnTo>
                  <a:lnTo>
                    <a:pt x="228" y="1050"/>
                  </a:lnTo>
                  <a:lnTo>
                    <a:pt x="228" y="1050"/>
                  </a:lnTo>
                  <a:lnTo>
                    <a:pt x="226" y="1042"/>
                  </a:lnTo>
                  <a:lnTo>
                    <a:pt x="222" y="1038"/>
                  </a:lnTo>
                  <a:lnTo>
                    <a:pt x="216" y="1034"/>
                  </a:lnTo>
                  <a:lnTo>
                    <a:pt x="208" y="1032"/>
                  </a:lnTo>
                  <a:lnTo>
                    <a:pt x="194" y="1028"/>
                  </a:lnTo>
                  <a:lnTo>
                    <a:pt x="188" y="1026"/>
                  </a:lnTo>
                  <a:lnTo>
                    <a:pt x="182" y="1022"/>
                  </a:lnTo>
                  <a:lnTo>
                    <a:pt x="182" y="1022"/>
                  </a:lnTo>
                  <a:lnTo>
                    <a:pt x="164" y="1014"/>
                  </a:lnTo>
                  <a:lnTo>
                    <a:pt x="150" y="1006"/>
                  </a:lnTo>
                  <a:lnTo>
                    <a:pt x="134" y="996"/>
                  </a:lnTo>
                  <a:lnTo>
                    <a:pt x="120" y="984"/>
                  </a:lnTo>
                  <a:lnTo>
                    <a:pt x="108" y="972"/>
                  </a:lnTo>
                  <a:lnTo>
                    <a:pt x="96" y="958"/>
                  </a:lnTo>
                  <a:lnTo>
                    <a:pt x="76" y="930"/>
                  </a:lnTo>
                  <a:lnTo>
                    <a:pt x="56" y="900"/>
                  </a:lnTo>
                  <a:lnTo>
                    <a:pt x="42" y="870"/>
                  </a:lnTo>
                  <a:lnTo>
                    <a:pt x="28" y="838"/>
                  </a:lnTo>
                  <a:lnTo>
                    <a:pt x="16" y="806"/>
                  </a:lnTo>
                  <a:lnTo>
                    <a:pt x="16" y="806"/>
                  </a:lnTo>
                  <a:lnTo>
                    <a:pt x="8" y="750"/>
                  </a:lnTo>
                  <a:lnTo>
                    <a:pt x="2" y="692"/>
                  </a:lnTo>
                  <a:lnTo>
                    <a:pt x="0" y="662"/>
                  </a:lnTo>
                  <a:lnTo>
                    <a:pt x="0" y="632"/>
                  </a:lnTo>
                  <a:lnTo>
                    <a:pt x="2" y="604"/>
                  </a:lnTo>
                  <a:lnTo>
                    <a:pt x="10" y="578"/>
                  </a:lnTo>
                  <a:lnTo>
                    <a:pt x="10" y="578"/>
                  </a:lnTo>
                  <a:lnTo>
                    <a:pt x="12" y="534"/>
                  </a:lnTo>
                  <a:lnTo>
                    <a:pt x="18" y="492"/>
                  </a:lnTo>
                  <a:lnTo>
                    <a:pt x="28" y="452"/>
                  </a:lnTo>
                  <a:lnTo>
                    <a:pt x="40" y="412"/>
                  </a:lnTo>
                  <a:lnTo>
                    <a:pt x="54" y="372"/>
                  </a:lnTo>
                  <a:lnTo>
                    <a:pt x="70" y="332"/>
                  </a:lnTo>
                  <a:lnTo>
                    <a:pt x="106" y="256"/>
                  </a:lnTo>
                  <a:lnTo>
                    <a:pt x="106" y="256"/>
                  </a:lnTo>
                  <a:lnTo>
                    <a:pt x="116" y="230"/>
                  </a:lnTo>
                  <a:lnTo>
                    <a:pt x="128" y="206"/>
                  </a:lnTo>
                  <a:lnTo>
                    <a:pt x="140" y="180"/>
                  </a:lnTo>
                  <a:lnTo>
                    <a:pt x="156" y="156"/>
                  </a:lnTo>
                  <a:lnTo>
                    <a:pt x="188" y="108"/>
                  </a:lnTo>
                  <a:lnTo>
                    <a:pt x="222" y="64"/>
                  </a:lnTo>
                  <a:lnTo>
                    <a:pt x="222" y="64"/>
                  </a:lnTo>
                  <a:lnTo>
                    <a:pt x="224" y="56"/>
                  </a:lnTo>
                  <a:lnTo>
                    <a:pt x="226" y="46"/>
                  </a:lnTo>
                  <a:lnTo>
                    <a:pt x="230" y="38"/>
                  </a:lnTo>
                  <a:lnTo>
                    <a:pt x="236" y="28"/>
                  </a:lnTo>
                  <a:lnTo>
                    <a:pt x="250" y="12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72" y="4"/>
                  </a:lnTo>
                  <a:lnTo>
                    <a:pt x="280" y="10"/>
                  </a:lnTo>
                  <a:lnTo>
                    <a:pt x="296" y="26"/>
                  </a:lnTo>
                  <a:lnTo>
                    <a:pt x="308" y="44"/>
                  </a:lnTo>
                  <a:lnTo>
                    <a:pt x="320" y="60"/>
                  </a:lnTo>
                  <a:lnTo>
                    <a:pt x="3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39119400" y="1612800"/>
              <a:ext cx="742680" cy="152064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520640"/>
                <a:gd name="textAreaBottom" fmla="*/ 1521000 h 1520640"/>
              </a:gdLst>
              <a:ahLst/>
              <a:rect l="textAreaLeft" t="textAreaTop" r="textAreaRight" b="textAreaBottom"/>
              <a:pathLst>
                <a:path w="468" h="958">
                  <a:moveTo>
                    <a:pt x="350" y="206"/>
                  </a:moveTo>
                  <a:lnTo>
                    <a:pt x="350" y="206"/>
                  </a:lnTo>
                  <a:lnTo>
                    <a:pt x="364" y="236"/>
                  </a:lnTo>
                  <a:lnTo>
                    <a:pt x="378" y="266"/>
                  </a:lnTo>
                  <a:lnTo>
                    <a:pt x="390" y="300"/>
                  </a:lnTo>
                  <a:lnTo>
                    <a:pt x="400" y="332"/>
                  </a:lnTo>
                  <a:lnTo>
                    <a:pt x="422" y="398"/>
                  </a:lnTo>
                  <a:lnTo>
                    <a:pt x="442" y="462"/>
                  </a:lnTo>
                  <a:lnTo>
                    <a:pt x="442" y="462"/>
                  </a:lnTo>
                  <a:lnTo>
                    <a:pt x="450" y="492"/>
                  </a:lnTo>
                  <a:lnTo>
                    <a:pt x="456" y="524"/>
                  </a:lnTo>
                  <a:lnTo>
                    <a:pt x="462" y="554"/>
                  </a:lnTo>
                  <a:lnTo>
                    <a:pt x="466" y="586"/>
                  </a:lnTo>
                  <a:lnTo>
                    <a:pt x="468" y="618"/>
                  </a:lnTo>
                  <a:lnTo>
                    <a:pt x="468" y="650"/>
                  </a:lnTo>
                  <a:lnTo>
                    <a:pt x="466" y="680"/>
                  </a:lnTo>
                  <a:lnTo>
                    <a:pt x="464" y="712"/>
                  </a:lnTo>
                  <a:lnTo>
                    <a:pt x="458" y="742"/>
                  </a:lnTo>
                  <a:lnTo>
                    <a:pt x="450" y="772"/>
                  </a:lnTo>
                  <a:lnTo>
                    <a:pt x="440" y="800"/>
                  </a:lnTo>
                  <a:lnTo>
                    <a:pt x="426" y="828"/>
                  </a:lnTo>
                  <a:lnTo>
                    <a:pt x="410" y="852"/>
                  </a:lnTo>
                  <a:lnTo>
                    <a:pt x="392" y="876"/>
                  </a:lnTo>
                  <a:lnTo>
                    <a:pt x="370" y="898"/>
                  </a:lnTo>
                  <a:lnTo>
                    <a:pt x="346" y="918"/>
                  </a:lnTo>
                  <a:lnTo>
                    <a:pt x="260" y="958"/>
                  </a:lnTo>
                  <a:lnTo>
                    <a:pt x="260" y="958"/>
                  </a:lnTo>
                  <a:lnTo>
                    <a:pt x="258" y="950"/>
                  </a:lnTo>
                  <a:lnTo>
                    <a:pt x="254" y="946"/>
                  </a:lnTo>
                  <a:lnTo>
                    <a:pt x="248" y="944"/>
                  </a:lnTo>
                  <a:lnTo>
                    <a:pt x="242" y="942"/>
                  </a:lnTo>
                  <a:lnTo>
                    <a:pt x="228" y="946"/>
                  </a:lnTo>
                  <a:lnTo>
                    <a:pt x="214" y="948"/>
                  </a:lnTo>
                  <a:lnTo>
                    <a:pt x="214" y="948"/>
                  </a:lnTo>
                  <a:lnTo>
                    <a:pt x="200" y="948"/>
                  </a:lnTo>
                  <a:lnTo>
                    <a:pt x="186" y="946"/>
                  </a:lnTo>
                  <a:lnTo>
                    <a:pt x="172" y="942"/>
                  </a:lnTo>
                  <a:lnTo>
                    <a:pt x="158" y="938"/>
                  </a:lnTo>
                  <a:lnTo>
                    <a:pt x="146" y="930"/>
                  </a:lnTo>
                  <a:lnTo>
                    <a:pt x="134" y="924"/>
                  </a:lnTo>
                  <a:lnTo>
                    <a:pt x="112" y="906"/>
                  </a:lnTo>
                  <a:lnTo>
                    <a:pt x="92" y="884"/>
                  </a:lnTo>
                  <a:lnTo>
                    <a:pt x="74" y="862"/>
                  </a:lnTo>
                  <a:lnTo>
                    <a:pt x="58" y="836"/>
                  </a:lnTo>
                  <a:lnTo>
                    <a:pt x="44" y="812"/>
                  </a:lnTo>
                  <a:lnTo>
                    <a:pt x="44" y="812"/>
                  </a:lnTo>
                  <a:lnTo>
                    <a:pt x="28" y="774"/>
                  </a:lnTo>
                  <a:lnTo>
                    <a:pt x="16" y="734"/>
                  </a:lnTo>
                  <a:lnTo>
                    <a:pt x="8" y="694"/>
                  </a:lnTo>
                  <a:lnTo>
                    <a:pt x="4" y="652"/>
                  </a:lnTo>
                  <a:lnTo>
                    <a:pt x="0" y="610"/>
                  </a:lnTo>
                  <a:lnTo>
                    <a:pt x="2" y="568"/>
                  </a:lnTo>
                  <a:lnTo>
                    <a:pt x="4" y="526"/>
                  </a:lnTo>
                  <a:lnTo>
                    <a:pt x="10" y="484"/>
                  </a:lnTo>
                  <a:lnTo>
                    <a:pt x="18" y="442"/>
                  </a:lnTo>
                  <a:lnTo>
                    <a:pt x="28" y="400"/>
                  </a:lnTo>
                  <a:lnTo>
                    <a:pt x="40" y="358"/>
                  </a:lnTo>
                  <a:lnTo>
                    <a:pt x="54" y="320"/>
                  </a:lnTo>
                  <a:lnTo>
                    <a:pt x="70" y="280"/>
                  </a:lnTo>
                  <a:lnTo>
                    <a:pt x="88" y="244"/>
                  </a:lnTo>
                  <a:lnTo>
                    <a:pt x="106" y="20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8" y="162"/>
                  </a:lnTo>
                  <a:lnTo>
                    <a:pt x="132" y="148"/>
                  </a:lnTo>
                  <a:lnTo>
                    <a:pt x="144" y="128"/>
                  </a:lnTo>
                  <a:lnTo>
                    <a:pt x="158" y="106"/>
                  </a:lnTo>
                  <a:lnTo>
                    <a:pt x="172" y="86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56" y="22"/>
                  </a:lnTo>
                  <a:lnTo>
                    <a:pt x="272" y="46"/>
                  </a:lnTo>
                  <a:lnTo>
                    <a:pt x="286" y="72"/>
                  </a:lnTo>
                  <a:lnTo>
                    <a:pt x="300" y="98"/>
                  </a:lnTo>
                  <a:lnTo>
                    <a:pt x="324" y="152"/>
                  </a:lnTo>
                  <a:lnTo>
                    <a:pt x="336" y="180"/>
                  </a:lnTo>
                  <a:lnTo>
                    <a:pt x="350" y="206"/>
                  </a:lnTo>
                  <a:lnTo>
                    <a:pt x="350" y="206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37887120" y="2279520"/>
              <a:ext cx="1019160" cy="1733400"/>
            </a:xfrm>
            <a:custGeom>
              <a:avLst/>
              <a:gdLst>
                <a:gd name="textAreaLeft" fmla="*/ 0 w 1019160"/>
                <a:gd name="textAreaRight" fmla="*/ 1019160 w 1019160"/>
                <a:gd name="textAreaTop" fmla="*/ 0 h 1733400"/>
                <a:gd name="textAreaBottom" fmla="*/ 1733760 h 1733400"/>
              </a:gdLst>
              <a:ahLst/>
              <a:rect l="textAreaLeft" t="textAreaTop" r="textAreaRight" b="textAreaBottom"/>
              <a:pathLst>
                <a:path w="642" h="1092">
                  <a:moveTo>
                    <a:pt x="642" y="602"/>
                  </a:moveTo>
                  <a:lnTo>
                    <a:pt x="642" y="602"/>
                  </a:lnTo>
                  <a:lnTo>
                    <a:pt x="640" y="630"/>
                  </a:lnTo>
                  <a:lnTo>
                    <a:pt x="638" y="656"/>
                  </a:lnTo>
                  <a:lnTo>
                    <a:pt x="640" y="712"/>
                  </a:lnTo>
                  <a:lnTo>
                    <a:pt x="642" y="766"/>
                  </a:lnTo>
                  <a:lnTo>
                    <a:pt x="642" y="820"/>
                  </a:lnTo>
                  <a:lnTo>
                    <a:pt x="640" y="846"/>
                  </a:lnTo>
                  <a:lnTo>
                    <a:pt x="638" y="870"/>
                  </a:lnTo>
                  <a:lnTo>
                    <a:pt x="632" y="896"/>
                  </a:lnTo>
                  <a:lnTo>
                    <a:pt x="626" y="920"/>
                  </a:lnTo>
                  <a:lnTo>
                    <a:pt x="616" y="942"/>
                  </a:lnTo>
                  <a:lnTo>
                    <a:pt x="604" y="964"/>
                  </a:lnTo>
                  <a:lnTo>
                    <a:pt x="588" y="984"/>
                  </a:lnTo>
                  <a:lnTo>
                    <a:pt x="570" y="1004"/>
                  </a:lnTo>
                  <a:lnTo>
                    <a:pt x="570" y="1004"/>
                  </a:lnTo>
                  <a:lnTo>
                    <a:pt x="556" y="1020"/>
                  </a:lnTo>
                  <a:lnTo>
                    <a:pt x="542" y="1032"/>
                  </a:lnTo>
                  <a:lnTo>
                    <a:pt x="526" y="1044"/>
                  </a:lnTo>
                  <a:lnTo>
                    <a:pt x="508" y="1054"/>
                  </a:lnTo>
                  <a:lnTo>
                    <a:pt x="490" y="1064"/>
                  </a:lnTo>
                  <a:lnTo>
                    <a:pt x="470" y="1072"/>
                  </a:lnTo>
                  <a:lnTo>
                    <a:pt x="450" y="1078"/>
                  </a:lnTo>
                  <a:lnTo>
                    <a:pt x="430" y="1082"/>
                  </a:lnTo>
                  <a:lnTo>
                    <a:pt x="386" y="1090"/>
                  </a:lnTo>
                  <a:lnTo>
                    <a:pt x="344" y="1092"/>
                  </a:lnTo>
                  <a:lnTo>
                    <a:pt x="302" y="1090"/>
                  </a:lnTo>
                  <a:lnTo>
                    <a:pt x="260" y="1086"/>
                  </a:lnTo>
                  <a:lnTo>
                    <a:pt x="260" y="1086"/>
                  </a:lnTo>
                  <a:lnTo>
                    <a:pt x="226" y="1078"/>
                  </a:lnTo>
                  <a:lnTo>
                    <a:pt x="192" y="1066"/>
                  </a:lnTo>
                  <a:lnTo>
                    <a:pt x="158" y="1052"/>
                  </a:lnTo>
                  <a:lnTo>
                    <a:pt x="128" y="1036"/>
                  </a:lnTo>
                  <a:lnTo>
                    <a:pt x="98" y="1014"/>
                  </a:lnTo>
                  <a:lnTo>
                    <a:pt x="70" y="990"/>
                  </a:lnTo>
                  <a:lnTo>
                    <a:pt x="46" y="964"/>
                  </a:lnTo>
                  <a:lnTo>
                    <a:pt x="36" y="948"/>
                  </a:lnTo>
                  <a:lnTo>
                    <a:pt x="26" y="934"/>
                  </a:lnTo>
                  <a:lnTo>
                    <a:pt x="26" y="934"/>
                  </a:lnTo>
                  <a:lnTo>
                    <a:pt x="16" y="890"/>
                  </a:lnTo>
                  <a:lnTo>
                    <a:pt x="10" y="846"/>
                  </a:lnTo>
                  <a:lnTo>
                    <a:pt x="4" y="802"/>
                  </a:lnTo>
                  <a:lnTo>
                    <a:pt x="2" y="760"/>
                  </a:lnTo>
                  <a:lnTo>
                    <a:pt x="0" y="716"/>
                  </a:lnTo>
                  <a:lnTo>
                    <a:pt x="0" y="674"/>
                  </a:lnTo>
                  <a:lnTo>
                    <a:pt x="4" y="630"/>
                  </a:lnTo>
                  <a:lnTo>
                    <a:pt x="8" y="588"/>
                  </a:lnTo>
                  <a:lnTo>
                    <a:pt x="14" y="546"/>
                  </a:lnTo>
                  <a:lnTo>
                    <a:pt x="22" y="506"/>
                  </a:lnTo>
                  <a:lnTo>
                    <a:pt x="32" y="464"/>
                  </a:lnTo>
                  <a:lnTo>
                    <a:pt x="44" y="424"/>
                  </a:lnTo>
                  <a:lnTo>
                    <a:pt x="58" y="384"/>
                  </a:lnTo>
                  <a:lnTo>
                    <a:pt x="72" y="344"/>
                  </a:lnTo>
                  <a:lnTo>
                    <a:pt x="90" y="304"/>
                  </a:lnTo>
                  <a:lnTo>
                    <a:pt x="110" y="266"/>
                  </a:lnTo>
                  <a:lnTo>
                    <a:pt x="110" y="266"/>
                  </a:lnTo>
                  <a:lnTo>
                    <a:pt x="146" y="194"/>
                  </a:lnTo>
                  <a:lnTo>
                    <a:pt x="166" y="160"/>
                  </a:lnTo>
                  <a:lnTo>
                    <a:pt x="188" y="126"/>
                  </a:lnTo>
                  <a:lnTo>
                    <a:pt x="210" y="92"/>
                  </a:lnTo>
                  <a:lnTo>
                    <a:pt x="234" y="60"/>
                  </a:lnTo>
                  <a:lnTo>
                    <a:pt x="258" y="3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348" y="60"/>
                  </a:lnTo>
                  <a:lnTo>
                    <a:pt x="378" y="94"/>
                  </a:lnTo>
                  <a:lnTo>
                    <a:pt x="408" y="128"/>
                  </a:lnTo>
                  <a:lnTo>
                    <a:pt x="436" y="162"/>
                  </a:lnTo>
                  <a:lnTo>
                    <a:pt x="464" y="198"/>
                  </a:lnTo>
                  <a:lnTo>
                    <a:pt x="492" y="236"/>
                  </a:lnTo>
                  <a:lnTo>
                    <a:pt x="516" y="274"/>
                  </a:lnTo>
                  <a:lnTo>
                    <a:pt x="540" y="312"/>
                  </a:lnTo>
                  <a:lnTo>
                    <a:pt x="562" y="352"/>
                  </a:lnTo>
                  <a:lnTo>
                    <a:pt x="582" y="392"/>
                  </a:lnTo>
                  <a:lnTo>
                    <a:pt x="600" y="434"/>
                  </a:lnTo>
                  <a:lnTo>
                    <a:pt x="614" y="476"/>
                  </a:lnTo>
                  <a:lnTo>
                    <a:pt x="626" y="516"/>
                  </a:lnTo>
                  <a:lnTo>
                    <a:pt x="636" y="560"/>
                  </a:lnTo>
                  <a:lnTo>
                    <a:pt x="642" y="602"/>
                  </a:lnTo>
                  <a:lnTo>
                    <a:pt x="642" y="60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40059000" y="2279520"/>
              <a:ext cx="1015920" cy="16984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1698480"/>
                <a:gd name="textAreaBottom" fmla="*/ 1698840 h 1698480"/>
              </a:gdLst>
              <a:ahLst/>
              <a:rect l="textAreaLeft" t="textAreaTop" r="textAreaRight" b="textAreaBottom"/>
              <a:pathLst>
                <a:path w="640" h="1070">
                  <a:moveTo>
                    <a:pt x="620" y="576"/>
                  </a:moveTo>
                  <a:lnTo>
                    <a:pt x="620" y="576"/>
                  </a:lnTo>
                  <a:lnTo>
                    <a:pt x="628" y="622"/>
                  </a:lnTo>
                  <a:lnTo>
                    <a:pt x="636" y="668"/>
                  </a:lnTo>
                  <a:lnTo>
                    <a:pt x="640" y="716"/>
                  </a:lnTo>
                  <a:lnTo>
                    <a:pt x="640" y="764"/>
                  </a:lnTo>
                  <a:lnTo>
                    <a:pt x="638" y="788"/>
                  </a:lnTo>
                  <a:lnTo>
                    <a:pt x="634" y="810"/>
                  </a:lnTo>
                  <a:lnTo>
                    <a:pt x="630" y="834"/>
                  </a:lnTo>
                  <a:lnTo>
                    <a:pt x="622" y="856"/>
                  </a:lnTo>
                  <a:lnTo>
                    <a:pt x="614" y="878"/>
                  </a:lnTo>
                  <a:lnTo>
                    <a:pt x="604" y="900"/>
                  </a:lnTo>
                  <a:lnTo>
                    <a:pt x="592" y="920"/>
                  </a:lnTo>
                  <a:lnTo>
                    <a:pt x="576" y="940"/>
                  </a:lnTo>
                  <a:lnTo>
                    <a:pt x="576" y="940"/>
                  </a:lnTo>
                  <a:lnTo>
                    <a:pt x="546" y="972"/>
                  </a:lnTo>
                  <a:lnTo>
                    <a:pt x="514" y="1000"/>
                  </a:lnTo>
                  <a:lnTo>
                    <a:pt x="480" y="1024"/>
                  </a:lnTo>
                  <a:lnTo>
                    <a:pt x="460" y="1034"/>
                  </a:lnTo>
                  <a:lnTo>
                    <a:pt x="442" y="1044"/>
                  </a:lnTo>
                  <a:lnTo>
                    <a:pt x="422" y="1052"/>
                  </a:lnTo>
                  <a:lnTo>
                    <a:pt x="404" y="1058"/>
                  </a:lnTo>
                  <a:lnTo>
                    <a:pt x="384" y="1064"/>
                  </a:lnTo>
                  <a:lnTo>
                    <a:pt x="362" y="1068"/>
                  </a:lnTo>
                  <a:lnTo>
                    <a:pt x="342" y="1070"/>
                  </a:lnTo>
                  <a:lnTo>
                    <a:pt x="320" y="1070"/>
                  </a:lnTo>
                  <a:lnTo>
                    <a:pt x="300" y="1068"/>
                  </a:lnTo>
                  <a:lnTo>
                    <a:pt x="278" y="1066"/>
                  </a:lnTo>
                  <a:lnTo>
                    <a:pt x="278" y="1066"/>
                  </a:lnTo>
                  <a:lnTo>
                    <a:pt x="254" y="1060"/>
                  </a:lnTo>
                  <a:lnTo>
                    <a:pt x="230" y="1054"/>
                  </a:lnTo>
                  <a:lnTo>
                    <a:pt x="208" y="1046"/>
                  </a:lnTo>
                  <a:lnTo>
                    <a:pt x="186" y="1038"/>
                  </a:lnTo>
                  <a:lnTo>
                    <a:pt x="164" y="1026"/>
                  </a:lnTo>
                  <a:lnTo>
                    <a:pt x="144" y="1014"/>
                  </a:lnTo>
                  <a:lnTo>
                    <a:pt x="124" y="1002"/>
                  </a:lnTo>
                  <a:lnTo>
                    <a:pt x="104" y="988"/>
                  </a:lnTo>
                  <a:lnTo>
                    <a:pt x="86" y="972"/>
                  </a:lnTo>
                  <a:lnTo>
                    <a:pt x="70" y="954"/>
                  </a:lnTo>
                  <a:lnTo>
                    <a:pt x="54" y="938"/>
                  </a:lnTo>
                  <a:lnTo>
                    <a:pt x="42" y="918"/>
                  </a:lnTo>
                  <a:lnTo>
                    <a:pt x="28" y="898"/>
                  </a:lnTo>
                  <a:lnTo>
                    <a:pt x="18" y="878"/>
                  </a:lnTo>
                  <a:lnTo>
                    <a:pt x="8" y="856"/>
                  </a:lnTo>
                  <a:lnTo>
                    <a:pt x="0" y="834"/>
                  </a:lnTo>
                  <a:lnTo>
                    <a:pt x="0" y="834"/>
                  </a:lnTo>
                  <a:lnTo>
                    <a:pt x="2" y="800"/>
                  </a:lnTo>
                  <a:lnTo>
                    <a:pt x="4" y="766"/>
                  </a:lnTo>
                  <a:lnTo>
                    <a:pt x="6" y="692"/>
                  </a:lnTo>
                  <a:lnTo>
                    <a:pt x="8" y="656"/>
                  </a:lnTo>
                  <a:lnTo>
                    <a:pt x="12" y="620"/>
                  </a:lnTo>
                  <a:lnTo>
                    <a:pt x="18" y="588"/>
                  </a:lnTo>
                  <a:lnTo>
                    <a:pt x="30" y="556"/>
                  </a:lnTo>
                  <a:lnTo>
                    <a:pt x="30" y="556"/>
                  </a:lnTo>
                  <a:lnTo>
                    <a:pt x="30" y="522"/>
                  </a:lnTo>
                  <a:lnTo>
                    <a:pt x="36" y="488"/>
                  </a:lnTo>
                  <a:lnTo>
                    <a:pt x="46" y="456"/>
                  </a:lnTo>
                  <a:lnTo>
                    <a:pt x="58" y="424"/>
                  </a:lnTo>
                  <a:lnTo>
                    <a:pt x="74" y="392"/>
                  </a:lnTo>
                  <a:lnTo>
                    <a:pt x="88" y="362"/>
                  </a:lnTo>
                  <a:lnTo>
                    <a:pt x="122" y="306"/>
                  </a:lnTo>
                  <a:lnTo>
                    <a:pt x="122" y="306"/>
                  </a:lnTo>
                  <a:lnTo>
                    <a:pt x="126" y="292"/>
                  </a:lnTo>
                  <a:lnTo>
                    <a:pt x="132" y="278"/>
                  </a:lnTo>
                  <a:lnTo>
                    <a:pt x="146" y="250"/>
                  </a:lnTo>
                  <a:lnTo>
                    <a:pt x="164" y="222"/>
                  </a:lnTo>
                  <a:lnTo>
                    <a:pt x="182" y="196"/>
                  </a:lnTo>
                  <a:lnTo>
                    <a:pt x="220" y="146"/>
                  </a:lnTo>
                  <a:lnTo>
                    <a:pt x="238" y="120"/>
                  </a:lnTo>
                  <a:lnTo>
                    <a:pt x="250" y="92"/>
                  </a:lnTo>
                  <a:lnTo>
                    <a:pt x="250" y="92"/>
                  </a:lnTo>
                  <a:lnTo>
                    <a:pt x="264" y="82"/>
                  </a:lnTo>
                  <a:lnTo>
                    <a:pt x="274" y="70"/>
                  </a:lnTo>
                  <a:lnTo>
                    <a:pt x="296" y="46"/>
                  </a:lnTo>
                  <a:lnTo>
                    <a:pt x="316" y="22"/>
                  </a:lnTo>
                  <a:lnTo>
                    <a:pt x="326" y="1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66" y="30"/>
                  </a:lnTo>
                  <a:lnTo>
                    <a:pt x="390" y="62"/>
                  </a:lnTo>
                  <a:lnTo>
                    <a:pt x="414" y="96"/>
                  </a:lnTo>
                  <a:lnTo>
                    <a:pt x="436" y="128"/>
                  </a:lnTo>
                  <a:lnTo>
                    <a:pt x="458" y="164"/>
                  </a:lnTo>
                  <a:lnTo>
                    <a:pt x="478" y="198"/>
                  </a:lnTo>
                  <a:lnTo>
                    <a:pt x="496" y="234"/>
                  </a:lnTo>
                  <a:lnTo>
                    <a:pt x="514" y="270"/>
                  </a:lnTo>
                  <a:lnTo>
                    <a:pt x="546" y="346"/>
                  </a:lnTo>
                  <a:lnTo>
                    <a:pt x="574" y="422"/>
                  </a:lnTo>
                  <a:lnTo>
                    <a:pt x="598" y="498"/>
                  </a:lnTo>
                  <a:lnTo>
                    <a:pt x="620" y="576"/>
                  </a:lnTo>
                  <a:lnTo>
                    <a:pt x="620" y="57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37947600" y="2384280"/>
              <a:ext cx="879480" cy="153648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554" h="968">
                  <a:moveTo>
                    <a:pt x="310" y="44"/>
                  </a:moveTo>
                  <a:lnTo>
                    <a:pt x="310" y="44"/>
                  </a:lnTo>
                  <a:lnTo>
                    <a:pt x="360" y="122"/>
                  </a:lnTo>
                  <a:lnTo>
                    <a:pt x="408" y="200"/>
                  </a:lnTo>
                  <a:lnTo>
                    <a:pt x="432" y="242"/>
                  </a:lnTo>
                  <a:lnTo>
                    <a:pt x="454" y="282"/>
                  </a:lnTo>
                  <a:lnTo>
                    <a:pt x="476" y="326"/>
                  </a:lnTo>
                  <a:lnTo>
                    <a:pt x="496" y="368"/>
                  </a:lnTo>
                  <a:lnTo>
                    <a:pt x="512" y="412"/>
                  </a:lnTo>
                  <a:lnTo>
                    <a:pt x="526" y="458"/>
                  </a:lnTo>
                  <a:lnTo>
                    <a:pt x="538" y="504"/>
                  </a:lnTo>
                  <a:lnTo>
                    <a:pt x="548" y="550"/>
                  </a:lnTo>
                  <a:lnTo>
                    <a:pt x="552" y="598"/>
                  </a:lnTo>
                  <a:lnTo>
                    <a:pt x="554" y="648"/>
                  </a:lnTo>
                  <a:lnTo>
                    <a:pt x="550" y="698"/>
                  </a:lnTo>
                  <a:lnTo>
                    <a:pt x="542" y="750"/>
                  </a:lnTo>
                  <a:lnTo>
                    <a:pt x="542" y="750"/>
                  </a:lnTo>
                  <a:lnTo>
                    <a:pt x="526" y="792"/>
                  </a:lnTo>
                  <a:lnTo>
                    <a:pt x="510" y="836"/>
                  </a:lnTo>
                  <a:lnTo>
                    <a:pt x="500" y="856"/>
                  </a:lnTo>
                  <a:lnTo>
                    <a:pt x="490" y="876"/>
                  </a:lnTo>
                  <a:lnTo>
                    <a:pt x="474" y="892"/>
                  </a:lnTo>
                  <a:lnTo>
                    <a:pt x="458" y="908"/>
                  </a:lnTo>
                  <a:lnTo>
                    <a:pt x="458" y="908"/>
                  </a:lnTo>
                  <a:lnTo>
                    <a:pt x="432" y="926"/>
                  </a:lnTo>
                  <a:lnTo>
                    <a:pt x="406" y="946"/>
                  </a:lnTo>
                  <a:lnTo>
                    <a:pt x="392" y="954"/>
                  </a:lnTo>
                  <a:lnTo>
                    <a:pt x="378" y="960"/>
                  </a:lnTo>
                  <a:lnTo>
                    <a:pt x="362" y="962"/>
                  </a:lnTo>
                  <a:lnTo>
                    <a:pt x="344" y="960"/>
                  </a:lnTo>
                  <a:lnTo>
                    <a:pt x="344" y="960"/>
                  </a:lnTo>
                  <a:lnTo>
                    <a:pt x="334" y="964"/>
                  </a:lnTo>
                  <a:lnTo>
                    <a:pt x="326" y="968"/>
                  </a:lnTo>
                  <a:lnTo>
                    <a:pt x="306" y="968"/>
                  </a:lnTo>
                  <a:lnTo>
                    <a:pt x="284" y="966"/>
                  </a:lnTo>
                  <a:lnTo>
                    <a:pt x="264" y="966"/>
                  </a:lnTo>
                  <a:lnTo>
                    <a:pt x="264" y="966"/>
                  </a:lnTo>
                  <a:lnTo>
                    <a:pt x="230" y="960"/>
                  </a:lnTo>
                  <a:lnTo>
                    <a:pt x="194" y="950"/>
                  </a:lnTo>
                  <a:lnTo>
                    <a:pt x="160" y="936"/>
                  </a:lnTo>
                  <a:lnTo>
                    <a:pt x="126" y="920"/>
                  </a:lnTo>
                  <a:lnTo>
                    <a:pt x="112" y="908"/>
                  </a:lnTo>
                  <a:lnTo>
                    <a:pt x="98" y="898"/>
                  </a:lnTo>
                  <a:lnTo>
                    <a:pt x="84" y="886"/>
                  </a:lnTo>
                  <a:lnTo>
                    <a:pt x="70" y="872"/>
                  </a:lnTo>
                  <a:lnTo>
                    <a:pt x="58" y="858"/>
                  </a:lnTo>
                  <a:lnTo>
                    <a:pt x="48" y="844"/>
                  </a:lnTo>
                  <a:lnTo>
                    <a:pt x="38" y="828"/>
                  </a:lnTo>
                  <a:lnTo>
                    <a:pt x="30" y="810"/>
                  </a:lnTo>
                  <a:lnTo>
                    <a:pt x="30" y="810"/>
                  </a:lnTo>
                  <a:lnTo>
                    <a:pt x="18" y="776"/>
                  </a:lnTo>
                  <a:lnTo>
                    <a:pt x="10" y="742"/>
                  </a:lnTo>
                  <a:lnTo>
                    <a:pt x="4" y="706"/>
                  </a:lnTo>
                  <a:lnTo>
                    <a:pt x="0" y="670"/>
                  </a:lnTo>
                  <a:lnTo>
                    <a:pt x="0" y="634"/>
                  </a:lnTo>
                  <a:lnTo>
                    <a:pt x="2" y="596"/>
                  </a:lnTo>
                  <a:lnTo>
                    <a:pt x="8" y="560"/>
                  </a:lnTo>
                  <a:lnTo>
                    <a:pt x="14" y="522"/>
                  </a:lnTo>
                  <a:lnTo>
                    <a:pt x="22" y="486"/>
                  </a:lnTo>
                  <a:lnTo>
                    <a:pt x="32" y="450"/>
                  </a:lnTo>
                  <a:lnTo>
                    <a:pt x="44" y="414"/>
                  </a:lnTo>
                  <a:lnTo>
                    <a:pt x="56" y="378"/>
                  </a:lnTo>
                  <a:lnTo>
                    <a:pt x="84" y="310"/>
                  </a:lnTo>
                  <a:lnTo>
                    <a:pt x="114" y="248"/>
                  </a:lnTo>
                  <a:lnTo>
                    <a:pt x="114" y="248"/>
                  </a:lnTo>
                  <a:lnTo>
                    <a:pt x="142" y="184"/>
                  </a:lnTo>
                  <a:lnTo>
                    <a:pt x="170" y="118"/>
                  </a:lnTo>
                  <a:lnTo>
                    <a:pt x="186" y="86"/>
                  </a:lnTo>
                  <a:lnTo>
                    <a:pt x="202" y="56"/>
                  </a:lnTo>
                  <a:lnTo>
                    <a:pt x="222" y="28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56" y="0"/>
                  </a:lnTo>
                  <a:lnTo>
                    <a:pt x="266" y="2"/>
                  </a:lnTo>
                  <a:lnTo>
                    <a:pt x="276" y="8"/>
                  </a:lnTo>
                  <a:lnTo>
                    <a:pt x="284" y="14"/>
                  </a:lnTo>
                  <a:lnTo>
                    <a:pt x="296" y="30"/>
                  </a:lnTo>
                  <a:lnTo>
                    <a:pt x="304" y="38"/>
                  </a:lnTo>
                  <a:lnTo>
                    <a:pt x="310" y="44"/>
                  </a:lnTo>
                  <a:lnTo>
                    <a:pt x="3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85"/>
            <p:cNvSpPr/>
            <p:nvPr/>
          </p:nvSpPr>
          <p:spPr>
            <a:xfrm>
              <a:off x="38001600" y="2454120"/>
              <a:ext cx="758880" cy="14158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78" h="892">
                  <a:moveTo>
                    <a:pt x="284" y="74"/>
                  </a:moveTo>
                  <a:lnTo>
                    <a:pt x="284" y="74"/>
                  </a:lnTo>
                  <a:lnTo>
                    <a:pt x="290" y="92"/>
                  </a:lnTo>
                  <a:lnTo>
                    <a:pt x="298" y="108"/>
                  </a:lnTo>
                  <a:lnTo>
                    <a:pt x="314" y="138"/>
                  </a:lnTo>
                  <a:lnTo>
                    <a:pt x="334" y="166"/>
                  </a:lnTo>
                  <a:lnTo>
                    <a:pt x="354" y="194"/>
                  </a:lnTo>
                  <a:lnTo>
                    <a:pt x="374" y="222"/>
                  </a:lnTo>
                  <a:lnTo>
                    <a:pt x="392" y="252"/>
                  </a:lnTo>
                  <a:lnTo>
                    <a:pt x="400" y="268"/>
                  </a:lnTo>
                  <a:lnTo>
                    <a:pt x="406" y="282"/>
                  </a:lnTo>
                  <a:lnTo>
                    <a:pt x="412" y="300"/>
                  </a:lnTo>
                  <a:lnTo>
                    <a:pt x="416" y="316"/>
                  </a:lnTo>
                  <a:lnTo>
                    <a:pt x="416" y="316"/>
                  </a:lnTo>
                  <a:lnTo>
                    <a:pt x="428" y="338"/>
                  </a:lnTo>
                  <a:lnTo>
                    <a:pt x="438" y="358"/>
                  </a:lnTo>
                  <a:lnTo>
                    <a:pt x="448" y="380"/>
                  </a:lnTo>
                  <a:lnTo>
                    <a:pt x="454" y="402"/>
                  </a:lnTo>
                  <a:lnTo>
                    <a:pt x="460" y="424"/>
                  </a:lnTo>
                  <a:lnTo>
                    <a:pt x="466" y="448"/>
                  </a:lnTo>
                  <a:lnTo>
                    <a:pt x="474" y="496"/>
                  </a:lnTo>
                  <a:lnTo>
                    <a:pt x="476" y="544"/>
                  </a:lnTo>
                  <a:lnTo>
                    <a:pt x="478" y="594"/>
                  </a:lnTo>
                  <a:lnTo>
                    <a:pt x="476" y="646"/>
                  </a:lnTo>
                  <a:lnTo>
                    <a:pt x="472" y="696"/>
                  </a:lnTo>
                  <a:lnTo>
                    <a:pt x="472" y="696"/>
                  </a:lnTo>
                  <a:lnTo>
                    <a:pt x="464" y="726"/>
                  </a:lnTo>
                  <a:lnTo>
                    <a:pt x="452" y="756"/>
                  </a:lnTo>
                  <a:lnTo>
                    <a:pt x="440" y="784"/>
                  </a:lnTo>
                  <a:lnTo>
                    <a:pt x="422" y="810"/>
                  </a:lnTo>
                  <a:lnTo>
                    <a:pt x="404" y="832"/>
                  </a:lnTo>
                  <a:lnTo>
                    <a:pt x="382" y="852"/>
                  </a:lnTo>
                  <a:lnTo>
                    <a:pt x="356" y="870"/>
                  </a:lnTo>
                  <a:lnTo>
                    <a:pt x="328" y="884"/>
                  </a:lnTo>
                  <a:lnTo>
                    <a:pt x="328" y="884"/>
                  </a:lnTo>
                  <a:lnTo>
                    <a:pt x="312" y="886"/>
                  </a:lnTo>
                  <a:lnTo>
                    <a:pt x="300" y="886"/>
                  </a:lnTo>
                  <a:lnTo>
                    <a:pt x="278" y="882"/>
                  </a:lnTo>
                  <a:lnTo>
                    <a:pt x="268" y="880"/>
                  </a:lnTo>
                  <a:lnTo>
                    <a:pt x="258" y="880"/>
                  </a:lnTo>
                  <a:lnTo>
                    <a:pt x="248" y="884"/>
                  </a:lnTo>
                  <a:lnTo>
                    <a:pt x="238" y="892"/>
                  </a:lnTo>
                  <a:lnTo>
                    <a:pt x="238" y="892"/>
                  </a:lnTo>
                  <a:lnTo>
                    <a:pt x="202" y="884"/>
                  </a:lnTo>
                  <a:lnTo>
                    <a:pt x="168" y="872"/>
                  </a:lnTo>
                  <a:lnTo>
                    <a:pt x="134" y="858"/>
                  </a:lnTo>
                  <a:lnTo>
                    <a:pt x="102" y="840"/>
                  </a:lnTo>
                  <a:lnTo>
                    <a:pt x="88" y="828"/>
                  </a:lnTo>
                  <a:lnTo>
                    <a:pt x="74" y="818"/>
                  </a:lnTo>
                  <a:lnTo>
                    <a:pt x="60" y="804"/>
                  </a:lnTo>
                  <a:lnTo>
                    <a:pt x="50" y="792"/>
                  </a:lnTo>
                  <a:lnTo>
                    <a:pt x="38" y="776"/>
                  </a:lnTo>
                  <a:lnTo>
                    <a:pt x="30" y="762"/>
                  </a:lnTo>
                  <a:lnTo>
                    <a:pt x="22" y="744"/>
                  </a:lnTo>
                  <a:lnTo>
                    <a:pt x="18" y="726"/>
                  </a:lnTo>
                  <a:lnTo>
                    <a:pt x="18" y="726"/>
                  </a:lnTo>
                  <a:lnTo>
                    <a:pt x="8" y="688"/>
                  </a:lnTo>
                  <a:lnTo>
                    <a:pt x="2" y="648"/>
                  </a:lnTo>
                  <a:lnTo>
                    <a:pt x="0" y="608"/>
                  </a:lnTo>
                  <a:lnTo>
                    <a:pt x="2" y="568"/>
                  </a:lnTo>
                  <a:lnTo>
                    <a:pt x="6" y="528"/>
                  </a:lnTo>
                  <a:lnTo>
                    <a:pt x="14" y="490"/>
                  </a:lnTo>
                  <a:lnTo>
                    <a:pt x="24" y="450"/>
                  </a:lnTo>
                  <a:lnTo>
                    <a:pt x="34" y="412"/>
                  </a:lnTo>
                  <a:lnTo>
                    <a:pt x="48" y="372"/>
                  </a:lnTo>
                  <a:lnTo>
                    <a:pt x="62" y="334"/>
                  </a:lnTo>
                  <a:lnTo>
                    <a:pt x="94" y="258"/>
                  </a:lnTo>
                  <a:lnTo>
                    <a:pt x="160" y="110"/>
                  </a:lnTo>
                  <a:lnTo>
                    <a:pt x="160" y="110"/>
                  </a:lnTo>
                  <a:lnTo>
                    <a:pt x="164" y="96"/>
                  </a:lnTo>
                  <a:lnTo>
                    <a:pt x="170" y="82"/>
                  </a:lnTo>
                  <a:lnTo>
                    <a:pt x="188" y="54"/>
                  </a:lnTo>
                  <a:lnTo>
                    <a:pt x="204" y="26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8" y="2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52" y="22"/>
                  </a:lnTo>
                  <a:lnTo>
                    <a:pt x="256" y="34"/>
                  </a:lnTo>
                  <a:lnTo>
                    <a:pt x="260" y="46"/>
                  </a:lnTo>
                  <a:lnTo>
                    <a:pt x="266" y="58"/>
                  </a:lnTo>
                  <a:lnTo>
                    <a:pt x="274" y="68"/>
                  </a:lnTo>
                  <a:lnTo>
                    <a:pt x="278" y="72"/>
                  </a:lnTo>
                  <a:lnTo>
                    <a:pt x="284" y="74"/>
                  </a:lnTo>
                  <a:lnTo>
                    <a:pt x="284" y="74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86"/>
            <p:cNvSpPr/>
            <p:nvPr/>
          </p:nvSpPr>
          <p:spPr>
            <a:xfrm>
              <a:off x="40214880" y="2489040"/>
              <a:ext cx="733320" cy="140328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462" h="884">
                  <a:moveTo>
                    <a:pt x="288" y="68"/>
                  </a:moveTo>
                  <a:lnTo>
                    <a:pt x="288" y="68"/>
                  </a:lnTo>
                  <a:lnTo>
                    <a:pt x="328" y="144"/>
                  </a:lnTo>
                  <a:lnTo>
                    <a:pt x="346" y="184"/>
                  </a:lnTo>
                  <a:lnTo>
                    <a:pt x="366" y="224"/>
                  </a:lnTo>
                  <a:lnTo>
                    <a:pt x="382" y="264"/>
                  </a:lnTo>
                  <a:lnTo>
                    <a:pt x="396" y="306"/>
                  </a:lnTo>
                  <a:lnTo>
                    <a:pt x="408" y="348"/>
                  </a:lnTo>
                  <a:lnTo>
                    <a:pt x="416" y="392"/>
                  </a:lnTo>
                  <a:lnTo>
                    <a:pt x="416" y="392"/>
                  </a:lnTo>
                  <a:lnTo>
                    <a:pt x="432" y="440"/>
                  </a:lnTo>
                  <a:lnTo>
                    <a:pt x="448" y="492"/>
                  </a:lnTo>
                  <a:lnTo>
                    <a:pt x="452" y="520"/>
                  </a:lnTo>
                  <a:lnTo>
                    <a:pt x="458" y="548"/>
                  </a:lnTo>
                  <a:lnTo>
                    <a:pt x="460" y="576"/>
                  </a:lnTo>
                  <a:lnTo>
                    <a:pt x="462" y="604"/>
                  </a:lnTo>
                  <a:lnTo>
                    <a:pt x="462" y="632"/>
                  </a:lnTo>
                  <a:lnTo>
                    <a:pt x="460" y="660"/>
                  </a:lnTo>
                  <a:lnTo>
                    <a:pt x="456" y="688"/>
                  </a:lnTo>
                  <a:lnTo>
                    <a:pt x="450" y="714"/>
                  </a:lnTo>
                  <a:lnTo>
                    <a:pt x="442" y="740"/>
                  </a:lnTo>
                  <a:lnTo>
                    <a:pt x="432" y="762"/>
                  </a:lnTo>
                  <a:lnTo>
                    <a:pt x="420" y="786"/>
                  </a:lnTo>
                  <a:lnTo>
                    <a:pt x="404" y="806"/>
                  </a:lnTo>
                  <a:lnTo>
                    <a:pt x="404" y="806"/>
                  </a:lnTo>
                  <a:lnTo>
                    <a:pt x="392" y="816"/>
                  </a:lnTo>
                  <a:lnTo>
                    <a:pt x="378" y="826"/>
                  </a:lnTo>
                  <a:lnTo>
                    <a:pt x="346" y="844"/>
                  </a:lnTo>
                  <a:lnTo>
                    <a:pt x="316" y="862"/>
                  </a:lnTo>
                  <a:lnTo>
                    <a:pt x="300" y="872"/>
                  </a:lnTo>
                  <a:lnTo>
                    <a:pt x="288" y="882"/>
                  </a:lnTo>
                  <a:lnTo>
                    <a:pt x="288" y="882"/>
                  </a:lnTo>
                  <a:lnTo>
                    <a:pt x="252" y="884"/>
                  </a:lnTo>
                  <a:lnTo>
                    <a:pt x="218" y="880"/>
                  </a:lnTo>
                  <a:lnTo>
                    <a:pt x="186" y="874"/>
                  </a:lnTo>
                  <a:lnTo>
                    <a:pt x="154" y="862"/>
                  </a:lnTo>
                  <a:lnTo>
                    <a:pt x="124" y="846"/>
                  </a:lnTo>
                  <a:lnTo>
                    <a:pt x="96" y="828"/>
                  </a:lnTo>
                  <a:lnTo>
                    <a:pt x="72" y="806"/>
                  </a:lnTo>
                  <a:lnTo>
                    <a:pt x="52" y="780"/>
                  </a:lnTo>
                  <a:lnTo>
                    <a:pt x="52" y="780"/>
                  </a:lnTo>
                  <a:lnTo>
                    <a:pt x="28" y="728"/>
                  </a:lnTo>
                  <a:lnTo>
                    <a:pt x="18" y="702"/>
                  </a:lnTo>
                  <a:lnTo>
                    <a:pt x="10" y="674"/>
                  </a:lnTo>
                  <a:lnTo>
                    <a:pt x="4" y="646"/>
                  </a:lnTo>
                  <a:lnTo>
                    <a:pt x="0" y="616"/>
                  </a:lnTo>
                  <a:lnTo>
                    <a:pt x="0" y="588"/>
                  </a:lnTo>
                  <a:lnTo>
                    <a:pt x="2" y="560"/>
                  </a:lnTo>
                  <a:lnTo>
                    <a:pt x="2" y="560"/>
                  </a:lnTo>
                  <a:lnTo>
                    <a:pt x="4" y="518"/>
                  </a:lnTo>
                  <a:lnTo>
                    <a:pt x="8" y="472"/>
                  </a:lnTo>
                  <a:lnTo>
                    <a:pt x="12" y="448"/>
                  </a:lnTo>
                  <a:lnTo>
                    <a:pt x="16" y="426"/>
                  </a:lnTo>
                  <a:lnTo>
                    <a:pt x="24" y="406"/>
                  </a:lnTo>
                  <a:lnTo>
                    <a:pt x="34" y="388"/>
                  </a:lnTo>
                  <a:lnTo>
                    <a:pt x="34" y="388"/>
                  </a:lnTo>
                  <a:lnTo>
                    <a:pt x="58" y="312"/>
                  </a:lnTo>
                  <a:lnTo>
                    <a:pt x="72" y="274"/>
                  </a:lnTo>
                  <a:lnTo>
                    <a:pt x="86" y="238"/>
                  </a:lnTo>
                  <a:lnTo>
                    <a:pt x="102" y="200"/>
                  </a:lnTo>
                  <a:lnTo>
                    <a:pt x="120" y="164"/>
                  </a:lnTo>
                  <a:lnTo>
                    <a:pt x="138" y="130"/>
                  </a:lnTo>
                  <a:lnTo>
                    <a:pt x="158" y="96"/>
                  </a:lnTo>
                  <a:lnTo>
                    <a:pt x="158" y="96"/>
                  </a:lnTo>
                  <a:lnTo>
                    <a:pt x="170" y="84"/>
                  </a:lnTo>
                  <a:lnTo>
                    <a:pt x="178" y="70"/>
                  </a:lnTo>
                  <a:lnTo>
                    <a:pt x="194" y="38"/>
                  </a:lnTo>
                  <a:lnTo>
                    <a:pt x="202" y="24"/>
                  </a:lnTo>
                  <a:lnTo>
                    <a:pt x="214" y="12"/>
                  </a:lnTo>
                  <a:lnTo>
                    <a:pt x="220" y="8"/>
                  </a:lnTo>
                  <a:lnTo>
                    <a:pt x="226" y="4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52" y="18"/>
                  </a:lnTo>
                  <a:lnTo>
                    <a:pt x="260" y="36"/>
                  </a:lnTo>
                  <a:lnTo>
                    <a:pt x="272" y="54"/>
                  </a:lnTo>
                  <a:lnTo>
                    <a:pt x="280" y="62"/>
                  </a:lnTo>
                  <a:lnTo>
                    <a:pt x="288" y="68"/>
                  </a:lnTo>
                  <a:lnTo>
                    <a:pt x="28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87"/>
            <p:cNvSpPr/>
            <p:nvPr/>
          </p:nvSpPr>
          <p:spPr>
            <a:xfrm>
              <a:off x="40268520" y="2571480"/>
              <a:ext cx="622080" cy="125712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392" h="792">
                  <a:moveTo>
                    <a:pt x="200" y="0"/>
                  </a:moveTo>
                  <a:lnTo>
                    <a:pt x="200" y="0"/>
                  </a:lnTo>
                  <a:lnTo>
                    <a:pt x="240" y="72"/>
                  </a:lnTo>
                  <a:lnTo>
                    <a:pt x="276" y="144"/>
                  </a:lnTo>
                  <a:lnTo>
                    <a:pt x="294" y="182"/>
                  </a:lnTo>
                  <a:lnTo>
                    <a:pt x="310" y="218"/>
                  </a:lnTo>
                  <a:lnTo>
                    <a:pt x="324" y="256"/>
                  </a:lnTo>
                  <a:lnTo>
                    <a:pt x="338" y="296"/>
                  </a:lnTo>
                  <a:lnTo>
                    <a:pt x="350" y="334"/>
                  </a:lnTo>
                  <a:lnTo>
                    <a:pt x="360" y="374"/>
                  </a:lnTo>
                  <a:lnTo>
                    <a:pt x="370" y="412"/>
                  </a:lnTo>
                  <a:lnTo>
                    <a:pt x="378" y="452"/>
                  </a:lnTo>
                  <a:lnTo>
                    <a:pt x="384" y="492"/>
                  </a:lnTo>
                  <a:lnTo>
                    <a:pt x="388" y="532"/>
                  </a:lnTo>
                  <a:lnTo>
                    <a:pt x="390" y="572"/>
                  </a:lnTo>
                  <a:lnTo>
                    <a:pt x="392" y="612"/>
                  </a:lnTo>
                  <a:lnTo>
                    <a:pt x="392" y="612"/>
                  </a:lnTo>
                  <a:lnTo>
                    <a:pt x="392" y="628"/>
                  </a:lnTo>
                  <a:lnTo>
                    <a:pt x="390" y="642"/>
                  </a:lnTo>
                  <a:lnTo>
                    <a:pt x="386" y="656"/>
                  </a:lnTo>
                  <a:lnTo>
                    <a:pt x="382" y="670"/>
                  </a:lnTo>
                  <a:lnTo>
                    <a:pt x="376" y="682"/>
                  </a:lnTo>
                  <a:lnTo>
                    <a:pt x="370" y="692"/>
                  </a:lnTo>
                  <a:lnTo>
                    <a:pt x="352" y="714"/>
                  </a:lnTo>
                  <a:lnTo>
                    <a:pt x="332" y="732"/>
                  </a:lnTo>
                  <a:lnTo>
                    <a:pt x="310" y="750"/>
                  </a:lnTo>
                  <a:lnTo>
                    <a:pt x="264" y="782"/>
                  </a:lnTo>
                  <a:lnTo>
                    <a:pt x="264" y="782"/>
                  </a:lnTo>
                  <a:lnTo>
                    <a:pt x="242" y="790"/>
                  </a:lnTo>
                  <a:lnTo>
                    <a:pt x="222" y="792"/>
                  </a:lnTo>
                  <a:lnTo>
                    <a:pt x="200" y="792"/>
                  </a:lnTo>
                  <a:lnTo>
                    <a:pt x="178" y="788"/>
                  </a:lnTo>
                  <a:lnTo>
                    <a:pt x="158" y="782"/>
                  </a:lnTo>
                  <a:lnTo>
                    <a:pt x="138" y="774"/>
                  </a:lnTo>
                  <a:lnTo>
                    <a:pt x="100" y="756"/>
                  </a:lnTo>
                  <a:lnTo>
                    <a:pt x="100" y="756"/>
                  </a:lnTo>
                  <a:lnTo>
                    <a:pt x="82" y="742"/>
                  </a:lnTo>
                  <a:lnTo>
                    <a:pt x="66" y="724"/>
                  </a:lnTo>
                  <a:lnTo>
                    <a:pt x="50" y="706"/>
                  </a:lnTo>
                  <a:lnTo>
                    <a:pt x="38" y="688"/>
                  </a:lnTo>
                  <a:lnTo>
                    <a:pt x="28" y="668"/>
                  </a:lnTo>
                  <a:lnTo>
                    <a:pt x="20" y="646"/>
                  </a:lnTo>
                  <a:lnTo>
                    <a:pt x="12" y="624"/>
                  </a:lnTo>
                  <a:lnTo>
                    <a:pt x="8" y="602"/>
                  </a:lnTo>
                  <a:lnTo>
                    <a:pt x="4" y="578"/>
                  </a:lnTo>
                  <a:lnTo>
                    <a:pt x="2" y="554"/>
                  </a:lnTo>
                  <a:lnTo>
                    <a:pt x="0" y="506"/>
                  </a:lnTo>
                  <a:lnTo>
                    <a:pt x="2" y="456"/>
                  </a:lnTo>
                  <a:lnTo>
                    <a:pt x="6" y="408"/>
                  </a:lnTo>
                  <a:lnTo>
                    <a:pt x="6" y="408"/>
                  </a:lnTo>
                  <a:lnTo>
                    <a:pt x="44" y="300"/>
                  </a:lnTo>
                  <a:lnTo>
                    <a:pt x="66" y="246"/>
                  </a:lnTo>
                  <a:lnTo>
                    <a:pt x="88" y="192"/>
                  </a:lnTo>
                  <a:lnTo>
                    <a:pt x="112" y="140"/>
                  </a:lnTo>
                  <a:lnTo>
                    <a:pt x="138" y="90"/>
                  </a:lnTo>
                  <a:lnTo>
                    <a:pt x="168" y="44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8"/>
            <p:cNvSpPr/>
            <p:nvPr/>
          </p:nvSpPr>
          <p:spPr>
            <a:xfrm>
              <a:off x="39014640" y="3276360"/>
              <a:ext cx="920520" cy="72072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0" h="454">
                  <a:moveTo>
                    <a:pt x="562" y="162"/>
                  </a:moveTo>
                  <a:lnTo>
                    <a:pt x="562" y="162"/>
                  </a:lnTo>
                  <a:lnTo>
                    <a:pt x="568" y="198"/>
                  </a:lnTo>
                  <a:lnTo>
                    <a:pt x="572" y="234"/>
                  </a:lnTo>
                  <a:lnTo>
                    <a:pt x="574" y="270"/>
                  </a:lnTo>
                  <a:lnTo>
                    <a:pt x="572" y="306"/>
                  </a:lnTo>
                  <a:lnTo>
                    <a:pt x="568" y="378"/>
                  </a:lnTo>
                  <a:lnTo>
                    <a:pt x="566" y="414"/>
                  </a:lnTo>
                  <a:lnTo>
                    <a:pt x="566" y="452"/>
                  </a:lnTo>
                  <a:lnTo>
                    <a:pt x="566" y="452"/>
                  </a:lnTo>
                  <a:lnTo>
                    <a:pt x="490" y="454"/>
                  </a:lnTo>
                  <a:lnTo>
                    <a:pt x="418" y="452"/>
                  </a:lnTo>
                  <a:lnTo>
                    <a:pt x="280" y="448"/>
                  </a:lnTo>
                  <a:lnTo>
                    <a:pt x="146" y="442"/>
                  </a:lnTo>
                  <a:lnTo>
                    <a:pt x="76" y="440"/>
                  </a:lnTo>
                  <a:lnTo>
                    <a:pt x="2" y="440"/>
                  </a:lnTo>
                  <a:lnTo>
                    <a:pt x="2" y="440"/>
                  </a:lnTo>
                  <a:lnTo>
                    <a:pt x="0" y="418"/>
                  </a:lnTo>
                  <a:lnTo>
                    <a:pt x="0" y="396"/>
                  </a:lnTo>
                  <a:lnTo>
                    <a:pt x="0" y="374"/>
                  </a:lnTo>
                  <a:lnTo>
                    <a:pt x="2" y="352"/>
                  </a:lnTo>
                  <a:lnTo>
                    <a:pt x="8" y="310"/>
                  </a:lnTo>
                  <a:lnTo>
                    <a:pt x="16" y="268"/>
                  </a:lnTo>
                  <a:lnTo>
                    <a:pt x="26" y="228"/>
                  </a:lnTo>
                  <a:lnTo>
                    <a:pt x="32" y="186"/>
                  </a:lnTo>
                  <a:lnTo>
                    <a:pt x="36" y="142"/>
                  </a:lnTo>
                  <a:lnTo>
                    <a:pt x="36" y="120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36" y="66"/>
                  </a:lnTo>
                  <a:lnTo>
                    <a:pt x="34" y="5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50" y="42"/>
                  </a:lnTo>
                  <a:lnTo>
                    <a:pt x="68" y="54"/>
                  </a:lnTo>
                  <a:lnTo>
                    <a:pt x="86" y="64"/>
                  </a:lnTo>
                  <a:lnTo>
                    <a:pt x="106" y="72"/>
                  </a:lnTo>
                  <a:lnTo>
                    <a:pt x="144" y="86"/>
                  </a:lnTo>
                  <a:lnTo>
                    <a:pt x="186" y="96"/>
                  </a:lnTo>
                  <a:lnTo>
                    <a:pt x="228" y="100"/>
                  </a:lnTo>
                  <a:lnTo>
                    <a:pt x="270" y="104"/>
                  </a:lnTo>
                  <a:lnTo>
                    <a:pt x="314" y="104"/>
                  </a:lnTo>
                  <a:lnTo>
                    <a:pt x="358" y="102"/>
                  </a:lnTo>
                  <a:lnTo>
                    <a:pt x="358" y="102"/>
                  </a:lnTo>
                  <a:lnTo>
                    <a:pt x="390" y="94"/>
                  </a:lnTo>
                  <a:lnTo>
                    <a:pt x="420" y="86"/>
                  </a:lnTo>
                  <a:lnTo>
                    <a:pt x="448" y="76"/>
                  </a:lnTo>
                  <a:lnTo>
                    <a:pt x="476" y="64"/>
                  </a:lnTo>
                  <a:lnTo>
                    <a:pt x="502" y="50"/>
                  </a:lnTo>
                  <a:lnTo>
                    <a:pt x="530" y="36"/>
                  </a:lnTo>
                  <a:lnTo>
                    <a:pt x="554" y="18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78" y="20"/>
                  </a:lnTo>
                  <a:lnTo>
                    <a:pt x="576" y="40"/>
                  </a:lnTo>
                  <a:lnTo>
                    <a:pt x="576" y="84"/>
                  </a:lnTo>
                  <a:lnTo>
                    <a:pt x="576" y="106"/>
                  </a:lnTo>
                  <a:lnTo>
                    <a:pt x="574" y="126"/>
                  </a:lnTo>
                  <a:lnTo>
                    <a:pt x="570" y="144"/>
                  </a:lnTo>
                  <a:lnTo>
                    <a:pt x="562" y="162"/>
                  </a:lnTo>
                  <a:lnTo>
                    <a:pt x="562" y="162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9"/>
            <p:cNvSpPr/>
            <p:nvPr/>
          </p:nvSpPr>
          <p:spPr>
            <a:xfrm>
              <a:off x="40071960" y="3914640"/>
              <a:ext cx="996840" cy="514080"/>
            </a:xfrm>
            <a:custGeom>
              <a:avLst/>
              <a:gdLst>
                <a:gd name="textAreaLeft" fmla="*/ 0 w 996840"/>
                <a:gd name="textAreaRight" fmla="*/ 996840 w 9968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628" h="324">
                  <a:moveTo>
                    <a:pt x="420" y="116"/>
                  </a:moveTo>
                  <a:lnTo>
                    <a:pt x="420" y="116"/>
                  </a:lnTo>
                  <a:lnTo>
                    <a:pt x="432" y="118"/>
                  </a:lnTo>
                  <a:lnTo>
                    <a:pt x="440" y="116"/>
                  </a:lnTo>
                  <a:lnTo>
                    <a:pt x="450" y="110"/>
                  </a:lnTo>
                  <a:lnTo>
                    <a:pt x="458" y="104"/>
                  </a:lnTo>
                  <a:lnTo>
                    <a:pt x="466" y="98"/>
                  </a:lnTo>
                  <a:lnTo>
                    <a:pt x="474" y="94"/>
                  </a:lnTo>
                  <a:lnTo>
                    <a:pt x="486" y="90"/>
                  </a:lnTo>
                  <a:lnTo>
                    <a:pt x="498" y="92"/>
                  </a:lnTo>
                  <a:lnTo>
                    <a:pt x="498" y="92"/>
                  </a:lnTo>
                  <a:lnTo>
                    <a:pt x="516" y="82"/>
                  </a:lnTo>
                  <a:lnTo>
                    <a:pt x="532" y="72"/>
                  </a:lnTo>
                  <a:lnTo>
                    <a:pt x="564" y="48"/>
                  </a:lnTo>
                  <a:lnTo>
                    <a:pt x="594" y="22"/>
                  </a:lnTo>
                  <a:lnTo>
                    <a:pt x="626" y="0"/>
                  </a:lnTo>
                  <a:lnTo>
                    <a:pt x="626" y="0"/>
                  </a:lnTo>
                  <a:lnTo>
                    <a:pt x="628" y="88"/>
                  </a:lnTo>
                  <a:lnTo>
                    <a:pt x="626" y="168"/>
                  </a:lnTo>
                  <a:lnTo>
                    <a:pt x="620" y="324"/>
                  </a:lnTo>
                  <a:lnTo>
                    <a:pt x="620" y="324"/>
                  </a:lnTo>
                  <a:lnTo>
                    <a:pt x="548" y="322"/>
                  </a:lnTo>
                  <a:lnTo>
                    <a:pt x="476" y="320"/>
                  </a:lnTo>
                  <a:lnTo>
                    <a:pt x="320" y="320"/>
                  </a:lnTo>
                  <a:lnTo>
                    <a:pt x="242" y="318"/>
                  </a:lnTo>
                  <a:lnTo>
                    <a:pt x="162" y="316"/>
                  </a:lnTo>
                  <a:lnTo>
                    <a:pt x="82" y="312"/>
                  </a:lnTo>
                  <a:lnTo>
                    <a:pt x="4" y="306"/>
                  </a:lnTo>
                  <a:lnTo>
                    <a:pt x="4" y="306"/>
                  </a:lnTo>
                  <a:lnTo>
                    <a:pt x="0" y="268"/>
                  </a:lnTo>
                  <a:lnTo>
                    <a:pt x="0" y="228"/>
                  </a:lnTo>
                  <a:lnTo>
                    <a:pt x="0" y="152"/>
                  </a:lnTo>
                  <a:lnTo>
                    <a:pt x="4" y="76"/>
                  </a:lnTo>
                  <a:lnTo>
                    <a:pt x="6" y="0"/>
                  </a:lnTo>
                  <a:lnTo>
                    <a:pt x="6" y="0"/>
                  </a:lnTo>
                  <a:lnTo>
                    <a:pt x="26" y="18"/>
                  </a:lnTo>
                  <a:lnTo>
                    <a:pt x="48" y="34"/>
                  </a:lnTo>
                  <a:lnTo>
                    <a:pt x="70" y="52"/>
                  </a:lnTo>
                  <a:lnTo>
                    <a:pt x="94" y="66"/>
                  </a:lnTo>
                  <a:lnTo>
                    <a:pt x="118" y="80"/>
                  </a:lnTo>
                  <a:lnTo>
                    <a:pt x="144" y="94"/>
                  </a:lnTo>
                  <a:lnTo>
                    <a:pt x="170" y="104"/>
                  </a:lnTo>
                  <a:lnTo>
                    <a:pt x="196" y="114"/>
                  </a:lnTo>
                  <a:lnTo>
                    <a:pt x="222" y="122"/>
                  </a:lnTo>
                  <a:lnTo>
                    <a:pt x="250" y="128"/>
                  </a:lnTo>
                  <a:lnTo>
                    <a:pt x="278" y="132"/>
                  </a:lnTo>
                  <a:lnTo>
                    <a:pt x="306" y="134"/>
                  </a:lnTo>
                  <a:lnTo>
                    <a:pt x="334" y="134"/>
                  </a:lnTo>
                  <a:lnTo>
                    <a:pt x="364" y="130"/>
                  </a:lnTo>
                  <a:lnTo>
                    <a:pt x="392" y="126"/>
                  </a:lnTo>
                  <a:lnTo>
                    <a:pt x="420" y="116"/>
                  </a:lnTo>
                  <a:lnTo>
                    <a:pt x="420" y="116"/>
                  </a:lnTo>
                  <a:close/>
                </a:path>
              </a:pathLst>
            </a:custGeom>
            <a:solidFill>
              <a:srgbClr val="75b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90"/>
            <p:cNvSpPr/>
            <p:nvPr/>
          </p:nvSpPr>
          <p:spPr>
            <a:xfrm>
              <a:off x="37861920" y="3946320"/>
              <a:ext cx="1025280" cy="447480"/>
            </a:xfrm>
            <a:custGeom>
              <a:avLst/>
              <a:gdLst>
                <a:gd name="textAreaLeft" fmla="*/ 0 w 1025280"/>
                <a:gd name="textAreaRight" fmla="*/ 1025640 w 1025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646" h="282">
                  <a:moveTo>
                    <a:pt x="152" y="96"/>
                  </a:moveTo>
                  <a:lnTo>
                    <a:pt x="152" y="96"/>
                  </a:lnTo>
                  <a:lnTo>
                    <a:pt x="216" y="116"/>
                  </a:lnTo>
                  <a:lnTo>
                    <a:pt x="248" y="126"/>
                  </a:lnTo>
                  <a:lnTo>
                    <a:pt x="280" y="134"/>
                  </a:lnTo>
                  <a:lnTo>
                    <a:pt x="312" y="138"/>
                  </a:lnTo>
                  <a:lnTo>
                    <a:pt x="344" y="140"/>
                  </a:lnTo>
                  <a:lnTo>
                    <a:pt x="360" y="140"/>
                  </a:lnTo>
                  <a:lnTo>
                    <a:pt x="378" y="138"/>
                  </a:lnTo>
                  <a:lnTo>
                    <a:pt x="394" y="134"/>
                  </a:lnTo>
                  <a:lnTo>
                    <a:pt x="410" y="130"/>
                  </a:lnTo>
                  <a:lnTo>
                    <a:pt x="410" y="130"/>
                  </a:lnTo>
                  <a:lnTo>
                    <a:pt x="438" y="126"/>
                  </a:lnTo>
                  <a:lnTo>
                    <a:pt x="464" y="122"/>
                  </a:lnTo>
                  <a:lnTo>
                    <a:pt x="490" y="116"/>
                  </a:lnTo>
                  <a:lnTo>
                    <a:pt x="516" y="108"/>
                  </a:lnTo>
                  <a:lnTo>
                    <a:pt x="542" y="100"/>
                  </a:lnTo>
                  <a:lnTo>
                    <a:pt x="564" y="86"/>
                  </a:lnTo>
                  <a:lnTo>
                    <a:pt x="586" y="72"/>
                  </a:lnTo>
                  <a:lnTo>
                    <a:pt x="606" y="54"/>
                  </a:lnTo>
                  <a:lnTo>
                    <a:pt x="606" y="54"/>
                  </a:lnTo>
                  <a:lnTo>
                    <a:pt x="616" y="48"/>
                  </a:lnTo>
                  <a:lnTo>
                    <a:pt x="626" y="40"/>
                  </a:lnTo>
                  <a:lnTo>
                    <a:pt x="636" y="34"/>
                  </a:lnTo>
                  <a:lnTo>
                    <a:pt x="642" y="30"/>
                  </a:lnTo>
                  <a:lnTo>
                    <a:pt x="646" y="30"/>
                  </a:lnTo>
                  <a:lnTo>
                    <a:pt x="646" y="30"/>
                  </a:lnTo>
                  <a:lnTo>
                    <a:pt x="636" y="282"/>
                  </a:lnTo>
                  <a:lnTo>
                    <a:pt x="636" y="282"/>
                  </a:lnTo>
                  <a:lnTo>
                    <a:pt x="472" y="282"/>
                  </a:lnTo>
                  <a:lnTo>
                    <a:pt x="312" y="282"/>
                  </a:lnTo>
                  <a:lnTo>
                    <a:pt x="154" y="278"/>
                  </a:lnTo>
                  <a:lnTo>
                    <a:pt x="2" y="272"/>
                  </a:lnTo>
                  <a:lnTo>
                    <a:pt x="2" y="272"/>
                  </a:lnTo>
                  <a:lnTo>
                    <a:pt x="0" y="236"/>
                  </a:lnTo>
                  <a:lnTo>
                    <a:pt x="2" y="200"/>
                  </a:lnTo>
                  <a:lnTo>
                    <a:pt x="6" y="136"/>
                  </a:lnTo>
                  <a:lnTo>
                    <a:pt x="10" y="72"/>
                  </a:lnTo>
                  <a:lnTo>
                    <a:pt x="12" y="3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0" y="24"/>
                  </a:lnTo>
                  <a:lnTo>
                    <a:pt x="82" y="50"/>
                  </a:lnTo>
                  <a:lnTo>
                    <a:pt x="114" y="74"/>
                  </a:lnTo>
                  <a:lnTo>
                    <a:pt x="152" y="96"/>
                  </a:lnTo>
                  <a:lnTo>
                    <a:pt x="152" y="96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91"/>
            <p:cNvSpPr/>
            <p:nvPr/>
          </p:nvSpPr>
          <p:spPr>
            <a:xfrm>
              <a:off x="38995560" y="4038480"/>
              <a:ext cx="911160" cy="82548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574" h="520">
                  <a:moveTo>
                    <a:pt x="574" y="14"/>
                  </a:moveTo>
                  <a:lnTo>
                    <a:pt x="574" y="14"/>
                  </a:lnTo>
                  <a:lnTo>
                    <a:pt x="574" y="72"/>
                  </a:lnTo>
                  <a:lnTo>
                    <a:pt x="572" y="128"/>
                  </a:lnTo>
                  <a:lnTo>
                    <a:pt x="568" y="238"/>
                  </a:lnTo>
                  <a:lnTo>
                    <a:pt x="562" y="344"/>
                  </a:lnTo>
                  <a:lnTo>
                    <a:pt x="556" y="448"/>
                  </a:lnTo>
                  <a:lnTo>
                    <a:pt x="556" y="448"/>
                  </a:lnTo>
                  <a:lnTo>
                    <a:pt x="552" y="444"/>
                  </a:lnTo>
                  <a:lnTo>
                    <a:pt x="546" y="440"/>
                  </a:lnTo>
                  <a:lnTo>
                    <a:pt x="538" y="428"/>
                  </a:lnTo>
                  <a:lnTo>
                    <a:pt x="526" y="404"/>
                  </a:lnTo>
                  <a:lnTo>
                    <a:pt x="520" y="394"/>
                  </a:lnTo>
                  <a:lnTo>
                    <a:pt x="516" y="390"/>
                  </a:lnTo>
                  <a:lnTo>
                    <a:pt x="510" y="390"/>
                  </a:lnTo>
                  <a:lnTo>
                    <a:pt x="504" y="390"/>
                  </a:lnTo>
                  <a:lnTo>
                    <a:pt x="498" y="392"/>
                  </a:lnTo>
                  <a:lnTo>
                    <a:pt x="490" y="396"/>
                  </a:lnTo>
                  <a:lnTo>
                    <a:pt x="480" y="402"/>
                  </a:lnTo>
                  <a:lnTo>
                    <a:pt x="480" y="402"/>
                  </a:lnTo>
                  <a:lnTo>
                    <a:pt x="470" y="412"/>
                  </a:lnTo>
                  <a:lnTo>
                    <a:pt x="460" y="420"/>
                  </a:lnTo>
                  <a:lnTo>
                    <a:pt x="440" y="434"/>
                  </a:lnTo>
                  <a:lnTo>
                    <a:pt x="418" y="446"/>
                  </a:lnTo>
                  <a:lnTo>
                    <a:pt x="396" y="460"/>
                  </a:lnTo>
                  <a:lnTo>
                    <a:pt x="396" y="460"/>
                  </a:lnTo>
                  <a:lnTo>
                    <a:pt x="382" y="468"/>
                  </a:lnTo>
                  <a:lnTo>
                    <a:pt x="366" y="476"/>
                  </a:lnTo>
                  <a:lnTo>
                    <a:pt x="336" y="490"/>
                  </a:lnTo>
                  <a:lnTo>
                    <a:pt x="304" y="504"/>
                  </a:lnTo>
                  <a:lnTo>
                    <a:pt x="274" y="520"/>
                  </a:lnTo>
                  <a:lnTo>
                    <a:pt x="274" y="520"/>
                  </a:lnTo>
                  <a:lnTo>
                    <a:pt x="260" y="508"/>
                  </a:lnTo>
                  <a:lnTo>
                    <a:pt x="248" y="494"/>
                  </a:lnTo>
                  <a:lnTo>
                    <a:pt x="224" y="464"/>
                  </a:lnTo>
                  <a:lnTo>
                    <a:pt x="202" y="434"/>
                  </a:lnTo>
                  <a:lnTo>
                    <a:pt x="188" y="418"/>
                  </a:lnTo>
                  <a:lnTo>
                    <a:pt x="174" y="402"/>
                  </a:lnTo>
                  <a:lnTo>
                    <a:pt x="174" y="402"/>
                  </a:lnTo>
                  <a:lnTo>
                    <a:pt x="152" y="408"/>
                  </a:lnTo>
                  <a:lnTo>
                    <a:pt x="130" y="416"/>
                  </a:lnTo>
                  <a:lnTo>
                    <a:pt x="110" y="426"/>
                  </a:lnTo>
                  <a:lnTo>
                    <a:pt x="90" y="440"/>
                  </a:lnTo>
                  <a:lnTo>
                    <a:pt x="52" y="472"/>
                  </a:lnTo>
                  <a:lnTo>
                    <a:pt x="34" y="488"/>
                  </a:lnTo>
                  <a:lnTo>
                    <a:pt x="14" y="502"/>
                  </a:lnTo>
                  <a:lnTo>
                    <a:pt x="0" y="492"/>
                  </a:lnTo>
                  <a:lnTo>
                    <a:pt x="0" y="492"/>
                  </a:lnTo>
                  <a:lnTo>
                    <a:pt x="4" y="248"/>
                  </a:lnTo>
                  <a:lnTo>
                    <a:pt x="8" y="126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8" y="6"/>
                  </a:lnTo>
                  <a:lnTo>
                    <a:pt x="438" y="8"/>
                  </a:lnTo>
                  <a:lnTo>
                    <a:pt x="574" y="14"/>
                  </a:lnTo>
                  <a:lnTo>
                    <a:pt x="574" y="14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92"/>
            <p:cNvSpPr/>
            <p:nvPr/>
          </p:nvSpPr>
          <p:spPr>
            <a:xfrm>
              <a:off x="37830240" y="4438440"/>
              <a:ext cx="1031760" cy="74268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650" h="468">
                  <a:moveTo>
                    <a:pt x="650" y="16"/>
                  </a:moveTo>
                  <a:lnTo>
                    <a:pt x="650" y="144"/>
                  </a:lnTo>
                  <a:lnTo>
                    <a:pt x="650" y="144"/>
                  </a:lnTo>
                  <a:lnTo>
                    <a:pt x="646" y="142"/>
                  </a:lnTo>
                  <a:lnTo>
                    <a:pt x="642" y="144"/>
                  </a:lnTo>
                  <a:lnTo>
                    <a:pt x="636" y="148"/>
                  </a:lnTo>
                  <a:lnTo>
                    <a:pt x="630" y="150"/>
                  </a:lnTo>
                  <a:lnTo>
                    <a:pt x="628" y="150"/>
                  </a:lnTo>
                  <a:lnTo>
                    <a:pt x="624" y="148"/>
                  </a:lnTo>
                  <a:lnTo>
                    <a:pt x="624" y="148"/>
                  </a:lnTo>
                  <a:lnTo>
                    <a:pt x="588" y="176"/>
                  </a:lnTo>
                  <a:lnTo>
                    <a:pt x="548" y="208"/>
                  </a:lnTo>
                  <a:lnTo>
                    <a:pt x="528" y="226"/>
                  </a:lnTo>
                  <a:lnTo>
                    <a:pt x="510" y="244"/>
                  </a:lnTo>
                  <a:lnTo>
                    <a:pt x="494" y="264"/>
                  </a:lnTo>
                  <a:lnTo>
                    <a:pt x="482" y="286"/>
                  </a:lnTo>
                  <a:lnTo>
                    <a:pt x="482" y="286"/>
                  </a:lnTo>
                  <a:lnTo>
                    <a:pt x="464" y="280"/>
                  </a:lnTo>
                  <a:lnTo>
                    <a:pt x="450" y="272"/>
                  </a:lnTo>
                  <a:lnTo>
                    <a:pt x="434" y="262"/>
                  </a:lnTo>
                  <a:lnTo>
                    <a:pt x="422" y="250"/>
                  </a:lnTo>
                  <a:lnTo>
                    <a:pt x="396" y="224"/>
                  </a:lnTo>
                  <a:lnTo>
                    <a:pt x="372" y="202"/>
                  </a:lnTo>
                  <a:lnTo>
                    <a:pt x="372" y="202"/>
                  </a:lnTo>
                  <a:lnTo>
                    <a:pt x="360" y="202"/>
                  </a:lnTo>
                  <a:lnTo>
                    <a:pt x="348" y="206"/>
                  </a:lnTo>
                  <a:lnTo>
                    <a:pt x="338" y="210"/>
                  </a:lnTo>
                  <a:lnTo>
                    <a:pt x="328" y="218"/>
                  </a:lnTo>
                  <a:lnTo>
                    <a:pt x="320" y="224"/>
                  </a:lnTo>
                  <a:lnTo>
                    <a:pt x="312" y="234"/>
                  </a:lnTo>
                  <a:lnTo>
                    <a:pt x="300" y="252"/>
                  </a:lnTo>
                  <a:lnTo>
                    <a:pt x="288" y="274"/>
                  </a:lnTo>
                  <a:lnTo>
                    <a:pt x="280" y="296"/>
                  </a:lnTo>
                  <a:lnTo>
                    <a:pt x="270" y="318"/>
                  </a:lnTo>
                  <a:lnTo>
                    <a:pt x="260" y="336"/>
                  </a:lnTo>
                  <a:lnTo>
                    <a:pt x="260" y="336"/>
                  </a:lnTo>
                  <a:lnTo>
                    <a:pt x="258" y="344"/>
                  </a:lnTo>
                  <a:lnTo>
                    <a:pt x="254" y="350"/>
                  </a:lnTo>
                  <a:lnTo>
                    <a:pt x="246" y="364"/>
                  </a:lnTo>
                  <a:lnTo>
                    <a:pt x="234" y="376"/>
                  </a:lnTo>
                  <a:lnTo>
                    <a:pt x="222" y="390"/>
                  </a:lnTo>
                  <a:lnTo>
                    <a:pt x="222" y="390"/>
                  </a:lnTo>
                  <a:lnTo>
                    <a:pt x="212" y="388"/>
                  </a:lnTo>
                  <a:lnTo>
                    <a:pt x="202" y="384"/>
                  </a:lnTo>
                  <a:lnTo>
                    <a:pt x="192" y="376"/>
                  </a:lnTo>
                  <a:lnTo>
                    <a:pt x="184" y="370"/>
                  </a:lnTo>
                  <a:lnTo>
                    <a:pt x="166" y="352"/>
                  </a:lnTo>
                  <a:lnTo>
                    <a:pt x="148" y="334"/>
                  </a:lnTo>
                  <a:lnTo>
                    <a:pt x="130" y="318"/>
                  </a:lnTo>
                  <a:lnTo>
                    <a:pt x="120" y="310"/>
                  </a:lnTo>
                  <a:lnTo>
                    <a:pt x="110" y="306"/>
                  </a:lnTo>
                  <a:lnTo>
                    <a:pt x="98" y="304"/>
                  </a:lnTo>
                  <a:lnTo>
                    <a:pt x="88" y="304"/>
                  </a:lnTo>
                  <a:lnTo>
                    <a:pt x="74" y="306"/>
                  </a:lnTo>
                  <a:lnTo>
                    <a:pt x="62" y="310"/>
                  </a:lnTo>
                  <a:lnTo>
                    <a:pt x="0" y="46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6" y="6"/>
                  </a:lnTo>
                  <a:lnTo>
                    <a:pt x="334" y="10"/>
                  </a:lnTo>
                  <a:lnTo>
                    <a:pt x="650" y="16"/>
                  </a:lnTo>
                  <a:lnTo>
                    <a:pt x="650" y="16"/>
                  </a:lnTo>
                  <a:close/>
                </a:path>
              </a:pathLst>
            </a:custGeom>
            <a:solidFill>
              <a:srgbClr val="75b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93"/>
            <p:cNvSpPr/>
            <p:nvPr/>
          </p:nvSpPr>
          <p:spPr>
            <a:xfrm>
              <a:off x="40052880" y="4467240"/>
              <a:ext cx="996840" cy="527040"/>
            </a:xfrm>
            <a:custGeom>
              <a:avLst/>
              <a:gdLst>
                <a:gd name="textAreaLeft" fmla="*/ 0 w 996840"/>
                <a:gd name="textAreaRight" fmla="*/ 996840 w 996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628" h="332">
                  <a:moveTo>
                    <a:pt x="628" y="16"/>
                  </a:moveTo>
                  <a:lnTo>
                    <a:pt x="628" y="16"/>
                  </a:lnTo>
                  <a:lnTo>
                    <a:pt x="628" y="92"/>
                  </a:lnTo>
                  <a:lnTo>
                    <a:pt x="628" y="172"/>
                  </a:lnTo>
                  <a:lnTo>
                    <a:pt x="628" y="250"/>
                  </a:lnTo>
                  <a:lnTo>
                    <a:pt x="624" y="286"/>
                  </a:lnTo>
                  <a:lnTo>
                    <a:pt x="620" y="318"/>
                  </a:lnTo>
                  <a:lnTo>
                    <a:pt x="620" y="318"/>
                  </a:lnTo>
                  <a:lnTo>
                    <a:pt x="614" y="318"/>
                  </a:lnTo>
                  <a:lnTo>
                    <a:pt x="606" y="318"/>
                  </a:lnTo>
                  <a:lnTo>
                    <a:pt x="588" y="322"/>
                  </a:lnTo>
                  <a:lnTo>
                    <a:pt x="568" y="326"/>
                  </a:lnTo>
                  <a:lnTo>
                    <a:pt x="550" y="332"/>
                  </a:lnTo>
                  <a:lnTo>
                    <a:pt x="532" y="332"/>
                  </a:lnTo>
                  <a:lnTo>
                    <a:pt x="524" y="332"/>
                  </a:lnTo>
                  <a:lnTo>
                    <a:pt x="518" y="328"/>
                  </a:lnTo>
                  <a:lnTo>
                    <a:pt x="514" y="324"/>
                  </a:lnTo>
                  <a:lnTo>
                    <a:pt x="510" y="316"/>
                  </a:lnTo>
                  <a:lnTo>
                    <a:pt x="508" y="306"/>
                  </a:lnTo>
                  <a:lnTo>
                    <a:pt x="506" y="292"/>
                  </a:lnTo>
                  <a:lnTo>
                    <a:pt x="506" y="292"/>
                  </a:lnTo>
                  <a:lnTo>
                    <a:pt x="500" y="268"/>
                  </a:lnTo>
                  <a:lnTo>
                    <a:pt x="494" y="256"/>
                  </a:lnTo>
                  <a:lnTo>
                    <a:pt x="490" y="252"/>
                  </a:lnTo>
                  <a:lnTo>
                    <a:pt x="486" y="246"/>
                  </a:lnTo>
                  <a:lnTo>
                    <a:pt x="486" y="246"/>
                  </a:lnTo>
                  <a:lnTo>
                    <a:pt x="484" y="234"/>
                  </a:lnTo>
                  <a:lnTo>
                    <a:pt x="482" y="222"/>
                  </a:lnTo>
                  <a:lnTo>
                    <a:pt x="476" y="210"/>
                  </a:lnTo>
                  <a:lnTo>
                    <a:pt x="470" y="200"/>
                  </a:lnTo>
                  <a:lnTo>
                    <a:pt x="458" y="180"/>
                  </a:lnTo>
                  <a:lnTo>
                    <a:pt x="446" y="160"/>
                  </a:lnTo>
                  <a:lnTo>
                    <a:pt x="446" y="160"/>
                  </a:lnTo>
                  <a:lnTo>
                    <a:pt x="400" y="176"/>
                  </a:lnTo>
                  <a:lnTo>
                    <a:pt x="354" y="194"/>
                  </a:lnTo>
                  <a:lnTo>
                    <a:pt x="310" y="214"/>
                  </a:lnTo>
                  <a:lnTo>
                    <a:pt x="288" y="226"/>
                  </a:lnTo>
                  <a:lnTo>
                    <a:pt x="268" y="240"/>
                  </a:lnTo>
                  <a:lnTo>
                    <a:pt x="268" y="240"/>
                  </a:lnTo>
                  <a:lnTo>
                    <a:pt x="256" y="244"/>
                  </a:lnTo>
                  <a:lnTo>
                    <a:pt x="244" y="252"/>
                  </a:lnTo>
                  <a:lnTo>
                    <a:pt x="230" y="260"/>
                  </a:lnTo>
                  <a:lnTo>
                    <a:pt x="216" y="268"/>
                  </a:lnTo>
                  <a:lnTo>
                    <a:pt x="204" y="272"/>
                  </a:lnTo>
                  <a:lnTo>
                    <a:pt x="198" y="272"/>
                  </a:lnTo>
                  <a:lnTo>
                    <a:pt x="192" y="270"/>
                  </a:lnTo>
                  <a:lnTo>
                    <a:pt x="186" y="266"/>
                  </a:lnTo>
                  <a:lnTo>
                    <a:pt x="182" y="260"/>
                  </a:lnTo>
                  <a:lnTo>
                    <a:pt x="178" y="254"/>
                  </a:lnTo>
                  <a:lnTo>
                    <a:pt x="176" y="242"/>
                  </a:lnTo>
                  <a:lnTo>
                    <a:pt x="176" y="242"/>
                  </a:lnTo>
                  <a:lnTo>
                    <a:pt x="168" y="222"/>
                  </a:lnTo>
                  <a:lnTo>
                    <a:pt x="158" y="204"/>
                  </a:lnTo>
                  <a:lnTo>
                    <a:pt x="132" y="168"/>
                  </a:lnTo>
                  <a:lnTo>
                    <a:pt x="132" y="168"/>
                  </a:lnTo>
                  <a:lnTo>
                    <a:pt x="112" y="170"/>
                  </a:lnTo>
                  <a:lnTo>
                    <a:pt x="94" y="174"/>
                  </a:lnTo>
                  <a:lnTo>
                    <a:pt x="78" y="182"/>
                  </a:lnTo>
                  <a:lnTo>
                    <a:pt x="62" y="190"/>
                  </a:lnTo>
                  <a:lnTo>
                    <a:pt x="34" y="212"/>
                  </a:lnTo>
                  <a:lnTo>
                    <a:pt x="18" y="222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" y="112"/>
                  </a:lnTo>
                  <a:lnTo>
                    <a:pt x="4" y="60"/>
                  </a:lnTo>
                  <a:lnTo>
                    <a:pt x="8" y="8"/>
                  </a:lnTo>
                  <a:lnTo>
                    <a:pt x="18" y="0"/>
                  </a:lnTo>
                  <a:lnTo>
                    <a:pt x="628" y="16"/>
                  </a:lnTo>
                  <a:close/>
                </a:path>
              </a:pathLst>
            </a:custGeom>
            <a:solidFill>
              <a:srgbClr val="a0c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4"/>
            <p:cNvSpPr/>
            <p:nvPr/>
          </p:nvSpPr>
          <p:spPr>
            <a:xfrm>
              <a:off x="39071520" y="4851360"/>
              <a:ext cx="1216080" cy="53640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66" h="338">
                  <a:moveTo>
                    <a:pt x="502" y="104"/>
                  </a:moveTo>
                  <a:lnTo>
                    <a:pt x="502" y="104"/>
                  </a:lnTo>
                  <a:lnTo>
                    <a:pt x="510" y="112"/>
                  </a:lnTo>
                  <a:lnTo>
                    <a:pt x="518" y="120"/>
                  </a:lnTo>
                  <a:lnTo>
                    <a:pt x="534" y="138"/>
                  </a:lnTo>
                  <a:lnTo>
                    <a:pt x="542" y="146"/>
                  </a:lnTo>
                  <a:lnTo>
                    <a:pt x="552" y="150"/>
                  </a:lnTo>
                  <a:lnTo>
                    <a:pt x="562" y="150"/>
                  </a:lnTo>
                  <a:lnTo>
                    <a:pt x="576" y="148"/>
                  </a:lnTo>
                  <a:lnTo>
                    <a:pt x="576" y="148"/>
                  </a:lnTo>
                  <a:lnTo>
                    <a:pt x="594" y="136"/>
                  </a:lnTo>
                  <a:lnTo>
                    <a:pt x="612" y="122"/>
                  </a:lnTo>
                  <a:lnTo>
                    <a:pt x="648" y="94"/>
                  </a:lnTo>
                  <a:lnTo>
                    <a:pt x="666" y="80"/>
                  </a:lnTo>
                  <a:lnTo>
                    <a:pt x="684" y="68"/>
                  </a:lnTo>
                  <a:lnTo>
                    <a:pt x="702" y="58"/>
                  </a:lnTo>
                  <a:lnTo>
                    <a:pt x="722" y="50"/>
                  </a:lnTo>
                  <a:lnTo>
                    <a:pt x="766" y="120"/>
                  </a:lnTo>
                  <a:lnTo>
                    <a:pt x="766" y="120"/>
                  </a:lnTo>
                  <a:lnTo>
                    <a:pt x="730" y="134"/>
                  </a:lnTo>
                  <a:lnTo>
                    <a:pt x="698" y="152"/>
                  </a:lnTo>
                  <a:lnTo>
                    <a:pt x="668" y="172"/>
                  </a:lnTo>
                  <a:lnTo>
                    <a:pt x="656" y="184"/>
                  </a:lnTo>
                  <a:lnTo>
                    <a:pt x="642" y="196"/>
                  </a:lnTo>
                  <a:lnTo>
                    <a:pt x="632" y="210"/>
                  </a:lnTo>
                  <a:lnTo>
                    <a:pt x="620" y="224"/>
                  </a:lnTo>
                  <a:lnTo>
                    <a:pt x="612" y="238"/>
                  </a:lnTo>
                  <a:lnTo>
                    <a:pt x="604" y="254"/>
                  </a:lnTo>
                  <a:lnTo>
                    <a:pt x="596" y="270"/>
                  </a:lnTo>
                  <a:lnTo>
                    <a:pt x="590" y="288"/>
                  </a:lnTo>
                  <a:lnTo>
                    <a:pt x="586" y="306"/>
                  </a:lnTo>
                  <a:lnTo>
                    <a:pt x="582" y="326"/>
                  </a:lnTo>
                  <a:lnTo>
                    <a:pt x="582" y="336"/>
                  </a:lnTo>
                  <a:lnTo>
                    <a:pt x="582" y="336"/>
                  </a:lnTo>
                  <a:lnTo>
                    <a:pt x="574" y="338"/>
                  </a:lnTo>
                  <a:lnTo>
                    <a:pt x="564" y="336"/>
                  </a:lnTo>
                  <a:lnTo>
                    <a:pt x="546" y="330"/>
                  </a:lnTo>
                  <a:lnTo>
                    <a:pt x="512" y="314"/>
                  </a:lnTo>
                  <a:lnTo>
                    <a:pt x="496" y="308"/>
                  </a:lnTo>
                  <a:lnTo>
                    <a:pt x="488" y="308"/>
                  </a:lnTo>
                  <a:lnTo>
                    <a:pt x="480" y="308"/>
                  </a:lnTo>
                  <a:lnTo>
                    <a:pt x="472" y="310"/>
                  </a:lnTo>
                  <a:lnTo>
                    <a:pt x="464" y="316"/>
                  </a:lnTo>
                  <a:lnTo>
                    <a:pt x="456" y="322"/>
                  </a:lnTo>
                  <a:lnTo>
                    <a:pt x="448" y="334"/>
                  </a:lnTo>
                  <a:lnTo>
                    <a:pt x="448" y="334"/>
                  </a:lnTo>
                  <a:lnTo>
                    <a:pt x="418" y="310"/>
                  </a:lnTo>
                  <a:lnTo>
                    <a:pt x="388" y="290"/>
                  </a:lnTo>
                  <a:lnTo>
                    <a:pt x="354" y="274"/>
                  </a:lnTo>
                  <a:lnTo>
                    <a:pt x="320" y="260"/>
                  </a:lnTo>
                  <a:lnTo>
                    <a:pt x="284" y="250"/>
                  </a:lnTo>
                  <a:lnTo>
                    <a:pt x="264" y="246"/>
                  </a:lnTo>
                  <a:lnTo>
                    <a:pt x="246" y="244"/>
                  </a:lnTo>
                  <a:lnTo>
                    <a:pt x="228" y="244"/>
                  </a:lnTo>
                  <a:lnTo>
                    <a:pt x="210" y="244"/>
                  </a:lnTo>
                  <a:lnTo>
                    <a:pt x="192" y="246"/>
                  </a:lnTo>
                  <a:lnTo>
                    <a:pt x="172" y="250"/>
                  </a:lnTo>
                  <a:lnTo>
                    <a:pt x="172" y="250"/>
                  </a:lnTo>
                  <a:lnTo>
                    <a:pt x="156" y="216"/>
                  </a:lnTo>
                  <a:lnTo>
                    <a:pt x="146" y="200"/>
                  </a:lnTo>
                  <a:lnTo>
                    <a:pt x="134" y="184"/>
                  </a:lnTo>
                  <a:lnTo>
                    <a:pt x="120" y="168"/>
                  </a:lnTo>
                  <a:lnTo>
                    <a:pt x="106" y="152"/>
                  </a:lnTo>
                  <a:lnTo>
                    <a:pt x="92" y="140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68" y="122"/>
                  </a:lnTo>
                  <a:lnTo>
                    <a:pt x="58" y="116"/>
                  </a:lnTo>
                  <a:lnTo>
                    <a:pt x="46" y="114"/>
                  </a:lnTo>
                  <a:lnTo>
                    <a:pt x="36" y="110"/>
                  </a:lnTo>
                  <a:lnTo>
                    <a:pt x="24" y="108"/>
                  </a:lnTo>
                  <a:lnTo>
                    <a:pt x="14" y="106"/>
                  </a:lnTo>
                  <a:lnTo>
                    <a:pt x="4" y="100"/>
                  </a:lnTo>
                  <a:lnTo>
                    <a:pt x="0" y="94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12" y="20"/>
                  </a:lnTo>
                  <a:lnTo>
                    <a:pt x="122" y="28"/>
                  </a:lnTo>
                  <a:lnTo>
                    <a:pt x="140" y="48"/>
                  </a:lnTo>
                  <a:lnTo>
                    <a:pt x="158" y="68"/>
                  </a:lnTo>
                  <a:lnTo>
                    <a:pt x="174" y="88"/>
                  </a:lnTo>
                  <a:lnTo>
                    <a:pt x="184" y="98"/>
                  </a:lnTo>
                  <a:lnTo>
                    <a:pt x="194" y="104"/>
                  </a:lnTo>
                  <a:lnTo>
                    <a:pt x="204" y="112"/>
                  </a:lnTo>
                  <a:lnTo>
                    <a:pt x="214" y="116"/>
                  </a:lnTo>
                  <a:lnTo>
                    <a:pt x="226" y="118"/>
                  </a:lnTo>
                  <a:lnTo>
                    <a:pt x="238" y="118"/>
                  </a:lnTo>
                  <a:lnTo>
                    <a:pt x="252" y="116"/>
                  </a:lnTo>
                  <a:lnTo>
                    <a:pt x="266" y="112"/>
                  </a:lnTo>
                  <a:lnTo>
                    <a:pt x="266" y="112"/>
                  </a:lnTo>
                  <a:lnTo>
                    <a:pt x="306" y="82"/>
                  </a:lnTo>
                  <a:lnTo>
                    <a:pt x="348" y="54"/>
                  </a:lnTo>
                  <a:lnTo>
                    <a:pt x="392" y="26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46" y="10"/>
                  </a:lnTo>
                  <a:lnTo>
                    <a:pt x="456" y="22"/>
                  </a:lnTo>
                  <a:lnTo>
                    <a:pt x="474" y="48"/>
                  </a:lnTo>
                  <a:lnTo>
                    <a:pt x="488" y="76"/>
                  </a:lnTo>
                  <a:lnTo>
                    <a:pt x="502" y="104"/>
                  </a:lnTo>
                  <a:lnTo>
                    <a:pt x="502" y="104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95"/>
            <p:cNvSpPr/>
            <p:nvPr/>
          </p:nvSpPr>
          <p:spPr>
            <a:xfrm>
              <a:off x="36921960" y="4863960"/>
              <a:ext cx="2050920" cy="216504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2165040"/>
                <a:gd name="textAreaBottom" fmla="*/ 2165400 h 2165040"/>
              </a:gdLst>
              <a:ahLst/>
              <a:rect l="textAreaLeft" t="textAreaTop" r="textAreaRight" b="textAreaBottom"/>
              <a:pathLst>
                <a:path w="1292" h="1364">
                  <a:moveTo>
                    <a:pt x="1246" y="40"/>
                  </a:moveTo>
                  <a:lnTo>
                    <a:pt x="1246" y="40"/>
                  </a:lnTo>
                  <a:lnTo>
                    <a:pt x="1254" y="46"/>
                  </a:lnTo>
                  <a:lnTo>
                    <a:pt x="1260" y="50"/>
                  </a:lnTo>
                  <a:lnTo>
                    <a:pt x="1268" y="60"/>
                  </a:lnTo>
                  <a:lnTo>
                    <a:pt x="1278" y="70"/>
                  </a:lnTo>
                  <a:lnTo>
                    <a:pt x="1284" y="74"/>
                  </a:lnTo>
                  <a:lnTo>
                    <a:pt x="1292" y="78"/>
                  </a:lnTo>
                  <a:lnTo>
                    <a:pt x="1292" y="78"/>
                  </a:lnTo>
                  <a:lnTo>
                    <a:pt x="1258" y="84"/>
                  </a:lnTo>
                  <a:lnTo>
                    <a:pt x="1224" y="94"/>
                  </a:lnTo>
                  <a:lnTo>
                    <a:pt x="1190" y="106"/>
                  </a:lnTo>
                  <a:lnTo>
                    <a:pt x="1158" y="122"/>
                  </a:lnTo>
                  <a:lnTo>
                    <a:pt x="1128" y="140"/>
                  </a:lnTo>
                  <a:lnTo>
                    <a:pt x="1100" y="162"/>
                  </a:lnTo>
                  <a:lnTo>
                    <a:pt x="1074" y="186"/>
                  </a:lnTo>
                  <a:lnTo>
                    <a:pt x="1050" y="214"/>
                  </a:lnTo>
                  <a:lnTo>
                    <a:pt x="1050" y="214"/>
                  </a:lnTo>
                  <a:lnTo>
                    <a:pt x="1034" y="248"/>
                  </a:lnTo>
                  <a:lnTo>
                    <a:pt x="1018" y="284"/>
                  </a:lnTo>
                  <a:lnTo>
                    <a:pt x="1012" y="302"/>
                  </a:lnTo>
                  <a:lnTo>
                    <a:pt x="1008" y="322"/>
                  </a:lnTo>
                  <a:lnTo>
                    <a:pt x="1006" y="342"/>
                  </a:lnTo>
                  <a:lnTo>
                    <a:pt x="1008" y="364"/>
                  </a:lnTo>
                  <a:lnTo>
                    <a:pt x="1008" y="364"/>
                  </a:lnTo>
                  <a:lnTo>
                    <a:pt x="996" y="366"/>
                  </a:lnTo>
                  <a:lnTo>
                    <a:pt x="986" y="364"/>
                  </a:lnTo>
                  <a:lnTo>
                    <a:pt x="964" y="362"/>
                  </a:lnTo>
                  <a:lnTo>
                    <a:pt x="952" y="360"/>
                  </a:lnTo>
                  <a:lnTo>
                    <a:pt x="940" y="360"/>
                  </a:lnTo>
                  <a:lnTo>
                    <a:pt x="930" y="364"/>
                  </a:lnTo>
                  <a:lnTo>
                    <a:pt x="922" y="372"/>
                  </a:lnTo>
                  <a:lnTo>
                    <a:pt x="922" y="372"/>
                  </a:lnTo>
                  <a:lnTo>
                    <a:pt x="924" y="374"/>
                  </a:lnTo>
                  <a:lnTo>
                    <a:pt x="926" y="374"/>
                  </a:lnTo>
                  <a:lnTo>
                    <a:pt x="928" y="374"/>
                  </a:lnTo>
                  <a:lnTo>
                    <a:pt x="928" y="374"/>
                  </a:lnTo>
                  <a:lnTo>
                    <a:pt x="926" y="378"/>
                  </a:lnTo>
                  <a:lnTo>
                    <a:pt x="920" y="382"/>
                  </a:lnTo>
                  <a:lnTo>
                    <a:pt x="906" y="386"/>
                  </a:lnTo>
                  <a:lnTo>
                    <a:pt x="892" y="390"/>
                  </a:lnTo>
                  <a:lnTo>
                    <a:pt x="884" y="392"/>
                  </a:lnTo>
                  <a:lnTo>
                    <a:pt x="878" y="396"/>
                  </a:lnTo>
                  <a:lnTo>
                    <a:pt x="878" y="396"/>
                  </a:lnTo>
                  <a:lnTo>
                    <a:pt x="850" y="412"/>
                  </a:lnTo>
                  <a:lnTo>
                    <a:pt x="822" y="430"/>
                  </a:lnTo>
                  <a:lnTo>
                    <a:pt x="798" y="452"/>
                  </a:lnTo>
                  <a:lnTo>
                    <a:pt x="774" y="476"/>
                  </a:lnTo>
                  <a:lnTo>
                    <a:pt x="756" y="502"/>
                  </a:lnTo>
                  <a:lnTo>
                    <a:pt x="740" y="530"/>
                  </a:lnTo>
                  <a:lnTo>
                    <a:pt x="734" y="544"/>
                  </a:lnTo>
                  <a:lnTo>
                    <a:pt x="728" y="560"/>
                  </a:lnTo>
                  <a:lnTo>
                    <a:pt x="724" y="576"/>
                  </a:lnTo>
                  <a:lnTo>
                    <a:pt x="722" y="592"/>
                  </a:lnTo>
                  <a:lnTo>
                    <a:pt x="722" y="592"/>
                  </a:lnTo>
                  <a:lnTo>
                    <a:pt x="738" y="664"/>
                  </a:lnTo>
                  <a:lnTo>
                    <a:pt x="748" y="698"/>
                  </a:lnTo>
                  <a:lnTo>
                    <a:pt x="760" y="732"/>
                  </a:lnTo>
                  <a:lnTo>
                    <a:pt x="768" y="748"/>
                  </a:lnTo>
                  <a:lnTo>
                    <a:pt x="778" y="762"/>
                  </a:lnTo>
                  <a:lnTo>
                    <a:pt x="788" y="776"/>
                  </a:lnTo>
                  <a:lnTo>
                    <a:pt x="800" y="788"/>
                  </a:lnTo>
                  <a:lnTo>
                    <a:pt x="814" y="798"/>
                  </a:lnTo>
                  <a:lnTo>
                    <a:pt x="830" y="808"/>
                  </a:lnTo>
                  <a:lnTo>
                    <a:pt x="848" y="814"/>
                  </a:lnTo>
                  <a:lnTo>
                    <a:pt x="868" y="820"/>
                  </a:lnTo>
                  <a:lnTo>
                    <a:pt x="886" y="824"/>
                  </a:lnTo>
                  <a:lnTo>
                    <a:pt x="886" y="824"/>
                  </a:lnTo>
                  <a:lnTo>
                    <a:pt x="882" y="830"/>
                  </a:lnTo>
                  <a:lnTo>
                    <a:pt x="878" y="836"/>
                  </a:lnTo>
                  <a:lnTo>
                    <a:pt x="872" y="840"/>
                  </a:lnTo>
                  <a:lnTo>
                    <a:pt x="866" y="842"/>
                  </a:lnTo>
                  <a:lnTo>
                    <a:pt x="854" y="846"/>
                  </a:lnTo>
                  <a:lnTo>
                    <a:pt x="848" y="848"/>
                  </a:lnTo>
                  <a:lnTo>
                    <a:pt x="842" y="852"/>
                  </a:lnTo>
                  <a:lnTo>
                    <a:pt x="842" y="852"/>
                  </a:lnTo>
                  <a:lnTo>
                    <a:pt x="822" y="882"/>
                  </a:lnTo>
                  <a:lnTo>
                    <a:pt x="800" y="910"/>
                  </a:lnTo>
                  <a:lnTo>
                    <a:pt x="792" y="924"/>
                  </a:lnTo>
                  <a:lnTo>
                    <a:pt x="782" y="938"/>
                  </a:lnTo>
                  <a:lnTo>
                    <a:pt x="774" y="954"/>
                  </a:lnTo>
                  <a:lnTo>
                    <a:pt x="768" y="972"/>
                  </a:lnTo>
                  <a:lnTo>
                    <a:pt x="768" y="972"/>
                  </a:lnTo>
                  <a:lnTo>
                    <a:pt x="764" y="974"/>
                  </a:lnTo>
                  <a:lnTo>
                    <a:pt x="760" y="976"/>
                  </a:lnTo>
                  <a:lnTo>
                    <a:pt x="760" y="976"/>
                  </a:lnTo>
                  <a:lnTo>
                    <a:pt x="746" y="942"/>
                  </a:lnTo>
                  <a:lnTo>
                    <a:pt x="730" y="908"/>
                  </a:lnTo>
                  <a:lnTo>
                    <a:pt x="712" y="876"/>
                  </a:lnTo>
                  <a:lnTo>
                    <a:pt x="690" y="844"/>
                  </a:lnTo>
                  <a:lnTo>
                    <a:pt x="678" y="830"/>
                  </a:lnTo>
                  <a:lnTo>
                    <a:pt x="666" y="818"/>
                  </a:lnTo>
                  <a:lnTo>
                    <a:pt x="652" y="804"/>
                  </a:lnTo>
                  <a:lnTo>
                    <a:pt x="638" y="794"/>
                  </a:lnTo>
                  <a:lnTo>
                    <a:pt x="622" y="784"/>
                  </a:lnTo>
                  <a:lnTo>
                    <a:pt x="604" y="776"/>
                  </a:lnTo>
                  <a:lnTo>
                    <a:pt x="586" y="770"/>
                  </a:lnTo>
                  <a:lnTo>
                    <a:pt x="564" y="766"/>
                  </a:lnTo>
                  <a:lnTo>
                    <a:pt x="564" y="766"/>
                  </a:lnTo>
                  <a:lnTo>
                    <a:pt x="550" y="766"/>
                  </a:lnTo>
                  <a:lnTo>
                    <a:pt x="536" y="766"/>
                  </a:lnTo>
                  <a:lnTo>
                    <a:pt x="504" y="766"/>
                  </a:lnTo>
                  <a:lnTo>
                    <a:pt x="488" y="766"/>
                  </a:lnTo>
                  <a:lnTo>
                    <a:pt x="472" y="768"/>
                  </a:lnTo>
                  <a:lnTo>
                    <a:pt x="458" y="770"/>
                  </a:lnTo>
                  <a:lnTo>
                    <a:pt x="444" y="776"/>
                  </a:lnTo>
                  <a:lnTo>
                    <a:pt x="444" y="776"/>
                  </a:lnTo>
                  <a:lnTo>
                    <a:pt x="422" y="784"/>
                  </a:lnTo>
                  <a:lnTo>
                    <a:pt x="398" y="794"/>
                  </a:lnTo>
                  <a:lnTo>
                    <a:pt x="378" y="806"/>
                  </a:lnTo>
                  <a:lnTo>
                    <a:pt x="358" y="820"/>
                  </a:lnTo>
                  <a:lnTo>
                    <a:pt x="338" y="834"/>
                  </a:lnTo>
                  <a:lnTo>
                    <a:pt x="320" y="848"/>
                  </a:lnTo>
                  <a:lnTo>
                    <a:pt x="304" y="866"/>
                  </a:lnTo>
                  <a:lnTo>
                    <a:pt x="288" y="882"/>
                  </a:lnTo>
                  <a:lnTo>
                    <a:pt x="258" y="920"/>
                  </a:lnTo>
                  <a:lnTo>
                    <a:pt x="230" y="960"/>
                  </a:lnTo>
                  <a:lnTo>
                    <a:pt x="206" y="1002"/>
                  </a:lnTo>
                  <a:lnTo>
                    <a:pt x="184" y="1044"/>
                  </a:lnTo>
                  <a:lnTo>
                    <a:pt x="184" y="1044"/>
                  </a:lnTo>
                  <a:lnTo>
                    <a:pt x="178" y="1050"/>
                  </a:lnTo>
                  <a:lnTo>
                    <a:pt x="176" y="1058"/>
                  </a:lnTo>
                  <a:lnTo>
                    <a:pt x="174" y="1076"/>
                  </a:lnTo>
                  <a:lnTo>
                    <a:pt x="172" y="1084"/>
                  </a:lnTo>
                  <a:lnTo>
                    <a:pt x="168" y="1092"/>
                  </a:lnTo>
                  <a:lnTo>
                    <a:pt x="162" y="1100"/>
                  </a:lnTo>
                  <a:lnTo>
                    <a:pt x="152" y="1104"/>
                  </a:lnTo>
                  <a:lnTo>
                    <a:pt x="152" y="1104"/>
                  </a:lnTo>
                  <a:lnTo>
                    <a:pt x="128" y="1172"/>
                  </a:lnTo>
                  <a:lnTo>
                    <a:pt x="104" y="1240"/>
                  </a:lnTo>
                  <a:lnTo>
                    <a:pt x="92" y="1272"/>
                  </a:lnTo>
                  <a:lnTo>
                    <a:pt x="78" y="1304"/>
                  </a:lnTo>
                  <a:lnTo>
                    <a:pt x="64" y="1336"/>
                  </a:lnTo>
                  <a:lnTo>
                    <a:pt x="46" y="1364"/>
                  </a:lnTo>
                  <a:lnTo>
                    <a:pt x="46" y="1364"/>
                  </a:lnTo>
                  <a:lnTo>
                    <a:pt x="42" y="1360"/>
                  </a:lnTo>
                  <a:lnTo>
                    <a:pt x="38" y="1356"/>
                  </a:lnTo>
                  <a:lnTo>
                    <a:pt x="30" y="1354"/>
                  </a:lnTo>
                  <a:lnTo>
                    <a:pt x="26" y="1352"/>
                  </a:lnTo>
                  <a:lnTo>
                    <a:pt x="22" y="1350"/>
                  </a:lnTo>
                  <a:lnTo>
                    <a:pt x="20" y="1346"/>
                  </a:lnTo>
                  <a:lnTo>
                    <a:pt x="20" y="1340"/>
                  </a:lnTo>
                  <a:lnTo>
                    <a:pt x="20" y="1340"/>
                  </a:lnTo>
                  <a:lnTo>
                    <a:pt x="32" y="1322"/>
                  </a:lnTo>
                  <a:lnTo>
                    <a:pt x="46" y="1304"/>
                  </a:lnTo>
                  <a:lnTo>
                    <a:pt x="74" y="1270"/>
                  </a:lnTo>
                  <a:lnTo>
                    <a:pt x="86" y="1252"/>
                  </a:lnTo>
                  <a:lnTo>
                    <a:pt x="96" y="1232"/>
                  </a:lnTo>
                  <a:lnTo>
                    <a:pt x="102" y="1212"/>
                  </a:lnTo>
                  <a:lnTo>
                    <a:pt x="102" y="1202"/>
                  </a:lnTo>
                  <a:lnTo>
                    <a:pt x="102" y="1190"/>
                  </a:lnTo>
                  <a:lnTo>
                    <a:pt x="102" y="1190"/>
                  </a:lnTo>
                  <a:lnTo>
                    <a:pt x="92" y="1176"/>
                  </a:lnTo>
                  <a:lnTo>
                    <a:pt x="80" y="1162"/>
                  </a:lnTo>
                  <a:lnTo>
                    <a:pt x="68" y="1150"/>
                  </a:lnTo>
                  <a:lnTo>
                    <a:pt x="56" y="1140"/>
                  </a:lnTo>
                  <a:lnTo>
                    <a:pt x="30" y="1120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30" y="1070"/>
                  </a:lnTo>
                  <a:lnTo>
                    <a:pt x="54" y="1042"/>
                  </a:lnTo>
                  <a:lnTo>
                    <a:pt x="82" y="1018"/>
                  </a:lnTo>
                  <a:lnTo>
                    <a:pt x="96" y="1008"/>
                  </a:lnTo>
                  <a:lnTo>
                    <a:pt x="112" y="998"/>
                  </a:lnTo>
                  <a:lnTo>
                    <a:pt x="112" y="998"/>
                  </a:lnTo>
                  <a:lnTo>
                    <a:pt x="120" y="986"/>
                  </a:lnTo>
                  <a:lnTo>
                    <a:pt x="126" y="972"/>
                  </a:lnTo>
                  <a:lnTo>
                    <a:pt x="126" y="964"/>
                  </a:lnTo>
                  <a:lnTo>
                    <a:pt x="126" y="958"/>
                  </a:lnTo>
                  <a:lnTo>
                    <a:pt x="124" y="950"/>
                  </a:lnTo>
                  <a:lnTo>
                    <a:pt x="120" y="944"/>
                  </a:lnTo>
                  <a:lnTo>
                    <a:pt x="120" y="944"/>
                  </a:lnTo>
                  <a:lnTo>
                    <a:pt x="112" y="934"/>
                  </a:lnTo>
                  <a:lnTo>
                    <a:pt x="102" y="926"/>
                  </a:lnTo>
                  <a:lnTo>
                    <a:pt x="78" y="908"/>
                  </a:lnTo>
                  <a:lnTo>
                    <a:pt x="54" y="894"/>
                  </a:lnTo>
                  <a:lnTo>
                    <a:pt x="28" y="884"/>
                  </a:lnTo>
                  <a:lnTo>
                    <a:pt x="0" y="862"/>
                  </a:lnTo>
                  <a:lnTo>
                    <a:pt x="0" y="862"/>
                  </a:lnTo>
                  <a:lnTo>
                    <a:pt x="6" y="860"/>
                  </a:lnTo>
                  <a:lnTo>
                    <a:pt x="12" y="856"/>
                  </a:lnTo>
                  <a:lnTo>
                    <a:pt x="30" y="854"/>
                  </a:lnTo>
                  <a:lnTo>
                    <a:pt x="68" y="848"/>
                  </a:lnTo>
                  <a:lnTo>
                    <a:pt x="86" y="844"/>
                  </a:lnTo>
                  <a:lnTo>
                    <a:pt x="94" y="840"/>
                  </a:lnTo>
                  <a:lnTo>
                    <a:pt x="100" y="834"/>
                  </a:lnTo>
                  <a:lnTo>
                    <a:pt x="106" y="828"/>
                  </a:lnTo>
                  <a:lnTo>
                    <a:pt x="110" y="822"/>
                  </a:lnTo>
                  <a:lnTo>
                    <a:pt x="112" y="812"/>
                  </a:lnTo>
                  <a:lnTo>
                    <a:pt x="112" y="802"/>
                  </a:lnTo>
                  <a:lnTo>
                    <a:pt x="112" y="802"/>
                  </a:lnTo>
                  <a:lnTo>
                    <a:pt x="102" y="782"/>
                  </a:lnTo>
                  <a:lnTo>
                    <a:pt x="90" y="762"/>
                  </a:lnTo>
                  <a:lnTo>
                    <a:pt x="66" y="726"/>
                  </a:lnTo>
                  <a:lnTo>
                    <a:pt x="52" y="706"/>
                  </a:lnTo>
                  <a:lnTo>
                    <a:pt x="42" y="688"/>
                  </a:lnTo>
                  <a:lnTo>
                    <a:pt x="32" y="666"/>
                  </a:lnTo>
                  <a:lnTo>
                    <a:pt x="24" y="646"/>
                  </a:lnTo>
                  <a:lnTo>
                    <a:pt x="24" y="646"/>
                  </a:lnTo>
                  <a:lnTo>
                    <a:pt x="38" y="644"/>
                  </a:lnTo>
                  <a:lnTo>
                    <a:pt x="54" y="646"/>
                  </a:lnTo>
                  <a:lnTo>
                    <a:pt x="86" y="648"/>
                  </a:lnTo>
                  <a:lnTo>
                    <a:pt x="120" y="654"/>
                  </a:lnTo>
                  <a:lnTo>
                    <a:pt x="154" y="658"/>
                  </a:lnTo>
                  <a:lnTo>
                    <a:pt x="170" y="658"/>
                  </a:lnTo>
                  <a:lnTo>
                    <a:pt x="186" y="658"/>
                  </a:lnTo>
                  <a:lnTo>
                    <a:pt x="202" y="654"/>
                  </a:lnTo>
                  <a:lnTo>
                    <a:pt x="216" y="650"/>
                  </a:lnTo>
                  <a:lnTo>
                    <a:pt x="228" y="644"/>
                  </a:lnTo>
                  <a:lnTo>
                    <a:pt x="240" y="634"/>
                  </a:lnTo>
                  <a:lnTo>
                    <a:pt x="250" y="622"/>
                  </a:lnTo>
                  <a:lnTo>
                    <a:pt x="260" y="606"/>
                  </a:lnTo>
                  <a:lnTo>
                    <a:pt x="248" y="456"/>
                  </a:lnTo>
                  <a:lnTo>
                    <a:pt x="248" y="456"/>
                  </a:lnTo>
                  <a:lnTo>
                    <a:pt x="290" y="466"/>
                  </a:lnTo>
                  <a:lnTo>
                    <a:pt x="332" y="478"/>
                  </a:lnTo>
                  <a:lnTo>
                    <a:pt x="354" y="484"/>
                  </a:lnTo>
                  <a:lnTo>
                    <a:pt x="376" y="486"/>
                  </a:lnTo>
                  <a:lnTo>
                    <a:pt x="398" y="488"/>
                  </a:lnTo>
                  <a:lnTo>
                    <a:pt x="420" y="486"/>
                  </a:lnTo>
                  <a:lnTo>
                    <a:pt x="420" y="486"/>
                  </a:lnTo>
                  <a:lnTo>
                    <a:pt x="426" y="478"/>
                  </a:lnTo>
                  <a:lnTo>
                    <a:pt x="432" y="472"/>
                  </a:lnTo>
                  <a:lnTo>
                    <a:pt x="436" y="464"/>
                  </a:lnTo>
                  <a:lnTo>
                    <a:pt x="438" y="458"/>
                  </a:lnTo>
                  <a:lnTo>
                    <a:pt x="440" y="442"/>
                  </a:lnTo>
                  <a:lnTo>
                    <a:pt x="440" y="426"/>
                  </a:lnTo>
                  <a:lnTo>
                    <a:pt x="436" y="394"/>
                  </a:lnTo>
                  <a:lnTo>
                    <a:pt x="436" y="380"/>
                  </a:lnTo>
                  <a:lnTo>
                    <a:pt x="438" y="372"/>
                  </a:lnTo>
                  <a:lnTo>
                    <a:pt x="440" y="364"/>
                  </a:lnTo>
                  <a:lnTo>
                    <a:pt x="444" y="290"/>
                  </a:lnTo>
                  <a:lnTo>
                    <a:pt x="444" y="290"/>
                  </a:lnTo>
                  <a:lnTo>
                    <a:pt x="486" y="306"/>
                  </a:lnTo>
                  <a:lnTo>
                    <a:pt x="528" y="320"/>
                  </a:lnTo>
                  <a:lnTo>
                    <a:pt x="550" y="326"/>
                  </a:lnTo>
                  <a:lnTo>
                    <a:pt x="572" y="330"/>
                  </a:lnTo>
                  <a:lnTo>
                    <a:pt x="596" y="332"/>
                  </a:lnTo>
                  <a:lnTo>
                    <a:pt x="618" y="332"/>
                  </a:lnTo>
                  <a:lnTo>
                    <a:pt x="618" y="332"/>
                  </a:lnTo>
                  <a:lnTo>
                    <a:pt x="638" y="288"/>
                  </a:lnTo>
                  <a:lnTo>
                    <a:pt x="654" y="246"/>
                  </a:lnTo>
                  <a:lnTo>
                    <a:pt x="670" y="204"/>
                  </a:lnTo>
                  <a:lnTo>
                    <a:pt x="686" y="160"/>
                  </a:lnTo>
                  <a:lnTo>
                    <a:pt x="686" y="160"/>
                  </a:lnTo>
                  <a:lnTo>
                    <a:pt x="702" y="170"/>
                  </a:lnTo>
                  <a:lnTo>
                    <a:pt x="718" y="184"/>
                  </a:lnTo>
                  <a:lnTo>
                    <a:pt x="750" y="212"/>
                  </a:lnTo>
                  <a:lnTo>
                    <a:pt x="768" y="224"/>
                  </a:lnTo>
                  <a:lnTo>
                    <a:pt x="786" y="234"/>
                  </a:lnTo>
                  <a:lnTo>
                    <a:pt x="796" y="236"/>
                  </a:lnTo>
                  <a:lnTo>
                    <a:pt x="806" y="238"/>
                  </a:lnTo>
                  <a:lnTo>
                    <a:pt x="818" y="238"/>
                  </a:lnTo>
                  <a:lnTo>
                    <a:pt x="830" y="236"/>
                  </a:lnTo>
                  <a:lnTo>
                    <a:pt x="830" y="236"/>
                  </a:lnTo>
                  <a:lnTo>
                    <a:pt x="838" y="234"/>
                  </a:lnTo>
                  <a:lnTo>
                    <a:pt x="844" y="230"/>
                  </a:lnTo>
                  <a:lnTo>
                    <a:pt x="856" y="220"/>
                  </a:lnTo>
                  <a:lnTo>
                    <a:pt x="864" y="210"/>
                  </a:lnTo>
                  <a:lnTo>
                    <a:pt x="870" y="196"/>
                  </a:lnTo>
                  <a:lnTo>
                    <a:pt x="882" y="166"/>
                  </a:lnTo>
                  <a:lnTo>
                    <a:pt x="888" y="152"/>
                  </a:lnTo>
                  <a:lnTo>
                    <a:pt x="896" y="140"/>
                  </a:lnTo>
                  <a:lnTo>
                    <a:pt x="896" y="140"/>
                  </a:lnTo>
                  <a:lnTo>
                    <a:pt x="904" y="130"/>
                  </a:lnTo>
                  <a:lnTo>
                    <a:pt x="910" y="118"/>
                  </a:lnTo>
                  <a:lnTo>
                    <a:pt x="922" y="94"/>
                  </a:lnTo>
                  <a:lnTo>
                    <a:pt x="926" y="84"/>
                  </a:lnTo>
                  <a:lnTo>
                    <a:pt x="934" y="74"/>
                  </a:lnTo>
                  <a:lnTo>
                    <a:pt x="942" y="66"/>
                  </a:lnTo>
                  <a:lnTo>
                    <a:pt x="948" y="64"/>
                  </a:lnTo>
                  <a:lnTo>
                    <a:pt x="954" y="64"/>
                  </a:lnTo>
                  <a:lnTo>
                    <a:pt x="954" y="68"/>
                  </a:lnTo>
                  <a:lnTo>
                    <a:pt x="954" y="68"/>
                  </a:lnTo>
                  <a:lnTo>
                    <a:pt x="970" y="78"/>
                  </a:lnTo>
                  <a:lnTo>
                    <a:pt x="986" y="88"/>
                  </a:lnTo>
                  <a:lnTo>
                    <a:pt x="1018" y="114"/>
                  </a:lnTo>
                  <a:lnTo>
                    <a:pt x="1036" y="124"/>
                  </a:lnTo>
                  <a:lnTo>
                    <a:pt x="1052" y="132"/>
                  </a:lnTo>
                  <a:lnTo>
                    <a:pt x="1062" y="134"/>
                  </a:lnTo>
                  <a:lnTo>
                    <a:pt x="1072" y="134"/>
                  </a:lnTo>
                  <a:lnTo>
                    <a:pt x="1082" y="134"/>
                  </a:lnTo>
                  <a:lnTo>
                    <a:pt x="1092" y="132"/>
                  </a:lnTo>
                  <a:lnTo>
                    <a:pt x="1092" y="132"/>
                  </a:lnTo>
                  <a:lnTo>
                    <a:pt x="1106" y="116"/>
                  </a:lnTo>
                  <a:lnTo>
                    <a:pt x="1120" y="98"/>
                  </a:lnTo>
                  <a:lnTo>
                    <a:pt x="1146" y="60"/>
                  </a:lnTo>
                  <a:lnTo>
                    <a:pt x="1160" y="40"/>
                  </a:lnTo>
                  <a:lnTo>
                    <a:pt x="1174" y="24"/>
                  </a:lnTo>
                  <a:lnTo>
                    <a:pt x="1192" y="10"/>
                  </a:lnTo>
                  <a:lnTo>
                    <a:pt x="1200" y="4"/>
                  </a:lnTo>
                  <a:lnTo>
                    <a:pt x="1210" y="0"/>
                  </a:lnTo>
                  <a:lnTo>
                    <a:pt x="1246" y="40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96"/>
            <p:cNvSpPr/>
            <p:nvPr/>
          </p:nvSpPr>
          <p:spPr>
            <a:xfrm>
              <a:off x="40443480" y="4908600"/>
              <a:ext cx="1555560" cy="16700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980" h="1052">
                  <a:moveTo>
                    <a:pt x="186" y="62"/>
                  </a:moveTo>
                  <a:lnTo>
                    <a:pt x="186" y="62"/>
                  </a:lnTo>
                  <a:lnTo>
                    <a:pt x="194" y="88"/>
                  </a:lnTo>
                  <a:lnTo>
                    <a:pt x="202" y="114"/>
                  </a:lnTo>
                  <a:lnTo>
                    <a:pt x="208" y="128"/>
                  </a:lnTo>
                  <a:lnTo>
                    <a:pt x="214" y="138"/>
                  </a:lnTo>
                  <a:lnTo>
                    <a:pt x="222" y="148"/>
                  </a:lnTo>
                  <a:lnTo>
                    <a:pt x="232" y="154"/>
                  </a:lnTo>
                  <a:lnTo>
                    <a:pt x="232" y="154"/>
                  </a:lnTo>
                  <a:lnTo>
                    <a:pt x="258" y="156"/>
                  </a:lnTo>
                  <a:lnTo>
                    <a:pt x="282" y="156"/>
                  </a:lnTo>
                  <a:lnTo>
                    <a:pt x="306" y="152"/>
                  </a:lnTo>
                  <a:lnTo>
                    <a:pt x="330" y="148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4" y="136"/>
                  </a:lnTo>
                  <a:lnTo>
                    <a:pt x="424" y="136"/>
                  </a:lnTo>
                  <a:lnTo>
                    <a:pt x="422" y="158"/>
                  </a:lnTo>
                  <a:lnTo>
                    <a:pt x="418" y="178"/>
                  </a:lnTo>
                  <a:lnTo>
                    <a:pt x="404" y="216"/>
                  </a:lnTo>
                  <a:lnTo>
                    <a:pt x="398" y="236"/>
                  </a:lnTo>
                  <a:lnTo>
                    <a:pt x="394" y="256"/>
                  </a:lnTo>
                  <a:lnTo>
                    <a:pt x="392" y="276"/>
                  </a:lnTo>
                  <a:lnTo>
                    <a:pt x="394" y="286"/>
                  </a:lnTo>
                  <a:lnTo>
                    <a:pt x="396" y="298"/>
                  </a:lnTo>
                  <a:lnTo>
                    <a:pt x="396" y="298"/>
                  </a:lnTo>
                  <a:lnTo>
                    <a:pt x="408" y="306"/>
                  </a:lnTo>
                  <a:lnTo>
                    <a:pt x="422" y="312"/>
                  </a:lnTo>
                  <a:lnTo>
                    <a:pt x="452" y="324"/>
                  </a:lnTo>
                  <a:lnTo>
                    <a:pt x="482" y="332"/>
                  </a:lnTo>
                  <a:lnTo>
                    <a:pt x="512" y="336"/>
                  </a:lnTo>
                  <a:lnTo>
                    <a:pt x="576" y="344"/>
                  </a:lnTo>
                  <a:lnTo>
                    <a:pt x="606" y="348"/>
                  </a:lnTo>
                  <a:lnTo>
                    <a:pt x="634" y="354"/>
                  </a:lnTo>
                  <a:lnTo>
                    <a:pt x="634" y="354"/>
                  </a:lnTo>
                  <a:lnTo>
                    <a:pt x="632" y="374"/>
                  </a:lnTo>
                  <a:lnTo>
                    <a:pt x="630" y="384"/>
                  </a:lnTo>
                  <a:lnTo>
                    <a:pt x="626" y="394"/>
                  </a:lnTo>
                  <a:lnTo>
                    <a:pt x="622" y="404"/>
                  </a:lnTo>
                  <a:lnTo>
                    <a:pt x="616" y="412"/>
                  </a:lnTo>
                  <a:lnTo>
                    <a:pt x="606" y="420"/>
                  </a:lnTo>
                  <a:lnTo>
                    <a:pt x="596" y="428"/>
                  </a:lnTo>
                  <a:lnTo>
                    <a:pt x="596" y="460"/>
                  </a:lnTo>
                  <a:lnTo>
                    <a:pt x="596" y="460"/>
                  </a:lnTo>
                  <a:lnTo>
                    <a:pt x="592" y="460"/>
                  </a:lnTo>
                  <a:lnTo>
                    <a:pt x="588" y="460"/>
                  </a:lnTo>
                  <a:lnTo>
                    <a:pt x="586" y="462"/>
                  </a:lnTo>
                  <a:lnTo>
                    <a:pt x="586" y="466"/>
                  </a:lnTo>
                  <a:lnTo>
                    <a:pt x="584" y="472"/>
                  </a:lnTo>
                  <a:lnTo>
                    <a:pt x="584" y="476"/>
                  </a:lnTo>
                  <a:lnTo>
                    <a:pt x="582" y="478"/>
                  </a:lnTo>
                  <a:lnTo>
                    <a:pt x="582" y="478"/>
                  </a:lnTo>
                  <a:lnTo>
                    <a:pt x="582" y="486"/>
                  </a:lnTo>
                  <a:lnTo>
                    <a:pt x="584" y="494"/>
                  </a:lnTo>
                  <a:lnTo>
                    <a:pt x="586" y="500"/>
                  </a:lnTo>
                  <a:lnTo>
                    <a:pt x="590" y="508"/>
                  </a:lnTo>
                  <a:lnTo>
                    <a:pt x="602" y="518"/>
                  </a:lnTo>
                  <a:lnTo>
                    <a:pt x="614" y="528"/>
                  </a:lnTo>
                  <a:lnTo>
                    <a:pt x="614" y="528"/>
                  </a:lnTo>
                  <a:lnTo>
                    <a:pt x="630" y="540"/>
                  </a:lnTo>
                  <a:lnTo>
                    <a:pt x="648" y="548"/>
                  </a:lnTo>
                  <a:lnTo>
                    <a:pt x="668" y="554"/>
                  </a:lnTo>
                  <a:lnTo>
                    <a:pt x="688" y="560"/>
                  </a:lnTo>
                  <a:lnTo>
                    <a:pt x="730" y="572"/>
                  </a:lnTo>
                  <a:lnTo>
                    <a:pt x="748" y="578"/>
                  </a:lnTo>
                  <a:lnTo>
                    <a:pt x="766" y="586"/>
                  </a:lnTo>
                  <a:lnTo>
                    <a:pt x="766" y="586"/>
                  </a:lnTo>
                  <a:lnTo>
                    <a:pt x="756" y="602"/>
                  </a:lnTo>
                  <a:lnTo>
                    <a:pt x="746" y="622"/>
                  </a:lnTo>
                  <a:lnTo>
                    <a:pt x="734" y="638"/>
                  </a:lnTo>
                  <a:lnTo>
                    <a:pt x="728" y="644"/>
                  </a:lnTo>
                  <a:lnTo>
                    <a:pt x="720" y="648"/>
                  </a:lnTo>
                  <a:lnTo>
                    <a:pt x="720" y="648"/>
                  </a:lnTo>
                  <a:lnTo>
                    <a:pt x="716" y="652"/>
                  </a:lnTo>
                  <a:lnTo>
                    <a:pt x="714" y="656"/>
                  </a:lnTo>
                  <a:lnTo>
                    <a:pt x="714" y="666"/>
                  </a:lnTo>
                  <a:lnTo>
                    <a:pt x="714" y="676"/>
                  </a:lnTo>
                  <a:lnTo>
                    <a:pt x="714" y="684"/>
                  </a:lnTo>
                  <a:lnTo>
                    <a:pt x="714" y="684"/>
                  </a:lnTo>
                  <a:lnTo>
                    <a:pt x="708" y="686"/>
                  </a:lnTo>
                  <a:lnTo>
                    <a:pt x="706" y="688"/>
                  </a:lnTo>
                  <a:lnTo>
                    <a:pt x="704" y="694"/>
                  </a:lnTo>
                  <a:lnTo>
                    <a:pt x="702" y="702"/>
                  </a:lnTo>
                  <a:lnTo>
                    <a:pt x="700" y="706"/>
                  </a:lnTo>
                  <a:lnTo>
                    <a:pt x="698" y="710"/>
                  </a:lnTo>
                  <a:lnTo>
                    <a:pt x="698" y="710"/>
                  </a:lnTo>
                  <a:lnTo>
                    <a:pt x="700" y="718"/>
                  </a:lnTo>
                  <a:lnTo>
                    <a:pt x="702" y="724"/>
                  </a:lnTo>
                  <a:lnTo>
                    <a:pt x="706" y="730"/>
                  </a:lnTo>
                  <a:lnTo>
                    <a:pt x="710" y="736"/>
                  </a:lnTo>
                  <a:lnTo>
                    <a:pt x="720" y="744"/>
                  </a:lnTo>
                  <a:lnTo>
                    <a:pt x="732" y="748"/>
                  </a:lnTo>
                  <a:lnTo>
                    <a:pt x="744" y="752"/>
                  </a:lnTo>
                  <a:lnTo>
                    <a:pt x="758" y="754"/>
                  </a:lnTo>
                  <a:lnTo>
                    <a:pt x="772" y="758"/>
                  </a:lnTo>
                  <a:lnTo>
                    <a:pt x="784" y="760"/>
                  </a:lnTo>
                  <a:lnTo>
                    <a:pt x="784" y="760"/>
                  </a:lnTo>
                  <a:lnTo>
                    <a:pt x="808" y="768"/>
                  </a:lnTo>
                  <a:lnTo>
                    <a:pt x="832" y="774"/>
                  </a:lnTo>
                  <a:lnTo>
                    <a:pt x="858" y="780"/>
                  </a:lnTo>
                  <a:lnTo>
                    <a:pt x="870" y="786"/>
                  </a:lnTo>
                  <a:lnTo>
                    <a:pt x="882" y="792"/>
                  </a:lnTo>
                  <a:lnTo>
                    <a:pt x="882" y="792"/>
                  </a:lnTo>
                  <a:lnTo>
                    <a:pt x="870" y="812"/>
                  </a:lnTo>
                  <a:lnTo>
                    <a:pt x="858" y="832"/>
                  </a:lnTo>
                  <a:lnTo>
                    <a:pt x="854" y="842"/>
                  </a:lnTo>
                  <a:lnTo>
                    <a:pt x="850" y="852"/>
                  </a:lnTo>
                  <a:lnTo>
                    <a:pt x="848" y="862"/>
                  </a:lnTo>
                  <a:lnTo>
                    <a:pt x="848" y="874"/>
                  </a:lnTo>
                  <a:lnTo>
                    <a:pt x="848" y="874"/>
                  </a:lnTo>
                  <a:lnTo>
                    <a:pt x="844" y="878"/>
                  </a:lnTo>
                  <a:lnTo>
                    <a:pt x="842" y="884"/>
                  </a:lnTo>
                  <a:lnTo>
                    <a:pt x="842" y="890"/>
                  </a:lnTo>
                  <a:lnTo>
                    <a:pt x="844" y="896"/>
                  </a:lnTo>
                  <a:lnTo>
                    <a:pt x="848" y="908"/>
                  </a:lnTo>
                  <a:lnTo>
                    <a:pt x="850" y="914"/>
                  </a:lnTo>
                  <a:lnTo>
                    <a:pt x="852" y="920"/>
                  </a:lnTo>
                  <a:lnTo>
                    <a:pt x="852" y="920"/>
                  </a:lnTo>
                  <a:lnTo>
                    <a:pt x="884" y="938"/>
                  </a:lnTo>
                  <a:lnTo>
                    <a:pt x="916" y="958"/>
                  </a:lnTo>
                  <a:lnTo>
                    <a:pt x="948" y="976"/>
                  </a:lnTo>
                  <a:lnTo>
                    <a:pt x="980" y="992"/>
                  </a:lnTo>
                  <a:lnTo>
                    <a:pt x="980" y="992"/>
                  </a:lnTo>
                  <a:lnTo>
                    <a:pt x="974" y="998"/>
                  </a:lnTo>
                  <a:lnTo>
                    <a:pt x="968" y="1006"/>
                  </a:lnTo>
                  <a:lnTo>
                    <a:pt x="954" y="1024"/>
                  </a:lnTo>
                  <a:lnTo>
                    <a:pt x="940" y="1040"/>
                  </a:lnTo>
                  <a:lnTo>
                    <a:pt x="932" y="1046"/>
                  </a:lnTo>
                  <a:lnTo>
                    <a:pt x="922" y="1052"/>
                  </a:lnTo>
                  <a:lnTo>
                    <a:pt x="922" y="1052"/>
                  </a:lnTo>
                  <a:lnTo>
                    <a:pt x="912" y="1028"/>
                  </a:lnTo>
                  <a:lnTo>
                    <a:pt x="902" y="1004"/>
                  </a:lnTo>
                  <a:lnTo>
                    <a:pt x="888" y="982"/>
                  </a:lnTo>
                  <a:lnTo>
                    <a:pt x="874" y="960"/>
                  </a:lnTo>
                  <a:lnTo>
                    <a:pt x="858" y="938"/>
                  </a:lnTo>
                  <a:lnTo>
                    <a:pt x="840" y="916"/>
                  </a:lnTo>
                  <a:lnTo>
                    <a:pt x="822" y="896"/>
                  </a:lnTo>
                  <a:lnTo>
                    <a:pt x="802" y="878"/>
                  </a:lnTo>
                  <a:lnTo>
                    <a:pt x="782" y="858"/>
                  </a:lnTo>
                  <a:lnTo>
                    <a:pt x="760" y="842"/>
                  </a:lnTo>
                  <a:lnTo>
                    <a:pt x="738" y="826"/>
                  </a:lnTo>
                  <a:lnTo>
                    <a:pt x="714" y="810"/>
                  </a:lnTo>
                  <a:lnTo>
                    <a:pt x="690" y="796"/>
                  </a:lnTo>
                  <a:lnTo>
                    <a:pt x="666" y="784"/>
                  </a:lnTo>
                  <a:lnTo>
                    <a:pt x="640" y="772"/>
                  </a:lnTo>
                  <a:lnTo>
                    <a:pt x="614" y="764"/>
                  </a:lnTo>
                  <a:lnTo>
                    <a:pt x="614" y="764"/>
                  </a:lnTo>
                  <a:lnTo>
                    <a:pt x="598" y="764"/>
                  </a:lnTo>
                  <a:lnTo>
                    <a:pt x="580" y="766"/>
                  </a:lnTo>
                  <a:lnTo>
                    <a:pt x="564" y="770"/>
                  </a:lnTo>
                  <a:lnTo>
                    <a:pt x="548" y="776"/>
                  </a:lnTo>
                  <a:lnTo>
                    <a:pt x="534" y="784"/>
                  </a:lnTo>
                  <a:lnTo>
                    <a:pt x="520" y="796"/>
                  </a:lnTo>
                  <a:lnTo>
                    <a:pt x="508" y="808"/>
                  </a:lnTo>
                  <a:lnTo>
                    <a:pt x="500" y="824"/>
                  </a:lnTo>
                  <a:lnTo>
                    <a:pt x="500" y="824"/>
                  </a:lnTo>
                  <a:lnTo>
                    <a:pt x="498" y="838"/>
                  </a:lnTo>
                  <a:lnTo>
                    <a:pt x="492" y="848"/>
                  </a:lnTo>
                  <a:lnTo>
                    <a:pt x="486" y="860"/>
                  </a:lnTo>
                  <a:lnTo>
                    <a:pt x="478" y="870"/>
                  </a:lnTo>
                  <a:lnTo>
                    <a:pt x="460" y="890"/>
                  </a:lnTo>
                  <a:lnTo>
                    <a:pt x="452" y="900"/>
                  </a:lnTo>
                  <a:lnTo>
                    <a:pt x="446" y="914"/>
                  </a:lnTo>
                  <a:lnTo>
                    <a:pt x="428" y="1028"/>
                  </a:lnTo>
                  <a:lnTo>
                    <a:pt x="428" y="1028"/>
                  </a:lnTo>
                  <a:lnTo>
                    <a:pt x="396" y="970"/>
                  </a:lnTo>
                  <a:lnTo>
                    <a:pt x="380" y="942"/>
                  </a:lnTo>
                  <a:lnTo>
                    <a:pt x="360" y="916"/>
                  </a:lnTo>
                  <a:lnTo>
                    <a:pt x="360" y="916"/>
                  </a:lnTo>
                  <a:lnTo>
                    <a:pt x="362" y="912"/>
                  </a:lnTo>
                  <a:lnTo>
                    <a:pt x="366" y="906"/>
                  </a:lnTo>
                  <a:lnTo>
                    <a:pt x="376" y="896"/>
                  </a:lnTo>
                  <a:lnTo>
                    <a:pt x="378" y="892"/>
                  </a:lnTo>
                  <a:lnTo>
                    <a:pt x="380" y="888"/>
                  </a:lnTo>
                  <a:lnTo>
                    <a:pt x="380" y="882"/>
                  </a:lnTo>
                  <a:lnTo>
                    <a:pt x="374" y="878"/>
                  </a:lnTo>
                  <a:lnTo>
                    <a:pt x="374" y="878"/>
                  </a:lnTo>
                  <a:lnTo>
                    <a:pt x="380" y="872"/>
                  </a:lnTo>
                  <a:lnTo>
                    <a:pt x="382" y="868"/>
                  </a:lnTo>
                  <a:lnTo>
                    <a:pt x="382" y="862"/>
                  </a:lnTo>
                  <a:lnTo>
                    <a:pt x="378" y="858"/>
                  </a:lnTo>
                  <a:lnTo>
                    <a:pt x="374" y="848"/>
                  </a:lnTo>
                  <a:lnTo>
                    <a:pt x="372" y="842"/>
                  </a:lnTo>
                  <a:lnTo>
                    <a:pt x="374" y="834"/>
                  </a:lnTo>
                  <a:lnTo>
                    <a:pt x="374" y="834"/>
                  </a:lnTo>
                  <a:lnTo>
                    <a:pt x="402" y="820"/>
                  </a:lnTo>
                  <a:lnTo>
                    <a:pt x="432" y="804"/>
                  </a:lnTo>
                  <a:lnTo>
                    <a:pt x="458" y="786"/>
                  </a:lnTo>
                  <a:lnTo>
                    <a:pt x="484" y="764"/>
                  </a:lnTo>
                  <a:lnTo>
                    <a:pt x="496" y="752"/>
                  </a:lnTo>
                  <a:lnTo>
                    <a:pt x="506" y="740"/>
                  </a:lnTo>
                  <a:lnTo>
                    <a:pt x="516" y="726"/>
                  </a:lnTo>
                  <a:lnTo>
                    <a:pt x="524" y="714"/>
                  </a:lnTo>
                  <a:lnTo>
                    <a:pt x="532" y="698"/>
                  </a:lnTo>
                  <a:lnTo>
                    <a:pt x="538" y="682"/>
                  </a:lnTo>
                  <a:lnTo>
                    <a:pt x="540" y="666"/>
                  </a:lnTo>
                  <a:lnTo>
                    <a:pt x="542" y="648"/>
                  </a:lnTo>
                  <a:lnTo>
                    <a:pt x="542" y="648"/>
                  </a:lnTo>
                  <a:lnTo>
                    <a:pt x="540" y="602"/>
                  </a:lnTo>
                  <a:lnTo>
                    <a:pt x="538" y="578"/>
                  </a:lnTo>
                  <a:lnTo>
                    <a:pt x="534" y="556"/>
                  </a:lnTo>
                  <a:lnTo>
                    <a:pt x="526" y="534"/>
                  </a:lnTo>
                  <a:lnTo>
                    <a:pt x="516" y="514"/>
                  </a:lnTo>
                  <a:lnTo>
                    <a:pt x="502" y="496"/>
                  </a:lnTo>
                  <a:lnTo>
                    <a:pt x="494" y="488"/>
                  </a:lnTo>
                  <a:lnTo>
                    <a:pt x="484" y="482"/>
                  </a:lnTo>
                  <a:lnTo>
                    <a:pt x="484" y="482"/>
                  </a:lnTo>
                  <a:lnTo>
                    <a:pt x="440" y="452"/>
                  </a:lnTo>
                  <a:lnTo>
                    <a:pt x="416" y="436"/>
                  </a:lnTo>
                  <a:lnTo>
                    <a:pt x="390" y="422"/>
                  </a:lnTo>
                  <a:lnTo>
                    <a:pt x="364" y="410"/>
                  </a:lnTo>
                  <a:lnTo>
                    <a:pt x="336" y="400"/>
                  </a:lnTo>
                  <a:lnTo>
                    <a:pt x="308" y="394"/>
                  </a:lnTo>
                  <a:lnTo>
                    <a:pt x="278" y="392"/>
                  </a:lnTo>
                  <a:lnTo>
                    <a:pt x="278" y="392"/>
                  </a:lnTo>
                  <a:lnTo>
                    <a:pt x="276" y="380"/>
                  </a:lnTo>
                  <a:lnTo>
                    <a:pt x="274" y="370"/>
                  </a:lnTo>
                  <a:lnTo>
                    <a:pt x="276" y="358"/>
                  </a:lnTo>
                  <a:lnTo>
                    <a:pt x="278" y="346"/>
                  </a:lnTo>
                  <a:lnTo>
                    <a:pt x="278" y="346"/>
                  </a:lnTo>
                  <a:lnTo>
                    <a:pt x="280" y="326"/>
                  </a:lnTo>
                  <a:lnTo>
                    <a:pt x="278" y="308"/>
                  </a:lnTo>
                  <a:lnTo>
                    <a:pt x="276" y="292"/>
                  </a:lnTo>
                  <a:lnTo>
                    <a:pt x="272" y="274"/>
                  </a:lnTo>
                  <a:lnTo>
                    <a:pt x="266" y="258"/>
                  </a:lnTo>
                  <a:lnTo>
                    <a:pt x="260" y="244"/>
                  </a:lnTo>
                  <a:lnTo>
                    <a:pt x="250" y="230"/>
                  </a:lnTo>
                  <a:lnTo>
                    <a:pt x="242" y="216"/>
                  </a:lnTo>
                  <a:lnTo>
                    <a:pt x="220" y="190"/>
                  </a:lnTo>
                  <a:lnTo>
                    <a:pt x="196" y="168"/>
                  </a:lnTo>
                  <a:lnTo>
                    <a:pt x="170" y="146"/>
                  </a:lnTo>
                  <a:lnTo>
                    <a:pt x="144" y="124"/>
                  </a:lnTo>
                  <a:lnTo>
                    <a:pt x="144" y="124"/>
                  </a:lnTo>
                  <a:lnTo>
                    <a:pt x="108" y="108"/>
                  </a:lnTo>
                  <a:lnTo>
                    <a:pt x="74" y="94"/>
                  </a:lnTo>
                  <a:lnTo>
                    <a:pt x="38" y="82"/>
                  </a:lnTo>
                  <a:lnTo>
                    <a:pt x="20" y="7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42" y="54"/>
                  </a:lnTo>
                  <a:lnTo>
                    <a:pt x="80" y="34"/>
                  </a:lnTo>
                  <a:lnTo>
                    <a:pt x="122" y="16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70" y="6"/>
                  </a:lnTo>
                  <a:lnTo>
                    <a:pt x="174" y="12"/>
                  </a:lnTo>
                  <a:lnTo>
                    <a:pt x="176" y="28"/>
                  </a:lnTo>
                  <a:lnTo>
                    <a:pt x="180" y="46"/>
                  </a:lnTo>
                  <a:lnTo>
                    <a:pt x="182" y="54"/>
                  </a:lnTo>
                  <a:lnTo>
                    <a:pt x="186" y="62"/>
                  </a:lnTo>
                  <a:lnTo>
                    <a:pt x="186" y="62"/>
                  </a:lnTo>
                  <a:close/>
                </a:path>
              </a:pathLst>
            </a:custGeom>
            <a:solidFill>
              <a:srgbClr val="00a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7"/>
            <p:cNvSpPr/>
            <p:nvPr/>
          </p:nvSpPr>
          <p:spPr>
            <a:xfrm>
              <a:off x="38233440" y="5133960"/>
              <a:ext cx="1504800" cy="1400040"/>
            </a:xfrm>
            <a:custGeom>
              <a:avLst/>
              <a:gdLst>
                <a:gd name="textAreaLeft" fmla="*/ 0 w 1504800"/>
                <a:gd name="textAreaRight" fmla="*/ 1505160 w 150480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948" h="882">
                  <a:moveTo>
                    <a:pt x="584" y="36"/>
                  </a:moveTo>
                  <a:lnTo>
                    <a:pt x="584" y="36"/>
                  </a:lnTo>
                  <a:lnTo>
                    <a:pt x="598" y="56"/>
                  </a:lnTo>
                  <a:lnTo>
                    <a:pt x="608" y="76"/>
                  </a:lnTo>
                  <a:lnTo>
                    <a:pt x="628" y="118"/>
                  </a:lnTo>
                  <a:lnTo>
                    <a:pt x="640" y="136"/>
                  </a:lnTo>
                  <a:lnTo>
                    <a:pt x="654" y="152"/>
                  </a:lnTo>
                  <a:lnTo>
                    <a:pt x="662" y="160"/>
                  </a:lnTo>
                  <a:lnTo>
                    <a:pt x="670" y="166"/>
                  </a:lnTo>
                  <a:lnTo>
                    <a:pt x="682" y="170"/>
                  </a:lnTo>
                  <a:lnTo>
                    <a:pt x="694" y="172"/>
                  </a:lnTo>
                  <a:lnTo>
                    <a:pt x="694" y="172"/>
                  </a:lnTo>
                  <a:lnTo>
                    <a:pt x="720" y="166"/>
                  </a:lnTo>
                  <a:lnTo>
                    <a:pt x="748" y="160"/>
                  </a:lnTo>
                  <a:lnTo>
                    <a:pt x="776" y="158"/>
                  </a:lnTo>
                  <a:lnTo>
                    <a:pt x="804" y="156"/>
                  </a:lnTo>
                  <a:lnTo>
                    <a:pt x="832" y="160"/>
                  </a:lnTo>
                  <a:lnTo>
                    <a:pt x="844" y="162"/>
                  </a:lnTo>
                  <a:lnTo>
                    <a:pt x="858" y="168"/>
                  </a:lnTo>
                  <a:lnTo>
                    <a:pt x="870" y="172"/>
                  </a:lnTo>
                  <a:lnTo>
                    <a:pt x="882" y="180"/>
                  </a:lnTo>
                  <a:lnTo>
                    <a:pt x="894" y="188"/>
                  </a:lnTo>
                  <a:lnTo>
                    <a:pt x="904" y="196"/>
                  </a:lnTo>
                  <a:lnTo>
                    <a:pt x="904" y="196"/>
                  </a:lnTo>
                  <a:lnTo>
                    <a:pt x="916" y="202"/>
                  </a:lnTo>
                  <a:lnTo>
                    <a:pt x="924" y="208"/>
                  </a:lnTo>
                  <a:lnTo>
                    <a:pt x="932" y="216"/>
                  </a:lnTo>
                  <a:lnTo>
                    <a:pt x="938" y="224"/>
                  </a:lnTo>
                  <a:lnTo>
                    <a:pt x="942" y="234"/>
                  </a:lnTo>
                  <a:lnTo>
                    <a:pt x="944" y="242"/>
                  </a:lnTo>
                  <a:lnTo>
                    <a:pt x="948" y="262"/>
                  </a:lnTo>
                  <a:lnTo>
                    <a:pt x="948" y="282"/>
                  </a:lnTo>
                  <a:lnTo>
                    <a:pt x="946" y="304"/>
                  </a:lnTo>
                  <a:lnTo>
                    <a:pt x="944" y="322"/>
                  </a:lnTo>
                  <a:lnTo>
                    <a:pt x="942" y="340"/>
                  </a:lnTo>
                  <a:lnTo>
                    <a:pt x="942" y="340"/>
                  </a:lnTo>
                  <a:lnTo>
                    <a:pt x="930" y="362"/>
                  </a:lnTo>
                  <a:lnTo>
                    <a:pt x="916" y="382"/>
                  </a:lnTo>
                  <a:lnTo>
                    <a:pt x="900" y="402"/>
                  </a:lnTo>
                  <a:lnTo>
                    <a:pt x="882" y="418"/>
                  </a:lnTo>
                  <a:lnTo>
                    <a:pt x="864" y="432"/>
                  </a:lnTo>
                  <a:lnTo>
                    <a:pt x="842" y="446"/>
                  </a:lnTo>
                  <a:lnTo>
                    <a:pt x="800" y="472"/>
                  </a:lnTo>
                  <a:lnTo>
                    <a:pt x="800" y="472"/>
                  </a:lnTo>
                  <a:lnTo>
                    <a:pt x="798" y="480"/>
                  </a:lnTo>
                  <a:lnTo>
                    <a:pt x="794" y="488"/>
                  </a:lnTo>
                  <a:lnTo>
                    <a:pt x="782" y="504"/>
                  </a:lnTo>
                  <a:lnTo>
                    <a:pt x="782" y="504"/>
                  </a:lnTo>
                  <a:lnTo>
                    <a:pt x="790" y="512"/>
                  </a:lnTo>
                  <a:lnTo>
                    <a:pt x="796" y="522"/>
                  </a:lnTo>
                  <a:lnTo>
                    <a:pt x="810" y="542"/>
                  </a:lnTo>
                  <a:lnTo>
                    <a:pt x="818" y="552"/>
                  </a:lnTo>
                  <a:lnTo>
                    <a:pt x="826" y="560"/>
                  </a:lnTo>
                  <a:lnTo>
                    <a:pt x="838" y="566"/>
                  </a:lnTo>
                  <a:lnTo>
                    <a:pt x="850" y="568"/>
                  </a:lnTo>
                  <a:lnTo>
                    <a:pt x="850" y="568"/>
                  </a:lnTo>
                  <a:lnTo>
                    <a:pt x="856" y="592"/>
                  </a:lnTo>
                  <a:lnTo>
                    <a:pt x="858" y="616"/>
                  </a:lnTo>
                  <a:lnTo>
                    <a:pt x="856" y="640"/>
                  </a:lnTo>
                  <a:lnTo>
                    <a:pt x="850" y="664"/>
                  </a:lnTo>
                  <a:lnTo>
                    <a:pt x="850" y="664"/>
                  </a:lnTo>
                  <a:lnTo>
                    <a:pt x="840" y="680"/>
                  </a:lnTo>
                  <a:lnTo>
                    <a:pt x="830" y="692"/>
                  </a:lnTo>
                  <a:lnTo>
                    <a:pt x="820" y="698"/>
                  </a:lnTo>
                  <a:lnTo>
                    <a:pt x="810" y="700"/>
                  </a:lnTo>
                  <a:lnTo>
                    <a:pt x="798" y="698"/>
                  </a:lnTo>
                  <a:lnTo>
                    <a:pt x="788" y="694"/>
                  </a:lnTo>
                  <a:lnTo>
                    <a:pt x="776" y="688"/>
                  </a:lnTo>
                  <a:lnTo>
                    <a:pt x="764" y="680"/>
                  </a:lnTo>
                  <a:lnTo>
                    <a:pt x="740" y="664"/>
                  </a:lnTo>
                  <a:lnTo>
                    <a:pt x="728" y="656"/>
                  </a:lnTo>
                  <a:lnTo>
                    <a:pt x="714" y="650"/>
                  </a:lnTo>
                  <a:lnTo>
                    <a:pt x="700" y="644"/>
                  </a:lnTo>
                  <a:lnTo>
                    <a:pt x="688" y="642"/>
                  </a:lnTo>
                  <a:lnTo>
                    <a:pt x="672" y="642"/>
                  </a:lnTo>
                  <a:lnTo>
                    <a:pt x="658" y="646"/>
                  </a:lnTo>
                  <a:lnTo>
                    <a:pt x="658" y="646"/>
                  </a:lnTo>
                  <a:lnTo>
                    <a:pt x="648" y="642"/>
                  </a:lnTo>
                  <a:lnTo>
                    <a:pt x="638" y="640"/>
                  </a:lnTo>
                  <a:lnTo>
                    <a:pt x="626" y="638"/>
                  </a:lnTo>
                  <a:lnTo>
                    <a:pt x="616" y="638"/>
                  </a:lnTo>
                  <a:lnTo>
                    <a:pt x="594" y="640"/>
                  </a:lnTo>
                  <a:lnTo>
                    <a:pt x="572" y="648"/>
                  </a:lnTo>
                  <a:lnTo>
                    <a:pt x="550" y="656"/>
                  </a:lnTo>
                  <a:lnTo>
                    <a:pt x="530" y="668"/>
                  </a:lnTo>
                  <a:lnTo>
                    <a:pt x="494" y="692"/>
                  </a:lnTo>
                  <a:lnTo>
                    <a:pt x="494" y="692"/>
                  </a:lnTo>
                  <a:lnTo>
                    <a:pt x="482" y="716"/>
                  </a:lnTo>
                  <a:lnTo>
                    <a:pt x="468" y="738"/>
                  </a:lnTo>
                  <a:lnTo>
                    <a:pt x="440" y="782"/>
                  </a:lnTo>
                  <a:lnTo>
                    <a:pt x="428" y="806"/>
                  </a:lnTo>
                  <a:lnTo>
                    <a:pt x="416" y="830"/>
                  </a:lnTo>
                  <a:lnTo>
                    <a:pt x="408" y="854"/>
                  </a:lnTo>
                  <a:lnTo>
                    <a:pt x="406" y="868"/>
                  </a:lnTo>
                  <a:lnTo>
                    <a:pt x="406" y="882"/>
                  </a:lnTo>
                  <a:lnTo>
                    <a:pt x="406" y="882"/>
                  </a:lnTo>
                  <a:lnTo>
                    <a:pt x="378" y="816"/>
                  </a:lnTo>
                  <a:lnTo>
                    <a:pt x="350" y="754"/>
                  </a:lnTo>
                  <a:lnTo>
                    <a:pt x="350" y="754"/>
                  </a:lnTo>
                  <a:lnTo>
                    <a:pt x="340" y="740"/>
                  </a:lnTo>
                  <a:lnTo>
                    <a:pt x="326" y="728"/>
                  </a:lnTo>
                  <a:lnTo>
                    <a:pt x="298" y="708"/>
                  </a:lnTo>
                  <a:lnTo>
                    <a:pt x="284" y="698"/>
                  </a:lnTo>
                  <a:lnTo>
                    <a:pt x="270" y="686"/>
                  </a:lnTo>
                  <a:lnTo>
                    <a:pt x="262" y="674"/>
                  </a:lnTo>
                  <a:lnTo>
                    <a:pt x="258" y="666"/>
                  </a:lnTo>
                  <a:lnTo>
                    <a:pt x="256" y="656"/>
                  </a:lnTo>
                  <a:lnTo>
                    <a:pt x="256" y="656"/>
                  </a:lnTo>
                  <a:lnTo>
                    <a:pt x="226" y="648"/>
                  </a:lnTo>
                  <a:lnTo>
                    <a:pt x="194" y="638"/>
                  </a:lnTo>
                  <a:lnTo>
                    <a:pt x="178" y="632"/>
                  </a:lnTo>
                  <a:lnTo>
                    <a:pt x="166" y="622"/>
                  </a:lnTo>
                  <a:lnTo>
                    <a:pt x="154" y="610"/>
                  </a:lnTo>
                  <a:lnTo>
                    <a:pt x="146" y="596"/>
                  </a:lnTo>
                  <a:lnTo>
                    <a:pt x="146" y="596"/>
                  </a:lnTo>
                  <a:lnTo>
                    <a:pt x="142" y="596"/>
                  </a:lnTo>
                  <a:lnTo>
                    <a:pt x="138" y="594"/>
                  </a:lnTo>
                  <a:lnTo>
                    <a:pt x="132" y="588"/>
                  </a:lnTo>
                  <a:lnTo>
                    <a:pt x="128" y="582"/>
                  </a:lnTo>
                  <a:lnTo>
                    <a:pt x="124" y="576"/>
                  </a:lnTo>
                  <a:lnTo>
                    <a:pt x="124" y="576"/>
                  </a:lnTo>
                  <a:lnTo>
                    <a:pt x="116" y="578"/>
                  </a:lnTo>
                  <a:lnTo>
                    <a:pt x="108" y="578"/>
                  </a:lnTo>
                  <a:lnTo>
                    <a:pt x="100" y="578"/>
                  </a:lnTo>
                  <a:lnTo>
                    <a:pt x="92" y="574"/>
                  </a:lnTo>
                  <a:lnTo>
                    <a:pt x="86" y="570"/>
                  </a:lnTo>
                  <a:lnTo>
                    <a:pt x="80" y="562"/>
                  </a:lnTo>
                  <a:lnTo>
                    <a:pt x="76" y="556"/>
                  </a:lnTo>
                  <a:lnTo>
                    <a:pt x="74" y="548"/>
                  </a:lnTo>
                  <a:lnTo>
                    <a:pt x="74" y="548"/>
                  </a:lnTo>
                  <a:lnTo>
                    <a:pt x="66" y="542"/>
                  </a:lnTo>
                  <a:lnTo>
                    <a:pt x="56" y="538"/>
                  </a:lnTo>
                  <a:lnTo>
                    <a:pt x="34" y="530"/>
                  </a:lnTo>
                  <a:lnTo>
                    <a:pt x="26" y="524"/>
                  </a:lnTo>
                  <a:lnTo>
                    <a:pt x="16" y="518"/>
                  </a:lnTo>
                  <a:lnTo>
                    <a:pt x="10" y="510"/>
                  </a:lnTo>
                  <a:lnTo>
                    <a:pt x="4" y="500"/>
                  </a:lnTo>
                  <a:lnTo>
                    <a:pt x="4" y="500"/>
                  </a:lnTo>
                  <a:lnTo>
                    <a:pt x="0" y="480"/>
                  </a:lnTo>
                  <a:lnTo>
                    <a:pt x="0" y="462"/>
                  </a:lnTo>
                  <a:lnTo>
                    <a:pt x="0" y="442"/>
                  </a:lnTo>
                  <a:lnTo>
                    <a:pt x="2" y="424"/>
                  </a:lnTo>
                  <a:lnTo>
                    <a:pt x="6" y="404"/>
                  </a:lnTo>
                  <a:lnTo>
                    <a:pt x="10" y="388"/>
                  </a:lnTo>
                  <a:lnTo>
                    <a:pt x="18" y="372"/>
                  </a:lnTo>
                  <a:lnTo>
                    <a:pt x="28" y="356"/>
                  </a:lnTo>
                  <a:lnTo>
                    <a:pt x="28" y="356"/>
                  </a:lnTo>
                  <a:lnTo>
                    <a:pt x="52" y="338"/>
                  </a:lnTo>
                  <a:lnTo>
                    <a:pt x="76" y="322"/>
                  </a:lnTo>
                  <a:lnTo>
                    <a:pt x="104" y="310"/>
                  </a:lnTo>
                  <a:lnTo>
                    <a:pt x="134" y="300"/>
                  </a:lnTo>
                  <a:lnTo>
                    <a:pt x="164" y="292"/>
                  </a:lnTo>
                  <a:lnTo>
                    <a:pt x="194" y="286"/>
                  </a:lnTo>
                  <a:lnTo>
                    <a:pt x="256" y="276"/>
                  </a:lnTo>
                  <a:lnTo>
                    <a:pt x="256" y="276"/>
                  </a:lnTo>
                  <a:lnTo>
                    <a:pt x="262" y="268"/>
                  </a:lnTo>
                  <a:lnTo>
                    <a:pt x="266" y="258"/>
                  </a:lnTo>
                  <a:lnTo>
                    <a:pt x="268" y="250"/>
                  </a:lnTo>
                  <a:lnTo>
                    <a:pt x="270" y="240"/>
                  </a:lnTo>
                  <a:lnTo>
                    <a:pt x="270" y="222"/>
                  </a:lnTo>
                  <a:lnTo>
                    <a:pt x="268" y="202"/>
                  </a:lnTo>
                  <a:lnTo>
                    <a:pt x="268" y="184"/>
                  </a:lnTo>
                  <a:lnTo>
                    <a:pt x="268" y="164"/>
                  </a:lnTo>
                  <a:lnTo>
                    <a:pt x="268" y="156"/>
                  </a:lnTo>
                  <a:lnTo>
                    <a:pt x="272" y="146"/>
                  </a:lnTo>
                  <a:lnTo>
                    <a:pt x="276" y="138"/>
                  </a:lnTo>
                  <a:lnTo>
                    <a:pt x="280" y="130"/>
                  </a:lnTo>
                  <a:lnTo>
                    <a:pt x="280" y="130"/>
                  </a:lnTo>
                  <a:lnTo>
                    <a:pt x="308" y="94"/>
                  </a:lnTo>
                  <a:lnTo>
                    <a:pt x="324" y="76"/>
                  </a:lnTo>
                  <a:lnTo>
                    <a:pt x="340" y="58"/>
                  </a:lnTo>
                  <a:lnTo>
                    <a:pt x="360" y="42"/>
                  </a:lnTo>
                  <a:lnTo>
                    <a:pt x="380" y="28"/>
                  </a:lnTo>
                  <a:lnTo>
                    <a:pt x="400" y="18"/>
                  </a:lnTo>
                  <a:lnTo>
                    <a:pt x="424" y="12"/>
                  </a:lnTo>
                  <a:lnTo>
                    <a:pt x="424" y="12"/>
                  </a:lnTo>
                  <a:lnTo>
                    <a:pt x="438" y="6"/>
                  </a:lnTo>
                  <a:lnTo>
                    <a:pt x="454" y="2"/>
                  </a:lnTo>
                  <a:lnTo>
                    <a:pt x="470" y="0"/>
                  </a:lnTo>
                  <a:lnTo>
                    <a:pt x="486" y="0"/>
                  </a:lnTo>
                  <a:lnTo>
                    <a:pt x="504" y="0"/>
                  </a:lnTo>
                  <a:lnTo>
                    <a:pt x="520" y="4"/>
                  </a:lnTo>
                  <a:lnTo>
                    <a:pt x="552" y="12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e95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8"/>
            <p:cNvSpPr/>
            <p:nvPr/>
          </p:nvSpPr>
          <p:spPr>
            <a:xfrm>
              <a:off x="39614760" y="5172120"/>
              <a:ext cx="1536480" cy="1326960"/>
            </a:xfrm>
            <a:custGeom>
              <a:avLst/>
              <a:gdLst>
                <a:gd name="textAreaLeft" fmla="*/ 0 w 1536480"/>
                <a:gd name="textAreaRight" fmla="*/ 1536840 w 153648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968" h="836">
                  <a:moveTo>
                    <a:pt x="700" y="116"/>
                  </a:moveTo>
                  <a:lnTo>
                    <a:pt x="700" y="116"/>
                  </a:lnTo>
                  <a:lnTo>
                    <a:pt x="704" y="154"/>
                  </a:lnTo>
                  <a:lnTo>
                    <a:pt x="704" y="188"/>
                  </a:lnTo>
                  <a:lnTo>
                    <a:pt x="702" y="206"/>
                  </a:lnTo>
                  <a:lnTo>
                    <a:pt x="698" y="222"/>
                  </a:lnTo>
                  <a:lnTo>
                    <a:pt x="692" y="240"/>
                  </a:lnTo>
                  <a:lnTo>
                    <a:pt x="686" y="256"/>
                  </a:lnTo>
                  <a:lnTo>
                    <a:pt x="686" y="256"/>
                  </a:lnTo>
                  <a:lnTo>
                    <a:pt x="692" y="258"/>
                  </a:lnTo>
                  <a:lnTo>
                    <a:pt x="696" y="262"/>
                  </a:lnTo>
                  <a:lnTo>
                    <a:pt x="702" y="268"/>
                  </a:lnTo>
                  <a:lnTo>
                    <a:pt x="704" y="278"/>
                  </a:lnTo>
                  <a:lnTo>
                    <a:pt x="706" y="288"/>
                  </a:lnTo>
                  <a:lnTo>
                    <a:pt x="706" y="298"/>
                  </a:lnTo>
                  <a:lnTo>
                    <a:pt x="710" y="308"/>
                  </a:lnTo>
                  <a:lnTo>
                    <a:pt x="712" y="312"/>
                  </a:lnTo>
                  <a:lnTo>
                    <a:pt x="716" y="314"/>
                  </a:lnTo>
                  <a:lnTo>
                    <a:pt x="722" y="318"/>
                  </a:lnTo>
                  <a:lnTo>
                    <a:pt x="730" y="320"/>
                  </a:lnTo>
                  <a:lnTo>
                    <a:pt x="730" y="320"/>
                  </a:lnTo>
                  <a:lnTo>
                    <a:pt x="758" y="316"/>
                  </a:lnTo>
                  <a:lnTo>
                    <a:pt x="788" y="312"/>
                  </a:lnTo>
                  <a:lnTo>
                    <a:pt x="818" y="314"/>
                  </a:lnTo>
                  <a:lnTo>
                    <a:pt x="846" y="316"/>
                  </a:lnTo>
                  <a:lnTo>
                    <a:pt x="872" y="324"/>
                  </a:lnTo>
                  <a:lnTo>
                    <a:pt x="898" y="334"/>
                  </a:lnTo>
                  <a:lnTo>
                    <a:pt x="922" y="348"/>
                  </a:lnTo>
                  <a:lnTo>
                    <a:pt x="932" y="356"/>
                  </a:lnTo>
                  <a:lnTo>
                    <a:pt x="942" y="366"/>
                  </a:lnTo>
                  <a:lnTo>
                    <a:pt x="942" y="366"/>
                  </a:lnTo>
                  <a:lnTo>
                    <a:pt x="954" y="374"/>
                  </a:lnTo>
                  <a:lnTo>
                    <a:pt x="962" y="386"/>
                  </a:lnTo>
                  <a:lnTo>
                    <a:pt x="966" y="400"/>
                  </a:lnTo>
                  <a:lnTo>
                    <a:pt x="968" y="414"/>
                  </a:lnTo>
                  <a:lnTo>
                    <a:pt x="968" y="428"/>
                  </a:lnTo>
                  <a:lnTo>
                    <a:pt x="968" y="444"/>
                  </a:lnTo>
                  <a:lnTo>
                    <a:pt x="964" y="472"/>
                  </a:lnTo>
                  <a:lnTo>
                    <a:pt x="964" y="472"/>
                  </a:lnTo>
                  <a:lnTo>
                    <a:pt x="962" y="486"/>
                  </a:lnTo>
                  <a:lnTo>
                    <a:pt x="958" y="496"/>
                  </a:lnTo>
                  <a:lnTo>
                    <a:pt x="952" y="508"/>
                  </a:lnTo>
                  <a:lnTo>
                    <a:pt x="946" y="518"/>
                  </a:lnTo>
                  <a:lnTo>
                    <a:pt x="938" y="526"/>
                  </a:lnTo>
                  <a:lnTo>
                    <a:pt x="930" y="534"/>
                  </a:lnTo>
                  <a:lnTo>
                    <a:pt x="910" y="550"/>
                  </a:lnTo>
                  <a:lnTo>
                    <a:pt x="888" y="562"/>
                  </a:lnTo>
                  <a:lnTo>
                    <a:pt x="866" y="574"/>
                  </a:lnTo>
                  <a:lnTo>
                    <a:pt x="822" y="594"/>
                  </a:lnTo>
                  <a:lnTo>
                    <a:pt x="822" y="594"/>
                  </a:lnTo>
                  <a:lnTo>
                    <a:pt x="810" y="592"/>
                  </a:lnTo>
                  <a:lnTo>
                    <a:pt x="802" y="592"/>
                  </a:lnTo>
                  <a:lnTo>
                    <a:pt x="796" y="596"/>
                  </a:lnTo>
                  <a:lnTo>
                    <a:pt x="792" y="602"/>
                  </a:lnTo>
                  <a:lnTo>
                    <a:pt x="784" y="616"/>
                  </a:lnTo>
                  <a:lnTo>
                    <a:pt x="778" y="622"/>
                  </a:lnTo>
                  <a:lnTo>
                    <a:pt x="772" y="626"/>
                  </a:lnTo>
                  <a:lnTo>
                    <a:pt x="772" y="626"/>
                  </a:lnTo>
                  <a:lnTo>
                    <a:pt x="772" y="630"/>
                  </a:lnTo>
                  <a:lnTo>
                    <a:pt x="774" y="634"/>
                  </a:lnTo>
                  <a:lnTo>
                    <a:pt x="782" y="640"/>
                  </a:lnTo>
                  <a:lnTo>
                    <a:pt x="786" y="644"/>
                  </a:lnTo>
                  <a:lnTo>
                    <a:pt x="788" y="646"/>
                  </a:lnTo>
                  <a:lnTo>
                    <a:pt x="788" y="652"/>
                  </a:lnTo>
                  <a:lnTo>
                    <a:pt x="786" y="658"/>
                  </a:lnTo>
                  <a:lnTo>
                    <a:pt x="786" y="658"/>
                  </a:lnTo>
                  <a:lnTo>
                    <a:pt x="748" y="640"/>
                  </a:lnTo>
                  <a:lnTo>
                    <a:pt x="728" y="630"/>
                  </a:lnTo>
                  <a:lnTo>
                    <a:pt x="708" y="622"/>
                  </a:lnTo>
                  <a:lnTo>
                    <a:pt x="688" y="616"/>
                  </a:lnTo>
                  <a:lnTo>
                    <a:pt x="668" y="614"/>
                  </a:lnTo>
                  <a:lnTo>
                    <a:pt x="658" y="614"/>
                  </a:lnTo>
                  <a:lnTo>
                    <a:pt x="646" y="616"/>
                  </a:lnTo>
                  <a:lnTo>
                    <a:pt x="636" y="620"/>
                  </a:lnTo>
                  <a:lnTo>
                    <a:pt x="626" y="626"/>
                  </a:lnTo>
                  <a:lnTo>
                    <a:pt x="626" y="626"/>
                  </a:lnTo>
                  <a:lnTo>
                    <a:pt x="606" y="640"/>
                  </a:lnTo>
                  <a:lnTo>
                    <a:pt x="588" y="658"/>
                  </a:lnTo>
                  <a:lnTo>
                    <a:pt x="572" y="678"/>
                  </a:lnTo>
                  <a:lnTo>
                    <a:pt x="558" y="700"/>
                  </a:lnTo>
                  <a:lnTo>
                    <a:pt x="544" y="722"/>
                  </a:lnTo>
                  <a:lnTo>
                    <a:pt x="532" y="746"/>
                  </a:lnTo>
                  <a:lnTo>
                    <a:pt x="512" y="796"/>
                  </a:lnTo>
                  <a:lnTo>
                    <a:pt x="512" y="818"/>
                  </a:lnTo>
                  <a:lnTo>
                    <a:pt x="512" y="818"/>
                  </a:lnTo>
                  <a:lnTo>
                    <a:pt x="510" y="818"/>
                  </a:lnTo>
                  <a:lnTo>
                    <a:pt x="506" y="820"/>
                  </a:lnTo>
                  <a:lnTo>
                    <a:pt x="504" y="822"/>
                  </a:lnTo>
                  <a:lnTo>
                    <a:pt x="504" y="826"/>
                  </a:lnTo>
                  <a:lnTo>
                    <a:pt x="504" y="836"/>
                  </a:lnTo>
                  <a:lnTo>
                    <a:pt x="494" y="836"/>
                  </a:lnTo>
                  <a:lnTo>
                    <a:pt x="494" y="836"/>
                  </a:lnTo>
                  <a:lnTo>
                    <a:pt x="480" y="806"/>
                  </a:lnTo>
                  <a:lnTo>
                    <a:pt x="464" y="774"/>
                  </a:lnTo>
                  <a:lnTo>
                    <a:pt x="446" y="744"/>
                  </a:lnTo>
                  <a:lnTo>
                    <a:pt x="424" y="716"/>
                  </a:lnTo>
                  <a:lnTo>
                    <a:pt x="402" y="690"/>
                  </a:lnTo>
                  <a:lnTo>
                    <a:pt x="376" y="668"/>
                  </a:lnTo>
                  <a:lnTo>
                    <a:pt x="362" y="658"/>
                  </a:lnTo>
                  <a:lnTo>
                    <a:pt x="348" y="648"/>
                  </a:lnTo>
                  <a:lnTo>
                    <a:pt x="334" y="642"/>
                  </a:lnTo>
                  <a:lnTo>
                    <a:pt x="320" y="636"/>
                  </a:lnTo>
                  <a:lnTo>
                    <a:pt x="320" y="636"/>
                  </a:lnTo>
                  <a:lnTo>
                    <a:pt x="316" y="630"/>
                  </a:lnTo>
                  <a:lnTo>
                    <a:pt x="310" y="624"/>
                  </a:lnTo>
                  <a:lnTo>
                    <a:pt x="302" y="622"/>
                  </a:lnTo>
                  <a:lnTo>
                    <a:pt x="294" y="618"/>
                  </a:lnTo>
                  <a:lnTo>
                    <a:pt x="278" y="614"/>
                  </a:lnTo>
                  <a:lnTo>
                    <a:pt x="272" y="610"/>
                  </a:lnTo>
                  <a:lnTo>
                    <a:pt x="266" y="604"/>
                  </a:lnTo>
                  <a:lnTo>
                    <a:pt x="266" y="604"/>
                  </a:lnTo>
                  <a:lnTo>
                    <a:pt x="252" y="600"/>
                  </a:lnTo>
                  <a:lnTo>
                    <a:pt x="238" y="598"/>
                  </a:lnTo>
                  <a:lnTo>
                    <a:pt x="224" y="598"/>
                  </a:lnTo>
                  <a:lnTo>
                    <a:pt x="212" y="600"/>
                  </a:lnTo>
                  <a:lnTo>
                    <a:pt x="200" y="604"/>
                  </a:lnTo>
                  <a:lnTo>
                    <a:pt x="188" y="608"/>
                  </a:lnTo>
                  <a:lnTo>
                    <a:pt x="166" y="620"/>
                  </a:lnTo>
                  <a:lnTo>
                    <a:pt x="144" y="634"/>
                  </a:lnTo>
                  <a:lnTo>
                    <a:pt x="126" y="652"/>
                  </a:lnTo>
                  <a:lnTo>
                    <a:pt x="90" y="686"/>
                  </a:lnTo>
                  <a:lnTo>
                    <a:pt x="90" y="686"/>
                  </a:lnTo>
                  <a:lnTo>
                    <a:pt x="64" y="730"/>
                  </a:lnTo>
                  <a:lnTo>
                    <a:pt x="50" y="752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8" y="786"/>
                  </a:lnTo>
                  <a:lnTo>
                    <a:pt x="36" y="798"/>
                  </a:lnTo>
                  <a:lnTo>
                    <a:pt x="32" y="818"/>
                  </a:lnTo>
                  <a:lnTo>
                    <a:pt x="20" y="808"/>
                  </a:lnTo>
                  <a:lnTo>
                    <a:pt x="20" y="808"/>
                  </a:lnTo>
                  <a:lnTo>
                    <a:pt x="18" y="800"/>
                  </a:lnTo>
                  <a:lnTo>
                    <a:pt x="16" y="792"/>
                  </a:lnTo>
                  <a:lnTo>
                    <a:pt x="4" y="772"/>
                  </a:lnTo>
                  <a:lnTo>
                    <a:pt x="2" y="762"/>
                  </a:lnTo>
                  <a:lnTo>
                    <a:pt x="0" y="754"/>
                  </a:lnTo>
                  <a:lnTo>
                    <a:pt x="2" y="748"/>
                  </a:lnTo>
                  <a:lnTo>
                    <a:pt x="4" y="744"/>
                  </a:lnTo>
                  <a:lnTo>
                    <a:pt x="8" y="740"/>
                  </a:lnTo>
                  <a:lnTo>
                    <a:pt x="14" y="736"/>
                  </a:lnTo>
                  <a:lnTo>
                    <a:pt x="14" y="736"/>
                  </a:lnTo>
                  <a:lnTo>
                    <a:pt x="20" y="736"/>
                  </a:lnTo>
                  <a:lnTo>
                    <a:pt x="26" y="734"/>
                  </a:lnTo>
                  <a:lnTo>
                    <a:pt x="34" y="728"/>
                  </a:lnTo>
                  <a:lnTo>
                    <a:pt x="40" y="720"/>
                  </a:lnTo>
                  <a:lnTo>
                    <a:pt x="44" y="710"/>
                  </a:lnTo>
                  <a:lnTo>
                    <a:pt x="48" y="700"/>
                  </a:lnTo>
                  <a:lnTo>
                    <a:pt x="54" y="690"/>
                  </a:lnTo>
                  <a:lnTo>
                    <a:pt x="60" y="682"/>
                  </a:lnTo>
                  <a:lnTo>
                    <a:pt x="70" y="676"/>
                  </a:lnTo>
                  <a:lnTo>
                    <a:pt x="70" y="676"/>
                  </a:lnTo>
                  <a:lnTo>
                    <a:pt x="78" y="662"/>
                  </a:lnTo>
                  <a:lnTo>
                    <a:pt x="84" y="648"/>
                  </a:lnTo>
                  <a:lnTo>
                    <a:pt x="88" y="634"/>
                  </a:lnTo>
                  <a:lnTo>
                    <a:pt x="90" y="618"/>
                  </a:lnTo>
                  <a:lnTo>
                    <a:pt x="90" y="618"/>
                  </a:lnTo>
                  <a:lnTo>
                    <a:pt x="96" y="624"/>
                  </a:lnTo>
                  <a:lnTo>
                    <a:pt x="100" y="628"/>
                  </a:lnTo>
                  <a:lnTo>
                    <a:pt x="108" y="628"/>
                  </a:lnTo>
                  <a:lnTo>
                    <a:pt x="114" y="630"/>
                  </a:lnTo>
                  <a:lnTo>
                    <a:pt x="128" y="628"/>
                  </a:lnTo>
                  <a:lnTo>
                    <a:pt x="142" y="626"/>
                  </a:lnTo>
                  <a:lnTo>
                    <a:pt x="142" y="626"/>
                  </a:lnTo>
                  <a:lnTo>
                    <a:pt x="148" y="620"/>
                  </a:lnTo>
                  <a:lnTo>
                    <a:pt x="154" y="614"/>
                  </a:lnTo>
                  <a:lnTo>
                    <a:pt x="158" y="608"/>
                  </a:lnTo>
                  <a:lnTo>
                    <a:pt x="160" y="600"/>
                  </a:lnTo>
                  <a:lnTo>
                    <a:pt x="162" y="590"/>
                  </a:lnTo>
                  <a:lnTo>
                    <a:pt x="162" y="582"/>
                  </a:lnTo>
                  <a:lnTo>
                    <a:pt x="160" y="564"/>
                  </a:lnTo>
                  <a:lnTo>
                    <a:pt x="160" y="564"/>
                  </a:lnTo>
                  <a:lnTo>
                    <a:pt x="106" y="530"/>
                  </a:lnTo>
                  <a:lnTo>
                    <a:pt x="78" y="514"/>
                  </a:lnTo>
                  <a:lnTo>
                    <a:pt x="50" y="500"/>
                  </a:lnTo>
                  <a:lnTo>
                    <a:pt x="50" y="500"/>
                  </a:lnTo>
                  <a:lnTo>
                    <a:pt x="52" y="492"/>
                  </a:lnTo>
                  <a:lnTo>
                    <a:pt x="56" y="486"/>
                  </a:lnTo>
                  <a:lnTo>
                    <a:pt x="62" y="482"/>
                  </a:lnTo>
                  <a:lnTo>
                    <a:pt x="68" y="478"/>
                  </a:lnTo>
                  <a:lnTo>
                    <a:pt x="82" y="468"/>
                  </a:lnTo>
                  <a:lnTo>
                    <a:pt x="88" y="462"/>
                  </a:lnTo>
                  <a:lnTo>
                    <a:pt x="90" y="454"/>
                  </a:lnTo>
                  <a:lnTo>
                    <a:pt x="90" y="454"/>
                  </a:lnTo>
                  <a:lnTo>
                    <a:pt x="104" y="444"/>
                  </a:lnTo>
                  <a:lnTo>
                    <a:pt x="114" y="434"/>
                  </a:lnTo>
                  <a:lnTo>
                    <a:pt x="124" y="422"/>
                  </a:lnTo>
                  <a:lnTo>
                    <a:pt x="134" y="408"/>
                  </a:lnTo>
                  <a:lnTo>
                    <a:pt x="142" y="396"/>
                  </a:lnTo>
                  <a:lnTo>
                    <a:pt x="150" y="380"/>
                  </a:lnTo>
                  <a:lnTo>
                    <a:pt x="160" y="350"/>
                  </a:lnTo>
                  <a:lnTo>
                    <a:pt x="168" y="318"/>
                  </a:lnTo>
                  <a:lnTo>
                    <a:pt x="172" y="286"/>
                  </a:lnTo>
                  <a:lnTo>
                    <a:pt x="172" y="256"/>
                  </a:lnTo>
                  <a:lnTo>
                    <a:pt x="166" y="226"/>
                  </a:lnTo>
                  <a:lnTo>
                    <a:pt x="166" y="226"/>
                  </a:lnTo>
                  <a:lnTo>
                    <a:pt x="174" y="218"/>
                  </a:lnTo>
                  <a:lnTo>
                    <a:pt x="184" y="216"/>
                  </a:lnTo>
                  <a:lnTo>
                    <a:pt x="192" y="216"/>
                  </a:lnTo>
                  <a:lnTo>
                    <a:pt x="202" y="218"/>
                  </a:lnTo>
                  <a:lnTo>
                    <a:pt x="224" y="224"/>
                  </a:lnTo>
                  <a:lnTo>
                    <a:pt x="234" y="226"/>
                  </a:lnTo>
                  <a:lnTo>
                    <a:pt x="246" y="226"/>
                  </a:lnTo>
                  <a:lnTo>
                    <a:pt x="246" y="226"/>
                  </a:lnTo>
                  <a:lnTo>
                    <a:pt x="254" y="232"/>
                  </a:lnTo>
                  <a:lnTo>
                    <a:pt x="262" y="238"/>
                  </a:lnTo>
                  <a:lnTo>
                    <a:pt x="270" y="242"/>
                  </a:lnTo>
                  <a:lnTo>
                    <a:pt x="276" y="244"/>
                  </a:lnTo>
                  <a:lnTo>
                    <a:pt x="280" y="244"/>
                  </a:lnTo>
                  <a:lnTo>
                    <a:pt x="280" y="244"/>
                  </a:lnTo>
                  <a:lnTo>
                    <a:pt x="274" y="246"/>
                  </a:lnTo>
                  <a:lnTo>
                    <a:pt x="270" y="248"/>
                  </a:lnTo>
                  <a:lnTo>
                    <a:pt x="260" y="258"/>
                  </a:lnTo>
                  <a:lnTo>
                    <a:pt x="254" y="268"/>
                  </a:lnTo>
                  <a:lnTo>
                    <a:pt x="248" y="280"/>
                  </a:lnTo>
                  <a:lnTo>
                    <a:pt x="248" y="280"/>
                  </a:lnTo>
                  <a:lnTo>
                    <a:pt x="246" y="290"/>
                  </a:lnTo>
                  <a:lnTo>
                    <a:pt x="246" y="298"/>
                  </a:lnTo>
                  <a:lnTo>
                    <a:pt x="250" y="306"/>
                  </a:lnTo>
                  <a:lnTo>
                    <a:pt x="252" y="312"/>
                  </a:lnTo>
                  <a:lnTo>
                    <a:pt x="264" y="322"/>
                  </a:lnTo>
                  <a:lnTo>
                    <a:pt x="274" y="332"/>
                  </a:lnTo>
                  <a:lnTo>
                    <a:pt x="274" y="332"/>
                  </a:lnTo>
                  <a:lnTo>
                    <a:pt x="264" y="346"/>
                  </a:lnTo>
                  <a:lnTo>
                    <a:pt x="258" y="358"/>
                  </a:lnTo>
                  <a:lnTo>
                    <a:pt x="252" y="372"/>
                  </a:lnTo>
                  <a:lnTo>
                    <a:pt x="250" y="384"/>
                  </a:lnTo>
                  <a:lnTo>
                    <a:pt x="248" y="398"/>
                  </a:lnTo>
                  <a:lnTo>
                    <a:pt x="248" y="412"/>
                  </a:lnTo>
                  <a:lnTo>
                    <a:pt x="252" y="440"/>
                  </a:lnTo>
                  <a:lnTo>
                    <a:pt x="258" y="468"/>
                  </a:lnTo>
                  <a:lnTo>
                    <a:pt x="266" y="498"/>
                  </a:lnTo>
                  <a:lnTo>
                    <a:pt x="274" y="526"/>
                  </a:lnTo>
                  <a:lnTo>
                    <a:pt x="280" y="554"/>
                  </a:lnTo>
                  <a:lnTo>
                    <a:pt x="280" y="554"/>
                  </a:lnTo>
                  <a:lnTo>
                    <a:pt x="294" y="564"/>
                  </a:lnTo>
                  <a:lnTo>
                    <a:pt x="310" y="572"/>
                  </a:lnTo>
                  <a:lnTo>
                    <a:pt x="326" y="578"/>
                  </a:lnTo>
                  <a:lnTo>
                    <a:pt x="344" y="580"/>
                  </a:lnTo>
                  <a:lnTo>
                    <a:pt x="344" y="580"/>
                  </a:lnTo>
                  <a:lnTo>
                    <a:pt x="356" y="576"/>
                  </a:lnTo>
                  <a:lnTo>
                    <a:pt x="368" y="570"/>
                  </a:lnTo>
                  <a:lnTo>
                    <a:pt x="376" y="562"/>
                  </a:lnTo>
                  <a:lnTo>
                    <a:pt x="384" y="552"/>
                  </a:lnTo>
                  <a:lnTo>
                    <a:pt x="384" y="552"/>
                  </a:lnTo>
                  <a:lnTo>
                    <a:pt x="374" y="508"/>
                  </a:lnTo>
                  <a:lnTo>
                    <a:pt x="368" y="464"/>
                  </a:lnTo>
                  <a:lnTo>
                    <a:pt x="364" y="418"/>
                  </a:lnTo>
                  <a:lnTo>
                    <a:pt x="358" y="376"/>
                  </a:lnTo>
                  <a:lnTo>
                    <a:pt x="320" y="340"/>
                  </a:lnTo>
                  <a:lnTo>
                    <a:pt x="320" y="340"/>
                  </a:lnTo>
                  <a:lnTo>
                    <a:pt x="334" y="336"/>
                  </a:lnTo>
                  <a:lnTo>
                    <a:pt x="348" y="328"/>
                  </a:lnTo>
                  <a:lnTo>
                    <a:pt x="354" y="324"/>
                  </a:lnTo>
                  <a:lnTo>
                    <a:pt x="358" y="320"/>
                  </a:lnTo>
                  <a:lnTo>
                    <a:pt x="362" y="312"/>
                  </a:lnTo>
                  <a:lnTo>
                    <a:pt x="366" y="304"/>
                  </a:lnTo>
                  <a:lnTo>
                    <a:pt x="366" y="304"/>
                  </a:lnTo>
                  <a:lnTo>
                    <a:pt x="368" y="298"/>
                  </a:lnTo>
                  <a:lnTo>
                    <a:pt x="368" y="290"/>
                  </a:lnTo>
                  <a:lnTo>
                    <a:pt x="366" y="284"/>
                  </a:lnTo>
                  <a:lnTo>
                    <a:pt x="364" y="276"/>
                  </a:lnTo>
                  <a:lnTo>
                    <a:pt x="354" y="266"/>
                  </a:lnTo>
                  <a:lnTo>
                    <a:pt x="344" y="256"/>
                  </a:lnTo>
                  <a:lnTo>
                    <a:pt x="326" y="248"/>
                  </a:lnTo>
                  <a:lnTo>
                    <a:pt x="326" y="248"/>
                  </a:lnTo>
                  <a:lnTo>
                    <a:pt x="338" y="238"/>
                  </a:lnTo>
                  <a:lnTo>
                    <a:pt x="346" y="224"/>
                  </a:lnTo>
                  <a:lnTo>
                    <a:pt x="348" y="216"/>
                  </a:lnTo>
                  <a:lnTo>
                    <a:pt x="348" y="208"/>
                  </a:lnTo>
                  <a:lnTo>
                    <a:pt x="350" y="200"/>
                  </a:lnTo>
                  <a:lnTo>
                    <a:pt x="348" y="190"/>
                  </a:lnTo>
                  <a:lnTo>
                    <a:pt x="348" y="190"/>
                  </a:lnTo>
                  <a:lnTo>
                    <a:pt x="344" y="176"/>
                  </a:lnTo>
                  <a:lnTo>
                    <a:pt x="342" y="160"/>
                  </a:lnTo>
                  <a:lnTo>
                    <a:pt x="340" y="142"/>
                  </a:lnTo>
                  <a:lnTo>
                    <a:pt x="342" y="124"/>
                  </a:lnTo>
                  <a:lnTo>
                    <a:pt x="346" y="106"/>
                  </a:lnTo>
                  <a:lnTo>
                    <a:pt x="352" y="88"/>
                  </a:lnTo>
                  <a:lnTo>
                    <a:pt x="362" y="74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82" y="50"/>
                  </a:lnTo>
                  <a:lnTo>
                    <a:pt x="392" y="40"/>
                  </a:lnTo>
                  <a:lnTo>
                    <a:pt x="412" y="24"/>
                  </a:lnTo>
                  <a:lnTo>
                    <a:pt x="436" y="14"/>
                  </a:lnTo>
                  <a:lnTo>
                    <a:pt x="460" y="6"/>
                  </a:lnTo>
                  <a:lnTo>
                    <a:pt x="484" y="0"/>
                  </a:lnTo>
                  <a:lnTo>
                    <a:pt x="510" y="0"/>
                  </a:lnTo>
                  <a:lnTo>
                    <a:pt x="536" y="2"/>
                  </a:lnTo>
                  <a:lnTo>
                    <a:pt x="562" y="6"/>
                  </a:lnTo>
                  <a:lnTo>
                    <a:pt x="562" y="6"/>
                  </a:lnTo>
                  <a:lnTo>
                    <a:pt x="582" y="14"/>
                  </a:lnTo>
                  <a:lnTo>
                    <a:pt x="604" y="22"/>
                  </a:lnTo>
                  <a:lnTo>
                    <a:pt x="624" y="34"/>
                  </a:lnTo>
                  <a:lnTo>
                    <a:pt x="644" y="46"/>
                  </a:lnTo>
                  <a:lnTo>
                    <a:pt x="662" y="60"/>
                  </a:lnTo>
                  <a:lnTo>
                    <a:pt x="678" y="76"/>
                  </a:lnTo>
                  <a:lnTo>
                    <a:pt x="690" y="96"/>
                  </a:lnTo>
                  <a:lnTo>
                    <a:pt x="700" y="116"/>
                  </a:lnTo>
                  <a:lnTo>
                    <a:pt x="700" y="116"/>
                  </a:lnTo>
                  <a:close/>
                </a:path>
              </a:pathLst>
            </a:custGeom>
            <a:solidFill>
              <a:srgbClr val="ea57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9"/>
            <p:cNvSpPr/>
            <p:nvPr/>
          </p:nvSpPr>
          <p:spPr>
            <a:xfrm>
              <a:off x="39227040" y="5489640"/>
              <a:ext cx="180720" cy="149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14" h="94">
                  <a:moveTo>
                    <a:pt x="108" y="34"/>
                  </a:moveTo>
                  <a:lnTo>
                    <a:pt x="108" y="34"/>
                  </a:lnTo>
                  <a:lnTo>
                    <a:pt x="108" y="42"/>
                  </a:lnTo>
                  <a:lnTo>
                    <a:pt x="110" y="48"/>
                  </a:lnTo>
                  <a:lnTo>
                    <a:pt x="114" y="60"/>
                  </a:lnTo>
                  <a:lnTo>
                    <a:pt x="114" y="64"/>
                  </a:lnTo>
                  <a:lnTo>
                    <a:pt x="112" y="70"/>
                  </a:lnTo>
                  <a:lnTo>
                    <a:pt x="110" y="76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96" y="90"/>
                  </a:lnTo>
                  <a:lnTo>
                    <a:pt x="90" y="92"/>
                  </a:lnTo>
                  <a:lnTo>
                    <a:pt x="82" y="94"/>
                  </a:lnTo>
                  <a:lnTo>
                    <a:pt x="72" y="94"/>
                  </a:lnTo>
                  <a:lnTo>
                    <a:pt x="56" y="94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2" y="90"/>
                  </a:lnTo>
                  <a:lnTo>
                    <a:pt x="26" y="86"/>
                  </a:lnTo>
                  <a:lnTo>
                    <a:pt x="20" y="82"/>
                  </a:lnTo>
                  <a:lnTo>
                    <a:pt x="14" y="76"/>
                  </a:lnTo>
                  <a:lnTo>
                    <a:pt x="6" y="6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26"/>
                  </a:lnTo>
                  <a:lnTo>
                    <a:pt x="18" y="16"/>
                  </a:lnTo>
                  <a:lnTo>
                    <a:pt x="24" y="10"/>
                  </a:lnTo>
                  <a:lnTo>
                    <a:pt x="34" y="4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2" y="6"/>
                  </a:lnTo>
                  <a:lnTo>
                    <a:pt x="10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00"/>
            <p:cNvSpPr/>
            <p:nvPr/>
          </p:nvSpPr>
          <p:spPr>
            <a:xfrm>
              <a:off x="38846160" y="5508720"/>
              <a:ext cx="183960" cy="145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6" h="92">
                  <a:moveTo>
                    <a:pt x="116" y="46"/>
                  </a:moveTo>
                  <a:lnTo>
                    <a:pt x="116" y="46"/>
                  </a:lnTo>
                  <a:lnTo>
                    <a:pt x="116" y="54"/>
                  </a:lnTo>
                  <a:lnTo>
                    <a:pt x="114" y="60"/>
                  </a:lnTo>
                  <a:lnTo>
                    <a:pt x="110" y="68"/>
                  </a:lnTo>
                  <a:lnTo>
                    <a:pt x="104" y="74"/>
                  </a:lnTo>
                  <a:lnTo>
                    <a:pt x="88" y="86"/>
                  </a:lnTo>
                  <a:lnTo>
                    <a:pt x="80" y="90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64" y="90"/>
                  </a:lnTo>
                  <a:lnTo>
                    <a:pt x="56" y="86"/>
                  </a:lnTo>
                  <a:lnTo>
                    <a:pt x="38" y="84"/>
                  </a:lnTo>
                  <a:lnTo>
                    <a:pt x="28" y="82"/>
                  </a:lnTo>
                  <a:lnTo>
                    <a:pt x="20" y="78"/>
                  </a:lnTo>
                  <a:lnTo>
                    <a:pt x="12" y="72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52"/>
                  </a:lnTo>
                  <a:lnTo>
                    <a:pt x="0" y="40"/>
                  </a:lnTo>
                  <a:lnTo>
                    <a:pt x="4" y="2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38" y="2"/>
                  </a:lnTo>
                  <a:lnTo>
                    <a:pt x="54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4" y="8"/>
                  </a:lnTo>
                  <a:lnTo>
                    <a:pt x="96" y="20"/>
                  </a:lnTo>
                  <a:lnTo>
                    <a:pt x="108" y="32"/>
                  </a:lnTo>
                  <a:lnTo>
                    <a:pt x="116" y="46"/>
                  </a:lnTo>
                  <a:lnTo>
                    <a:pt x="11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01"/>
            <p:cNvSpPr/>
            <p:nvPr/>
          </p:nvSpPr>
          <p:spPr>
            <a:xfrm>
              <a:off x="40398840" y="5610240"/>
              <a:ext cx="180720" cy="1458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14" h="92">
                  <a:moveTo>
                    <a:pt x="114" y="46"/>
                  </a:moveTo>
                  <a:lnTo>
                    <a:pt x="114" y="46"/>
                  </a:lnTo>
                  <a:lnTo>
                    <a:pt x="114" y="54"/>
                  </a:lnTo>
                  <a:lnTo>
                    <a:pt x="112" y="62"/>
                  </a:lnTo>
                  <a:lnTo>
                    <a:pt x="110" y="68"/>
                  </a:lnTo>
                  <a:lnTo>
                    <a:pt x="106" y="72"/>
                  </a:lnTo>
                  <a:lnTo>
                    <a:pt x="96" y="82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72" y="92"/>
                  </a:lnTo>
                  <a:lnTo>
                    <a:pt x="60" y="90"/>
                  </a:lnTo>
                  <a:lnTo>
                    <a:pt x="48" y="88"/>
                  </a:lnTo>
                  <a:lnTo>
                    <a:pt x="36" y="84"/>
                  </a:lnTo>
                  <a:lnTo>
                    <a:pt x="26" y="78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4" y="28"/>
                  </a:lnTo>
                  <a:lnTo>
                    <a:pt x="4" y="20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0" y="2"/>
                  </a:lnTo>
                  <a:lnTo>
                    <a:pt x="74" y="6"/>
                  </a:lnTo>
                  <a:lnTo>
                    <a:pt x="88" y="12"/>
                  </a:lnTo>
                  <a:lnTo>
                    <a:pt x="98" y="20"/>
                  </a:lnTo>
                  <a:lnTo>
                    <a:pt x="108" y="32"/>
                  </a:lnTo>
                  <a:lnTo>
                    <a:pt x="114" y="46"/>
                  </a:lnTo>
                  <a:lnTo>
                    <a:pt x="11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02"/>
            <p:cNvSpPr/>
            <p:nvPr/>
          </p:nvSpPr>
          <p:spPr>
            <a:xfrm>
              <a:off x="38525400" y="5638680"/>
              <a:ext cx="177480" cy="129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12" h="82">
                  <a:moveTo>
                    <a:pt x="96" y="18"/>
                  </a:moveTo>
                  <a:lnTo>
                    <a:pt x="96" y="18"/>
                  </a:lnTo>
                  <a:lnTo>
                    <a:pt x="106" y="28"/>
                  </a:lnTo>
                  <a:lnTo>
                    <a:pt x="110" y="40"/>
                  </a:lnTo>
                  <a:lnTo>
                    <a:pt x="112" y="50"/>
                  </a:lnTo>
                  <a:lnTo>
                    <a:pt x="112" y="62"/>
                  </a:lnTo>
                  <a:lnTo>
                    <a:pt x="112" y="62"/>
                  </a:lnTo>
                  <a:lnTo>
                    <a:pt x="102" y="72"/>
                  </a:lnTo>
                  <a:lnTo>
                    <a:pt x="92" y="78"/>
                  </a:lnTo>
                  <a:lnTo>
                    <a:pt x="80" y="82"/>
                  </a:lnTo>
                  <a:lnTo>
                    <a:pt x="70" y="82"/>
                  </a:lnTo>
                  <a:lnTo>
                    <a:pt x="58" y="82"/>
                  </a:lnTo>
                  <a:lnTo>
                    <a:pt x="46" y="8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6" y="72"/>
                  </a:lnTo>
                  <a:lnTo>
                    <a:pt x="4" y="68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6" y="8"/>
                  </a:lnTo>
                  <a:lnTo>
                    <a:pt x="88" y="12"/>
                  </a:lnTo>
                  <a:lnTo>
                    <a:pt x="96" y="18"/>
                  </a:lnTo>
                  <a:lnTo>
                    <a:pt x="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03"/>
            <p:cNvSpPr/>
            <p:nvPr/>
          </p:nvSpPr>
          <p:spPr>
            <a:xfrm>
              <a:off x="38950920" y="5673600"/>
              <a:ext cx="193680" cy="352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22" h="222">
                  <a:moveTo>
                    <a:pt x="104" y="46"/>
                  </a:moveTo>
                  <a:lnTo>
                    <a:pt x="104" y="46"/>
                  </a:lnTo>
                  <a:lnTo>
                    <a:pt x="106" y="88"/>
                  </a:lnTo>
                  <a:lnTo>
                    <a:pt x="110" y="126"/>
                  </a:lnTo>
                  <a:lnTo>
                    <a:pt x="116" y="164"/>
                  </a:lnTo>
                  <a:lnTo>
                    <a:pt x="122" y="202"/>
                  </a:lnTo>
                  <a:lnTo>
                    <a:pt x="122" y="202"/>
                  </a:lnTo>
                  <a:lnTo>
                    <a:pt x="108" y="210"/>
                  </a:lnTo>
                  <a:lnTo>
                    <a:pt x="92" y="218"/>
                  </a:lnTo>
                  <a:lnTo>
                    <a:pt x="78" y="222"/>
                  </a:lnTo>
                  <a:lnTo>
                    <a:pt x="70" y="222"/>
                  </a:lnTo>
                  <a:lnTo>
                    <a:pt x="64" y="220"/>
                  </a:lnTo>
                  <a:lnTo>
                    <a:pt x="64" y="220"/>
                  </a:lnTo>
                  <a:lnTo>
                    <a:pt x="52" y="216"/>
                  </a:lnTo>
                  <a:lnTo>
                    <a:pt x="42" y="210"/>
                  </a:lnTo>
                  <a:lnTo>
                    <a:pt x="34" y="202"/>
                  </a:lnTo>
                  <a:lnTo>
                    <a:pt x="28" y="194"/>
                  </a:lnTo>
                  <a:lnTo>
                    <a:pt x="22" y="184"/>
                  </a:lnTo>
                  <a:lnTo>
                    <a:pt x="20" y="174"/>
                  </a:lnTo>
                  <a:lnTo>
                    <a:pt x="14" y="150"/>
                  </a:lnTo>
                  <a:lnTo>
                    <a:pt x="10" y="98"/>
                  </a:lnTo>
                  <a:lnTo>
                    <a:pt x="6" y="7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4" y="18"/>
                  </a:lnTo>
                  <a:lnTo>
                    <a:pt x="18" y="10"/>
                  </a:lnTo>
                  <a:lnTo>
                    <a:pt x="24" y="4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8" y="14"/>
                  </a:lnTo>
                  <a:lnTo>
                    <a:pt x="90" y="30"/>
                  </a:lnTo>
                  <a:lnTo>
                    <a:pt x="104" y="46"/>
                  </a:lnTo>
                  <a:lnTo>
                    <a:pt x="10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4"/>
            <p:cNvSpPr/>
            <p:nvPr/>
          </p:nvSpPr>
          <p:spPr>
            <a:xfrm>
              <a:off x="39182760" y="5680080"/>
              <a:ext cx="218880" cy="349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38" h="220">
                  <a:moveTo>
                    <a:pt x="118" y="18"/>
                  </a:moveTo>
                  <a:lnTo>
                    <a:pt x="118" y="18"/>
                  </a:lnTo>
                  <a:lnTo>
                    <a:pt x="124" y="22"/>
                  </a:lnTo>
                  <a:lnTo>
                    <a:pt x="130" y="28"/>
                  </a:lnTo>
                  <a:lnTo>
                    <a:pt x="134" y="34"/>
                  </a:lnTo>
                  <a:lnTo>
                    <a:pt x="136" y="40"/>
                  </a:lnTo>
                  <a:lnTo>
                    <a:pt x="138" y="56"/>
                  </a:lnTo>
                  <a:lnTo>
                    <a:pt x="138" y="70"/>
                  </a:lnTo>
                  <a:lnTo>
                    <a:pt x="138" y="70"/>
                  </a:lnTo>
                  <a:lnTo>
                    <a:pt x="128" y="88"/>
                  </a:lnTo>
                  <a:lnTo>
                    <a:pt x="122" y="104"/>
                  </a:lnTo>
                  <a:lnTo>
                    <a:pt x="110" y="138"/>
                  </a:lnTo>
                  <a:lnTo>
                    <a:pt x="90" y="208"/>
                  </a:lnTo>
                  <a:lnTo>
                    <a:pt x="90" y="208"/>
                  </a:lnTo>
                  <a:lnTo>
                    <a:pt x="78" y="216"/>
                  </a:lnTo>
                  <a:lnTo>
                    <a:pt x="68" y="218"/>
                  </a:lnTo>
                  <a:lnTo>
                    <a:pt x="56" y="220"/>
                  </a:lnTo>
                  <a:lnTo>
                    <a:pt x="46" y="220"/>
                  </a:lnTo>
                  <a:lnTo>
                    <a:pt x="34" y="216"/>
                  </a:lnTo>
                  <a:lnTo>
                    <a:pt x="24" y="214"/>
                  </a:lnTo>
                  <a:lnTo>
                    <a:pt x="4" y="204"/>
                  </a:lnTo>
                  <a:lnTo>
                    <a:pt x="4" y="204"/>
                  </a:lnTo>
                  <a:lnTo>
                    <a:pt x="0" y="182"/>
                  </a:lnTo>
                  <a:lnTo>
                    <a:pt x="2" y="162"/>
                  </a:lnTo>
                  <a:lnTo>
                    <a:pt x="4" y="142"/>
                  </a:lnTo>
                  <a:lnTo>
                    <a:pt x="10" y="124"/>
                  </a:lnTo>
                  <a:lnTo>
                    <a:pt x="24" y="86"/>
                  </a:lnTo>
                  <a:lnTo>
                    <a:pt x="36" y="4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6" y="6"/>
                  </a:lnTo>
                  <a:lnTo>
                    <a:pt x="90" y="8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1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05"/>
            <p:cNvSpPr/>
            <p:nvPr/>
          </p:nvSpPr>
          <p:spPr>
            <a:xfrm>
              <a:off x="40694040" y="5762520"/>
              <a:ext cx="190440" cy="149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0" h="94">
                  <a:moveTo>
                    <a:pt x="96" y="14"/>
                  </a:moveTo>
                  <a:lnTo>
                    <a:pt x="96" y="14"/>
                  </a:lnTo>
                  <a:lnTo>
                    <a:pt x="104" y="28"/>
                  </a:lnTo>
                  <a:lnTo>
                    <a:pt x="114" y="40"/>
                  </a:lnTo>
                  <a:lnTo>
                    <a:pt x="118" y="46"/>
                  </a:lnTo>
                  <a:lnTo>
                    <a:pt x="120" y="54"/>
                  </a:lnTo>
                  <a:lnTo>
                    <a:pt x="120" y="62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14" y="82"/>
                  </a:lnTo>
                  <a:lnTo>
                    <a:pt x="108" y="88"/>
                  </a:lnTo>
                  <a:lnTo>
                    <a:pt x="100" y="90"/>
                  </a:lnTo>
                  <a:lnTo>
                    <a:pt x="90" y="92"/>
                  </a:lnTo>
                  <a:lnTo>
                    <a:pt x="70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38" y="88"/>
                  </a:lnTo>
                  <a:lnTo>
                    <a:pt x="28" y="82"/>
                  </a:lnTo>
                  <a:lnTo>
                    <a:pt x="16" y="7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8" y="16"/>
                  </a:lnTo>
                  <a:lnTo>
                    <a:pt x="22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2" y="4"/>
                  </a:lnTo>
                  <a:lnTo>
                    <a:pt x="78" y="12"/>
                  </a:lnTo>
                  <a:lnTo>
                    <a:pt x="86" y="14"/>
                  </a:lnTo>
                  <a:lnTo>
                    <a:pt x="96" y="14"/>
                  </a:lnTo>
                  <a:lnTo>
                    <a:pt x="9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06"/>
            <p:cNvSpPr/>
            <p:nvPr/>
          </p:nvSpPr>
          <p:spPr>
            <a:xfrm>
              <a:off x="40262400" y="5769000"/>
              <a:ext cx="450720" cy="409320"/>
            </a:xfrm>
            <a:custGeom>
              <a:avLst/>
              <a:gdLst>
                <a:gd name="textAreaLeft" fmla="*/ 0 w 450720"/>
                <a:gd name="textAreaRight" fmla="*/ 450720 w 4507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84" h="258">
                  <a:moveTo>
                    <a:pt x="114" y="10"/>
                  </a:moveTo>
                  <a:lnTo>
                    <a:pt x="114" y="10"/>
                  </a:lnTo>
                  <a:lnTo>
                    <a:pt x="128" y="28"/>
                  </a:lnTo>
                  <a:lnTo>
                    <a:pt x="134" y="40"/>
                  </a:lnTo>
                  <a:lnTo>
                    <a:pt x="140" y="52"/>
                  </a:lnTo>
                  <a:lnTo>
                    <a:pt x="142" y="64"/>
                  </a:lnTo>
                  <a:lnTo>
                    <a:pt x="142" y="76"/>
                  </a:lnTo>
                  <a:lnTo>
                    <a:pt x="140" y="82"/>
                  </a:lnTo>
                  <a:lnTo>
                    <a:pt x="136" y="86"/>
                  </a:lnTo>
                  <a:lnTo>
                    <a:pt x="132" y="92"/>
                  </a:lnTo>
                  <a:lnTo>
                    <a:pt x="126" y="96"/>
                  </a:lnTo>
                  <a:lnTo>
                    <a:pt x="126" y="96"/>
                  </a:lnTo>
                  <a:lnTo>
                    <a:pt x="116" y="116"/>
                  </a:lnTo>
                  <a:lnTo>
                    <a:pt x="110" y="134"/>
                  </a:lnTo>
                  <a:lnTo>
                    <a:pt x="106" y="152"/>
                  </a:lnTo>
                  <a:lnTo>
                    <a:pt x="104" y="170"/>
                  </a:lnTo>
                  <a:lnTo>
                    <a:pt x="104" y="170"/>
                  </a:lnTo>
                  <a:lnTo>
                    <a:pt x="114" y="166"/>
                  </a:lnTo>
                  <a:lnTo>
                    <a:pt x="122" y="160"/>
                  </a:lnTo>
                  <a:lnTo>
                    <a:pt x="140" y="144"/>
                  </a:lnTo>
                  <a:lnTo>
                    <a:pt x="158" y="128"/>
                  </a:lnTo>
                  <a:lnTo>
                    <a:pt x="176" y="112"/>
                  </a:lnTo>
                  <a:lnTo>
                    <a:pt x="196" y="96"/>
                  </a:lnTo>
                  <a:lnTo>
                    <a:pt x="206" y="92"/>
                  </a:lnTo>
                  <a:lnTo>
                    <a:pt x="216" y="88"/>
                  </a:lnTo>
                  <a:lnTo>
                    <a:pt x="228" y="86"/>
                  </a:lnTo>
                  <a:lnTo>
                    <a:pt x="240" y="86"/>
                  </a:lnTo>
                  <a:lnTo>
                    <a:pt x="254" y="88"/>
                  </a:lnTo>
                  <a:lnTo>
                    <a:pt x="268" y="94"/>
                  </a:lnTo>
                  <a:lnTo>
                    <a:pt x="268" y="94"/>
                  </a:lnTo>
                  <a:lnTo>
                    <a:pt x="274" y="100"/>
                  </a:lnTo>
                  <a:lnTo>
                    <a:pt x="280" y="108"/>
                  </a:lnTo>
                  <a:lnTo>
                    <a:pt x="282" y="118"/>
                  </a:lnTo>
                  <a:lnTo>
                    <a:pt x="284" y="126"/>
                  </a:lnTo>
                  <a:lnTo>
                    <a:pt x="282" y="138"/>
                  </a:lnTo>
                  <a:lnTo>
                    <a:pt x="280" y="148"/>
                  </a:lnTo>
                  <a:lnTo>
                    <a:pt x="274" y="156"/>
                  </a:lnTo>
                  <a:lnTo>
                    <a:pt x="268" y="164"/>
                  </a:lnTo>
                  <a:lnTo>
                    <a:pt x="268" y="164"/>
                  </a:lnTo>
                  <a:lnTo>
                    <a:pt x="258" y="168"/>
                  </a:lnTo>
                  <a:lnTo>
                    <a:pt x="248" y="174"/>
                  </a:lnTo>
                  <a:lnTo>
                    <a:pt x="230" y="190"/>
                  </a:lnTo>
                  <a:lnTo>
                    <a:pt x="194" y="228"/>
                  </a:lnTo>
                  <a:lnTo>
                    <a:pt x="176" y="246"/>
                  </a:lnTo>
                  <a:lnTo>
                    <a:pt x="166" y="252"/>
                  </a:lnTo>
                  <a:lnTo>
                    <a:pt x="156" y="256"/>
                  </a:lnTo>
                  <a:lnTo>
                    <a:pt x="144" y="258"/>
                  </a:lnTo>
                  <a:lnTo>
                    <a:pt x="134" y="258"/>
                  </a:lnTo>
                  <a:lnTo>
                    <a:pt x="122" y="256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04" y="246"/>
                  </a:lnTo>
                  <a:lnTo>
                    <a:pt x="100" y="242"/>
                  </a:lnTo>
                  <a:lnTo>
                    <a:pt x="98" y="236"/>
                  </a:lnTo>
                  <a:lnTo>
                    <a:pt x="96" y="232"/>
                  </a:lnTo>
                  <a:lnTo>
                    <a:pt x="96" y="218"/>
                  </a:lnTo>
                  <a:lnTo>
                    <a:pt x="96" y="206"/>
                  </a:lnTo>
                  <a:lnTo>
                    <a:pt x="98" y="196"/>
                  </a:lnTo>
                  <a:lnTo>
                    <a:pt x="96" y="192"/>
                  </a:lnTo>
                  <a:lnTo>
                    <a:pt x="94" y="190"/>
                  </a:lnTo>
                  <a:lnTo>
                    <a:pt x="90" y="188"/>
                  </a:lnTo>
                  <a:lnTo>
                    <a:pt x="86" y="188"/>
                  </a:lnTo>
                  <a:lnTo>
                    <a:pt x="68" y="196"/>
                  </a:lnTo>
                  <a:lnTo>
                    <a:pt x="68" y="196"/>
                  </a:lnTo>
                  <a:lnTo>
                    <a:pt x="48" y="194"/>
                  </a:lnTo>
                  <a:lnTo>
                    <a:pt x="30" y="188"/>
                  </a:lnTo>
                  <a:lnTo>
                    <a:pt x="22" y="184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2" y="120"/>
                  </a:lnTo>
                  <a:lnTo>
                    <a:pt x="24" y="78"/>
                  </a:lnTo>
                  <a:lnTo>
                    <a:pt x="30" y="58"/>
                  </a:lnTo>
                  <a:lnTo>
                    <a:pt x="38" y="38"/>
                  </a:lnTo>
                  <a:lnTo>
                    <a:pt x="48" y="1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88" y="8"/>
                  </a:lnTo>
                  <a:lnTo>
                    <a:pt x="100" y="8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7"/>
            <p:cNvSpPr/>
            <p:nvPr/>
          </p:nvSpPr>
          <p:spPr>
            <a:xfrm>
              <a:off x="38649240" y="5781600"/>
              <a:ext cx="269640" cy="3171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70" h="200">
                  <a:moveTo>
                    <a:pt x="94" y="14"/>
                  </a:moveTo>
                  <a:lnTo>
                    <a:pt x="94" y="14"/>
                  </a:lnTo>
                  <a:lnTo>
                    <a:pt x="96" y="26"/>
                  </a:lnTo>
                  <a:lnTo>
                    <a:pt x="100" y="36"/>
                  </a:lnTo>
                  <a:lnTo>
                    <a:pt x="112" y="56"/>
                  </a:lnTo>
                  <a:lnTo>
                    <a:pt x="144" y="98"/>
                  </a:lnTo>
                  <a:lnTo>
                    <a:pt x="158" y="120"/>
                  </a:lnTo>
                  <a:lnTo>
                    <a:pt x="162" y="132"/>
                  </a:lnTo>
                  <a:lnTo>
                    <a:pt x="166" y="142"/>
                  </a:lnTo>
                  <a:lnTo>
                    <a:pt x="170" y="154"/>
                  </a:lnTo>
                  <a:lnTo>
                    <a:pt x="170" y="164"/>
                  </a:lnTo>
                  <a:lnTo>
                    <a:pt x="168" y="176"/>
                  </a:lnTo>
                  <a:lnTo>
                    <a:pt x="164" y="188"/>
                  </a:lnTo>
                  <a:lnTo>
                    <a:pt x="164" y="188"/>
                  </a:lnTo>
                  <a:lnTo>
                    <a:pt x="158" y="194"/>
                  </a:lnTo>
                  <a:lnTo>
                    <a:pt x="150" y="198"/>
                  </a:lnTo>
                  <a:lnTo>
                    <a:pt x="142" y="200"/>
                  </a:lnTo>
                  <a:lnTo>
                    <a:pt x="134" y="200"/>
                  </a:lnTo>
                  <a:lnTo>
                    <a:pt x="116" y="198"/>
                  </a:lnTo>
                  <a:lnTo>
                    <a:pt x="100" y="196"/>
                  </a:lnTo>
                  <a:lnTo>
                    <a:pt x="100" y="196"/>
                  </a:lnTo>
                  <a:lnTo>
                    <a:pt x="84" y="182"/>
                  </a:lnTo>
                  <a:lnTo>
                    <a:pt x="68" y="166"/>
                  </a:lnTo>
                  <a:lnTo>
                    <a:pt x="54" y="148"/>
                  </a:lnTo>
                  <a:lnTo>
                    <a:pt x="42" y="130"/>
                  </a:lnTo>
                  <a:lnTo>
                    <a:pt x="20" y="9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36"/>
                  </a:lnTo>
                  <a:lnTo>
                    <a:pt x="8" y="22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9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8"/>
            <p:cNvSpPr/>
            <p:nvPr/>
          </p:nvSpPr>
          <p:spPr>
            <a:xfrm>
              <a:off x="37220400" y="6232680"/>
              <a:ext cx="666720" cy="6220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420" h="392">
                  <a:moveTo>
                    <a:pt x="420" y="28"/>
                  </a:moveTo>
                  <a:lnTo>
                    <a:pt x="420" y="28"/>
                  </a:lnTo>
                  <a:lnTo>
                    <a:pt x="398" y="64"/>
                  </a:lnTo>
                  <a:lnTo>
                    <a:pt x="376" y="100"/>
                  </a:lnTo>
                  <a:lnTo>
                    <a:pt x="332" y="168"/>
                  </a:lnTo>
                  <a:lnTo>
                    <a:pt x="286" y="234"/>
                  </a:lnTo>
                  <a:lnTo>
                    <a:pt x="266" y="268"/>
                  </a:lnTo>
                  <a:lnTo>
                    <a:pt x="244" y="304"/>
                  </a:lnTo>
                  <a:lnTo>
                    <a:pt x="244" y="304"/>
                  </a:lnTo>
                  <a:lnTo>
                    <a:pt x="188" y="324"/>
                  </a:lnTo>
                  <a:lnTo>
                    <a:pt x="128" y="348"/>
                  </a:lnTo>
                  <a:lnTo>
                    <a:pt x="70" y="372"/>
                  </a:lnTo>
                  <a:lnTo>
                    <a:pt x="14" y="392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28" y="326"/>
                  </a:lnTo>
                  <a:lnTo>
                    <a:pt x="54" y="262"/>
                  </a:lnTo>
                  <a:lnTo>
                    <a:pt x="68" y="232"/>
                  </a:lnTo>
                  <a:lnTo>
                    <a:pt x="82" y="202"/>
                  </a:lnTo>
                  <a:lnTo>
                    <a:pt x="98" y="174"/>
                  </a:lnTo>
                  <a:lnTo>
                    <a:pt x="118" y="146"/>
                  </a:lnTo>
                  <a:lnTo>
                    <a:pt x="118" y="146"/>
                  </a:lnTo>
                  <a:lnTo>
                    <a:pt x="132" y="120"/>
                  </a:lnTo>
                  <a:lnTo>
                    <a:pt x="150" y="96"/>
                  </a:lnTo>
                  <a:lnTo>
                    <a:pt x="170" y="72"/>
                  </a:lnTo>
                  <a:lnTo>
                    <a:pt x="192" y="50"/>
                  </a:lnTo>
                  <a:lnTo>
                    <a:pt x="218" y="32"/>
                  </a:lnTo>
                  <a:lnTo>
                    <a:pt x="244" y="16"/>
                  </a:lnTo>
                  <a:lnTo>
                    <a:pt x="260" y="10"/>
                  </a:lnTo>
                  <a:lnTo>
                    <a:pt x="274" y="6"/>
                  </a:lnTo>
                  <a:lnTo>
                    <a:pt x="290" y="2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22" y="0"/>
                  </a:lnTo>
                  <a:lnTo>
                    <a:pt x="338" y="2"/>
                  </a:lnTo>
                  <a:lnTo>
                    <a:pt x="366" y="8"/>
                  </a:lnTo>
                  <a:lnTo>
                    <a:pt x="392" y="18"/>
                  </a:lnTo>
                  <a:lnTo>
                    <a:pt x="420" y="28"/>
                  </a:lnTo>
                  <a:lnTo>
                    <a:pt x="420" y="2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9"/>
            <p:cNvSpPr/>
            <p:nvPr/>
          </p:nvSpPr>
          <p:spPr>
            <a:xfrm>
              <a:off x="39728880" y="6276960"/>
              <a:ext cx="282240" cy="8888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78" h="560">
                  <a:moveTo>
                    <a:pt x="162" y="58"/>
                  </a:moveTo>
                  <a:lnTo>
                    <a:pt x="162" y="58"/>
                  </a:lnTo>
                  <a:lnTo>
                    <a:pt x="160" y="100"/>
                  </a:lnTo>
                  <a:lnTo>
                    <a:pt x="164" y="142"/>
                  </a:lnTo>
                  <a:lnTo>
                    <a:pt x="172" y="228"/>
                  </a:lnTo>
                  <a:lnTo>
                    <a:pt x="176" y="270"/>
                  </a:lnTo>
                  <a:lnTo>
                    <a:pt x="178" y="312"/>
                  </a:lnTo>
                  <a:lnTo>
                    <a:pt x="178" y="352"/>
                  </a:lnTo>
                  <a:lnTo>
                    <a:pt x="174" y="392"/>
                  </a:lnTo>
                  <a:lnTo>
                    <a:pt x="174" y="392"/>
                  </a:lnTo>
                  <a:lnTo>
                    <a:pt x="92" y="478"/>
                  </a:lnTo>
                  <a:lnTo>
                    <a:pt x="52" y="520"/>
                  </a:lnTo>
                  <a:lnTo>
                    <a:pt x="8" y="560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4" y="514"/>
                  </a:lnTo>
                  <a:lnTo>
                    <a:pt x="6" y="476"/>
                  </a:lnTo>
                  <a:lnTo>
                    <a:pt x="6" y="402"/>
                  </a:lnTo>
                  <a:lnTo>
                    <a:pt x="10" y="326"/>
                  </a:lnTo>
                  <a:lnTo>
                    <a:pt x="12" y="288"/>
                  </a:lnTo>
                  <a:lnTo>
                    <a:pt x="16" y="250"/>
                  </a:lnTo>
                  <a:lnTo>
                    <a:pt x="20" y="214"/>
                  </a:lnTo>
                  <a:lnTo>
                    <a:pt x="28" y="180"/>
                  </a:lnTo>
                  <a:lnTo>
                    <a:pt x="38" y="146"/>
                  </a:lnTo>
                  <a:lnTo>
                    <a:pt x="52" y="112"/>
                  </a:lnTo>
                  <a:lnTo>
                    <a:pt x="68" y="82"/>
                  </a:lnTo>
                  <a:lnTo>
                    <a:pt x="88" y="52"/>
                  </a:lnTo>
                  <a:lnTo>
                    <a:pt x="112" y="26"/>
                  </a:lnTo>
                  <a:lnTo>
                    <a:pt x="126" y="1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8" y="4"/>
                  </a:lnTo>
                  <a:lnTo>
                    <a:pt x="152" y="10"/>
                  </a:lnTo>
                  <a:lnTo>
                    <a:pt x="156" y="16"/>
                  </a:lnTo>
                  <a:lnTo>
                    <a:pt x="158" y="24"/>
                  </a:lnTo>
                  <a:lnTo>
                    <a:pt x="158" y="42"/>
                  </a:lnTo>
                  <a:lnTo>
                    <a:pt x="162" y="58"/>
                  </a:lnTo>
                  <a:lnTo>
                    <a:pt x="162" y="5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0"/>
            <p:cNvSpPr/>
            <p:nvPr/>
          </p:nvSpPr>
          <p:spPr>
            <a:xfrm>
              <a:off x="40033800" y="6286320"/>
              <a:ext cx="272880" cy="828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72" h="522">
                  <a:moveTo>
                    <a:pt x="160" y="184"/>
                  </a:moveTo>
                  <a:lnTo>
                    <a:pt x="160" y="184"/>
                  </a:lnTo>
                  <a:lnTo>
                    <a:pt x="164" y="226"/>
                  </a:lnTo>
                  <a:lnTo>
                    <a:pt x="168" y="270"/>
                  </a:lnTo>
                  <a:lnTo>
                    <a:pt x="170" y="314"/>
                  </a:lnTo>
                  <a:lnTo>
                    <a:pt x="172" y="356"/>
                  </a:lnTo>
                  <a:lnTo>
                    <a:pt x="170" y="400"/>
                  </a:lnTo>
                  <a:lnTo>
                    <a:pt x="168" y="442"/>
                  </a:lnTo>
                  <a:lnTo>
                    <a:pt x="162" y="484"/>
                  </a:lnTo>
                  <a:lnTo>
                    <a:pt x="154" y="522"/>
                  </a:lnTo>
                  <a:lnTo>
                    <a:pt x="154" y="522"/>
                  </a:lnTo>
                  <a:lnTo>
                    <a:pt x="134" y="512"/>
                  </a:lnTo>
                  <a:lnTo>
                    <a:pt x="114" y="500"/>
                  </a:lnTo>
                  <a:lnTo>
                    <a:pt x="96" y="486"/>
                  </a:lnTo>
                  <a:lnTo>
                    <a:pt x="80" y="470"/>
                  </a:lnTo>
                  <a:lnTo>
                    <a:pt x="48" y="438"/>
                  </a:lnTo>
                  <a:lnTo>
                    <a:pt x="16" y="404"/>
                  </a:lnTo>
                  <a:lnTo>
                    <a:pt x="16" y="404"/>
                  </a:lnTo>
                  <a:lnTo>
                    <a:pt x="18" y="350"/>
                  </a:lnTo>
                  <a:lnTo>
                    <a:pt x="16" y="298"/>
                  </a:lnTo>
                  <a:lnTo>
                    <a:pt x="8" y="200"/>
                  </a:lnTo>
                  <a:lnTo>
                    <a:pt x="4" y="150"/>
                  </a:lnTo>
                  <a:lnTo>
                    <a:pt x="2" y="102"/>
                  </a:lnTo>
                  <a:lnTo>
                    <a:pt x="0" y="52"/>
                  </a:lnTo>
                  <a:lnTo>
                    <a:pt x="2" y="0"/>
                  </a:lnTo>
                  <a:lnTo>
                    <a:pt x="2" y="0"/>
                  </a:lnTo>
                  <a:lnTo>
                    <a:pt x="16" y="4"/>
                  </a:lnTo>
                  <a:lnTo>
                    <a:pt x="30" y="10"/>
                  </a:lnTo>
                  <a:lnTo>
                    <a:pt x="44" y="16"/>
                  </a:lnTo>
                  <a:lnTo>
                    <a:pt x="56" y="26"/>
                  </a:lnTo>
                  <a:lnTo>
                    <a:pt x="80" y="46"/>
                  </a:lnTo>
                  <a:lnTo>
                    <a:pt x="102" y="70"/>
                  </a:lnTo>
                  <a:lnTo>
                    <a:pt x="122" y="96"/>
                  </a:lnTo>
                  <a:lnTo>
                    <a:pt x="138" y="124"/>
                  </a:lnTo>
                  <a:lnTo>
                    <a:pt x="150" y="154"/>
                  </a:lnTo>
                  <a:lnTo>
                    <a:pt x="160" y="184"/>
                  </a:lnTo>
                  <a:lnTo>
                    <a:pt x="160" y="18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1"/>
            <p:cNvSpPr/>
            <p:nvPr/>
          </p:nvSpPr>
          <p:spPr>
            <a:xfrm>
              <a:off x="41249880" y="6286320"/>
              <a:ext cx="285480" cy="847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180" h="534">
                  <a:moveTo>
                    <a:pt x="180" y="338"/>
                  </a:moveTo>
                  <a:lnTo>
                    <a:pt x="180" y="338"/>
                  </a:lnTo>
                  <a:lnTo>
                    <a:pt x="176" y="338"/>
                  </a:lnTo>
                  <a:lnTo>
                    <a:pt x="172" y="340"/>
                  </a:lnTo>
                  <a:lnTo>
                    <a:pt x="170" y="344"/>
                  </a:lnTo>
                  <a:lnTo>
                    <a:pt x="170" y="348"/>
                  </a:lnTo>
                  <a:lnTo>
                    <a:pt x="170" y="348"/>
                  </a:lnTo>
                  <a:lnTo>
                    <a:pt x="170" y="358"/>
                  </a:lnTo>
                  <a:lnTo>
                    <a:pt x="168" y="368"/>
                  </a:lnTo>
                  <a:lnTo>
                    <a:pt x="162" y="376"/>
                  </a:lnTo>
                  <a:lnTo>
                    <a:pt x="158" y="384"/>
                  </a:lnTo>
                  <a:lnTo>
                    <a:pt x="146" y="398"/>
                  </a:lnTo>
                  <a:lnTo>
                    <a:pt x="134" y="412"/>
                  </a:lnTo>
                  <a:lnTo>
                    <a:pt x="134" y="412"/>
                  </a:lnTo>
                  <a:lnTo>
                    <a:pt x="110" y="442"/>
                  </a:lnTo>
                  <a:lnTo>
                    <a:pt x="90" y="474"/>
                  </a:lnTo>
                  <a:lnTo>
                    <a:pt x="70" y="504"/>
                  </a:lnTo>
                  <a:lnTo>
                    <a:pt x="48" y="534"/>
                  </a:lnTo>
                  <a:lnTo>
                    <a:pt x="48" y="534"/>
                  </a:lnTo>
                  <a:lnTo>
                    <a:pt x="36" y="498"/>
                  </a:lnTo>
                  <a:lnTo>
                    <a:pt x="28" y="460"/>
                  </a:lnTo>
                  <a:lnTo>
                    <a:pt x="22" y="422"/>
                  </a:lnTo>
                  <a:lnTo>
                    <a:pt x="18" y="382"/>
                  </a:lnTo>
                  <a:lnTo>
                    <a:pt x="10" y="304"/>
                  </a:lnTo>
                  <a:lnTo>
                    <a:pt x="6" y="264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" y="168"/>
                  </a:lnTo>
                  <a:lnTo>
                    <a:pt x="6" y="136"/>
                  </a:lnTo>
                  <a:lnTo>
                    <a:pt x="10" y="104"/>
                  </a:lnTo>
                  <a:lnTo>
                    <a:pt x="20" y="74"/>
                  </a:lnTo>
                  <a:lnTo>
                    <a:pt x="26" y="60"/>
                  </a:lnTo>
                  <a:lnTo>
                    <a:pt x="32" y="46"/>
                  </a:lnTo>
                  <a:lnTo>
                    <a:pt x="42" y="32"/>
                  </a:lnTo>
                  <a:lnTo>
                    <a:pt x="52" y="20"/>
                  </a:lnTo>
                  <a:lnTo>
                    <a:pt x="62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106" y="80"/>
                  </a:lnTo>
                  <a:lnTo>
                    <a:pt x="134" y="164"/>
                  </a:lnTo>
                  <a:lnTo>
                    <a:pt x="160" y="250"/>
                  </a:lnTo>
                  <a:lnTo>
                    <a:pt x="170" y="294"/>
                  </a:lnTo>
                  <a:lnTo>
                    <a:pt x="180" y="338"/>
                  </a:lnTo>
                  <a:lnTo>
                    <a:pt x="180" y="338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2"/>
            <p:cNvSpPr/>
            <p:nvPr/>
          </p:nvSpPr>
          <p:spPr>
            <a:xfrm>
              <a:off x="38160360" y="6292800"/>
              <a:ext cx="260280" cy="8571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64" h="540">
                  <a:moveTo>
                    <a:pt x="160" y="364"/>
                  </a:moveTo>
                  <a:lnTo>
                    <a:pt x="160" y="364"/>
                  </a:lnTo>
                  <a:lnTo>
                    <a:pt x="140" y="388"/>
                  </a:lnTo>
                  <a:lnTo>
                    <a:pt x="122" y="410"/>
                  </a:lnTo>
                  <a:lnTo>
                    <a:pt x="84" y="452"/>
                  </a:lnTo>
                  <a:lnTo>
                    <a:pt x="44" y="494"/>
                  </a:lnTo>
                  <a:lnTo>
                    <a:pt x="24" y="516"/>
                  </a:lnTo>
                  <a:lnTo>
                    <a:pt x="4" y="540"/>
                  </a:lnTo>
                  <a:lnTo>
                    <a:pt x="4" y="540"/>
                  </a:lnTo>
                  <a:lnTo>
                    <a:pt x="0" y="472"/>
                  </a:lnTo>
                  <a:lnTo>
                    <a:pt x="0" y="404"/>
                  </a:lnTo>
                  <a:lnTo>
                    <a:pt x="4" y="334"/>
                  </a:lnTo>
                  <a:lnTo>
                    <a:pt x="8" y="300"/>
                  </a:lnTo>
                  <a:lnTo>
                    <a:pt x="14" y="266"/>
                  </a:lnTo>
                  <a:lnTo>
                    <a:pt x="20" y="232"/>
                  </a:lnTo>
                  <a:lnTo>
                    <a:pt x="28" y="200"/>
                  </a:lnTo>
                  <a:lnTo>
                    <a:pt x="38" y="168"/>
                  </a:lnTo>
                  <a:lnTo>
                    <a:pt x="50" y="136"/>
                  </a:lnTo>
                  <a:lnTo>
                    <a:pt x="64" y="104"/>
                  </a:lnTo>
                  <a:lnTo>
                    <a:pt x="80" y="74"/>
                  </a:lnTo>
                  <a:lnTo>
                    <a:pt x="100" y="46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30" y="12"/>
                  </a:lnTo>
                  <a:lnTo>
                    <a:pt x="142" y="4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8" y="2"/>
                  </a:lnTo>
                  <a:lnTo>
                    <a:pt x="164" y="6"/>
                  </a:lnTo>
                  <a:lnTo>
                    <a:pt x="160" y="36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3"/>
            <p:cNvSpPr/>
            <p:nvPr/>
          </p:nvSpPr>
          <p:spPr>
            <a:xfrm>
              <a:off x="38989080" y="6289560"/>
              <a:ext cx="250560" cy="825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58" h="520">
                  <a:moveTo>
                    <a:pt x="158" y="382"/>
                  </a:moveTo>
                  <a:lnTo>
                    <a:pt x="158" y="382"/>
                  </a:lnTo>
                  <a:lnTo>
                    <a:pt x="126" y="406"/>
                  </a:lnTo>
                  <a:lnTo>
                    <a:pt x="98" y="434"/>
                  </a:lnTo>
                  <a:lnTo>
                    <a:pt x="44" y="488"/>
                  </a:lnTo>
                  <a:lnTo>
                    <a:pt x="44" y="488"/>
                  </a:lnTo>
                  <a:lnTo>
                    <a:pt x="34" y="496"/>
                  </a:lnTo>
                  <a:lnTo>
                    <a:pt x="24" y="504"/>
                  </a:lnTo>
                  <a:lnTo>
                    <a:pt x="14" y="510"/>
                  </a:lnTo>
                  <a:lnTo>
                    <a:pt x="10" y="516"/>
                  </a:lnTo>
                  <a:lnTo>
                    <a:pt x="8" y="520"/>
                  </a:lnTo>
                  <a:lnTo>
                    <a:pt x="0" y="510"/>
                  </a:lnTo>
                  <a:lnTo>
                    <a:pt x="0" y="510"/>
                  </a:lnTo>
                  <a:lnTo>
                    <a:pt x="4" y="454"/>
                  </a:lnTo>
                  <a:lnTo>
                    <a:pt x="4" y="396"/>
                  </a:lnTo>
                  <a:lnTo>
                    <a:pt x="4" y="334"/>
                  </a:lnTo>
                  <a:lnTo>
                    <a:pt x="6" y="272"/>
                  </a:lnTo>
                  <a:lnTo>
                    <a:pt x="10" y="242"/>
                  </a:lnTo>
                  <a:lnTo>
                    <a:pt x="12" y="212"/>
                  </a:lnTo>
                  <a:lnTo>
                    <a:pt x="18" y="182"/>
                  </a:lnTo>
                  <a:lnTo>
                    <a:pt x="24" y="152"/>
                  </a:lnTo>
                  <a:lnTo>
                    <a:pt x="32" y="124"/>
                  </a:lnTo>
                  <a:lnTo>
                    <a:pt x="44" y="96"/>
                  </a:lnTo>
                  <a:lnTo>
                    <a:pt x="56" y="70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88" y="30"/>
                  </a:lnTo>
                  <a:lnTo>
                    <a:pt x="110" y="16"/>
                  </a:lnTo>
                  <a:lnTo>
                    <a:pt x="120" y="10"/>
                  </a:lnTo>
                  <a:lnTo>
                    <a:pt x="134" y="4"/>
                  </a:lnTo>
                  <a:lnTo>
                    <a:pt x="146" y="2"/>
                  </a:lnTo>
                  <a:lnTo>
                    <a:pt x="158" y="0"/>
                  </a:lnTo>
                  <a:lnTo>
                    <a:pt x="158" y="382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4"/>
            <p:cNvSpPr/>
            <p:nvPr/>
          </p:nvSpPr>
          <p:spPr>
            <a:xfrm>
              <a:off x="41446800" y="6289560"/>
              <a:ext cx="444240" cy="6951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80" h="438">
                  <a:moveTo>
                    <a:pt x="120" y="74"/>
                  </a:moveTo>
                  <a:lnTo>
                    <a:pt x="120" y="74"/>
                  </a:lnTo>
                  <a:lnTo>
                    <a:pt x="138" y="92"/>
                  </a:lnTo>
                  <a:lnTo>
                    <a:pt x="154" y="112"/>
                  </a:lnTo>
                  <a:lnTo>
                    <a:pt x="170" y="132"/>
                  </a:lnTo>
                  <a:lnTo>
                    <a:pt x="186" y="152"/>
                  </a:lnTo>
                  <a:lnTo>
                    <a:pt x="198" y="174"/>
                  </a:lnTo>
                  <a:lnTo>
                    <a:pt x="212" y="196"/>
                  </a:lnTo>
                  <a:lnTo>
                    <a:pt x="234" y="242"/>
                  </a:lnTo>
                  <a:lnTo>
                    <a:pt x="250" y="290"/>
                  </a:lnTo>
                  <a:lnTo>
                    <a:pt x="264" y="338"/>
                  </a:lnTo>
                  <a:lnTo>
                    <a:pt x="274" y="388"/>
                  </a:lnTo>
                  <a:lnTo>
                    <a:pt x="280" y="438"/>
                  </a:lnTo>
                  <a:lnTo>
                    <a:pt x="280" y="438"/>
                  </a:lnTo>
                  <a:lnTo>
                    <a:pt x="256" y="426"/>
                  </a:lnTo>
                  <a:lnTo>
                    <a:pt x="234" y="412"/>
                  </a:lnTo>
                  <a:lnTo>
                    <a:pt x="190" y="382"/>
                  </a:lnTo>
                  <a:lnTo>
                    <a:pt x="168" y="368"/>
                  </a:lnTo>
                  <a:lnTo>
                    <a:pt x="144" y="356"/>
                  </a:lnTo>
                  <a:lnTo>
                    <a:pt x="120" y="346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36" y="6"/>
                  </a:lnTo>
                  <a:lnTo>
                    <a:pt x="50" y="16"/>
                  </a:lnTo>
                  <a:lnTo>
                    <a:pt x="64" y="26"/>
                  </a:lnTo>
                  <a:lnTo>
                    <a:pt x="90" y="52"/>
                  </a:lnTo>
                  <a:lnTo>
                    <a:pt x="104" y="64"/>
                  </a:lnTo>
                  <a:lnTo>
                    <a:pt x="120" y="74"/>
                  </a:lnTo>
                  <a:lnTo>
                    <a:pt x="120" y="7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"/>
            <p:cNvSpPr/>
            <p:nvPr/>
          </p:nvSpPr>
          <p:spPr>
            <a:xfrm>
              <a:off x="38477880" y="6305400"/>
              <a:ext cx="301320" cy="7934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793440"/>
                <a:gd name="textAreaBottom" fmla="*/ 793800 h 793440"/>
              </a:gdLst>
              <a:ahLst/>
              <a:rect l="textAreaLeft" t="textAreaTop" r="textAreaRight" b="textAreaBottom"/>
              <a:pathLst>
                <a:path w="190" h="500">
                  <a:moveTo>
                    <a:pt x="148" y="100"/>
                  </a:moveTo>
                  <a:lnTo>
                    <a:pt x="148" y="100"/>
                  </a:lnTo>
                  <a:lnTo>
                    <a:pt x="160" y="122"/>
                  </a:lnTo>
                  <a:lnTo>
                    <a:pt x="168" y="144"/>
                  </a:lnTo>
                  <a:lnTo>
                    <a:pt x="176" y="168"/>
                  </a:lnTo>
                  <a:lnTo>
                    <a:pt x="182" y="194"/>
                  </a:lnTo>
                  <a:lnTo>
                    <a:pt x="186" y="218"/>
                  </a:lnTo>
                  <a:lnTo>
                    <a:pt x="188" y="244"/>
                  </a:lnTo>
                  <a:lnTo>
                    <a:pt x="190" y="296"/>
                  </a:lnTo>
                  <a:lnTo>
                    <a:pt x="188" y="348"/>
                  </a:lnTo>
                  <a:lnTo>
                    <a:pt x="184" y="402"/>
                  </a:lnTo>
                  <a:lnTo>
                    <a:pt x="172" y="500"/>
                  </a:lnTo>
                  <a:lnTo>
                    <a:pt x="172" y="500"/>
                  </a:lnTo>
                  <a:lnTo>
                    <a:pt x="150" y="486"/>
                  </a:lnTo>
                  <a:lnTo>
                    <a:pt x="130" y="472"/>
                  </a:lnTo>
                  <a:lnTo>
                    <a:pt x="88" y="440"/>
                  </a:lnTo>
                  <a:lnTo>
                    <a:pt x="50" y="406"/>
                  </a:lnTo>
                  <a:lnTo>
                    <a:pt x="10" y="372"/>
                  </a:lnTo>
                  <a:lnTo>
                    <a:pt x="10" y="372"/>
                  </a:lnTo>
                  <a:lnTo>
                    <a:pt x="6" y="346"/>
                  </a:lnTo>
                  <a:lnTo>
                    <a:pt x="2" y="322"/>
                  </a:lnTo>
                  <a:lnTo>
                    <a:pt x="2" y="272"/>
                  </a:lnTo>
                  <a:lnTo>
                    <a:pt x="2" y="226"/>
                  </a:lnTo>
                  <a:lnTo>
                    <a:pt x="2" y="202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4"/>
                  </a:lnTo>
                  <a:lnTo>
                    <a:pt x="44" y="12"/>
                  </a:lnTo>
                  <a:lnTo>
                    <a:pt x="64" y="22"/>
                  </a:lnTo>
                  <a:lnTo>
                    <a:pt x="86" y="32"/>
                  </a:lnTo>
                  <a:lnTo>
                    <a:pt x="104" y="46"/>
                  </a:lnTo>
                  <a:lnTo>
                    <a:pt x="120" y="62"/>
                  </a:lnTo>
                  <a:lnTo>
                    <a:pt x="136" y="80"/>
                  </a:lnTo>
                  <a:lnTo>
                    <a:pt x="148" y="10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6"/>
            <p:cNvSpPr/>
            <p:nvPr/>
          </p:nvSpPr>
          <p:spPr>
            <a:xfrm>
              <a:off x="40500360" y="6305400"/>
              <a:ext cx="272880" cy="86040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72" h="542">
                  <a:moveTo>
                    <a:pt x="120" y="0"/>
                  </a:moveTo>
                  <a:lnTo>
                    <a:pt x="120" y="0"/>
                  </a:lnTo>
                  <a:lnTo>
                    <a:pt x="138" y="86"/>
                  </a:lnTo>
                  <a:lnTo>
                    <a:pt x="152" y="172"/>
                  </a:lnTo>
                  <a:lnTo>
                    <a:pt x="164" y="258"/>
                  </a:lnTo>
                  <a:lnTo>
                    <a:pt x="168" y="302"/>
                  </a:lnTo>
                  <a:lnTo>
                    <a:pt x="172" y="350"/>
                  </a:lnTo>
                  <a:lnTo>
                    <a:pt x="172" y="350"/>
                  </a:lnTo>
                  <a:lnTo>
                    <a:pt x="156" y="374"/>
                  </a:lnTo>
                  <a:lnTo>
                    <a:pt x="138" y="398"/>
                  </a:lnTo>
                  <a:lnTo>
                    <a:pt x="98" y="446"/>
                  </a:lnTo>
                  <a:lnTo>
                    <a:pt x="76" y="468"/>
                  </a:lnTo>
                  <a:lnTo>
                    <a:pt x="56" y="492"/>
                  </a:lnTo>
                  <a:lnTo>
                    <a:pt x="40" y="518"/>
                  </a:lnTo>
                  <a:lnTo>
                    <a:pt x="26" y="542"/>
                  </a:lnTo>
                  <a:lnTo>
                    <a:pt x="18" y="542"/>
                  </a:lnTo>
                  <a:lnTo>
                    <a:pt x="18" y="542"/>
                  </a:lnTo>
                  <a:lnTo>
                    <a:pt x="10" y="492"/>
                  </a:lnTo>
                  <a:lnTo>
                    <a:pt x="4" y="440"/>
                  </a:lnTo>
                  <a:lnTo>
                    <a:pt x="0" y="388"/>
                  </a:lnTo>
                  <a:lnTo>
                    <a:pt x="0" y="334"/>
                  </a:lnTo>
                  <a:lnTo>
                    <a:pt x="2" y="280"/>
                  </a:lnTo>
                  <a:lnTo>
                    <a:pt x="8" y="228"/>
                  </a:lnTo>
                  <a:lnTo>
                    <a:pt x="16" y="178"/>
                  </a:lnTo>
                  <a:lnTo>
                    <a:pt x="28" y="130"/>
                  </a:lnTo>
                  <a:lnTo>
                    <a:pt x="28" y="130"/>
                  </a:lnTo>
                  <a:lnTo>
                    <a:pt x="44" y="90"/>
                  </a:lnTo>
                  <a:lnTo>
                    <a:pt x="50" y="70"/>
                  </a:lnTo>
                  <a:lnTo>
                    <a:pt x="60" y="52"/>
                  </a:lnTo>
                  <a:lnTo>
                    <a:pt x="70" y="34"/>
                  </a:lnTo>
                  <a:lnTo>
                    <a:pt x="84" y="20"/>
                  </a:lnTo>
                  <a:lnTo>
                    <a:pt x="92" y="14"/>
                  </a:lnTo>
                  <a:lnTo>
                    <a:pt x="100" y="8"/>
                  </a:lnTo>
                  <a:lnTo>
                    <a:pt x="110" y="4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7"/>
            <p:cNvSpPr/>
            <p:nvPr/>
          </p:nvSpPr>
          <p:spPr>
            <a:xfrm>
              <a:off x="39290760" y="6311880"/>
              <a:ext cx="295200" cy="8222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86" h="518">
                  <a:moveTo>
                    <a:pt x="134" y="82"/>
                  </a:moveTo>
                  <a:lnTo>
                    <a:pt x="134" y="82"/>
                  </a:lnTo>
                  <a:lnTo>
                    <a:pt x="148" y="106"/>
                  </a:lnTo>
                  <a:lnTo>
                    <a:pt x="158" y="132"/>
                  </a:lnTo>
                  <a:lnTo>
                    <a:pt x="168" y="158"/>
                  </a:lnTo>
                  <a:lnTo>
                    <a:pt x="174" y="184"/>
                  </a:lnTo>
                  <a:lnTo>
                    <a:pt x="180" y="210"/>
                  </a:lnTo>
                  <a:lnTo>
                    <a:pt x="184" y="238"/>
                  </a:lnTo>
                  <a:lnTo>
                    <a:pt x="186" y="266"/>
                  </a:lnTo>
                  <a:lnTo>
                    <a:pt x="186" y="296"/>
                  </a:lnTo>
                  <a:lnTo>
                    <a:pt x="184" y="352"/>
                  </a:lnTo>
                  <a:lnTo>
                    <a:pt x="176" y="408"/>
                  </a:lnTo>
                  <a:lnTo>
                    <a:pt x="168" y="464"/>
                  </a:lnTo>
                  <a:lnTo>
                    <a:pt x="156" y="518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0" y="296"/>
                  </a:lnTo>
                  <a:lnTo>
                    <a:pt x="0" y="194"/>
                  </a:lnTo>
                  <a:lnTo>
                    <a:pt x="0" y="96"/>
                  </a:lnTo>
                  <a:lnTo>
                    <a:pt x="2" y="48"/>
                  </a:lnTo>
                  <a:lnTo>
                    <a:pt x="6" y="0"/>
                  </a:lnTo>
                  <a:lnTo>
                    <a:pt x="6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4"/>
                  </a:lnTo>
                  <a:lnTo>
                    <a:pt x="68" y="12"/>
                  </a:lnTo>
                  <a:lnTo>
                    <a:pt x="82" y="24"/>
                  </a:lnTo>
                  <a:lnTo>
                    <a:pt x="96" y="38"/>
                  </a:lnTo>
                  <a:lnTo>
                    <a:pt x="110" y="52"/>
                  </a:lnTo>
                  <a:lnTo>
                    <a:pt x="134" y="82"/>
                  </a:lnTo>
                  <a:lnTo>
                    <a:pt x="134" y="82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8"/>
            <p:cNvSpPr/>
            <p:nvPr/>
          </p:nvSpPr>
          <p:spPr>
            <a:xfrm>
              <a:off x="37598400" y="6318360"/>
              <a:ext cx="419040" cy="10000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264" h="630">
                  <a:moveTo>
                    <a:pt x="228" y="314"/>
                  </a:moveTo>
                  <a:lnTo>
                    <a:pt x="228" y="314"/>
                  </a:lnTo>
                  <a:lnTo>
                    <a:pt x="206" y="358"/>
                  </a:lnTo>
                  <a:lnTo>
                    <a:pt x="182" y="400"/>
                  </a:lnTo>
                  <a:lnTo>
                    <a:pt x="158" y="440"/>
                  </a:lnTo>
                  <a:lnTo>
                    <a:pt x="130" y="480"/>
                  </a:lnTo>
                  <a:lnTo>
                    <a:pt x="102" y="520"/>
                  </a:lnTo>
                  <a:lnTo>
                    <a:pt x="70" y="556"/>
                  </a:lnTo>
                  <a:lnTo>
                    <a:pt x="38" y="594"/>
                  </a:lnTo>
                  <a:lnTo>
                    <a:pt x="0" y="630"/>
                  </a:lnTo>
                  <a:lnTo>
                    <a:pt x="0" y="630"/>
                  </a:lnTo>
                  <a:lnTo>
                    <a:pt x="2" y="590"/>
                  </a:lnTo>
                  <a:lnTo>
                    <a:pt x="4" y="548"/>
                  </a:lnTo>
                  <a:lnTo>
                    <a:pt x="10" y="464"/>
                  </a:lnTo>
                  <a:lnTo>
                    <a:pt x="16" y="380"/>
                  </a:lnTo>
                  <a:lnTo>
                    <a:pt x="22" y="292"/>
                  </a:lnTo>
                  <a:lnTo>
                    <a:pt x="22" y="292"/>
                  </a:lnTo>
                  <a:lnTo>
                    <a:pt x="116" y="144"/>
                  </a:lnTo>
                  <a:lnTo>
                    <a:pt x="164" y="7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22" y="16"/>
                  </a:lnTo>
                  <a:lnTo>
                    <a:pt x="234" y="34"/>
                  </a:lnTo>
                  <a:lnTo>
                    <a:pt x="242" y="52"/>
                  </a:lnTo>
                  <a:lnTo>
                    <a:pt x="250" y="72"/>
                  </a:lnTo>
                  <a:lnTo>
                    <a:pt x="256" y="92"/>
                  </a:lnTo>
                  <a:lnTo>
                    <a:pt x="260" y="112"/>
                  </a:lnTo>
                  <a:lnTo>
                    <a:pt x="262" y="132"/>
                  </a:lnTo>
                  <a:lnTo>
                    <a:pt x="264" y="152"/>
                  </a:lnTo>
                  <a:lnTo>
                    <a:pt x="264" y="172"/>
                  </a:lnTo>
                  <a:lnTo>
                    <a:pt x="262" y="194"/>
                  </a:lnTo>
                  <a:lnTo>
                    <a:pt x="260" y="214"/>
                  </a:lnTo>
                  <a:lnTo>
                    <a:pt x="256" y="234"/>
                  </a:lnTo>
                  <a:lnTo>
                    <a:pt x="244" y="274"/>
                  </a:lnTo>
                  <a:lnTo>
                    <a:pt x="228" y="314"/>
                  </a:lnTo>
                  <a:lnTo>
                    <a:pt x="228" y="314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9"/>
            <p:cNvSpPr/>
            <p:nvPr/>
          </p:nvSpPr>
          <p:spPr>
            <a:xfrm>
              <a:off x="40761000" y="6318360"/>
              <a:ext cx="311040" cy="736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96" h="464">
                  <a:moveTo>
                    <a:pt x="170" y="216"/>
                  </a:moveTo>
                  <a:lnTo>
                    <a:pt x="170" y="216"/>
                  </a:lnTo>
                  <a:lnTo>
                    <a:pt x="180" y="246"/>
                  </a:lnTo>
                  <a:lnTo>
                    <a:pt x="186" y="276"/>
                  </a:lnTo>
                  <a:lnTo>
                    <a:pt x="192" y="306"/>
                  </a:lnTo>
                  <a:lnTo>
                    <a:pt x="194" y="338"/>
                  </a:lnTo>
                  <a:lnTo>
                    <a:pt x="196" y="368"/>
                  </a:lnTo>
                  <a:lnTo>
                    <a:pt x="196" y="400"/>
                  </a:lnTo>
                  <a:lnTo>
                    <a:pt x="192" y="464"/>
                  </a:lnTo>
                  <a:lnTo>
                    <a:pt x="192" y="464"/>
                  </a:lnTo>
                  <a:lnTo>
                    <a:pt x="178" y="452"/>
                  </a:lnTo>
                  <a:lnTo>
                    <a:pt x="162" y="440"/>
                  </a:lnTo>
                  <a:lnTo>
                    <a:pt x="130" y="416"/>
                  </a:lnTo>
                  <a:lnTo>
                    <a:pt x="116" y="402"/>
                  </a:lnTo>
                  <a:lnTo>
                    <a:pt x="98" y="392"/>
                  </a:lnTo>
                  <a:lnTo>
                    <a:pt x="82" y="382"/>
                  </a:lnTo>
                  <a:lnTo>
                    <a:pt x="64" y="374"/>
                  </a:lnTo>
                  <a:lnTo>
                    <a:pt x="64" y="374"/>
                  </a:lnTo>
                  <a:lnTo>
                    <a:pt x="56" y="366"/>
                  </a:lnTo>
                  <a:lnTo>
                    <a:pt x="50" y="358"/>
                  </a:lnTo>
                  <a:lnTo>
                    <a:pt x="42" y="340"/>
                  </a:lnTo>
                  <a:lnTo>
                    <a:pt x="38" y="318"/>
                  </a:lnTo>
                  <a:lnTo>
                    <a:pt x="34" y="298"/>
                  </a:lnTo>
                  <a:lnTo>
                    <a:pt x="32" y="254"/>
                  </a:lnTo>
                  <a:lnTo>
                    <a:pt x="28" y="232"/>
                  </a:lnTo>
                  <a:lnTo>
                    <a:pt x="24" y="2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8"/>
                  </a:lnTo>
                  <a:lnTo>
                    <a:pt x="30" y="16"/>
                  </a:lnTo>
                  <a:lnTo>
                    <a:pt x="44" y="26"/>
                  </a:lnTo>
                  <a:lnTo>
                    <a:pt x="58" y="36"/>
                  </a:lnTo>
                  <a:lnTo>
                    <a:pt x="82" y="62"/>
                  </a:lnTo>
                  <a:lnTo>
                    <a:pt x="106" y="90"/>
                  </a:lnTo>
                  <a:lnTo>
                    <a:pt x="124" y="120"/>
                  </a:lnTo>
                  <a:lnTo>
                    <a:pt x="142" y="152"/>
                  </a:lnTo>
                  <a:lnTo>
                    <a:pt x="158" y="184"/>
                  </a:lnTo>
                  <a:lnTo>
                    <a:pt x="170" y="216"/>
                  </a:lnTo>
                  <a:lnTo>
                    <a:pt x="170" y="216"/>
                  </a:lnTo>
                  <a:close/>
                </a:path>
              </a:pathLst>
            </a:custGeom>
            <a:solidFill>
              <a:srgbClr val="76b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0"/>
            <p:cNvSpPr/>
            <p:nvPr/>
          </p:nvSpPr>
          <p:spPr>
            <a:xfrm>
              <a:off x="37064880" y="6810480"/>
              <a:ext cx="469800" cy="7840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296" h="494">
                  <a:moveTo>
                    <a:pt x="250" y="82"/>
                  </a:moveTo>
                  <a:lnTo>
                    <a:pt x="250" y="82"/>
                  </a:lnTo>
                  <a:lnTo>
                    <a:pt x="192" y="182"/>
                  </a:lnTo>
                  <a:lnTo>
                    <a:pt x="128" y="284"/>
                  </a:lnTo>
                  <a:lnTo>
                    <a:pt x="64" y="388"/>
                  </a:lnTo>
                  <a:lnTo>
                    <a:pt x="34" y="442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2" y="468"/>
                  </a:lnTo>
                  <a:lnTo>
                    <a:pt x="0" y="442"/>
                  </a:lnTo>
                  <a:lnTo>
                    <a:pt x="2" y="388"/>
                  </a:lnTo>
                  <a:lnTo>
                    <a:pt x="6" y="336"/>
                  </a:lnTo>
                  <a:lnTo>
                    <a:pt x="16" y="282"/>
                  </a:lnTo>
                  <a:lnTo>
                    <a:pt x="28" y="230"/>
                  </a:lnTo>
                  <a:lnTo>
                    <a:pt x="44" y="178"/>
                  </a:lnTo>
                  <a:lnTo>
                    <a:pt x="62" y="128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106" y="66"/>
                  </a:lnTo>
                  <a:lnTo>
                    <a:pt x="134" y="56"/>
                  </a:lnTo>
                  <a:lnTo>
                    <a:pt x="188" y="38"/>
                  </a:lnTo>
                  <a:lnTo>
                    <a:pt x="242" y="2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6" y="12"/>
                  </a:lnTo>
                  <a:lnTo>
                    <a:pt x="292" y="22"/>
                  </a:lnTo>
                  <a:lnTo>
                    <a:pt x="286" y="32"/>
                  </a:lnTo>
                  <a:lnTo>
                    <a:pt x="280" y="42"/>
                  </a:lnTo>
                  <a:lnTo>
                    <a:pt x="262" y="60"/>
                  </a:lnTo>
                  <a:lnTo>
                    <a:pt x="256" y="70"/>
                  </a:lnTo>
                  <a:lnTo>
                    <a:pt x="250" y="82"/>
                  </a:lnTo>
                  <a:lnTo>
                    <a:pt x="250" y="8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21"/>
            <p:cNvSpPr/>
            <p:nvPr/>
          </p:nvSpPr>
          <p:spPr>
            <a:xfrm>
              <a:off x="37099800" y="6889680"/>
              <a:ext cx="460080" cy="76176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90" h="480">
                  <a:moveTo>
                    <a:pt x="274" y="310"/>
                  </a:moveTo>
                  <a:lnTo>
                    <a:pt x="274" y="310"/>
                  </a:lnTo>
                  <a:lnTo>
                    <a:pt x="212" y="362"/>
                  </a:lnTo>
                  <a:lnTo>
                    <a:pt x="180" y="388"/>
                  </a:lnTo>
                  <a:lnTo>
                    <a:pt x="148" y="412"/>
                  </a:lnTo>
                  <a:lnTo>
                    <a:pt x="116" y="434"/>
                  </a:lnTo>
                  <a:lnTo>
                    <a:pt x="80" y="454"/>
                  </a:lnTo>
                  <a:lnTo>
                    <a:pt x="62" y="462"/>
                  </a:lnTo>
                  <a:lnTo>
                    <a:pt x="42" y="470"/>
                  </a:lnTo>
                  <a:lnTo>
                    <a:pt x="22" y="476"/>
                  </a:lnTo>
                  <a:lnTo>
                    <a:pt x="0" y="480"/>
                  </a:lnTo>
                  <a:lnTo>
                    <a:pt x="0" y="480"/>
                  </a:lnTo>
                  <a:lnTo>
                    <a:pt x="32" y="416"/>
                  </a:lnTo>
                  <a:lnTo>
                    <a:pt x="66" y="354"/>
                  </a:lnTo>
                  <a:lnTo>
                    <a:pt x="104" y="296"/>
                  </a:lnTo>
                  <a:lnTo>
                    <a:pt x="142" y="236"/>
                  </a:lnTo>
                  <a:lnTo>
                    <a:pt x="218" y="120"/>
                  </a:lnTo>
                  <a:lnTo>
                    <a:pt x="254" y="6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84" y="152"/>
                  </a:lnTo>
                  <a:lnTo>
                    <a:pt x="280" y="234"/>
                  </a:lnTo>
                  <a:lnTo>
                    <a:pt x="274" y="310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2"/>
            <p:cNvSpPr/>
            <p:nvPr/>
          </p:nvSpPr>
          <p:spPr>
            <a:xfrm>
              <a:off x="41354640" y="6912000"/>
              <a:ext cx="419040" cy="7110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4" h="448">
                  <a:moveTo>
                    <a:pt x="158" y="74"/>
                  </a:moveTo>
                  <a:lnTo>
                    <a:pt x="158" y="74"/>
                  </a:lnTo>
                  <a:lnTo>
                    <a:pt x="182" y="172"/>
                  </a:lnTo>
                  <a:lnTo>
                    <a:pt x="206" y="264"/>
                  </a:lnTo>
                  <a:lnTo>
                    <a:pt x="234" y="356"/>
                  </a:lnTo>
                  <a:lnTo>
                    <a:pt x="264" y="448"/>
                  </a:lnTo>
                  <a:lnTo>
                    <a:pt x="264" y="448"/>
                  </a:lnTo>
                  <a:lnTo>
                    <a:pt x="222" y="426"/>
                  </a:lnTo>
                  <a:lnTo>
                    <a:pt x="180" y="400"/>
                  </a:lnTo>
                  <a:lnTo>
                    <a:pt x="142" y="374"/>
                  </a:lnTo>
                  <a:lnTo>
                    <a:pt x="106" y="342"/>
                  </a:lnTo>
                  <a:lnTo>
                    <a:pt x="90" y="326"/>
                  </a:lnTo>
                  <a:lnTo>
                    <a:pt x="74" y="308"/>
                  </a:lnTo>
                  <a:lnTo>
                    <a:pt x="60" y="290"/>
                  </a:lnTo>
                  <a:lnTo>
                    <a:pt x="46" y="272"/>
                  </a:lnTo>
                  <a:lnTo>
                    <a:pt x="32" y="252"/>
                  </a:lnTo>
                  <a:lnTo>
                    <a:pt x="20" y="230"/>
                  </a:lnTo>
                  <a:lnTo>
                    <a:pt x="10" y="20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0" y="182"/>
                  </a:lnTo>
                  <a:lnTo>
                    <a:pt x="10" y="176"/>
                  </a:lnTo>
                  <a:lnTo>
                    <a:pt x="10" y="168"/>
                  </a:lnTo>
                  <a:lnTo>
                    <a:pt x="12" y="164"/>
                  </a:lnTo>
                  <a:lnTo>
                    <a:pt x="14" y="160"/>
                  </a:lnTo>
                  <a:lnTo>
                    <a:pt x="14" y="160"/>
                  </a:lnTo>
                  <a:lnTo>
                    <a:pt x="44" y="120"/>
                  </a:lnTo>
                  <a:lnTo>
                    <a:pt x="72" y="8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32" y="8"/>
                  </a:lnTo>
                  <a:lnTo>
                    <a:pt x="136" y="16"/>
                  </a:lnTo>
                  <a:lnTo>
                    <a:pt x="140" y="26"/>
                  </a:lnTo>
                  <a:lnTo>
                    <a:pt x="144" y="36"/>
                  </a:lnTo>
                  <a:lnTo>
                    <a:pt x="148" y="56"/>
                  </a:lnTo>
                  <a:lnTo>
                    <a:pt x="152" y="66"/>
                  </a:lnTo>
                  <a:lnTo>
                    <a:pt x="158" y="74"/>
                  </a:lnTo>
                  <a:lnTo>
                    <a:pt x="158" y="7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23"/>
            <p:cNvSpPr/>
            <p:nvPr/>
          </p:nvSpPr>
          <p:spPr>
            <a:xfrm>
              <a:off x="41624640" y="6912000"/>
              <a:ext cx="282240" cy="6825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82560"/>
                <a:gd name="textAreaBottom" fmla="*/ 682920 h 682560"/>
              </a:gdLst>
              <a:ahLst/>
              <a:rect l="textAreaLeft" t="textAreaTop" r="textAreaRight" b="textAreaBottom"/>
              <a:pathLst>
                <a:path w="178" h="430">
                  <a:moveTo>
                    <a:pt x="172" y="104"/>
                  </a:moveTo>
                  <a:lnTo>
                    <a:pt x="172" y="104"/>
                  </a:lnTo>
                  <a:lnTo>
                    <a:pt x="176" y="146"/>
                  </a:lnTo>
                  <a:lnTo>
                    <a:pt x="178" y="186"/>
                  </a:lnTo>
                  <a:lnTo>
                    <a:pt x="174" y="228"/>
                  </a:lnTo>
                  <a:lnTo>
                    <a:pt x="170" y="270"/>
                  </a:lnTo>
                  <a:lnTo>
                    <a:pt x="160" y="312"/>
                  </a:lnTo>
                  <a:lnTo>
                    <a:pt x="150" y="352"/>
                  </a:lnTo>
                  <a:lnTo>
                    <a:pt x="138" y="392"/>
                  </a:lnTo>
                  <a:lnTo>
                    <a:pt x="126" y="430"/>
                  </a:lnTo>
                  <a:lnTo>
                    <a:pt x="126" y="430"/>
                  </a:lnTo>
                  <a:lnTo>
                    <a:pt x="108" y="376"/>
                  </a:lnTo>
                  <a:lnTo>
                    <a:pt x="90" y="324"/>
                  </a:lnTo>
                  <a:lnTo>
                    <a:pt x="60" y="2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6"/>
                  </a:lnTo>
                  <a:lnTo>
                    <a:pt x="50" y="16"/>
                  </a:lnTo>
                  <a:lnTo>
                    <a:pt x="72" y="30"/>
                  </a:lnTo>
                  <a:lnTo>
                    <a:pt x="92" y="44"/>
                  </a:lnTo>
                  <a:lnTo>
                    <a:pt x="132" y="74"/>
                  </a:lnTo>
                  <a:lnTo>
                    <a:pt x="152" y="90"/>
                  </a:lnTo>
                  <a:lnTo>
                    <a:pt x="172" y="104"/>
                  </a:lnTo>
                  <a:lnTo>
                    <a:pt x="172" y="10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24"/>
            <p:cNvSpPr/>
            <p:nvPr/>
          </p:nvSpPr>
          <p:spPr>
            <a:xfrm>
              <a:off x="38176200" y="6953400"/>
              <a:ext cx="272880" cy="7714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72" h="486">
                  <a:moveTo>
                    <a:pt x="172" y="484"/>
                  </a:moveTo>
                  <a:lnTo>
                    <a:pt x="172" y="484"/>
                  </a:lnTo>
                  <a:lnTo>
                    <a:pt x="158" y="486"/>
                  </a:lnTo>
                  <a:lnTo>
                    <a:pt x="146" y="486"/>
                  </a:lnTo>
                  <a:lnTo>
                    <a:pt x="134" y="482"/>
                  </a:lnTo>
                  <a:lnTo>
                    <a:pt x="124" y="478"/>
                  </a:lnTo>
                  <a:lnTo>
                    <a:pt x="116" y="470"/>
                  </a:lnTo>
                  <a:lnTo>
                    <a:pt x="108" y="462"/>
                  </a:lnTo>
                  <a:lnTo>
                    <a:pt x="94" y="442"/>
                  </a:lnTo>
                  <a:lnTo>
                    <a:pt x="84" y="418"/>
                  </a:lnTo>
                  <a:lnTo>
                    <a:pt x="74" y="394"/>
                  </a:lnTo>
                  <a:lnTo>
                    <a:pt x="62" y="370"/>
                  </a:lnTo>
                  <a:lnTo>
                    <a:pt x="50" y="352"/>
                  </a:lnTo>
                  <a:lnTo>
                    <a:pt x="50" y="352"/>
                  </a:lnTo>
                  <a:lnTo>
                    <a:pt x="48" y="336"/>
                  </a:lnTo>
                  <a:lnTo>
                    <a:pt x="44" y="320"/>
                  </a:lnTo>
                  <a:lnTo>
                    <a:pt x="34" y="290"/>
                  </a:lnTo>
                  <a:lnTo>
                    <a:pt x="20" y="256"/>
                  </a:lnTo>
                  <a:lnTo>
                    <a:pt x="8" y="224"/>
                  </a:lnTo>
                  <a:lnTo>
                    <a:pt x="2" y="208"/>
                  </a:lnTo>
                  <a:lnTo>
                    <a:pt x="0" y="194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8" y="150"/>
                  </a:lnTo>
                  <a:lnTo>
                    <a:pt x="18" y="138"/>
                  </a:lnTo>
                  <a:lnTo>
                    <a:pt x="30" y="124"/>
                  </a:lnTo>
                  <a:lnTo>
                    <a:pt x="50" y="114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60" y="56"/>
                  </a:lnTo>
                  <a:lnTo>
                    <a:pt x="162" y="114"/>
                  </a:lnTo>
                  <a:lnTo>
                    <a:pt x="164" y="240"/>
                  </a:lnTo>
                  <a:lnTo>
                    <a:pt x="164" y="366"/>
                  </a:lnTo>
                  <a:lnTo>
                    <a:pt x="166" y="426"/>
                  </a:lnTo>
                  <a:lnTo>
                    <a:pt x="172" y="484"/>
                  </a:lnTo>
                  <a:lnTo>
                    <a:pt x="172" y="48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5"/>
            <p:cNvSpPr/>
            <p:nvPr/>
          </p:nvSpPr>
          <p:spPr>
            <a:xfrm>
              <a:off x="40551120" y="6953400"/>
              <a:ext cx="345960" cy="7840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218" h="494">
                  <a:moveTo>
                    <a:pt x="218" y="494"/>
                  </a:moveTo>
                  <a:lnTo>
                    <a:pt x="218" y="494"/>
                  </a:lnTo>
                  <a:lnTo>
                    <a:pt x="206" y="494"/>
                  </a:lnTo>
                  <a:lnTo>
                    <a:pt x="196" y="490"/>
                  </a:lnTo>
                  <a:lnTo>
                    <a:pt x="186" y="486"/>
                  </a:lnTo>
                  <a:lnTo>
                    <a:pt x="178" y="480"/>
                  </a:lnTo>
                  <a:lnTo>
                    <a:pt x="162" y="464"/>
                  </a:lnTo>
                  <a:lnTo>
                    <a:pt x="146" y="448"/>
                  </a:lnTo>
                  <a:lnTo>
                    <a:pt x="146" y="448"/>
                  </a:lnTo>
                  <a:lnTo>
                    <a:pt x="122" y="420"/>
                  </a:lnTo>
                  <a:lnTo>
                    <a:pt x="98" y="390"/>
                  </a:lnTo>
                  <a:lnTo>
                    <a:pt x="76" y="358"/>
                  </a:lnTo>
                  <a:lnTo>
                    <a:pt x="54" y="326"/>
                  </a:lnTo>
                  <a:lnTo>
                    <a:pt x="36" y="292"/>
                  </a:lnTo>
                  <a:lnTo>
                    <a:pt x="22" y="256"/>
                  </a:lnTo>
                  <a:lnTo>
                    <a:pt x="8" y="220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34" y="138"/>
                  </a:lnTo>
                  <a:lnTo>
                    <a:pt x="68" y="90"/>
                  </a:lnTo>
                  <a:lnTo>
                    <a:pt x="106" y="44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54" y="60"/>
                  </a:lnTo>
                  <a:lnTo>
                    <a:pt x="162" y="120"/>
                  </a:lnTo>
                  <a:lnTo>
                    <a:pt x="182" y="244"/>
                  </a:lnTo>
                  <a:lnTo>
                    <a:pt x="202" y="370"/>
                  </a:lnTo>
                  <a:lnTo>
                    <a:pt x="210" y="432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26"/>
            <p:cNvSpPr/>
            <p:nvPr/>
          </p:nvSpPr>
          <p:spPr>
            <a:xfrm>
              <a:off x="38487240" y="6981840"/>
              <a:ext cx="247320" cy="7459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56" h="470">
                  <a:moveTo>
                    <a:pt x="156" y="126"/>
                  </a:moveTo>
                  <a:lnTo>
                    <a:pt x="156" y="126"/>
                  </a:lnTo>
                  <a:lnTo>
                    <a:pt x="146" y="170"/>
                  </a:lnTo>
                  <a:lnTo>
                    <a:pt x="134" y="212"/>
                  </a:lnTo>
                  <a:lnTo>
                    <a:pt x="122" y="254"/>
                  </a:lnTo>
                  <a:lnTo>
                    <a:pt x="106" y="296"/>
                  </a:lnTo>
                  <a:lnTo>
                    <a:pt x="90" y="338"/>
                  </a:lnTo>
                  <a:lnTo>
                    <a:pt x="74" y="378"/>
                  </a:lnTo>
                  <a:lnTo>
                    <a:pt x="54" y="418"/>
                  </a:lnTo>
                  <a:lnTo>
                    <a:pt x="34" y="458"/>
                  </a:lnTo>
                  <a:lnTo>
                    <a:pt x="34" y="458"/>
                  </a:lnTo>
                  <a:lnTo>
                    <a:pt x="30" y="464"/>
                  </a:lnTo>
                  <a:lnTo>
                    <a:pt x="22" y="468"/>
                  </a:lnTo>
                  <a:lnTo>
                    <a:pt x="16" y="470"/>
                  </a:lnTo>
                  <a:lnTo>
                    <a:pt x="6" y="47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40" y="28"/>
                  </a:lnTo>
                  <a:lnTo>
                    <a:pt x="78" y="60"/>
                  </a:lnTo>
                  <a:lnTo>
                    <a:pt x="116" y="94"/>
                  </a:lnTo>
                  <a:lnTo>
                    <a:pt x="156" y="126"/>
                  </a:lnTo>
                  <a:lnTo>
                    <a:pt x="156" y="12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7"/>
            <p:cNvSpPr/>
            <p:nvPr/>
          </p:nvSpPr>
          <p:spPr>
            <a:xfrm>
              <a:off x="40846680" y="6981840"/>
              <a:ext cx="228600" cy="669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669600"/>
                <a:gd name="textAreaBottom" fmla="*/ 669600 h 669600"/>
              </a:gdLst>
              <a:ahLst/>
              <a:rect l="textAreaLeft" t="textAreaTop" r="textAreaRight" b="textAreaBottom"/>
              <a:pathLst>
                <a:path w="144" h="422">
                  <a:moveTo>
                    <a:pt x="142" y="102"/>
                  </a:moveTo>
                  <a:lnTo>
                    <a:pt x="142" y="102"/>
                  </a:lnTo>
                  <a:lnTo>
                    <a:pt x="144" y="144"/>
                  </a:lnTo>
                  <a:lnTo>
                    <a:pt x="142" y="186"/>
                  </a:lnTo>
                  <a:lnTo>
                    <a:pt x="136" y="230"/>
                  </a:lnTo>
                  <a:lnTo>
                    <a:pt x="128" y="270"/>
                  </a:lnTo>
                  <a:lnTo>
                    <a:pt x="116" y="312"/>
                  </a:lnTo>
                  <a:lnTo>
                    <a:pt x="102" y="350"/>
                  </a:lnTo>
                  <a:lnTo>
                    <a:pt x="84" y="388"/>
                  </a:lnTo>
                  <a:lnTo>
                    <a:pt x="64" y="422"/>
                  </a:lnTo>
                  <a:lnTo>
                    <a:pt x="64" y="422"/>
                  </a:lnTo>
                  <a:lnTo>
                    <a:pt x="44" y="322"/>
                  </a:lnTo>
                  <a:lnTo>
                    <a:pt x="28" y="214"/>
                  </a:lnTo>
                  <a:lnTo>
                    <a:pt x="12" y="106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22"/>
                  </a:lnTo>
                  <a:lnTo>
                    <a:pt x="76" y="44"/>
                  </a:lnTo>
                  <a:lnTo>
                    <a:pt x="94" y="56"/>
                  </a:lnTo>
                  <a:lnTo>
                    <a:pt x="110" y="70"/>
                  </a:lnTo>
                  <a:lnTo>
                    <a:pt x="126" y="84"/>
                  </a:lnTo>
                  <a:lnTo>
                    <a:pt x="142" y="102"/>
                  </a:lnTo>
                  <a:lnTo>
                    <a:pt x="142" y="102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8"/>
            <p:cNvSpPr/>
            <p:nvPr/>
          </p:nvSpPr>
          <p:spPr>
            <a:xfrm>
              <a:off x="39001680" y="6985080"/>
              <a:ext cx="231480" cy="7426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46" h="468">
                  <a:moveTo>
                    <a:pt x="120" y="468"/>
                  </a:moveTo>
                  <a:lnTo>
                    <a:pt x="120" y="468"/>
                  </a:lnTo>
                  <a:lnTo>
                    <a:pt x="96" y="428"/>
                  </a:lnTo>
                  <a:lnTo>
                    <a:pt x="76" y="388"/>
                  </a:lnTo>
                  <a:lnTo>
                    <a:pt x="56" y="348"/>
                  </a:lnTo>
                  <a:lnTo>
                    <a:pt x="40" y="306"/>
                  </a:lnTo>
                  <a:lnTo>
                    <a:pt x="26" y="264"/>
                  </a:lnTo>
                  <a:lnTo>
                    <a:pt x="14" y="220"/>
                  </a:lnTo>
                  <a:lnTo>
                    <a:pt x="6" y="17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6" y="130"/>
                  </a:lnTo>
                  <a:lnTo>
                    <a:pt x="10" y="126"/>
                  </a:lnTo>
                  <a:lnTo>
                    <a:pt x="12" y="122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42" y="84"/>
                  </a:lnTo>
                  <a:lnTo>
                    <a:pt x="76" y="56"/>
                  </a:lnTo>
                  <a:lnTo>
                    <a:pt x="110" y="28"/>
                  </a:lnTo>
                  <a:lnTo>
                    <a:pt x="146" y="0"/>
                  </a:lnTo>
                  <a:lnTo>
                    <a:pt x="142" y="468"/>
                  </a:lnTo>
                  <a:lnTo>
                    <a:pt x="120" y="468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29"/>
            <p:cNvSpPr/>
            <p:nvPr/>
          </p:nvSpPr>
          <p:spPr>
            <a:xfrm>
              <a:off x="39741480" y="6991200"/>
              <a:ext cx="288720" cy="7491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82" h="472">
                  <a:moveTo>
                    <a:pt x="176" y="236"/>
                  </a:moveTo>
                  <a:lnTo>
                    <a:pt x="182" y="470"/>
                  </a:lnTo>
                  <a:lnTo>
                    <a:pt x="182" y="470"/>
                  </a:lnTo>
                  <a:lnTo>
                    <a:pt x="168" y="470"/>
                  </a:lnTo>
                  <a:lnTo>
                    <a:pt x="152" y="472"/>
                  </a:lnTo>
                  <a:lnTo>
                    <a:pt x="138" y="470"/>
                  </a:lnTo>
                  <a:lnTo>
                    <a:pt x="126" y="464"/>
                  </a:lnTo>
                  <a:lnTo>
                    <a:pt x="126" y="464"/>
                  </a:lnTo>
                  <a:lnTo>
                    <a:pt x="102" y="430"/>
                  </a:lnTo>
                  <a:lnTo>
                    <a:pt x="80" y="396"/>
                  </a:lnTo>
                  <a:lnTo>
                    <a:pt x="60" y="360"/>
                  </a:lnTo>
                  <a:lnTo>
                    <a:pt x="44" y="324"/>
                  </a:lnTo>
                  <a:lnTo>
                    <a:pt x="30" y="286"/>
                  </a:lnTo>
                  <a:lnTo>
                    <a:pt x="16" y="248"/>
                  </a:lnTo>
                  <a:lnTo>
                    <a:pt x="8" y="208"/>
                  </a:lnTo>
                  <a:lnTo>
                    <a:pt x="0" y="166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70" y="26"/>
                  </a:lnTo>
                  <a:lnTo>
                    <a:pt x="172" y="54"/>
                  </a:lnTo>
                  <a:lnTo>
                    <a:pt x="172" y="114"/>
                  </a:lnTo>
                  <a:lnTo>
                    <a:pt x="172" y="176"/>
                  </a:lnTo>
                  <a:lnTo>
                    <a:pt x="174" y="206"/>
                  </a:lnTo>
                  <a:lnTo>
                    <a:pt x="176" y="236"/>
                  </a:lnTo>
                  <a:lnTo>
                    <a:pt x="176" y="236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0"/>
            <p:cNvSpPr/>
            <p:nvPr/>
          </p:nvSpPr>
          <p:spPr>
            <a:xfrm>
              <a:off x="39290760" y="7029360"/>
              <a:ext cx="218880" cy="6508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38" h="410">
                  <a:moveTo>
                    <a:pt x="138" y="104"/>
                  </a:moveTo>
                  <a:lnTo>
                    <a:pt x="138" y="104"/>
                  </a:lnTo>
                  <a:lnTo>
                    <a:pt x="128" y="146"/>
                  </a:lnTo>
                  <a:lnTo>
                    <a:pt x="116" y="186"/>
                  </a:lnTo>
                  <a:lnTo>
                    <a:pt x="102" y="226"/>
                  </a:lnTo>
                  <a:lnTo>
                    <a:pt x="84" y="262"/>
                  </a:lnTo>
                  <a:lnTo>
                    <a:pt x="66" y="300"/>
                  </a:lnTo>
                  <a:lnTo>
                    <a:pt x="46" y="336"/>
                  </a:lnTo>
                  <a:lnTo>
                    <a:pt x="24" y="374"/>
                  </a:lnTo>
                  <a:lnTo>
                    <a:pt x="0" y="4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70" y="48"/>
                  </a:lnTo>
                  <a:lnTo>
                    <a:pt x="104" y="74"/>
                  </a:lnTo>
                  <a:lnTo>
                    <a:pt x="138" y="104"/>
                  </a:lnTo>
                  <a:lnTo>
                    <a:pt x="138" y="104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37572840" y="7035840"/>
              <a:ext cx="647640" cy="7142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08" h="450">
                  <a:moveTo>
                    <a:pt x="408" y="432"/>
                  </a:moveTo>
                  <a:lnTo>
                    <a:pt x="142" y="436"/>
                  </a:lnTo>
                  <a:lnTo>
                    <a:pt x="126" y="450"/>
                  </a:lnTo>
                  <a:lnTo>
                    <a:pt x="126" y="450"/>
                  </a:lnTo>
                  <a:lnTo>
                    <a:pt x="114" y="442"/>
                  </a:lnTo>
                  <a:lnTo>
                    <a:pt x="104" y="432"/>
                  </a:lnTo>
                  <a:lnTo>
                    <a:pt x="86" y="414"/>
                  </a:lnTo>
                  <a:lnTo>
                    <a:pt x="68" y="394"/>
                  </a:lnTo>
                  <a:lnTo>
                    <a:pt x="56" y="386"/>
                  </a:lnTo>
                  <a:lnTo>
                    <a:pt x="46" y="378"/>
                  </a:lnTo>
                  <a:lnTo>
                    <a:pt x="46" y="378"/>
                  </a:lnTo>
                  <a:lnTo>
                    <a:pt x="40" y="370"/>
                  </a:lnTo>
                  <a:lnTo>
                    <a:pt x="34" y="364"/>
                  </a:lnTo>
                  <a:lnTo>
                    <a:pt x="22" y="354"/>
                  </a:lnTo>
                  <a:lnTo>
                    <a:pt x="10" y="346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72" y="260"/>
                  </a:lnTo>
                  <a:lnTo>
                    <a:pt x="112" y="222"/>
                  </a:lnTo>
                  <a:lnTo>
                    <a:pt x="150" y="180"/>
                  </a:lnTo>
                  <a:lnTo>
                    <a:pt x="186" y="138"/>
                  </a:lnTo>
                  <a:lnTo>
                    <a:pt x="220" y="94"/>
                  </a:lnTo>
                  <a:lnTo>
                    <a:pt x="234" y="72"/>
                  </a:lnTo>
                  <a:lnTo>
                    <a:pt x="248" y="48"/>
                  </a:lnTo>
                  <a:lnTo>
                    <a:pt x="262" y="24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8" y="60"/>
                  </a:lnTo>
                  <a:lnTo>
                    <a:pt x="288" y="116"/>
                  </a:lnTo>
                  <a:lnTo>
                    <a:pt x="302" y="172"/>
                  </a:lnTo>
                  <a:lnTo>
                    <a:pt x="320" y="224"/>
                  </a:lnTo>
                  <a:lnTo>
                    <a:pt x="340" y="278"/>
                  </a:lnTo>
                  <a:lnTo>
                    <a:pt x="362" y="330"/>
                  </a:lnTo>
                  <a:lnTo>
                    <a:pt x="384" y="380"/>
                  </a:lnTo>
                  <a:lnTo>
                    <a:pt x="408" y="432"/>
                  </a:lnTo>
                  <a:lnTo>
                    <a:pt x="408" y="432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0065480" y="7035840"/>
              <a:ext cx="203040" cy="634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634680"/>
                <a:gd name="textAreaBottom" fmla="*/ 635040 h 634680"/>
              </a:gdLst>
              <a:ahLst/>
              <a:rect l="textAreaLeft" t="textAreaTop" r="textAreaRight" b="textAreaBottom"/>
              <a:pathLst>
                <a:path w="128" h="400">
                  <a:moveTo>
                    <a:pt x="128" y="98"/>
                  </a:moveTo>
                  <a:lnTo>
                    <a:pt x="128" y="98"/>
                  </a:lnTo>
                  <a:lnTo>
                    <a:pt x="118" y="148"/>
                  </a:lnTo>
                  <a:lnTo>
                    <a:pt x="106" y="198"/>
                  </a:lnTo>
                  <a:lnTo>
                    <a:pt x="90" y="248"/>
                  </a:lnTo>
                  <a:lnTo>
                    <a:pt x="82" y="270"/>
                  </a:lnTo>
                  <a:lnTo>
                    <a:pt x="72" y="294"/>
                  </a:lnTo>
                  <a:lnTo>
                    <a:pt x="18" y="400"/>
                  </a:lnTo>
                  <a:lnTo>
                    <a:pt x="18" y="400"/>
                  </a:lnTo>
                  <a:lnTo>
                    <a:pt x="12" y="294"/>
                  </a:lnTo>
                  <a:lnTo>
                    <a:pt x="8" y="194"/>
                  </a:lnTo>
                  <a:lnTo>
                    <a:pt x="0" y="0"/>
                  </a:lnTo>
                  <a:lnTo>
                    <a:pt x="128" y="98"/>
                  </a:lnTo>
                  <a:close/>
                </a:path>
              </a:pathLst>
            </a:custGeom>
            <a:solidFill>
              <a:srgbClr val="bc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078520" y="7238880"/>
              <a:ext cx="291960" cy="51084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84" h="322">
                  <a:moveTo>
                    <a:pt x="184" y="154"/>
                  </a:moveTo>
                  <a:lnTo>
                    <a:pt x="184" y="154"/>
                  </a:lnTo>
                  <a:lnTo>
                    <a:pt x="184" y="162"/>
                  </a:lnTo>
                  <a:lnTo>
                    <a:pt x="182" y="170"/>
                  </a:lnTo>
                  <a:lnTo>
                    <a:pt x="178" y="176"/>
                  </a:lnTo>
                  <a:lnTo>
                    <a:pt x="174" y="182"/>
                  </a:lnTo>
                  <a:lnTo>
                    <a:pt x="162" y="194"/>
                  </a:lnTo>
                  <a:lnTo>
                    <a:pt x="150" y="202"/>
                  </a:lnTo>
                  <a:lnTo>
                    <a:pt x="136" y="212"/>
                  </a:lnTo>
                  <a:lnTo>
                    <a:pt x="124" y="222"/>
                  </a:lnTo>
                  <a:lnTo>
                    <a:pt x="114" y="232"/>
                  </a:lnTo>
                  <a:lnTo>
                    <a:pt x="110" y="240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96" y="258"/>
                  </a:lnTo>
                  <a:lnTo>
                    <a:pt x="86" y="272"/>
                  </a:lnTo>
                  <a:lnTo>
                    <a:pt x="76" y="288"/>
                  </a:lnTo>
                  <a:lnTo>
                    <a:pt x="64" y="302"/>
                  </a:lnTo>
                  <a:lnTo>
                    <a:pt x="52" y="314"/>
                  </a:lnTo>
                  <a:lnTo>
                    <a:pt x="44" y="318"/>
                  </a:lnTo>
                  <a:lnTo>
                    <a:pt x="38" y="322"/>
                  </a:lnTo>
                  <a:lnTo>
                    <a:pt x="28" y="322"/>
                  </a:lnTo>
                  <a:lnTo>
                    <a:pt x="20" y="320"/>
                  </a:lnTo>
                  <a:lnTo>
                    <a:pt x="10" y="31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2" y="268"/>
                  </a:lnTo>
                  <a:lnTo>
                    <a:pt x="42" y="224"/>
                  </a:lnTo>
                  <a:lnTo>
                    <a:pt x="50" y="202"/>
                  </a:lnTo>
                  <a:lnTo>
                    <a:pt x="58" y="178"/>
                  </a:lnTo>
                  <a:lnTo>
                    <a:pt x="64" y="154"/>
                  </a:lnTo>
                  <a:lnTo>
                    <a:pt x="66" y="130"/>
                  </a:lnTo>
                  <a:lnTo>
                    <a:pt x="66" y="130"/>
                  </a:lnTo>
                  <a:lnTo>
                    <a:pt x="72" y="116"/>
                  </a:lnTo>
                  <a:lnTo>
                    <a:pt x="76" y="102"/>
                  </a:lnTo>
                  <a:lnTo>
                    <a:pt x="80" y="7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8" y="20"/>
                  </a:lnTo>
                  <a:lnTo>
                    <a:pt x="110" y="38"/>
                  </a:lnTo>
                  <a:lnTo>
                    <a:pt x="132" y="78"/>
                  </a:lnTo>
                  <a:lnTo>
                    <a:pt x="142" y="98"/>
                  </a:lnTo>
                  <a:lnTo>
                    <a:pt x="154" y="118"/>
                  </a:lnTo>
                  <a:lnTo>
                    <a:pt x="168" y="136"/>
                  </a:lnTo>
                  <a:lnTo>
                    <a:pt x="184" y="154"/>
                  </a:lnTo>
                  <a:lnTo>
                    <a:pt x="184" y="154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38719080" y="7267680"/>
              <a:ext cx="314280" cy="4600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98" h="290">
                  <a:moveTo>
                    <a:pt x="198" y="286"/>
                  </a:moveTo>
                  <a:lnTo>
                    <a:pt x="18" y="290"/>
                  </a:lnTo>
                  <a:lnTo>
                    <a:pt x="18" y="290"/>
                  </a:lnTo>
                  <a:lnTo>
                    <a:pt x="10" y="282"/>
                  </a:lnTo>
                  <a:lnTo>
                    <a:pt x="6" y="278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6" y="212"/>
                  </a:lnTo>
                  <a:lnTo>
                    <a:pt x="52" y="142"/>
                  </a:lnTo>
                  <a:lnTo>
                    <a:pt x="76" y="7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4" y="40"/>
                  </a:lnTo>
                  <a:lnTo>
                    <a:pt x="114" y="76"/>
                  </a:lnTo>
                  <a:lnTo>
                    <a:pt x="126" y="112"/>
                  </a:lnTo>
                  <a:lnTo>
                    <a:pt x="138" y="148"/>
                  </a:lnTo>
                  <a:lnTo>
                    <a:pt x="166" y="216"/>
                  </a:lnTo>
                  <a:lnTo>
                    <a:pt x="198" y="286"/>
                  </a:lnTo>
                  <a:lnTo>
                    <a:pt x="198" y="286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0240080" y="7267680"/>
              <a:ext cx="431640" cy="4698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72" h="296">
                  <a:moveTo>
                    <a:pt x="272" y="296"/>
                  </a:moveTo>
                  <a:lnTo>
                    <a:pt x="0" y="296"/>
                  </a:lnTo>
                  <a:lnTo>
                    <a:pt x="0" y="296"/>
                  </a:lnTo>
                  <a:lnTo>
                    <a:pt x="14" y="266"/>
                  </a:lnTo>
                  <a:lnTo>
                    <a:pt x="26" y="238"/>
                  </a:lnTo>
                  <a:lnTo>
                    <a:pt x="38" y="206"/>
                  </a:lnTo>
                  <a:lnTo>
                    <a:pt x="50" y="176"/>
                  </a:lnTo>
                  <a:lnTo>
                    <a:pt x="50" y="176"/>
                  </a:lnTo>
                  <a:lnTo>
                    <a:pt x="56" y="170"/>
                  </a:lnTo>
                  <a:lnTo>
                    <a:pt x="62" y="164"/>
                  </a:lnTo>
                  <a:lnTo>
                    <a:pt x="68" y="150"/>
                  </a:lnTo>
                  <a:lnTo>
                    <a:pt x="72" y="134"/>
                  </a:lnTo>
                  <a:lnTo>
                    <a:pt x="76" y="116"/>
                  </a:lnTo>
                  <a:lnTo>
                    <a:pt x="78" y="100"/>
                  </a:lnTo>
                  <a:lnTo>
                    <a:pt x="82" y="84"/>
                  </a:lnTo>
                  <a:lnTo>
                    <a:pt x="86" y="68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20" y="40"/>
                  </a:lnTo>
                  <a:lnTo>
                    <a:pt x="136" y="80"/>
                  </a:lnTo>
                  <a:lnTo>
                    <a:pt x="154" y="120"/>
                  </a:lnTo>
                  <a:lnTo>
                    <a:pt x="174" y="158"/>
                  </a:lnTo>
                  <a:lnTo>
                    <a:pt x="196" y="196"/>
                  </a:lnTo>
                  <a:lnTo>
                    <a:pt x="220" y="230"/>
                  </a:lnTo>
                  <a:lnTo>
                    <a:pt x="244" y="264"/>
                  </a:lnTo>
                  <a:lnTo>
                    <a:pt x="272" y="296"/>
                  </a:lnTo>
                  <a:lnTo>
                    <a:pt x="272" y="296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39446280" y="7359480"/>
              <a:ext cx="339480" cy="37764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14" h="238">
                  <a:moveTo>
                    <a:pt x="214" y="238"/>
                  </a:moveTo>
                  <a:lnTo>
                    <a:pt x="214" y="238"/>
                  </a:lnTo>
                  <a:lnTo>
                    <a:pt x="188" y="236"/>
                  </a:lnTo>
                  <a:lnTo>
                    <a:pt x="162" y="234"/>
                  </a:lnTo>
                  <a:lnTo>
                    <a:pt x="108" y="234"/>
                  </a:lnTo>
                  <a:lnTo>
                    <a:pt x="54" y="234"/>
                  </a:lnTo>
                  <a:lnTo>
                    <a:pt x="28" y="234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32" y="174"/>
                  </a:lnTo>
                  <a:lnTo>
                    <a:pt x="62" y="118"/>
                  </a:lnTo>
                  <a:lnTo>
                    <a:pt x="76" y="90"/>
                  </a:lnTo>
                  <a:lnTo>
                    <a:pt x="88" y="60"/>
                  </a:lnTo>
                  <a:lnTo>
                    <a:pt x="98" y="32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20" y="30"/>
                  </a:lnTo>
                  <a:lnTo>
                    <a:pt x="132" y="62"/>
                  </a:lnTo>
                  <a:lnTo>
                    <a:pt x="156" y="124"/>
                  </a:lnTo>
                  <a:lnTo>
                    <a:pt x="168" y="156"/>
                  </a:lnTo>
                  <a:lnTo>
                    <a:pt x="182" y="184"/>
                  </a:lnTo>
                  <a:lnTo>
                    <a:pt x="196" y="212"/>
                  </a:lnTo>
                  <a:lnTo>
                    <a:pt x="214" y="238"/>
                  </a:lnTo>
                  <a:lnTo>
                    <a:pt x="214" y="238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37"/>
            <p:cNvSpPr/>
            <p:nvPr/>
          </p:nvSpPr>
          <p:spPr>
            <a:xfrm>
              <a:off x="37881000" y="7873920"/>
              <a:ext cx="3105360" cy="158400"/>
            </a:xfrm>
            <a:custGeom>
              <a:avLst/>
              <a:gdLst>
                <a:gd name="textAreaLeft" fmla="*/ 0 w 3105360"/>
                <a:gd name="textAreaRight" fmla="*/ 3105720 w 3105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956" h="100">
                  <a:moveTo>
                    <a:pt x="346" y="56"/>
                  </a:moveTo>
                  <a:lnTo>
                    <a:pt x="346" y="56"/>
                  </a:lnTo>
                  <a:lnTo>
                    <a:pt x="352" y="64"/>
                  </a:lnTo>
                  <a:lnTo>
                    <a:pt x="358" y="72"/>
                  </a:lnTo>
                  <a:lnTo>
                    <a:pt x="368" y="76"/>
                  </a:lnTo>
                  <a:lnTo>
                    <a:pt x="376" y="80"/>
                  </a:lnTo>
                  <a:lnTo>
                    <a:pt x="386" y="82"/>
                  </a:lnTo>
                  <a:lnTo>
                    <a:pt x="396" y="82"/>
                  </a:lnTo>
                  <a:lnTo>
                    <a:pt x="404" y="78"/>
                  </a:lnTo>
                  <a:lnTo>
                    <a:pt x="414" y="74"/>
                  </a:lnTo>
                  <a:lnTo>
                    <a:pt x="414" y="74"/>
                  </a:lnTo>
                  <a:lnTo>
                    <a:pt x="424" y="68"/>
                  </a:lnTo>
                  <a:lnTo>
                    <a:pt x="432" y="62"/>
                  </a:lnTo>
                  <a:lnTo>
                    <a:pt x="438" y="54"/>
                  </a:lnTo>
                  <a:lnTo>
                    <a:pt x="442" y="46"/>
                  </a:lnTo>
                  <a:lnTo>
                    <a:pt x="452" y="28"/>
                  </a:lnTo>
                  <a:lnTo>
                    <a:pt x="464" y="10"/>
                  </a:lnTo>
                  <a:lnTo>
                    <a:pt x="464" y="10"/>
                  </a:lnTo>
                  <a:lnTo>
                    <a:pt x="502" y="6"/>
                  </a:lnTo>
                  <a:lnTo>
                    <a:pt x="536" y="4"/>
                  </a:lnTo>
                  <a:lnTo>
                    <a:pt x="568" y="4"/>
                  </a:lnTo>
                  <a:lnTo>
                    <a:pt x="602" y="4"/>
                  </a:lnTo>
                  <a:lnTo>
                    <a:pt x="668" y="8"/>
                  </a:lnTo>
                  <a:lnTo>
                    <a:pt x="704" y="6"/>
                  </a:lnTo>
                  <a:lnTo>
                    <a:pt x="742" y="2"/>
                  </a:lnTo>
                  <a:lnTo>
                    <a:pt x="742" y="2"/>
                  </a:lnTo>
                  <a:lnTo>
                    <a:pt x="748" y="0"/>
                  </a:lnTo>
                  <a:lnTo>
                    <a:pt x="754" y="0"/>
                  </a:lnTo>
                  <a:lnTo>
                    <a:pt x="770" y="2"/>
                  </a:lnTo>
                  <a:lnTo>
                    <a:pt x="786" y="4"/>
                  </a:lnTo>
                  <a:lnTo>
                    <a:pt x="794" y="2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18" y="12"/>
                  </a:lnTo>
                  <a:lnTo>
                    <a:pt x="830" y="26"/>
                  </a:lnTo>
                  <a:lnTo>
                    <a:pt x="844" y="38"/>
                  </a:lnTo>
                  <a:lnTo>
                    <a:pt x="852" y="42"/>
                  </a:lnTo>
                  <a:lnTo>
                    <a:pt x="862" y="46"/>
                  </a:lnTo>
                  <a:lnTo>
                    <a:pt x="862" y="46"/>
                  </a:lnTo>
                  <a:lnTo>
                    <a:pt x="880" y="40"/>
                  </a:lnTo>
                  <a:lnTo>
                    <a:pt x="896" y="30"/>
                  </a:lnTo>
                  <a:lnTo>
                    <a:pt x="910" y="20"/>
                  </a:lnTo>
                  <a:lnTo>
                    <a:pt x="920" y="8"/>
                  </a:lnTo>
                  <a:lnTo>
                    <a:pt x="920" y="8"/>
                  </a:lnTo>
                  <a:lnTo>
                    <a:pt x="964" y="8"/>
                  </a:lnTo>
                  <a:lnTo>
                    <a:pt x="1010" y="8"/>
                  </a:lnTo>
                  <a:lnTo>
                    <a:pt x="1104" y="6"/>
                  </a:lnTo>
                  <a:lnTo>
                    <a:pt x="1198" y="4"/>
                  </a:lnTo>
                  <a:lnTo>
                    <a:pt x="1242" y="4"/>
                  </a:lnTo>
                  <a:lnTo>
                    <a:pt x="1284" y="8"/>
                  </a:lnTo>
                  <a:lnTo>
                    <a:pt x="1284" y="8"/>
                  </a:lnTo>
                  <a:lnTo>
                    <a:pt x="1312" y="24"/>
                  </a:lnTo>
                  <a:lnTo>
                    <a:pt x="1328" y="32"/>
                  </a:lnTo>
                  <a:lnTo>
                    <a:pt x="1346" y="40"/>
                  </a:lnTo>
                  <a:lnTo>
                    <a:pt x="1362" y="44"/>
                  </a:lnTo>
                  <a:lnTo>
                    <a:pt x="1370" y="46"/>
                  </a:lnTo>
                  <a:lnTo>
                    <a:pt x="1378" y="46"/>
                  </a:lnTo>
                  <a:lnTo>
                    <a:pt x="1388" y="44"/>
                  </a:lnTo>
                  <a:lnTo>
                    <a:pt x="1396" y="40"/>
                  </a:lnTo>
                  <a:lnTo>
                    <a:pt x="1404" y="36"/>
                  </a:lnTo>
                  <a:lnTo>
                    <a:pt x="1412" y="28"/>
                  </a:lnTo>
                  <a:lnTo>
                    <a:pt x="1412" y="28"/>
                  </a:lnTo>
                  <a:lnTo>
                    <a:pt x="1416" y="20"/>
                  </a:lnTo>
                  <a:lnTo>
                    <a:pt x="1422" y="12"/>
                  </a:lnTo>
                  <a:lnTo>
                    <a:pt x="1428" y="6"/>
                  </a:lnTo>
                  <a:lnTo>
                    <a:pt x="1432" y="4"/>
                  </a:lnTo>
                  <a:lnTo>
                    <a:pt x="1436" y="2"/>
                  </a:lnTo>
                  <a:lnTo>
                    <a:pt x="1886" y="14"/>
                  </a:lnTo>
                  <a:lnTo>
                    <a:pt x="1886" y="14"/>
                  </a:lnTo>
                  <a:lnTo>
                    <a:pt x="1892" y="20"/>
                  </a:lnTo>
                  <a:lnTo>
                    <a:pt x="1898" y="24"/>
                  </a:lnTo>
                  <a:lnTo>
                    <a:pt x="1906" y="26"/>
                  </a:lnTo>
                  <a:lnTo>
                    <a:pt x="1914" y="28"/>
                  </a:lnTo>
                  <a:lnTo>
                    <a:pt x="1922" y="28"/>
                  </a:lnTo>
                  <a:lnTo>
                    <a:pt x="1930" y="28"/>
                  </a:lnTo>
                  <a:lnTo>
                    <a:pt x="1938" y="24"/>
                  </a:lnTo>
                  <a:lnTo>
                    <a:pt x="1946" y="20"/>
                  </a:lnTo>
                  <a:lnTo>
                    <a:pt x="1956" y="14"/>
                  </a:lnTo>
                  <a:lnTo>
                    <a:pt x="1954" y="100"/>
                  </a:lnTo>
                  <a:lnTo>
                    <a:pt x="1954" y="100"/>
                  </a:lnTo>
                  <a:lnTo>
                    <a:pt x="1706" y="100"/>
                  </a:lnTo>
                  <a:lnTo>
                    <a:pt x="1464" y="98"/>
                  </a:lnTo>
                  <a:lnTo>
                    <a:pt x="994" y="92"/>
                  </a:lnTo>
                  <a:lnTo>
                    <a:pt x="54" y="86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0" y="64"/>
                  </a:lnTo>
                  <a:lnTo>
                    <a:pt x="0" y="44"/>
                  </a:lnTo>
                  <a:lnTo>
                    <a:pt x="2" y="2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0" y="0"/>
                  </a:lnTo>
                  <a:lnTo>
                    <a:pt x="74" y="0"/>
                  </a:lnTo>
                  <a:lnTo>
                    <a:pt x="146" y="2"/>
                  </a:lnTo>
                  <a:lnTo>
                    <a:pt x="218" y="4"/>
                  </a:lnTo>
                  <a:lnTo>
                    <a:pt x="254" y="2"/>
                  </a:lnTo>
                  <a:lnTo>
                    <a:pt x="286" y="0"/>
                  </a:lnTo>
                  <a:lnTo>
                    <a:pt x="346" y="56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38"/>
            <p:cNvSpPr/>
            <p:nvPr/>
          </p:nvSpPr>
          <p:spPr>
            <a:xfrm>
              <a:off x="37874520" y="8064360"/>
              <a:ext cx="3108240" cy="206280"/>
            </a:xfrm>
            <a:custGeom>
              <a:avLst/>
              <a:gdLst>
                <a:gd name="textAreaLeft" fmla="*/ 0 w 3108240"/>
                <a:gd name="textAreaRight" fmla="*/ 3108600 w 3108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958" h="130">
                  <a:moveTo>
                    <a:pt x="68" y="4"/>
                  </a:moveTo>
                  <a:lnTo>
                    <a:pt x="68" y="4"/>
                  </a:lnTo>
                  <a:lnTo>
                    <a:pt x="536" y="4"/>
                  </a:lnTo>
                  <a:lnTo>
                    <a:pt x="1012" y="6"/>
                  </a:lnTo>
                  <a:lnTo>
                    <a:pt x="1488" y="10"/>
                  </a:lnTo>
                  <a:lnTo>
                    <a:pt x="1724" y="14"/>
                  </a:lnTo>
                  <a:lnTo>
                    <a:pt x="1958" y="20"/>
                  </a:lnTo>
                  <a:lnTo>
                    <a:pt x="1958" y="130"/>
                  </a:lnTo>
                  <a:lnTo>
                    <a:pt x="1212" y="130"/>
                  </a:lnTo>
                  <a:lnTo>
                    <a:pt x="442" y="118"/>
                  </a:lnTo>
                  <a:lnTo>
                    <a:pt x="0" y="118"/>
                  </a:lnTo>
                  <a:lnTo>
                    <a:pt x="0" y="4"/>
                  </a:lnTo>
                  <a:lnTo>
                    <a:pt x="0" y="4"/>
                  </a:lnTo>
                  <a:lnTo>
                    <a:pt x="12" y="6"/>
                  </a:lnTo>
                  <a:lnTo>
                    <a:pt x="20" y="6"/>
                  </a:lnTo>
                  <a:lnTo>
                    <a:pt x="38" y="2"/>
                  </a:lnTo>
                  <a:lnTo>
                    <a:pt x="52" y="0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b88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9"/>
            <p:cNvSpPr/>
            <p:nvPr/>
          </p:nvSpPr>
          <p:spPr>
            <a:xfrm>
              <a:off x="37865160" y="8302680"/>
              <a:ext cx="3108240" cy="168120"/>
            </a:xfrm>
            <a:custGeom>
              <a:avLst/>
              <a:gdLst>
                <a:gd name="textAreaLeft" fmla="*/ 0 w 3108240"/>
                <a:gd name="textAreaRight" fmla="*/ 3108600 w 310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958" h="106">
                  <a:moveTo>
                    <a:pt x="1198" y="12"/>
                  </a:moveTo>
                  <a:lnTo>
                    <a:pt x="1958" y="18"/>
                  </a:lnTo>
                  <a:lnTo>
                    <a:pt x="1956" y="106"/>
                  </a:lnTo>
                  <a:lnTo>
                    <a:pt x="956" y="104"/>
                  </a:lnTo>
                  <a:lnTo>
                    <a:pt x="956" y="10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0" y="72"/>
                  </a:lnTo>
                  <a:lnTo>
                    <a:pt x="0" y="50"/>
                  </a:lnTo>
                  <a:lnTo>
                    <a:pt x="4" y="2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8" y="10"/>
                  </a:lnTo>
                  <a:lnTo>
                    <a:pt x="170" y="12"/>
                  </a:lnTo>
                  <a:lnTo>
                    <a:pt x="210" y="12"/>
                  </a:lnTo>
                  <a:lnTo>
                    <a:pt x="250" y="10"/>
                  </a:lnTo>
                  <a:lnTo>
                    <a:pt x="292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1198" y="12"/>
                  </a:lnTo>
                  <a:lnTo>
                    <a:pt x="1198" y="12"/>
                  </a:lnTo>
                  <a:close/>
                </a:path>
              </a:pathLst>
            </a:custGeom>
            <a:solidFill>
              <a:srgbClr val="d59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0"/>
            <p:cNvSpPr/>
            <p:nvPr/>
          </p:nvSpPr>
          <p:spPr>
            <a:xfrm>
              <a:off x="37855440" y="8508960"/>
              <a:ext cx="3108240" cy="98280"/>
            </a:xfrm>
            <a:custGeom>
              <a:avLst/>
              <a:gdLst>
                <a:gd name="textAreaLeft" fmla="*/ 0 w 3108240"/>
                <a:gd name="textAreaRight" fmla="*/ 3108600 w 3108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958" h="62">
                  <a:moveTo>
                    <a:pt x="1092" y="6"/>
                  </a:moveTo>
                  <a:lnTo>
                    <a:pt x="1092" y="6"/>
                  </a:lnTo>
                  <a:lnTo>
                    <a:pt x="1300" y="12"/>
                  </a:lnTo>
                  <a:lnTo>
                    <a:pt x="1518" y="12"/>
                  </a:lnTo>
                  <a:lnTo>
                    <a:pt x="1740" y="14"/>
                  </a:lnTo>
                  <a:lnTo>
                    <a:pt x="1958" y="16"/>
                  </a:lnTo>
                  <a:lnTo>
                    <a:pt x="1958" y="62"/>
                  </a:lnTo>
                  <a:lnTo>
                    <a:pt x="926" y="62"/>
                  </a:lnTo>
                  <a:lnTo>
                    <a:pt x="80" y="60"/>
                  </a:lnTo>
                  <a:lnTo>
                    <a:pt x="64" y="60"/>
                  </a:lnTo>
                  <a:lnTo>
                    <a:pt x="0" y="52"/>
                  </a:lnTo>
                  <a:lnTo>
                    <a:pt x="6" y="2"/>
                  </a:lnTo>
                  <a:lnTo>
                    <a:pt x="94" y="0"/>
                  </a:lnTo>
                  <a:lnTo>
                    <a:pt x="1092" y="6"/>
                  </a:lnTo>
                  <a:close/>
                </a:path>
              </a:pathLst>
            </a:custGeom>
            <a:solidFill>
              <a:srgbClr val="b88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1"/>
            <p:cNvSpPr/>
            <p:nvPr/>
          </p:nvSpPr>
          <p:spPr>
            <a:xfrm>
              <a:off x="39338280" y="8750160"/>
              <a:ext cx="568080" cy="131436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358" h="828">
                  <a:moveTo>
                    <a:pt x="252" y="4"/>
                  </a:moveTo>
                  <a:lnTo>
                    <a:pt x="252" y="4"/>
                  </a:lnTo>
                  <a:lnTo>
                    <a:pt x="252" y="18"/>
                  </a:lnTo>
                  <a:lnTo>
                    <a:pt x="252" y="34"/>
                  </a:lnTo>
                  <a:lnTo>
                    <a:pt x="256" y="48"/>
                  </a:lnTo>
                  <a:lnTo>
                    <a:pt x="262" y="60"/>
                  </a:lnTo>
                  <a:lnTo>
                    <a:pt x="262" y="60"/>
                  </a:lnTo>
                  <a:lnTo>
                    <a:pt x="280" y="252"/>
                  </a:lnTo>
                  <a:lnTo>
                    <a:pt x="302" y="440"/>
                  </a:lnTo>
                  <a:lnTo>
                    <a:pt x="328" y="628"/>
                  </a:lnTo>
                  <a:lnTo>
                    <a:pt x="342" y="722"/>
                  </a:lnTo>
                  <a:lnTo>
                    <a:pt x="358" y="816"/>
                  </a:lnTo>
                  <a:lnTo>
                    <a:pt x="20" y="828"/>
                  </a:lnTo>
                  <a:lnTo>
                    <a:pt x="2" y="820"/>
                  </a:lnTo>
                  <a:lnTo>
                    <a:pt x="2" y="820"/>
                  </a:lnTo>
                  <a:lnTo>
                    <a:pt x="0" y="716"/>
                  </a:lnTo>
                  <a:lnTo>
                    <a:pt x="0" y="614"/>
                  </a:lnTo>
                  <a:lnTo>
                    <a:pt x="2" y="510"/>
                  </a:lnTo>
                  <a:lnTo>
                    <a:pt x="6" y="408"/>
                  </a:lnTo>
                  <a:lnTo>
                    <a:pt x="14" y="204"/>
                  </a:lnTo>
                  <a:lnTo>
                    <a:pt x="18" y="10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46" y="4"/>
                  </a:lnTo>
                  <a:lnTo>
                    <a:pt x="76" y="4"/>
                  </a:lnTo>
                  <a:lnTo>
                    <a:pt x="136" y="2"/>
                  </a:lnTo>
                  <a:lnTo>
                    <a:pt x="196" y="0"/>
                  </a:lnTo>
                  <a:lnTo>
                    <a:pt x="224" y="0"/>
                  </a:lnTo>
                  <a:lnTo>
                    <a:pt x="252" y="4"/>
                  </a:lnTo>
                  <a:lnTo>
                    <a:pt x="252" y="4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2"/>
            <p:cNvSpPr/>
            <p:nvPr/>
          </p:nvSpPr>
          <p:spPr>
            <a:xfrm>
              <a:off x="39795480" y="8750160"/>
              <a:ext cx="574560" cy="130176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362" h="820">
                  <a:moveTo>
                    <a:pt x="190" y="0"/>
                  </a:moveTo>
                  <a:lnTo>
                    <a:pt x="190" y="0"/>
                  </a:lnTo>
                  <a:lnTo>
                    <a:pt x="216" y="100"/>
                  </a:lnTo>
                  <a:lnTo>
                    <a:pt x="238" y="198"/>
                  </a:lnTo>
                  <a:lnTo>
                    <a:pt x="278" y="392"/>
                  </a:lnTo>
                  <a:lnTo>
                    <a:pt x="320" y="586"/>
                  </a:lnTo>
                  <a:lnTo>
                    <a:pt x="362" y="784"/>
                  </a:lnTo>
                  <a:lnTo>
                    <a:pt x="362" y="820"/>
                  </a:lnTo>
                  <a:lnTo>
                    <a:pt x="106" y="820"/>
                  </a:lnTo>
                  <a:lnTo>
                    <a:pt x="106" y="820"/>
                  </a:lnTo>
                  <a:lnTo>
                    <a:pt x="84" y="674"/>
                  </a:lnTo>
                  <a:lnTo>
                    <a:pt x="64" y="528"/>
                  </a:lnTo>
                  <a:lnTo>
                    <a:pt x="44" y="386"/>
                  </a:lnTo>
                  <a:lnTo>
                    <a:pt x="36" y="316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26" y="230"/>
                  </a:lnTo>
                  <a:lnTo>
                    <a:pt x="22" y="212"/>
                  </a:lnTo>
                  <a:lnTo>
                    <a:pt x="18" y="176"/>
                  </a:lnTo>
                  <a:lnTo>
                    <a:pt x="16" y="140"/>
                  </a:lnTo>
                  <a:lnTo>
                    <a:pt x="12" y="104"/>
                  </a:lnTo>
                  <a:lnTo>
                    <a:pt x="12" y="104"/>
                  </a:lnTo>
                  <a:lnTo>
                    <a:pt x="8" y="80"/>
                  </a:lnTo>
                  <a:lnTo>
                    <a:pt x="4" y="5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2" y="4"/>
                  </a:lnTo>
                  <a:lnTo>
                    <a:pt x="46" y="2"/>
                  </a:lnTo>
                  <a:lnTo>
                    <a:pt x="94" y="0"/>
                  </a:lnTo>
                  <a:lnTo>
                    <a:pt x="140" y="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3"/>
            <p:cNvSpPr/>
            <p:nvPr/>
          </p:nvSpPr>
          <p:spPr>
            <a:xfrm>
              <a:off x="40173480" y="8750160"/>
              <a:ext cx="637920" cy="130176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402" h="820">
                  <a:moveTo>
                    <a:pt x="152" y="0"/>
                  </a:moveTo>
                  <a:lnTo>
                    <a:pt x="152" y="0"/>
                  </a:lnTo>
                  <a:lnTo>
                    <a:pt x="176" y="64"/>
                  </a:lnTo>
                  <a:lnTo>
                    <a:pt x="198" y="130"/>
                  </a:lnTo>
                  <a:lnTo>
                    <a:pt x="240" y="262"/>
                  </a:lnTo>
                  <a:lnTo>
                    <a:pt x="280" y="394"/>
                  </a:lnTo>
                  <a:lnTo>
                    <a:pt x="302" y="458"/>
                  </a:lnTo>
                  <a:lnTo>
                    <a:pt x="324" y="524"/>
                  </a:lnTo>
                  <a:lnTo>
                    <a:pt x="324" y="524"/>
                  </a:lnTo>
                  <a:lnTo>
                    <a:pt x="326" y="540"/>
                  </a:lnTo>
                  <a:lnTo>
                    <a:pt x="328" y="556"/>
                  </a:lnTo>
                  <a:lnTo>
                    <a:pt x="336" y="588"/>
                  </a:lnTo>
                  <a:lnTo>
                    <a:pt x="356" y="648"/>
                  </a:lnTo>
                  <a:lnTo>
                    <a:pt x="356" y="648"/>
                  </a:lnTo>
                  <a:lnTo>
                    <a:pt x="370" y="692"/>
                  </a:lnTo>
                  <a:lnTo>
                    <a:pt x="384" y="734"/>
                  </a:lnTo>
                  <a:lnTo>
                    <a:pt x="396" y="778"/>
                  </a:lnTo>
                  <a:lnTo>
                    <a:pt x="400" y="798"/>
                  </a:lnTo>
                  <a:lnTo>
                    <a:pt x="402" y="820"/>
                  </a:lnTo>
                  <a:lnTo>
                    <a:pt x="166" y="820"/>
                  </a:lnTo>
                  <a:lnTo>
                    <a:pt x="166" y="820"/>
                  </a:lnTo>
                  <a:lnTo>
                    <a:pt x="162" y="786"/>
                  </a:lnTo>
                  <a:lnTo>
                    <a:pt x="154" y="752"/>
                  </a:lnTo>
                  <a:lnTo>
                    <a:pt x="136" y="682"/>
                  </a:lnTo>
                  <a:lnTo>
                    <a:pt x="118" y="612"/>
                  </a:lnTo>
                  <a:lnTo>
                    <a:pt x="112" y="578"/>
                  </a:lnTo>
                  <a:lnTo>
                    <a:pt x="106" y="544"/>
                  </a:lnTo>
                  <a:lnTo>
                    <a:pt x="106" y="544"/>
                  </a:lnTo>
                  <a:lnTo>
                    <a:pt x="98" y="496"/>
                  </a:lnTo>
                  <a:lnTo>
                    <a:pt x="88" y="450"/>
                  </a:lnTo>
                  <a:lnTo>
                    <a:pt x="64" y="356"/>
                  </a:lnTo>
                  <a:lnTo>
                    <a:pt x="64" y="356"/>
                  </a:lnTo>
                  <a:lnTo>
                    <a:pt x="52" y="300"/>
                  </a:lnTo>
                  <a:lnTo>
                    <a:pt x="42" y="244"/>
                  </a:lnTo>
                  <a:lnTo>
                    <a:pt x="32" y="184"/>
                  </a:lnTo>
                  <a:lnTo>
                    <a:pt x="20" y="124"/>
                  </a:lnTo>
                  <a:lnTo>
                    <a:pt x="20" y="124"/>
                  </a:lnTo>
                  <a:lnTo>
                    <a:pt x="16" y="112"/>
                  </a:lnTo>
                  <a:lnTo>
                    <a:pt x="12" y="98"/>
                  </a:lnTo>
                  <a:lnTo>
                    <a:pt x="8" y="66"/>
                  </a:lnTo>
                  <a:lnTo>
                    <a:pt x="6" y="32"/>
                  </a:lnTo>
                  <a:lnTo>
                    <a:pt x="4" y="1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6" y="0"/>
                  </a:lnTo>
                  <a:lnTo>
                    <a:pt x="76" y="0"/>
                  </a:lnTo>
                  <a:lnTo>
                    <a:pt x="116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4"/>
            <p:cNvSpPr/>
            <p:nvPr/>
          </p:nvSpPr>
          <p:spPr>
            <a:xfrm>
              <a:off x="36982440" y="8756640"/>
              <a:ext cx="1047600" cy="1307880"/>
            </a:xfrm>
            <a:custGeom>
              <a:avLst/>
              <a:gdLst/>
              <a:ahLst/>
              <a:rect l="l" t="t" r="r" b="b"/>
              <a:pathLst>
                <a:path w="660" h="824">
                  <a:moveTo>
                    <a:pt x="638" y="0"/>
                  </a:moveTo>
                  <a:lnTo>
                    <a:pt x="660" y="0"/>
                  </a:lnTo>
                  <a:lnTo>
                    <a:pt x="660" y="0"/>
                  </a:lnTo>
                  <a:lnTo>
                    <a:pt x="618" y="84"/>
                  </a:lnTo>
                  <a:lnTo>
                    <a:pt x="574" y="172"/>
                  </a:lnTo>
                  <a:lnTo>
                    <a:pt x="484" y="344"/>
                  </a:lnTo>
                  <a:lnTo>
                    <a:pt x="440" y="430"/>
                  </a:lnTo>
                  <a:lnTo>
                    <a:pt x="396" y="516"/>
                  </a:lnTo>
                  <a:lnTo>
                    <a:pt x="356" y="602"/>
                  </a:lnTo>
                  <a:lnTo>
                    <a:pt x="318" y="688"/>
                  </a:lnTo>
                  <a:lnTo>
                    <a:pt x="318" y="688"/>
                  </a:lnTo>
                  <a:lnTo>
                    <a:pt x="314" y="688"/>
                  </a:lnTo>
                  <a:lnTo>
                    <a:pt x="310" y="688"/>
                  </a:lnTo>
                  <a:lnTo>
                    <a:pt x="308" y="692"/>
                  </a:lnTo>
                  <a:lnTo>
                    <a:pt x="306" y="696"/>
                  </a:lnTo>
                  <a:lnTo>
                    <a:pt x="302" y="702"/>
                  </a:lnTo>
                  <a:lnTo>
                    <a:pt x="302" y="702"/>
                  </a:lnTo>
                  <a:lnTo>
                    <a:pt x="286" y="730"/>
                  </a:lnTo>
                  <a:lnTo>
                    <a:pt x="270" y="762"/>
                  </a:lnTo>
                  <a:lnTo>
                    <a:pt x="254" y="794"/>
                  </a:lnTo>
                  <a:lnTo>
                    <a:pt x="244" y="810"/>
                  </a:lnTo>
                  <a:lnTo>
                    <a:pt x="234" y="824"/>
                  </a:lnTo>
                  <a:lnTo>
                    <a:pt x="234" y="824"/>
                  </a:lnTo>
                  <a:lnTo>
                    <a:pt x="176" y="818"/>
                  </a:lnTo>
                  <a:lnTo>
                    <a:pt x="120" y="816"/>
                  </a:lnTo>
                  <a:lnTo>
                    <a:pt x="0" y="816"/>
                  </a:lnTo>
                  <a:lnTo>
                    <a:pt x="0" y="816"/>
                  </a:lnTo>
                  <a:lnTo>
                    <a:pt x="16" y="780"/>
                  </a:lnTo>
                  <a:lnTo>
                    <a:pt x="36" y="746"/>
                  </a:lnTo>
                  <a:lnTo>
                    <a:pt x="56" y="712"/>
                  </a:lnTo>
                  <a:lnTo>
                    <a:pt x="78" y="680"/>
                  </a:lnTo>
                  <a:lnTo>
                    <a:pt x="124" y="614"/>
                  </a:lnTo>
                  <a:lnTo>
                    <a:pt x="142" y="580"/>
                  </a:lnTo>
                  <a:lnTo>
                    <a:pt x="160" y="546"/>
                  </a:lnTo>
                  <a:lnTo>
                    <a:pt x="160" y="546"/>
                  </a:lnTo>
                  <a:lnTo>
                    <a:pt x="198" y="490"/>
                  </a:lnTo>
                  <a:lnTo>
                    <a:pt x="218" y="462"/>
                  </a:lnTo>
                  <a:lnTo>
                    <a:pt x="234" y="434"/>
                  </a:lnTo>
                  <a:lnTo>
                    <a:pt x="234" y="434"/>
                  </a:lnTo>
                  <a:lnTo>
                    <a:pt x="268" y="382"/>
                  </a:lnTo>
                  <a:lnTo>
                    <a:pt x="302" y="332"/>
                  </a:lnTo>
                  <a:lnTo>
                    <a:pt x="372" y="232"/>
                  </a:lnTo>
                  <a:lnTo>
                    <a:pt x="442" y="132"/>
                  </a:lnTo>
                  <a:lnTo>
                    <a:pt x="514" y="32"/>
                  </a:lnTo>
                  <a:lnTo>
                    <a:pt x="514" y="32"/>
                  </a:lnTo>
                  <a:lnTo>
                    <a:pt x="518" y="24"/>
                  </a:lnTo>
                  <a:lnTo>
                    <a:pt x="526" y="20"/>
                  </a:lnTo>
                  <a:lnTo>
                    <a:pt x="540" y="10"/>
                  </a:lnTo>
                  <a:lnTo>
                    <a:pt x="554" y="4"/>
                  </a:lnTo>
                  <a:lnTo>
                    <a:pt x="572" y="2"/>
                  </a:lnTo>
                  <a:lnTo>
                    <a:pt x="590" y="0"/>
                  </a:lnTo>
                  <a:lnTo>
                    <a:pt x="606" y="0"/>
                  </a:lnTo>
                  <a:lnTo>
                    <a:pt x="638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5"/>
            <p:cNvSpPr/>
            <p:nvPr/>
          </p:nvSpPr>
          <p:spPr>
            <a:xfrm>
              <a:off x="37423800" y="8750160"/>
              <a:ext cx="1098360" cy="1301760"/>
            </a:xfrm>
            <a:custGeom>
              <a:avLst/>
              <a:gdLst>
                <a:gd name="textAreaLeft" fmla="*/ 0 w 1098360"/>
                <a:gd name="textAreaRight" fmla="*/ 1098720 w 10983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692" h="820">
                  <a:moveTo>
                    <a:pt x="692" y="0"/>
                  </a:moveTo>
                  <a:lnTo>
                    <a:pt x="692" y="0"/>
                  </a:lnTo>
                  <a:lnTo>
                    <a:pt x="612" y="204"/>
                  </a:lnTo>
                  <a:lnTo>
                    <a:pt x="532" y="406"/>
                  </a:lnTo>
                  <a:lnTo>
                    <a:pt x="454" y="612"/>
                  </a:lnTo>
                  <a:lnTo>
                    <a:pt x="418" y="714"/>
                  </a:lnTo>
                  <a:lnTo>
                    <a:pt x="382" y="820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6" y="818"/>
                  </a:lnTo>
                  <a:lnTo>
                    <a:pt x="12" y="814"/>
                  </a:lnTo>
                  <a:lnTo>
                    <a:pt x="14" y="808"/>
                  </a:lnTo>
                  <a:lnTo>
                    <a:pt x="16" y="800"/>
                  </a:lnTo>
                  <a:lnTo>
                    <a:pt x="18" y="786"/>
                  </a:lnTo>
                  <a:lnTo>
                    <a:pt x="20" y="780"/>
                  </a:lnTo>
                  <a:lnTo>
                    <a:pt x="24" y="774"/>
                  </a:lnTo>
                  <a:lnTo>
                    <a:pt x="24" y="774"/>
                  </a:lnTo>
                  <a:lnTo>
                    <a:pt x="122" y="586"/>
                  </a:lnTo>
                  <a:lnTo>
                    <a:pt x="222" y="396"/>
                  </a:lnTo>
                  <a:lnTo>
                    <a:pt x="322" y="206"/>
                  </a:lnTo>
                  <a:lnTo>
                    <a:pt x="420" y="14"/>
                  </a:lnTo>
                  <a:lnTo>
                    <a:pt x="420" y="14"/>
                  </a:lnTo>
                  <a:lnTo>
                    <a:pt x="452" y="10"/>
                  </a:lnTo>
                  <a:lnTo>
                    <a:pt x="484" y="6"/>
                  </a:lnTo>
                  <a:lnTo>
                    <a:pt x="552" y="0"/>
                  </a:lnTo>
                  <a:lnTo>
                    <a:pt x="620" y="0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46"/>
            <p:cNvSpPr/>
            <p:nvPr/>
          </p:nvSpPr>
          <p:spPr>
            <a:xfrm>
              <a:off x="38090520" y="8750160"/>
              <a:ext cx="844560" cy="13017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532" h="820">
                  <a:moveTo>
                    <a:pt x="532" y="0"/>
                  </a:moveTo>
                  <a:lnTo>
                    <a:pt x="532" y="0"/>
                  </a:lnTo>
                  <a:lnTo>
                    <a:pt x="526" y="88"/>
                  </a:lnTo>
                  <a:lnTo>
                    <a:pt x="518" y="174"/>
                  </a:lnTo>
                  <a:lnTo>
                    <a:pt x="506" y="254"/>
                  </a:lnTo>
                  <a:lnTo>
                    <a:pt x="494" y="334"/>
                  </a:lnTo>
                  <a:lnTo>
                    <a:pt x="482" y="416"/>
                  </a:lnTo>
                  <a:lnTo>
                    <a:pt x="472" y="496"/>
                  </a:lnTo>
                  <a:lnTo>
                    <a:pt x="462" y="580"/>
                  </a:lnTo>
                  <a:lnTo>
                    <a:pt x="456" y="670"/>
                  </a:lnTo>
                  <a:lnTo>
                    <a:pt x="456" y="670"/>
                  </a:lnTo>
                  <a:lnTo>
                    <a:pt x="452" y="676"/>
                  </a:lnTo>
                  <a:lnTo>
                    <a:pt x="450" y="682"/>
                  </a:lnTo>
                  <a:lnTo>
                    <a:pt x="448" y="696"/>
                  </a:lnTo>
                  <a:lnTo>
                    <a:pt x="448" y="710"/>
                  </a:lnTo>
                  <a:lnTo>
                    <a:pt x="448" y="716"/>
                  </a:lnTo>
                  <a:lnTo>
                    <a:pt x="446" y="724"/>
                  </a:lnTo>
                  <a:lnTo>
                    <a:pt x="446" y="724"/>
                  </a:lnTo>
                  <a:lnTo>
                    <a:pt x="442" y="734"/>
                  </a:lnTo>
                  <a:lnTo>
                    <a:pt x="440" y="746"/>
                  </a:lnTo>
                  <a:lnTo>
                    <a:pt x="438" y="772"/>
                  </a:lnTo>
                  <a:lnTo>
                    <a:pt x="436" y="786"/>
                  </a:lnTo>
                  <a:lnTo>
                    <a:pt x="434" y="798"/>
                  </a:lnTo>
                  <a:lnTo>
                    <a:pt x="428" y="810"/>
                  </a:lnTo>
                  <a:lnTo>
                    <a:pt x="422" y="820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76" y="614"/>
                  </a:lnTo>
                  <a:lnTo>
                    <a:pt x="152" y="406"/>
                  </a:lnTo>
                  <a:lnTo>
                    <a:pt x="232" y="202"/>
                  </a:lnTo>
                  <a:lnTo>
                    <a:pt x="272" y="100"/>
                  </a:lnTo>
                  <a:lnTo>
                    <a:pt x="31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47"/>
            <p:cNvSpPr/>
            <p:nvPr/>
          </p:nvSpPr>
          <p:spPr>
            <a:xfrm>
              <a:off x="38833560" y="8750160"/>
              <a:ext cx="473040" cy="1304640"/>
            </a:xfrm>
            <a:custGeom>
              <a:avLst/>
              <a:gdLst>
                <a:gd name="textAreaLeft" fmla="*/ 0 w 473040"/>
                <a:gd name="textAreaRight" fmla="*/ 473040 w 47304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298" h="822">
                  <a:moveTo>
                    <a:pt x="298" y="0"/>
                  </a:moveTo>
                  <a:lnTo>
                    <a:pt x="298" y="0"/>
                  </a:lnTo>
                  <a:lnTo>
                    <a:pt x="288" y="406"/>
                  </a:lnTo>
                  <a:lnTo>
                    <a:pt x="276" y="820"/>
                  </a:lnTo>
                  <a:lnTo>
                    <a:pt x="276" y="820"/>
                  </a:lnTo>
                  <a:lnTo>
                    <a:pt x="212" y="820"/>
                  </a:lnTo>
                  <a:lnTo>
                    <a:pt x="142" y="820"/>
                  </a:lnTo>
                  <a:lnTo>
                    <a:pt x="70" y="822"/>
                  </a:lnTo>
                  <a:lnTo>
                    <a:pt x="34" y="822"/>
                  </a:lnTo>
                  <a:lnTo>
                    <a:pt x="0" y="820"/>
                  </a:lnTo>
                  <a:lnTo>
                    <a:pt x="0" y="820"/>
                  </a:lnTo>
                  <a:lnTo>
                    <a:pt x="12" y="718"/>
                  </a:lnTo>
                  <a:lnTo>
                    <a:pt x="24" y="614"/>
                  </a:lnTo>
                  <a:lnTo>
                    <a:pt x="46" y="406"/>
                  </a:lnTo>
                  <a:lnTo>
                    <a:pt x="60" y="302"/>
                  </a:lnTo>
                  <a:lnTo>
                    <a:pt x="74" y="198"/>
                  </a:lnTo>
                  <a:lnTo>
                    <a:pt x="90" y="98"/>
                  </a:lnTo>
                  <a:lnTo>
                    <a:pt x="110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48"/>
            <p:cNvSpPr/>
            <p:nvPr/>
          </p:nvSpPr>
          <p:spPr>
            <a:xfrm>
              <a:off x="40478400" y="8750160"/>
              <a:ext cx="904680" cy="12952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570" h="816">
                  <a:moveTo>
                    <a:pt x="156" y="0"/>
                  </a:moveTo>
                  <a:lnTo>
                    <a:pt x="156" y="0"/>
                  </a:lnTo>
                  <a:lnTo>
                    <a:pt x="188" y="48"/>
                  </a:lnTo>
                  <a:lnTo>
                    <a:pt x="218" y="102"/>
                  </a:lnTo>
                  <a:lnTo>
                    <a:pt x="244" y="158"/>
                  </a:lnTo>
                  <a:lnTo>
                    <a:pt x="254" y="184"/>
                  </a:lnTo>
                  <a:lnTo>
                    <a:pt x="264" y="210"/>
                  </a:lnTo>
                  <a:lnTo>
                    <a:pt x="264" y="210"/>
                  </a:lnTo>
                  <a:lnTo>
                    <a:pt x="272" y="218"/>
                  </a:lnTo>
                  <a:lnTo>
                    <a:pt x="278" y="228"/>
                  </a:lnTo>
                  <a:lnTo>
                    <a:pt x="290" y="250"/>
                  </a:lnTo>
                  <a:lnTo>
                    <a:pt x="300" y="274"/>
                  </a:lnTo>
                  <a:lnTo>
                    <a:pt x="310" y="296"/>
                  </a:lnTo>
                  <a:lnTo>
                    <a:pt x="310" y="296"/>
                  </a:lnTo>
                  <a:lnTo>
                    <a:pt x="354" y="388"/>
                  </a:lnTo>
                  <a:lnTo>
                    <a:pt x="402" y="480"/>
                  </a:lnTo>
                  <a:lnTo>
                    <a:pt x="452" y="574"/>
                  </a:lnTo>
                  <a:lnTo>
                    <a:pt x="502" y="666"/>
                  </a:lnTo>
                  <a:lnTo>
                    <a:pt x="502" y="666"/>
                  </a:lnTo>
                  <a:lnTo>
                    <a:pt x="506" y="688"/>
                  </a:lnTo>
                  <a:lnTo>
                    <a:pt x="514" y="706"/>
                  </a:lnTo>
                  <a:lnTo>
                    <a:pt x="524" y="724"/>
                  </a:lnTo>
                  <a:lnTo>
                    <a:pt x="534" y="742"/>
                  </a:lnTo>
                  <a:lnTo>
                    <a:pt x="556" y="778"/>
                  </a:lnTo>
                  <a:lnTo>
                    <a:pt x="564" y="796"/>
                  </a:lnTo>
                  <a:lnTo>
                    <a:pt x="570" y="816"/>
                  </a:lnTo>
                  <a:lnTo>
                    <a:pt x="254" y="816"/>
                  </a:lnTo>
                  <a:lnTo>
                    <a:pt x="254" y="816"/>
                  </a:lnTo>
                  <a:lnTo>
                    <a:pt x="188" y="608"/>
                  </a:lnTo>
                  <a:lnTo>
                    <a:pt x="126" y="408"/>
                  </a:lnTo>
                  <a:lnTo>
                    <a:pt x="64" y="208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49"/>
            <p:cNvSpPr/>
            <p:nvPr/>
          </p:nvSpPr>
          <p:spPr>
            <a:xfrm>
              <a:off x="40805280" y="8750160"/>
              <a:ext cx="873000" cy="130176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550" h="820">
                  <a:moveTo>
                    <a:pt x="192" y="178"/>
                  </a:moveTo>
                  <a:lnTo>
                    <a:pt x="192" y="178"/>
                  </a:lnTo>
                  <a:lnTo>
                    <a:pt x="244" y="268"/>
                  </a:lnTo>
                  <a:lnTo>
                    <a:pt x="292" y="354"/>
                  </a:lnTo>
                  <a:lnTo>
                    <a:pt x="342" y="440"/>
                  </a:lnTo>
                  <a:lnTo>
                    <a:pt x="368" y="482"/>
                  </a:lnTo>
                  <a:lnTo>
                    <a:pt x="396" y="524"/>
                  </a:lnTo>
                  <a:lnTo>
                    <a:pt x="396" y="524"/>
                  </a:lnTo>
                  <a:lnTo>
                    <a:pt x="412" y="560"/>
                  </a:lnTo>
                  <a:lnTo>
                    <a:pt x="430" y="596"/>
                  </a:lnTo>
                  <a:lnTo>
                    <a:pt x="468" y="666"/>
                  </a:lnTo>
                  <a:lnTo>
                    <a:pt x="508" y="734"/>
                  </a:lnTo>
                  <a:lnTo>
                    <a:pt x="526" y="770"/>
                  </a:lnTo>
                  <a:lnTo>
                    <a:pt x="542" y="804"/>
                  </a:lnTo>
                  <a:lnTo>
                    <a:pt x="542" y="804"/>
                  </a:lnTo>
                  <a:lnTo>
                    <a:pt x="548" y="810"/>
                  </a:lnTo>
                  <a:lnTo>
                    <a:pt x="550" y="812"/>
                  </a:lnTo>
                  <a:lnTo>
                    <a:pt x="550" y="816"/>
                  </a:lnTo>
                  <a:lnTo>
                    <a:pt x="550" y="816"/>
                  </a:lnTo>
                  <a:lnTo>
                    <a:pt x="530" y="818"/>
                  </a:lnTo>
                  <a:lnTo>
                    <a:pt x="512" y="820"/>
                  </a:lnTo>
                  <a:lnTo>
                    <a:pt x="476" y="818"/>
                  </a:lnTo>
                  <a:lnTo>
                    <a:pt x="440" y="818"/>
                  </a:lnTo>
                  <a:lnTo>
                    <a:pt x="404" y="816"/>
                  </a:lnTo>
                  <a:lnTo>
                    <a:pt x="404" y="816"/>
                  </a:lnTo>
                  <a:lnTo>
                    <a:pt x="390" y="796"/>
                  </a:lnTo>
                  <a:lnTo>
                    <a:pt x="380" y="776"/>
                  </a:lnTo>
                  <a:lnTo>
                    <a:pt x="364" y="738"/>
                  </a:lnTo>
                  <a:lnTo>
                    <a:pt x="348" y="700"/>
                  </a:lnTo>
                  <a:lnTo>
                    <a:pt x="338" y="680"/>
                  </a:lnTo>
                  <a:lnTo>
                    <a:pt x="326" y="660"/>
                  </a:lnTo>
                  <a:lnTo>
                    <a:pt x="326" y="660"/>
                  </a:lnTo>
                  <a:lnTo>
                    <a:pt x="286" y="580"/>
                  </a:lnTo>
                  <a:lnTo>
                    <a:pt x="244" y="500"/>
                  </a:lnTo>
                  <a:lnTo>
                    <a:pt x="202" y="420"/>
                  </a:lnTo>
                  <a:lnTo>
                    <a:pt x="164" y="338"/>
                  </a:lnTo>
                  <a:lnTo>
                    <a:pt x="164" y="338"/>
                  </a:lnTo>
                  <a:lnTo>
                    <a:pt x="156" y="328"/>
                  </a:lnTo>
                  <a:lnTo>
                    <a:pt x="150" y="316"/>
                  </a:lnTo>
                  <a:lnTo>
                    <a:pt x="144" y="300"/>
                  </a:lnTo>
                  <a:lnTo>
                    <a:pt x="140" y="286"/>
                  </a:lnTo>
                  <a:lnTo>
                    <a:pt x="140" y="286"/>
                  </a:lnTo>
                  <a:lnTo>
                    <a:pt x="102" y="214"/>
                  </a:lnTo>
                  <a:lnTo>
                    <a:pt x="66" y="146"/>
                  </a:lnTo>
                  <a:lnTo>
                    <a:pt x="34" y="78"/>
                  </a:lnTo>
                  <a:lnTo>
                    <a:pt x="0" y="8"/>
                  </a:lnTo>
                  <a:lnTo>
                    <a:pt x="0" y="8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58" y="4"/>
                  </a:lnTo>
                  <a:lnTo>
                    <a:pt x="6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98" y="22"/>
                  </a:lnTo>
                  <a:lnTo>
                    <a:pt x="114" y="42"/>
                  </a:lnTo>
                  <a:lnTo>
                    <a:pt x="128" y="64"/>
                  </a:lnTo>
                  <a:lnTo>
                    <a:pt x="142" y="86"/>
                  </a:lnTo>
                  <a:lnTo>
                    <a:pt x="166" y="134"/>
                  </a:lnTo>
                  <a:lnTo>
                    <a:pt x="178" y="156"/>
                  </a:lnTo>
                  <a:lnTo>
                    <a:pt x="192" y="178"/>
                  </a:lnTo>
                  <a:lnTo>
                    <a:pt x="192" y="178"/>
                  </a:lnTo>
                  <a:close/>
                </a:path>
              </a:pathLst>
            </a:custGeom>
            <a:solidFill>
              <a:srgbClr val="dc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グループ化 157"/>
          <p:cNvGrpSpPr/>
          <p:nvPr/>
        </p:nvGrpSpPr>
        <p:grpSpPr>
          <a:xfrm>
            <a:off x="12233160" y="7718400"/>
            <a:ext cx="1892520" cy="2432160"/>
            <a:chOff x="12233160" y="7718400"/>
            <a:chExt cx="1892520" cy="2432160"/>
          </a:xfrm>
        </p:grpSpPr>
        <p:sp>
          <p:nvSpPr>
            <p:cNvPr id="191" name="Freeform 150"/>
            <p:cNvSpPr/>
            <p:nvPr/>
          </p:nvSpPr>
          <p:spPr>
            <a:xfrm>
              <a:off x="12233160" y="7718400"/>
              <a:ext cx="1892520" cy="2432160"/>
            </a:xfrm>
            <a:custGeom>
              <a:avLst/>
              <a:gdLst>
                <a:gd name="textAreaLeft" fmla="*/ 0 w 1892520"/>
                <a:gd name="textAreaRight" fmla="*/ 1892880 w 18925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192" h="1532">
                  <a:moveTo>
                    <a:pt x="618" y="12"/>
                  </a:moveTo>
                  <a:lnTo>
                    <a:pt x="618" y="12"/>
                  </a:lnTo>
                  <a:lnTo>
                    <a:pt x="618" y="18"/>
                  </a:lnTo>
                  <a:lnTo>
                    <a:pt x="622" y="22"/>
                  </a:lnTo>
                  <a:lnTo>
                    <a:pt x="624" y="28"/>
                  </a:lnTo>
                  <a:lnTo>
                    <a:pt x="622" y="34"/>
                  </a:lnTo>
                  <a:lnTo>
                    <a:pt x="622" y="34"/>
                  </a:lnTo>
                  <a:lnTo>
                    <a:pt x="624" y="36"/>
                  </a:lnTo>
                  <a:lnTo>
                    <a:pt x="628" y="38"/>
                  </a:lnTo>
                  <a:lnTo>
                    <a:pt x="636" y="40"/>
                  </a:lnTo>
                  <a:lnTo>
                    <a:pt x="652" y="42"/>
                  </a:lnTo>
                  <a:lnTo>
                    <a:pt x="652" y="42"/>
                  </a:lnTo>
                  <a:lnTo>
                    <a:pt x="670" y="50"/>
                  </a:lnTo>
                  <a:lnTo>
                    <a:pt x="688" y="58"/>
                  </a:lnTo>
                  <a:lnTo>
                    <a:pt x="706" y="68"/>
                  </a:lnTo>
                  <a:lnTo>
                    <a:pt x="712" y="72"/>
                  </a:lnTo>
                  <a:lnTo>
                    <a:pt x="720" y="80"/>
                  </a:lnTo>
                  <a:lnTo>
                    <a:pt x="720" y="80"/>
                  </a:lnTo>
                  <a:lnTo>
                    <a:pt x="728" y="86"/>
                  </a:lnTo>
                  <a:lnTo>
                    <a:pt x="734" y="94"/>
                  </a:lnTo>
                  <a:lnTo>
                    <a:pt x="740" y="102"/>
                  </a:lnTo>
                  <a:lnTo>
                    <a:pt x="744" y="112"/>
                  </a:lnTo>
                  <a:lnTo>
                    <a:pt x="746" y="120"/>
                  </a:lnTo>
                  <a:lnTo>
                    <a:pt x="748" y="130"/>
                  </a:lnTo>
                  <a:lnTo>
                    <a:pt x="746" y="150"/>
                  </a:lnTo>
                  <a:lnTo>
                    <a:pt x="746" y="150"/>
                  </a:lnTo>
                  <a:lnTo>
                    <a:pt x="738" y="164"/>
                  </a:lnTo>
                  <a:lnTo>
                    <a:pt x="728" y="176"/>
                  </a:lnTo>
                  <a:lnTo>
                    <a:pt x="716" y="188"/>
                  </a:lnTo>
                  <a:lnTo>
                    <a:pt x="702" y="196"/>
                  </a:lnTo>
                  <a:lnTo>
                    <a:pt x="702" y="196"/>
                  </a:lnTo>
                  <a:lnTo>
                    <a:pt x="742" y="208"/>
                  </a:lnTo>
                  <a:lnTo>
                    <a:pt x="760" y="216"/>
                  </a:lnTo>
                  <a:lnTo>
                    <a:pt x="770" y="222"/>
                  </a:lnTo>
                  <a:lnTo>
                    <a:pt x="778" y="228"/>
                  </a:lnTo>
                  <a:lnTo>
                    <a:pt x="778" y="228"/>
                  </a:lnTo>
                  <a:lnTo>
                    <a:pt x="800" y="246"/>
                  </a:lnTo>
                  <a:lnTo>
                    <a:pt x="820" y="264"/>
                  </a:lnTo>
                  <a:lnTo>
                    <a:pt x="836" y="286"/>
                  </a:lnTo>
                  <a:lnTo>
                    <a:pt x="848" y="308"/>
                  </a:lnTo>
                  <a:lnTo>
                    <a:pt x="860" y="332"/>
                  </a:lnTo>
                  <a:lnTo>
                    <a:pt x="868" y="356"/>
                  </a:lnTo>
                  <a:lnTo>
                    <a:pt x="882" y="408"/>
                  </a:lnTo>
                  <a:lnTo>
                    <a:pt x="882" y="408"/>
                  </a:lnTo>
                  <a:lnTo>
                    <a:pt x="884" y="420"/>
                  </a:lnTo>
                  <a:lnTo>
                    <a:pt x="886" y="430"/>
                  </a:lnTo>
                  <a:lnTo>
                    <a:pt x="886" y="442"/>
                  </a:lnTo>
                  <a:lnTo>
                    <a:pt x="884" y="454"/>
                  </a:lnTo>
                  <a:lnTo>
                    <a:pt x="886" y="476"/>
                  </a:lnTo>
                  <a:lnTo>
                    <a:pt x="886" y="476"/>
                  </a:lnTo>
                  <a:lnTo>
                    <a:pt x="894" y="480"/>
                  </a:lnTo>
                  <a:lnTo>
                    <a:pt x="904" y="486"/>
                  </a:lnTo>
                  <a:lnTo>
                    <a:pt x="922" y="500"/>
                  </a:lnTo>
                  <a:lnTo>
                    <a:pt x="938" y="518"/>
                  </a:lnTo>
                  <a:lnTo>
                    <a:pt x="950" y="536"/>
                  </a:lnTo>
                  <a:lnTo>
                    <a:pt x="950" y="536"/>
                  </a:lnTo>
                  <a:lnTo>
                    <a:pt x="966" y="562"/>
                  </a:lnTo>
                  <a:lnTo>
                    <a:pt x="980" y="588"/>
                  </a:lnTo>
                  <a:lnTo>
                    <a:pt x="992" y="614"/>
                  </a:lnTo>
                  <a:lnTo>
                    <a:pt x="1002" y="640"/>
                  </a:lnTo>
                  <a:lnTo>
                    <a:pt x="1010" y="668"/>
                  </a:lnTo>
                  <a:lnTo>
                    <a:pt x="1016" y="698"/>
                  </a:lnTo>
                  <a:lnTo>
                    <a:pt x="1020" y="728"/>
                  </a:lnTo>
                  <a:lnTo>
                    <a:pt x="1020" y="760"/>
                  </a:lnTo>
                  <a:lnTo>
                    <a:pt x="1020" y="760"/>
                  </a:lnTo>
                  <a:lnTo>
                    <a:pt x="1060" y="762"/>
                  </a:lnTo>
                  <a:lnTo>
                    <a:pt x="1100" y="762"/>
                  </a:lnTo>
                  <a:lnTo>
                    <a:pt x="1138" y="762"/>
                  </a:lnTo>
                  <a:lnTo>
                    <a:pt x="1178" y="764"/>
                  </a:lnTo>
                  <a:lnTo>
                    <a:pt x="1178" y="764"/>
                  </a:lnTo>
                  <a:lnTo>
                    <a:pt x="1180" y="764"/>
                  </a:lnTo>
                  <a:lnTo>
                    <a:pt x="1182" y="766"/>
                  </a:lnTo>
                  <a:lnTo>
                    <a:pt x="1182" y="766"/>
                  </a:lnTo>
                  <a:lnTo>
                    <a:pt x="1188" y="770"/>
                  </a:lnTo>
                  <a:lnTo>
                    <a:pt x="1192" y="774"/>
                  </a:lnTo>
                  <a:lnTo>
                    <a:pt x="1192" y="778"/>
                  </a:lnTo>
                  <a:lnTo>
                    <a:pt x="1192" y="778"/>
                  </a:lnTo>
                  <a:lnTo>
                    <a:pt x="1190" y="836"/>
                  </a:lnTo>
                  <a:lnTo>
                    <a:pt x="1190" y="892"/>
                  </a:lnTo>
                  <a:lnTo>
                    <a:pt x="1190" y="948"/>
                  </a:lnTo>
                  <a:lnTo>
                    <a:pt x="1190" y="1004"/>
                  </a:lnTo>
                  <a:lnTo>
                    <a:pt x="1190" y="1004"/>
                  </a:lnTo>
                  <a:lnTo>
                    <a:pt x="1188" y="1008"/>
                  </a:lnTo>
                  <a:lnTo>
                    <a:pt x="1186" y="1010"/>
                  </a:lnTo>
                  <a:lnTo>
                    <a:pt x="1178" y="1012"/>
                  </a:lnTo>
                  <a:lnTo>
                    <a:pt x="1172" y="1012"/>
                  </a:lnTo>
                  <a:lnTo>
                    <a:pt x="1168" y="1014"/>
                  </a:lnTo>
                  <a:lnTo>
                    <a:pt x="1166" y="1018"/>
                  </a:lnTo>
                  <a:lnTo>
                    <a:pt x="1004" y="1016"/>
                  </a:lnTo>
                  <a:lnTo>
                    <a:pt x="1004" y="1016"/>
                  </a:lnTo>
                  <a:lnTo>
                    <a:pt x="1002" y="1018"/>
                  </a:lnTo>
                  <a:lnTo>
                    <a:pt x="1000" y="1020"/>
                  </a:lnTo>
                  <a:lnTo>
                    <a:pt x="998" y="1026"/>
                  </a:lnTo>
                  <a:lnTo>
                    <a:pt x="998" y="1034"/>
                  </a:lnTo>
                  <a:lnTo>
                    <a:pt x="998" y="1040"/>
                  </a:lnTo>
                  <a:lnTo>
                    <a:pt x="998" y="1076"/>
                  </a:lnTo>
                  <a:lnTo>
                    <a:pt x="1000" y="1426"/>
                  </a:lnTo>
                  <a:lnTo>
                    <a:pt x="1000" y="1498"/>
                  </a:lnTo>
                  <a:lnTo>
                    <a:pt x="1000" y="1498"/>
                  </a:lnTo>
                  <a:lnTo>
                    <a:pt x="1004" y="1506"/>
                  </a:lnTo>
                  <a:lnTo>
                    <a:pt x="1004" y="1514"/>
                  </a:lnTo>
                  <a:lnTo>
                    <a:pt x="1004" y="1514"/>
                  </a:lnTo>
                  <a:lnTo>
                    <a:pt x="1002" y="1516"/>
                  </a:lnTo>
                  <a:lnTo>
                    <a:pt x="1000" y="1518"/>
                  </a:lnTo>
                  <a:lnTo>
                    <a:pt x="996" y="1526"/>
                  </a:lnTo>
                  <a:lnTo>
                    <a:pt x="992" y="1530"/>
                  </a:lnTo>
                  <a:lnTo>
                    <a:pt x="990" y="1532"/>
                  </a:lnTo>
                  <a:lnTo>
                    <a:pt x="986" y="1530"/>
                  </a:lnTo>
                  <a:lnTo>
                    <a:pt x="976" y="1522"/>
                  </a:lnTo>
                  <a:lnTo>
                    <a:pt x="896" y="1522"/>
                  </a:lnTo>
                  <a:lnTo>
                    <a:pt x="500" y="1526"/>
                  </a:lnTo>
                  <a:lnTo>
                    <a:pt x="256" y="1528"/>
                  </a:lnTo>
                  <a:lnTo>
                    <a:pt x="256" y="1528"/>
                  </a:lnTo>
                  <a:lnTo>
                    <a:pt x="252" y="1526"/>
                  </a:lnTo>
                  <a:lnTo>
                    <a:pt x="248" y="1524"/>
                  </a:lnTo>
                  <a:lnTo>
                    <a:pt x="242" y="1526"/>
                  </a:lnTo>
                  <a:lnTo>
                    <a:pt x="234" y="1528"/>
                  </a:lnTo>
                  <a:lnTo>
                    <a:pt x="226" y="1528"/>
                  </a:lnTo>
                  <a:lnTo>
                    <a:pt x="158" y="1528"/>
                  </a:lnTo>
                  <a:lnTo>
                    <a:pt x="158" y="1528"/>
                  </a:lnTo>
                  <a:lnTo>
                    <a:pt x="154" y="1520"/>
                  </a:lnTo>
                  <a:lnTo>
                    <a:pt x="152" y="1516"/>
                  </a:lnTo>
                  <a:lnTo>
                    <a:pt x="152" y="1510"/>
                  </a:lnTo>
                  <a:lnTo>
                    <a:pt x="152" y="1510"/>
                  </a:lnTo>
                  <a:lnTo>
                    <a:pt x="156" y="1506"/>
                  </a:lnTo>
                  <a:lnTo>
                    <a:pt x="160" y="1500"/>
                  </a:lnTo>
                  <a:lnTo>
                    <a:pt x="162" y="1488"/>
                  </a:lnTo>
                  <a:lnTo>
                    <a:pt x="162" y="1464"/>
                  </a:lnTo>
                  <a:lnTo>
                    <a:pt x="162" y="1464"/>
                  </a:lnTo>
                  <a:lnTo>
                    <a:pt x="162" y="1448"/>
                  </a:lnTo>
                  <a:lnTo>
                    <a:pt x="162" y="1434"/>
                  </a:lnTo>
                  <a:lnTo>
                    <a:pt x="162" y="1418"/>
                  </a:lnTo>
                  <a:lnTo>
                    <a:pt x="164" y="1404"/>
                  </a:lnTo>
                  <a:lnTo>
                    <a:pt x="164" y="1404"/>
                  </a:lnTo>
                  <a:lnTo>
                    <a:pt x="164" y="1216"/>
                  </a:lnTo>
                  <a:lnTo>
                    <a:pt x="164" y="1120"/>
                  </a:lnTo>
                  <a:lnTo>
                    <a:pt x="162" y="1022"/>
                  </a:lnTo>
                  <a:lnTo>
                    <a:pt x="164" y="1020"/>
                  </a:lnTo>
                  <a:lnTo>
                    <a:pt x="162" y="1018"/>
                  </a:lnTo>
                  <a:lnTo>
                    <a:pt x="162" y="1018"/>
                  </a:lnTo>
                  <a:lnTo>
                    <a:pt x="86" y="1020"/>
                  </a:lnTo>
                  <a:lnTo>
                    <a:pt x="12" y="1018"/>
                  </a:lnTo>
                  <a:lnTo>
                    <a:pt x="12" y="1018"/>
                  </a:lnTo>
                  <a:lnTo>
                    <a:pt x="4" y="101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944"/>
                  </a:lnTo>
                  <a:lnTo>
                    <a:pt x="4" y="886"/>
                  </a:lnTo>
                  <a:lnTo>
                    <a:pt x="6" y="830"/>
                  </a:lnTo>
                  <a:lnTo>
                    <a:pt x="6" y="768"/>
                  </a:lnTo>
                  <a:lnTo>
                    <a:pt x="14" y="762"/>
                  </a:lnTo>
                  <a:lnTo>
                    <a:pt x="14" y="762"/>
                  </a:lnTo>
                  <a:lnTo>
                    <a:pt x="84" y="760"/>
                  </a:lnTo>
                  <a:lnTo>
                    <a:pt x="152" y="760"/>
                  </a:lnTo>
                  <a:lnTo>
                    <a:pt x="152" y="760"/>
                  </a:lnTo>
                  <a:lnTo>
                    <a:pt x="156" y="754"/>
                  </a:lnTo>
                  <a:lnTo>
                    <a:pt x="162" y="748"/>
                  </a:lnTo>
                  <a:lnTo>
                    <a:pt x="170" y="748"/>
                  </a:lnTo>
                  <a:lnTo>
                    <a:pt x="170" y="748"/>
                  </a:lnTo>
                  <a:lnTo>
                    <a:pt x="168" y="736"/>
                  </a:lnTo>
                  <a:lnTo>
                    <a:pt x="168" y="726"/>
                  </a:lnTo>
                  <a:lnTo>
                    <a:pt x="172" y="702"/>
                  </a:lnTo>
                  <a:lnTo>
                    <a:pt x="176" y="678"/>
                  </a:lnTo>
                  <a:lnTo>
                    <a:pt x="178" y="654"/>
                  </a:lnTo>
                  <a:lnTo>
                    <a:pt x="178" y="654"/>
                  </a:lnTo>
                  <a:lnTo>
                    <a:pt x="186" y="628"/>
                  </a:lnTo>
                  <a:lnTo>
                    <a:pt x="194" y="604"/>
                  </a:lnTo>
                  <a:lnTo>
                    <a:pt x="206" y="580"/>
                  </a:lnTo>
                  <a:lnTo>
                    <a:pt x="220" y="556"/>
                  </a:lnTo>
                  <a:lnTo>
                    <a:pt x="220" y="556"/>
                  </a:lnTo>
                  <a:lnTo>
                    <a:pt x="220" y="552"/>
                  </a:lnTo>
                  <a:lnTo>
                    <a:pt x="224" y="548"/>
                  </a:lnTo>
                  <a:lnTo>
                    <a:pt x="226" y="544"/>
                  </a:lnTo>
                  <a:lnTo>
                    <a:pt x="226" y="542"/>
                  </a:lnTo>
                  <a:lnTo>
                    <a:pt x="224" y="540"/>
                  </a:lnTo>
                  <a:lnTo>
                    <a:pt x="224" y="540"/>
                  </a:lnTo>
                  <a:lnTo>
                    <a:pt x="228" y="538"/>
                  </a:lnTo>
                  <a:lnTo>
                    <a:pt x="230" y="536"/>
                  </a:lnTo>
                  <a:lnTo>
                    <a:pt x="230" y="532"/>
                  </a:lnTo>
                  <a:lnTo>
                    <a:pt x="232" y="530"/>
                  </a:lnTo>
                  <a:lnTo>
                    <a:pt x="232" y="530"/>
                  </a:lnTo>
                  <a:lnTo>
                    <a:pt x="236" y="526"/>
                  </a:lnTo>
                  <a:lnTo>
                    <a:pt x="238" y="522"/>
                  </a:lnTo>
                  <a:lnTo>
                    <a:pt x="242" y="518"/>
                  </a:lnTo>
                  <a:lnTo>
                    <a:pt x="246" y="518"/>
                  </a:lnTo>
                  <a:lnTo>
                    <a:pt x="246" y="518"/>
                  </a:lnTo>
                  <a:lnTo>
                    <a:pt x="252" y="510"/>
                  </a:lnTo>
                  <a:lnTo>
                    <a:pt x="260" y="502"/>
                  </a:lnTo>
                  <a:lnTo>
                    <a:pt x="266" y="494"/>
                  </a:lnTo>
                  <a:lnTo>
                    <a:pt x="272" y="486"/>
                  </a:lnTo>
                  <a:lnTo>
                    <a:pt x="276" y="486"/>
                  </a:lnTo>
                  <a:lnTo>
                    <a:pt x="276" y="486"/>
                  </a:lnTo>
                  <a:lnTo>
                    <a:pt x="280" y="480"/>
                  </a:lnTo>
                  <a:lnTo>
                    <a:pt x="286" y="476"/>
                  </a:lnTo>
                  <a:lnTo>
                    <a:pt x="298" y="470"/>
                  </a:lnTo>
                  <a:lnTo>
                    <a:pt x="304" y="466"/>
                  </a:lnTo>
                  <a:lnTo>
                    <a:pt x="308" y="462"/>
                  </a:lnTo>
                  <a:lnTo>
                    <a:pt x="308" y="456"/>
                  </a:lnTo>
                  <a:lnTo>
                    <a:pt x="306" y="448"/>
                  </a:lnTo>
                  <a:lnTo>
                    <a:pt x="306" y="448"/>
                  </a:lnTo>
                  <a:lnTo>
                    <a:pt x="308" y="418"/>
                  </a:lnTo>
                  <a:lnTo>
                    <a:pt x="310" y="388"/>
                  </a:lnTo>
                  <a:lnTo>
                    <a:pt x="316" y="356"/>
                  </a:lnTo>
                  <a:lnTo>
                    <a:pt x="324" y="326"/>
                  </a:lnTo>
                  <a:lnTo>
                    <a:pt x="324" y="326"/>
                  </a:lnTo>
                  <a:lnTo>
                    <a:pt x="332" y="312"/>
                  </a:lnTo>
                  <a:lnTo>
                    <a:pt x="338" y="296"/>
                  </a:lnTo>
                  <a:lnTo>
                    <a:pt x="346" y="282"/>
                  </a:lnTo>
                  <a:lnTo>
                    <a:pt x="356" y="268"/>
                  </a:lnTo>
                  <a:lnTo>
                    <a:pt x="356" y="268"/>
                  </a:lnTo>
                  <a:lnTo>
                    <a:pt x="366" y="256"/>
                  </a:lnTo>
                  <a:lnTo>
                    <a:pt x="380" y="244"/>
                  </a:lnTo>
                  <a:lnTo>
                    <a:pt x="394" y="232"/>
                  </a:lnTo>
                  <a:lnTo>
                    <a:pt x="408" y="224"/>
                  </a:lnTo>
                  <a:lnTo>
                    <a:pt x="438" y="206"/>
                  </a:lnTo>
                  <a:lnTo>
                    <a:pt x="470" y="190"/>
                  </a:lnTo>
                  <a:lnTo>
                    <a:pt x="470" y="190"/>
                  </a:lnTo>
                  <a:lnTo>
                    <a:pt x="454" y="176"/>
                  </a:lnTo>
                  <a:lnTo>
                    <a:pt x="444" y="168"/>
                  </a:lnTo>
                  <a:lnTo>
                    <a:pt x="436" y="160"/>
                  </a:lnTo>
                  <a:lnTo>
                    <a:pt x="430" y="150"/>
                  </a:lnTo>
                  <a:lnTo>
                    <a:pt x="426" y="140"/>
                  </a:lnTo>
                  <a:lnTo>
                    <a:pt x="424" y="128"/>
                  </a:lnTo>
                  <a:lnTo>
                    <a:pt x="426" y="116"/>
                  </a:lnTo>
                  <a:lnTo>
                    <a:pt x="426" y="116"/>
                  </a:lnTo>
                  <a:lnTo>
                    <a:pt x="432" y="102"/>
                  </a:lnTo>
                  <a:lnTo>
                    <a:pt x="440" y="92"/>
                  </a:lnTo>
                  <a:lnTo>
                    <a:pt x="448" y="82"/>
                  </a:lnTo>
                  <a:lnTo>
                    <a:pt x="458" y="74"/>
                  </a:lnTo>
                  <a:lnTo>
                    <a:pt x="482" y="60"/>
                  </a:lnTo>
                  <a:lnTo>
                    <a:pt x="506" y="48"/>
                  </a:lnTo>
                  <a:lnTo>
                    <a:pt x="506" y="48"/>
                  </a:lnTo>
                  <a:lnTo>
                    <a:pt x="514" y="46"/>
                  </a:lnTo>
                  <a:lnTo>
                    <a:pt x="522" y="44"/>
                  </a:lnTo>
                  <a:lnTo>
                    <a:pt x="530" y="42"/>
                  </a:lnTo>
                  <a:lnTo>
                    <a:pt x="540" y="42"/>
                  </a:lnTo>
                  <a:lnTo>
                    <a:pt x="540" y="42"/>
                  </a:lnTo>
                  <a:lnTo>
                    <a:pt x="544" y="38"/>
                  </a:lnTo>
                  <a:lnTo>
                    <a:pt x="550" y="38"/>
                  </a:lnTo>
                  <a:lnTo>
                    <a:pt x="562" y="36"/>
                  </a:lnTo>
                  <a:lnTo>
                    <a:pt x="572" y="34"/>
                  </a:lnTo>
                  <a:lnTo>
                    <a:pt x="576" y="32"/>
                  </a:lnTo>
                  <a:lnTo>
                    <a:pt x="580" y="26"/>
                  </a:lnTo>
                  <a:lnTo>
                    <a:pt x="580" y="26"/>
                  </a:lnTo>
                  <a:lnTo>
                    <a:pt x="594" y="14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10" y="2"/>
                  </a:lnTo>
                  <a:lnTo>
                    <a:pt x="612" y="4"/>
                  </a:lnTo>
                  <a:lnTo>
                    <a:pt x="614" y="8"/>
                  </a:lnTo>
                  <a:lnTo>
                    <a:pt x="618" y="12"/>
                  </a:lnTo>
                  <a:lnTo>
                    <a:pt x="61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1"/>
            <p:cNvSpPr/>
            <p:nvPr/>
          </p:nvSpPr>
          <p:spPr>
            <a:xfrm>
              <a:off x="13103280" y="7762680"/>
              <a:ext cx="161640" cy="1267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2" h="80">
                  <a:moveTo>
                    <a:pt x="100" y="24"/>
                  </a:moveTo>
                  <a:lnTo>
                    <a:pt x="100" y="24"/>
                  </a:lnTo>
                  <a:lnTo>
                    <a:pt x="100" y="26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94" y="34"/>
                  </a:lnTo>
                  <a:lnTo>
                    <a:pt x="88" y="36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8" y="44"/>
                  </a:lnTo>
                  <a:lnTo>
                    <a:pt x="94" y="48"/>
                  </a:lnTo>
                  <a:lnTo>
                    <a:pt x="100" y="52"/>
                  </a:lnTo>
                  <a:lnTo>
                    <a:pt x="102" y="54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98" y="56"/>
                  </a:lnTo>
                  <a:lnTo>
                    <a:pt x="94" y="56"/>
                  </a:lnTo>
                  <a:lnTo>
                    <a:pt x="90" y="56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78" y="52"/>
                  </a:lnTo>
                  <a:lnTo>
                    <a:pt x="74" y="5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6"/>
                  </a:lnTo>
                  <a:lnTo>
                    <a:pt x="64" y="74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58" y="74"/>
                  </a:lnTo>
                  <a:lnTo>
                    <a:pt x="54" y="68"/>
                  </a:lnTo>
                  <a:lnTo>
                    <a:pt x="52" y="62"/>
                  </a:lnTo>
                  <a:lnTo>
                    <a:pt x="46" y="5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0" y="62"/>
                  </a:lnTo>
                  <a:lnTo>
                    <a:pt x="26" y="58"/>
                  </a:lnTo>
                  <a:lnTo>
                    <a:pt x="30" y="52"/>
                  </a:lnTo>
                  <a:lnTo>
                    <a:pt x="32" y="48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26" y="38"/>
                  </a:lnTo>
                  <a:lnTo>
                    <a:pt x="16" y="34"/>
                  </a:lnTo>
                  <a:lnTo>
                    <a:pt x="8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26"/>
                  </a:lnTo>
                  <a:lnTo>
                    <a:pt x="16" y="26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46" y="14"/>
                  </a:lnTo>
                  <a:lnTo>
                    <a:pt x="54" y="0"/>
                  </a:lnTo>
                  <a:lnTo>
                    <a:pt x="68" y="26"/>
                  </a:lnTo>
                  <a:lnTo>
                    <a:pt x="100" y="24"/>
                  </a:lnTo>
                  <a:close/>
                </a:path>
              </a:pathLst>
            </a:custGeom>
            <a:solidFill>
              <a:srgbClr val="00a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2"/>
            <p:cNvSpPr/>
            <p:nvPr/>
          </p:nvSpPr>
          <p:spPr>
            <a:xfrm>
              <a:off x="12960360" y="7829280"/>
              <a:ext cx="399960" cy="1872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52" h="118">
                  <a:moveTo>
                    <a:pt x="104" y="8"/>
                  </a:moveTo>
                  <a:lnTo>
                    <a:pt x="104" y="8"/>
                  </a:lnTo>
                  <a:lnTo>
                    <a:pt x="90" y="22"/>
                  </a:lnTo>
                  <a:lnTo>
                    <a:pt x="84" y="3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6" y="42"/>
                  </a:lnTo>
                  <a:lnTo>
                    <a:pt x="90" y="44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102" y="40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44" y="48"/>
                  </a:lnTo>
                  <a:lnTo>
                    <a:pt x="150" y="54"/>
                  </a:lnTo>
                  <a:lnTo>
                    <a:pt x="154" y="56"/>
                  </a:lnTo>
                  <a:lnTo>
                    <a:pt x="160" y="56"/>
                  </a:lnTo>
                  <a:lnTo>
                    <a:pt x="160" y="56"/>
                  </a:lnTo>
                  <a:lnTo>
                    <a:pt x="162" y="38"/>
                  </a:lnTo>
                  <a:lnTo>
                    <a:pt x="166" y="30"/>
                  </a:lnTo>
                  <a:lnTo>
                    <a:pt x="168" y="22"/>
                  </a:lnTo>
                  <a:lnTo>
                    <a:pt x="168" y="22"/>
                  </a:lnTo>
                  <a:lnTo>
                    <a:pt x="180" y="26"/>
                  </a:lnTo>
                  <a:lnTo>
                    <a:pt x="190" y="28"/>
                  </a:lnTo>
                  <a:lnTo>
                    <a:pt x="202" y="28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14" y="24"/>
                  </a:lnTo>
                  <a:lnTo>
                    <a:pt x="214" y="22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222" y="24"/>
                  </a:lnTo>
                  <a:lnTo>
                    <a:pt x="234" y="32"/>
                  </a:lnTo>
                  <a:lnTo>
                    <a:pt x="244" y="42"/>
                  </a:lnTo>
                  <a:lnTo>
                    <a:pt x="248" y="48"/>
                  </a:lnTo>
                  <a:lnTo>
                    <a:pt x="250" y="54"/>
                  </a:lnTo>
                  <a:lnTo>
                    <a:pt x="250" y="54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48" y="76"/>
                  </a:lnTo>
                  <a:lnTo>
                    <a:pt x="244" y="84"/>
                  </a:lnTo>
                  <a:lnTo>
                    <a:pt x="240" y="94"/>
                  </a:lnTo>
                  <a:lnTo>
                    <a:pt x="240" y="94"/>
                  </a:lnTo>
                  <a:lnTo>
                    <a:pt x="232" y="96"/>
                  </a:lnTo>
                  <a:lnTo>
                    <a:pt x="228" y="100"/>
                  </a:lnTo>
                  <a:lnTo>
                    <a:pt x="222" y="104"/>
                  </a:lnTo>
                  <a:lnTo>
                    <a:pt x="216" y="104"/>
                  </a:lnTo>
                  <a:lnTo>
                    <a:pt x="216" y="104"/>
                  </a:lnTo>
                  <a:lnTo>
                    <a:pt x="208" y="110"/>
                  </a:lnTo>
                  <a:lnTo>
                    <a:pt x="200" y="112"/>
                  </a:lnTo>
                  <a:lnTo>
                    <a:pt x="192" y="114"/>
                  </a:lnTo>
                  <a:lnTo>
                    <a:pt x="186" y="110"/>
                  </a:lnTo>
                  <a:lnTo>
                    <a:pt x="186" y="110"/>
                  </a:lnTo>
                  <a:lnTo>
                    <a:pt x="170" y="114"/>
                  </a:lnTo>
                  <a:lnTo>
                    <a:pt x="154" y="116"/>
                  </a:lnTo>
                  <a:lnTo>
                    <a:pt x="138" y="118"/>
                  </a:lnTo>
                  <a:lnTo>
                    <a:pt x="122" y="118"/>
                  </a:lnTo>
                  <a:lnTo>
                    <a:pt x="92" y="114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0" y="106"/>
                  </a:lnTo>
                  <a:lnTo>
                    <a:pt x="58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42" y="98"/>
                  </a:lnTo>
                  <a:lnTo>
                    <a:pt x="30" y="92"/>
                  </a:lnTo>
                  <a:lnTo>
                    <a:pt x="20" y="86"/>
                  </a:lnTo>
                  <a:lnTo>
                    <a:pt x="14" y="80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8" y="72"/>
                  </a:lnTo>
                  <a:lnTo>
                    <a:pt x="4" y="6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32" y="18"/>
                  </a:lnTo>
                  <a:lnTo>
                    <a:pt x="44" y="12"/>
                  </a:lnTo>
                  <a:lnTo>
                    <a:pt x="56" y="6"/>
                  </a:lnTo>
                  <a:lnTo>
                    <a:pt x="68" y="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6" y="4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04" y="8"/>
                  </a:lnTo>
                  <a:close/>
                </a:path>
              </a:pathLst>
            </a:custGeom>
            <a:solidFill>
              <a:srgbClr val="f6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3"/>
            <p:cNvSpPr/>
            <p:nvPr/>
          </p:nvSpPr>
          <p:spPr>
            <a:xfrm>
              <a:off x="13071600" y="785484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2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4"/>
            <p:cNvSpPr/>
            <p:nvPr/>
          </p:nvSpPr>
          <p:spPr>
            <a:xfrm>
              <a:off x="13030200" y="788004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4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55"/>
            <p:cNvSpPr/>
            <p:nvPr/>
          </p:nvSpPr>
          <p:spPr>
            <a:xfrm>
              <a:off x="13274640" y="7886520"/>
              <a:ext cx="15840" cy="18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0"/>
                  </a:moveTo>
                  <a:lnTo>
                    <a:pt x="10" y="10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56"/>
            <p:cNvSpPr/>
            <p:nvPr/>
          </p:nvSpPr>
          <p:spPr>
            <a:xfrm>
              <a:off x="13068360" y="79120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4"/>
                  </a:moveTo>
                  <a:lnTo>
                    <a:pt x="10" y="4"/>
                  </a:lnTo>
                  <a:lnTo>
                    <a:pt x="10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57"/>
            <p:cNvSpPr/>
            <p:nvPr/>
          </p:nvSpPr>
          <p:spPr>
            <a:xfrm>
              <a:off x="13322160" y="79088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8"/>
            <p:cNvSpPr/>
            <p:nvPr/>
          </p:nvSpPr>
          <p:spPr>
            <a:xfrm>
              <a:off x="13144320" y="7914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59"/>
            <p:cNvSpPr/>
            <p:nvPr/>
          </p:nvSpPr>
          <p:spPr>
            <a:xfrm>
              <a:off x="13007880" y="79214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6"/>
                  </a:moveTo>
                  <a:lnTo>
                    <a:pt x="12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60"/>
            <p:cNvSpPr/>
            <p:nvPr/>
          </p:nvSpPr>
          <p:spPr>
            <a:xfrm>
              <a:off x="13246200" y="793116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2" y="2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61"/>
            <p:cNvSpPr/>
            <p:nvPr/>
          </p:nvSpPr>
          <p:spPr>
            <a:xfrm>
              <a:off x="13220640" y="79531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2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62"/>
            <p:cNvSpPr/>
            <p:nvPr/>
          </p:nvSpPr>
          <p:spPr>
            <a:xfrm>
              <a:off x="13103280" y="795312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63"/>
            <p:cNvSpPr/>
            <p:nvPr/>
          </p:nvSpPr>
          <p:spPr>
            <a:xfrm>
              <a:off x="13055400" y="79628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4"/>
                  </a:moveTo>
                  <a:lnTo>
                    <a:pt x="1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4"/>
            <p:cNvSpPr/>
            <p:nvPr/>
          </p:nvSpPr>
          <p:spPr>
            <a:xfrm>
              <a:off x="13188960" y="79660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2"/>
                  </a:move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65"/>
            <p:cNvSpPr/>
            <p:nvPr/>
          </p:nvSpPr>
          <p:spPr>
            <a:xfrm>
              <a:off x="13265280" y="79689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" h="8">
                  <a:moveTo>
                    <a:pt x="10" y="6"/>
                  </a:moveTo>
                  <a:lnTo>
                    <a:pt x="10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66"/>
            <p:cNvSpPr/>
            <p:nvPr/>
          </p:nvSpPr>
          <p:spPr>
            <a:xfrm>
              <a:off x="13144320" y="7978680"/>
              <a:ext cx="18720" cy="12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10" y="6"/>
                  </a:moveTo>
                  <a:lnTo>
                    <a:pt x="10" y="6"/>
                  </a:lnTo>
                  <a:lnTo>
                    <a:pt x="6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67"/>
            <p:cNvSpPr/>
            <p:nvPr/>
          </p:nvSpPr>
          <p:spPr>
            <a:xfrm>
              <a:off x="12769560" y="8057880"/>
              <a:ext cx="809640" cy="3841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10" h="242">
                  <a:moveTo>
                    <a:pt x="318" y="4"/>
                  </a:moveTo>
                  <a:lnTo>
                    <a:pt x="318" y="4"/>
                  </a:lnTo>
                  <a:lnTo>
                    <a:pt x="348" y="10"/>
                  </a:lnTo>
                  <a:lnTo>
                    <a:pt x="378" y="16"/>
                  </a:lnTo>
                  <a:lnTo>
                    <a:pt x="392" y="22"/>
                  </a:lnTo>
                  <a:lnTo>
                    <a:pt x="406" y="28"/>
                  </a:lnTo>
                  <a:lnTo>
                    <a:pt x="418" y="36"/>
                  </a:lnTo>
                  <a:lnTo>
                    <a:pt x="430" y="46"/>
                  </a:lnTo>
                  <a:lnTo>
                    <a:pt x="430" y="46"/>
                  </a:lnTo>
                  <a:lnTo>
                    <a:pt x="444" y="60"/>
                  </a:lnTo>
                  <a:lnTo>
                    <a:pt x="456" y="74"/>
                  </a:lnTo>
                  <a:lnTo>
                    <a:pt x="478" y="104"/>
                  </a:lnTo>
                  <a:lnTo>
                    <a:pt x="478" y="104"/>
                  </a:lnTo>
                  <a:lnTo>
                    <a:pt x="482" y="120"/>
                  </a:lnTo>
                  <a:lnTo>
                    <a:pt x="488" y="134"/>
                  </a:lnTo>
                  <a:lnTo>
                    <a:pt x="494" y="150"/>
                  </a:lnTo>
                  <a:lnTo>
                    <a:pt x="498" y="164"/>
                  </a:lnTo>
                  <a:lnTo>
                    <a:pt x="498" y="164"/>
                  </a:lnTo>
                  <a:lnTo>
                    <a:pt x="500" y="170"/>
                  </a:lnTo>
                  <a:lnTo>
                    <a:pt x="502" y="178"/>
                  </a:lnTo>
                  <a:lnTo>
                    <a:pt x="504" y="186"/>
                  </a:lnTo>
                  <a:lnTo>
                    <a:pt x="504" y="194"/>
                  </a:lnTo>
                  <a:lnTo>
                    <a:pt x="504" y="194"/>
                  </a:lnTo>
                  <a:lnTo>
                    <a:pt x="510" y="218"/>
                  </a:lnTo>
                  <a:lnTo>
                    <a:pt x="510" y="230"/>
                  </a:lnTo>
                  <a:lnTo>
                    <a:pt x="510" y="242"/>
                  </a:lnTo>
                  <a:lnTo>
                    <a:pt x="510" y="242"/>
                  </a:lnTo>
                  <a:lnTo>
                    <a:pt x="272" y="240"/>
                  </a:lnTo>
                  <a:lnTo>
                    <a:pt x="38" y="234"/>
                  </a:lnTo>
                  <a:lnTo>
                    <a:pt x="38" y="234"/>
                  </a:lnTo>
                  <a:lnTo>
                    <a:pt x="34" y="234"/>
                  </a:lnTo>
                  <a:lnTo>
                    <a:pt x="28" y="234"/>
                  </a:lnTo>
                  <a:lnTo>
                    <a:pt x="20" y="234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" y="200"/>
                  </a:lnTo>
                  <a:lnTo>
                    <a:pt x="6" y="170"/>
                  </a:lnTo>
                  <a:lnTo>
                    <a:pt x="14" y="138"/>
                  </a:lnTo>
                  <a:lnTo>
                    <a:pt x="24" y="110"/>
                  </a:lnTo>
                  <a:lnTo>
                    <a:pt x="32" y="96"/>
                  </a:lnTo>
                  <a:lnTo>
                    <a:pt x="40" y="84"/>
                  </a:lnTo>
                  <a:lnTo>
                    <a:pt x="50" y="72"/>
                  </a:lnTo>
                  <a:lnTo>
                    <a:pt x="60" y="60"/>
                  </a:lnTo>
                  <a:lnTo>
                    <a:pt x="72" y="50"/>
                  </a:lnTo>
                  <a:lnTo>
                    <a:pt x="84" y="40"/>
                  </a:lnTo>
                  <a:lnTo>
                    <a:pt x="98" y="32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28" y="16"/>
                  </a:lnTo>
                  <a:lnTo>
                    <a:pt x="146" y="10"/>
                  </a:lnTo>
                  <a:lnTo>
                    <a:pt x="164" y="6"/>
                  </a:lnTo>
                  <a:lnTo>
                    <a:pt x="184" y="4"/>
                  </a:lnTo>
                  <a:lnTo>
                    <a:pt x="184" y="4"/>
                  </a:lnTo>
                  <a:lnTo>
                    <a:pt x="188" y="2"/>
                  </a:lnTo>
                  <a:lnTo>
                    <a:pt x="192" y="0"/>
                  </a:lnTo>
                  <a:lnTo>
                    <a:pt x="202" y="0"/>
                  </a:lnTo>
                  <a:lnTo>
                    <a:pt x="224" y="6"/>
                  </a:lnTo>
                  <a:lnTo>
                    <a:pt x="224" y="6"/>
                  </a:lnTo>
                  <a:lnTo>
                    <a:pt x="246" y="8"/>
                  </a:lnTo>
                  <a:lnTo>
                    <a:pt x="270" y="8"/>
                  </a:lnTo>
                  <a:lnTo>
                    <a:pt x="318" y="4"/>
                  </a:lnTo>
                  <a:lnTo>
                    <a:pt x="318" y="4"/>
                  </a:lnTo>
                  <a:close/>
                </a:path>
              </a:pathLst>
            </a:custGeom>
            <a:solidFill>
              <a:srgbClr val="fff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68"/>
            <p:cNvSpPr/>
            <p:nvPr/>
          </p:nvSpPr>
          <p:spPr>
            <a:xfrm>
              <a:off x="13109400" y="80676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69"/>
            <p:cNvSpPr/>
            <p:nvPr/>
          </p:nvSpPr>
          <p:spPr>
            <a:xfrm>
              <a:off x="12547440" y="8474040"/>
              <a:ext cx="1241640" cy="45720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82" h="288">
                  <a:moveTo>
                    <a:pt x="302" y="0"/>
                  </a:moveTo>
                  <a:lnTo>
                    <a:pt x="540" y="4"/>
                  </a:lnTo>
                  <a:lnTo>
                    <a:pt x="540" y="4"/>
                  </a:lnTo>
                  <a:lnTo>
                    <a:pt x="568" y="6"/>
                  </a:lnTo>
                  <a:lnTo>
                    <a:pt x="596" y="6"/>
                  </a:lnTo>
                  <a:lnTo>
                    <a:pt x="624" y="6"/>
                  </a:lnTo>
                  <a:lnTo>
                    <a:pt x="652" y="10"/>
                  </a:lnTo>
                  <a:lnTo>
                    <a:pt x="652" y="10"/>
                  </a:lnTo>
                  <a:lnTo>
                    <a:pt x="660" y="18"/>
                  </a:lnTo>
                  <a:lnTo>
                    <a:pt x="664" y="20"/>
                  </a:lnTo>
                  <a:lnTo>
                    <a:pt x="670" y="20"/>
                  </a:lnTo>
                  <a:lnTo>
                    <a:pt x="670" y="20"/>
                  </a:lnTo>
                  <a:lnTo>
                    <a:pt x="686" y="36"/>
                  </a:lnTo>
                  <a:lnTo>
                    <a:pt x="702" y="52"/>
                  </a:lnTo>
                  <a:lnTo>
                    <a:pt x="716" y="68"/>
                  </a:lnTo>
                  <a:lnTo>
                    <a:pt x="728" y="86"/>
                  </a:lnTo>
                  <a:lnTo>
                    <a:pt x="740" y="106"/>
                  </a:lnTo>
                  <a:lnTo>
                    <a:pt x="748" y="126"/>
                  </a:lnTo>
                  <a:lnTo>
                    <a:pt x="766" y="166"/>
                  </a:lnTo>
                  <a:lnTo>
                    <a:pt x="770" y="166"/>
                  </a:lnTo>
                  <a:lnTo>
                    <a:pt x="770" y="166"/>
                  </a:lnTo>
                  <a:lnTo>
                    <a:pt x="772" y="186"/>
                  </a:lnTo>
                  <a:lnTo>
                    <a:pt x="776" y="204"/>
                  </a:lnTo>
                  <a:lnTo>
                    <a:pt x="780" y="220"/>
                  </a:lnTo>
                  <a:lnTo>
                    <a:pt x="782" y="240"/>
                  </a:lnTo>
                  <a:lnTo>
                    <a:pt x="782" y="278"/>
                  </a:lnTo>
                  <a:lnTo>
                    <a:pt x="782" y="278"/>
                  </a:lnTo>
                  <a:lnTo>
                    <a:pt x="766" y="282"/>
                  </a:lnTo>
                  <a:lnTo>
                    <a:pt x="760" y="284"/>
                  </a:lnTo>
                  <a:lnTo>
                    <a:pt x="752" y="288"/>
                  </a:lnTo>
                  <a:lnTo>
                    <a:pt x="752" y="288"/>
                  </a:lnTo>
                  <a:lnTo>
                    <a:pt x="674" y="286"/>
                  </a:lnTo>
                  <a:lnTo>
                    <a:pt x="594" y="286"/>
                  </a:lnTo>
                  <a:lnTo>
                    <a:pt x="516" y="284"/>
                  </a:lnTo>
                  <a:lnTo>
                    <a:pt x="440" y="282"/>
                  </a:lnTo>
                  <a:lnTo>
                    <a:pt x="440" y="282"/>
                  </a:lnTo>
                  <a:lnTo>
                    <a:pt x="438" y="282"/>
                  </a:lnTo>
                  <a:lnTo>
                    <a:pt x="434" y="284"/>
                  </a:lnTo>
                  <a:lnTo>
                    <a:pt x="432" y="284"/>
                  </a:lnTo>
                  <a:lnTo>
                    <a:pt x="430" y="282"/>
                  </a:lnTo>
                  <a:lnTo>
                    <a:pt x="430" y="282"/>
                  </a:lnTo>
                  <a:lnTo>
                    <a:pt x="216" y="278"/>
                  </a:lnTo>
                  <a:lnTo>
                    <a:pt x="2" y="274"/>
                  </a:lnTo>
                  <a:lnTo>
                    <a:pt x="2" y="274"/>
                  </a:lnTo>
                  <a:lnTo>
                    <a:pt x="2" y="258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2" y="238"/>
                  </a:lnTo>
                  <a:lnTo>
                    <a:pt x="4" y="230"/>
                  </a:lnTo>
                  <a:lnTo>
                    <a:pt x="4" y="214"/>
                  </a:lnTo>
                  <a:lnTo>
                    <a:pt x="4" y="214"/>
                  </a:lnTo>
                  <a:lnTo>
                    <a:pt x="6" y="202"/>
                  </a:lnTo>
                  <a:lnTo>
                    <a:pt x="6" y="192"/>
                  </a:lnTo>
                  <a:lnTo>
                    <a:pt x="12" y="174"/>
                  </a:lnTo>
                  <a:lnTo>
                    <a:pt x="20" y="154"/>
                  </a:lnTo>
                  <a:lnTo>
                    <a:pt x="24" y="134"/>
                  </a:lnTo>
                  <a:lnTo>
                    <a:pt x="24" y="134"/>
                  </a:lnTo>
                  <a:lnTo>
                    <a:pt x="44" y="102"/>
                  </a:lnTo>
                  <a:lnTo>
                    <a:pt x="54" y="86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76" y="60"/>
                  </a:lnTo>
                  <a:lnTo>
                    <a:pt x="86" y="48"/>
                  </a:lnTo>
                  <a:lnTo>
                    <a:pt x="96" y="40"/>
                  </a:lnTo>
                  <a:lnTo>
                    <a:pt x="108" y="32"/>
                  </a:lnTo>
                  <a:lnTo>
                    <a:pt x="132" y="16"/>
                  </a:lnTo>
                  <a:lnTo>
                    <a:pt x="144" y="8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228" y="0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ff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0"/>
            <p:cNvSpPr/>
            <p:nvPr/>
          </p:nvSpPr>
          <p:spPr>
            <a:xfrm>
              <a:off x="12280680" y="8956800"/>
              <a:ext cx="657360" cy="34272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14" h="216">
                  <a:moveTo>
                    <a:pt x="414" y="216"/>
                  </a:moveTo>
                  <a:lnTo>
                    <a:pt x="2" y="21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4" y="7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4" y="66"/>
                  </a:lnTo>
                  <a:lnTo>
                    <a:pt x="4" y="5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2"/>
                  </a:lnTo>
                  <a:lnTo>
                    <a:pt x="4" y="22"/>
                  </a:lnTo>
                  <a:lnTo>
                    <a:pt x="4" y="1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0" y="4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8" y="4"/>
                  </a:lnTo>
                  <a:lnTo>
                    <a:pt x="144" y="2"/>
                  </a:lnTo>
                  <a:lnTo>
                    <a:pt x="150" y="0"/>
                  </a:lnTo>
                  <a:lnTo>
                    <a:pt x="156" y="2"/>
                  </a:lnTo>
                  <a:lnTo>
                    <a:pt x="156" y="2"/>
                  </a:lnTo>
                  <a:lnTo>
                    <a:pt x="220" y="54"/>
                  </a:lnTo>
                  <a:lnTo>
                    <a:pt x="284" y="108"/>
                  </a:lnTo>
                  <a:lnTo>
                    <a:pt x="350" y="162"/>
                  </a:lnTo>
                  <a:lnTo>
                    <a:pt x="414" y="216"/>
                  </a:lnTo>
                  <a:lnTo>
                    <a:pt x="414" y="216"/>
                  </a:lnTo>
                  <a:close/>
                </a:path>
              </a:pathLst>
            </a:custGeom>
            <a:solidFill>
              <a:srgbClr val="f8d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71"/>
            <p:cNvSpPr/>
            <p:nvPr/>
          </p:nvSpPr>
          <p:spPr>
            <a:xfrm>
              <a:off x="12604680" y="8956800"/>
              <a:ext cx="1101960" cy="473040"/>
            </a:xfrm>
            <a:custGeom>
              <a:avLst/>
              <a:gdLst>
                <a:gd name="textAreaLeft" fmla="*/ 0 w 1101960"/>
                <a:gd name="textAreaRight" fmla="*/ 1102320 w 1101960"/>
                <a:gd name="textAreaTop" fmla="*/ 0 h 473040"/>
                <a:gd name="textAreaBottom" fmla="*/ 473040 h 473040"/>
              </a:gdLst>
              <a:ahLst/>
              <a:rect l="textAreaLeft" t="textAreaTop" r="textAreaRight" b="textAreaBottom"/>
              <a:pathLst>
                <a:path w="694" h="298">
                  <a:moveTo>
                    <a:pt x="94" y="46"/>
                  </a:moveTo>
                  <a:lnTo>
                    <a:pt x="94" y="46"/>
                  </a:lnTo>
                  <a:lnTo>
                    <a:pt x="114" y="66"/>
                  </a:lnTo>
                  <a:lnTo>
                    <a:pt x="136" y="84"/>
                  </a:lnTo>
                  <a:lnTo>
                    <a:pt x="158" y="102"/>
                  </a:lnTo>
                  <a:lnTo>
                    <a:pt x="178" y="120"/>
                  </a:lnTo>
                  <a:lnTo>
                    <a:pt x="178" y="120"/>
                  </a:lnTo>
                  <a:lnTo>
                    <a:pt x="226" y="162"/>
                  </a:lnTo>
                  <a:lnTo>
                    <a:pt x="250" y="182"/>
                  </a:lnTo>
                  <a:lnTo>
                    <a:pt x="274" y="200"/>
                  </a:lnTo>
                  <a:lnTo>
                    <a:pt x="274" y="200"/>
                  </a:lnTo>
                  <a:lnTo>
                    <a:pt x="278" y="200"/>
                  </a:lnTo>
                  <a:lnTo>
                    <a:pt x="278" y="202"/>
                  </a:lnTo>
                  <a:lnTo>
                    <a:pt x="280" y="208"/>
                  </a:lnTo>
                  <a:lnTo>
                    <a:pt x="280" y="208"/>
                  </a:lnTo>
                  <a:lnTo>
                    <a:pt x="302" y="224"/>
                  </a:lnTo>
                  <a:lnTo>
                    <a:pt x="324" y="240"/>
                  </a:lnTo>
                  <a:lnTo>
                    <a:pt x="366" y="276"/>
                  </a:lnTo>
                  <a:lnTo>
                    <a:pt x="366" y="276"/>
                  </a:lnTo>
                  <a:lnTo>
                    <a:pt x="370" y="274"/>
                  </a:lnTo>
                  <a:lnTo>
                    <a:pt x="372" y="272"/>
                  </a:lnTo>
                  <a:lnTo>
                    <a:pt x="374" y="268"/>
                  </a:lnTo>
                  <a:lnTo>
                    <a:pt x="378" y="266"/>
                  </a:lnTo>
                  <a:lnTo>
                    <a:pt x="378" y="266"/>
                  </a:lnTo>
                  <a:lnTo>
                    <a:pt x="672" y="16"/>
                  </a:lnTo>
                  <a:lnTo>
                    <a:pt x="694" y="16"/>
                  </a:lnTo>
                  <a:lnTo>
                    <a:pt x="694" y="16"/>
                  </a:lnTo>
                  <a:lnTo>
                    <a:pt x="666" y="40"/>
                  </a:lnTo>
                  <a:lnTo>
                    <a:pt x="638" y="64"/>
                  </a:lnTo>
                  <a:lnTo>
                    <a:pt x="612" y="88"/>
                  </a:lnTo>
                  <a:lnTo>
                    <a:pt x="582" y="112"/>
                  </a:lnTo>
                  <a:lnTo>
                    <a:pt x="582" y="114"/>
                  </a:lnTo>
                  <a:lnTo>
                    <a:pt x="582" y="114"/>
                  </a:lnTo>
                  <a:lnTo>
                    <a:pt x="570" y="122"/>
                  </a:lnTo>
                  <a:lnTo>
                    <a:pt x="560" y="132"/>
                  </a:lnTo>
                  <a:lnTo>
                    <a:pt x="548" y="142"/>
                  </a:lnTo>
                  <a:lnTo>
                    <a:pt x="534" y="152"/>
                  </a:lnTo>
                  <a:lnTo>
                    <a:pt x="534" y="152"/>
                  </a:lnTo>
                  <a:lnTo>
                    <a:pt x="362" y="298"/>
                  </a:lnTo>
                  <a:lnTo>
                    <a:pt x="358" y="298"/>
                  </a:lnTo>
                  <a:lnTo>
                    <a:pt x="358" y="298"/>
                  </a:lnTo>
                  <a:lnTo>
                    <a:pt x="338" y="280"/>
                  </a:lnTo>
                  <a:lnTo>
                    <a:pt x="318" y="264"/>
                  </a:lnTo>
                  <a:lnTo>
                    <a:pt x="298" y="248"/>
                  </a:lnTo>
                  <a:lnTo>
                    <a:pt x="280" y="230"/>
                  </a:lnTo>
                  <a:lnTo>
                    <a:pt x="280" y="230"/>
                  </a:lnTo>
                  <a:lnTo>
                    <a:pt x="272" y="226"/>
                  </a:lnTo>
                  <a:lnTo>
                    <a:pt x="266" y="220"/>
                  </a:lnTo>
                  <a:lnTo>
                    <a:pt x="260" y="214"/>
                  </a:lnTo>
                  <a:lnTo>
                    <a:pt x="252" y="208"/>
                  </a:lnTo>
                  <a:lnTo>
                    <a:pt x="252" y="208"/>
                  </a:lnTo>
                  <a:lnTo>
                    <a:pt x="196" y="166"/>
                  </a:lnTo>
                  <a:lnTo>
                    <a:pt x="144" y="122"/>
                  </a:lnTo>
                  <a:lnTo>
                    <a:pt x="92" y="7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26" y="22"/>
                  </a:lnTo>
                  <a:lnTo>
                    <a:pt x="18" y="16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6" y="6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30" y="2"/>
                  </a:lnTo>
                  <a:lnTo>
                    <a:pt x="38" y="2"/>
                  </a:lnTo>
                  <a:lnTo>
                    <a:pt x="94" y="46"/>
                  </a:lnTo>
                  <a:close/>
                </a:path>
              </a:pathLst>
            </a:custGeom>
            <a:solidFill>
              <a:srgbClr val="e4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2"/>
            <p:cNvSpPr/>
            <p:nvPr/>
          </p:nvSpPr>
          <p:spPr>
            <a:xfrm>
              <a:off x="12696840" y="8960040"/>
              <a:ext cx="946440" cy="409320"/>
            </a:xfrm>
            <a:custGeom>
              <a:avLst/>
              <a:gdLst>
                <a:gd name="textAreaLeft" fmla="*/ 0 w 946440"/>
                <a:gd name="textAreaRight" fmla="*/ 946440 w 9464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6" h="258">
                  <a:moveTo>
                    <a:pt x="288" y="4"/>
                  </a:moveTo>
                  <a:lnTo>
                    <a:pt x="290" y="6"/>
                  </a:lnTo>
                  <a:lnTo>
                    <a:pt x="290" y="6"/>
                  </a:lnTo>
                  <a:lnTo>
                    <a:pt x="442" y="8"/>
                  </a:lnTo>
                  <a:lnTo>
                    <a:pt x="520" y="10"/>
                  </a:lnTo>
                  <a:lnTo>
                    <a:pt x="596" y="14"/>
                  </a:lnTo>
                  <a:lnTo>
                    <a:pt x="596" y="14"/>
                  </a:lnTo>
                  <a:lnTo>
                    <a:pt x="448" y="142"/>
                  </a:lnTo>
                  <a:lnTo>
                    <a:pt x="448" y="142"/>
                  </a:lnTo>
                  <a:lnTo>
                    <a:pt x="310" y="258"/>
                  </a:lnTo>
                  <a:lnTo>
                    <a:pt x="310" y="258"/>
                  </a:lnTo>
                  <a:lnTo>
                    <a:pt x="274" y="230"/>
                  </a:lnTo>
                  <a:lnTo>
                    <a:pt x="240" y="202"/>
                  </a:lnTo>
                  <a:lnTo>
                    <a:pt x="204" y="174"/>
                  </a:lnTo>
                  <a:lnTo>
                    <a:pt x="168" y="146"/>
                  </a:lnTo>
                  <a:lnTo>
                    <a:pt x="168" y="14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6" y="2"/>
                  </a:lnTo>
                  <a:lnTo>
                    <a:pt x="288" y="4"/>
                  </a:lnTo>
                  <a:lnTo>
                    <a:pt x="28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3"/>
            <p:cNvSpPr/>
            <p:nvPr/>
          </p:nvSpPr>
          <p:spPr>
            <a:xfrm>
              <a:off x="13414320" y="8966160"/>
              <a:ext cx="673200" cy="3301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24" h="208">
                  <a:moveTo>
                    <a:pt x="348" y="0"/>
                  </a:moveTo>
                  <a:lnTo>
                    <a:pt x="354" y="2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4" y="104"/>
                  </a:lnTo>
                  <a:lnTo>
                    <a:pt x="422" y="206"/>
                  </a:lnTo>
                  <a:lnTo>
                    <a:pt x="422" y="206"/>
                  </a:lnTo>
                  <a:lnTo>
                    <a:pt x="376" y="208"/>
                  </a:lnTo>
                  <a:lnTo>
                    <a:pt x="330" y="206"/>
                  </a:lnTo>
                  <a:lnTo>
                    <a:pt x="284" y="206"/>
                  </a:lnTo>
                  <a:lnTo>
                    <a:pt x="238" y="206"/>
                  </a:lnTo>
                  <a:lnTo>
                    <a:pt x="4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32" y="180"/>
                  </a:lnTo>
                  <a:lnTo>
                    <a:pt x="68" y="150"/>
                  </a:lnTo>
                  <a:lnTo>
                    <a:pt x="102" y="122"/>
                  </a:lnTo>
                  <a:lnTo>
                    <a:pt x="134" y="92"/>
                  </a:lnTo>
                  <a:lnTo>
                    <a:pt x="134" y="92"/>
                  </a:lnTo>
                  <a:lnTo>
                    <a:pt x="140" y="88"/>
                  </a:lnTo>
                  <a:lnTo>
                    <a:pt x="146" y="84"/>
                  </a:lnTo>
                  <a:lnTo>
                    <a:pt x="158" y="74"/>
                  </a:lnTo>
                  <a:lnTo>
                    <a:pt x="158" y="74"/>
                  </a:lnTo>
                  <a:lnTo>
                    <a:pt x="196" y="42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40" y="10"/>
                  </a:lnTo>
                  <a:lnTo>
                    <a:pt x="242" y="10"/>
                  </a:lnTo>
                  <a:lnTo>
                    <a:pt x="244" y="6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300" y="0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f8d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4"/>
            <p:cNvSpPr/>
            <p:nvPr/>
          </p:nvSpPr>
          <p:spPr>
            <a:xfrm>
              <a:off x="12537720" y="9334440"/>
              <a:ext cx="1241640" cy="76500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782" h="482">
                  <a:moveTo>
                    <a:pt x="778" y="0"/>
                  </a:moveTo>
                  <a:lnTo>
                    <a:pt x="778" y="0"/>
                  </a:lnTo>
                  <a:lnTo>
                    <a:pt x="780" y="22"/>
                  </a:lnTo>
                  <a:lnTo>
                    <a:pt x="782" y="46"/>
                  </a:lnTo>
                  <a:lnTo>
                    <a:pt x="780" y="92"/>
                  </a:lnTo>
                  <a:lnTo>
                    <a:pt x="780" y="92"/>
                  </a:lnTo>
                  <a:lnTo>
                    <a:pt x="782" y="282"/>
                  </a:lnTo>
                  <a:lnTo>
                    <a:pt x="782" y="474"/>
                  </a:lnTo>
                  <a:lnTo>
                    <a:pt x="536" y="476"/>
                  </a:lnTo>
                  <a:lnTo>
                    <a:pt x="536" y="476"/>
                  </a:lnTo>
                  <a:lnTo>
                    <a:pt x="492" y="476"/>
                  </a:lnTo>
                  <a:lnTo>
                    <a:pt x="448" y="478"/>
                  </a:lnTo>
                  <a:lnTo>
                    <a:pt x="404" y="478"/>
                  </a:lnTo>
                  <a:lnTo>
                    <a:pt x="360" y="476"/>
                  </a:lnTo>
                  <a:lnTo>
                    <a:pt x="360" y="476"/>
                  </a:lnTo>
                  <a:lnTo>
                    <a:pt x="352" y="478"/>
                  </a:lnTo>
                  <a:lnTo>
                    <a:pt x="344" y="478"/>
                  </a:lnTo>
                  <a:lnTo>
                    <a:pt x="330" y="478"/>
                  </a:lnTo>
                  <a:lnTo>
                    <a:pt x="330" y="478"/>
                  </a:lnTo>
                  <a:lnTo>
                    <a:pt x="286" y="480"/>
                  </a:lnTo>
                  <a:lnTo>
                    <a:pt x="242" y="480"/>
                  </a:lnTo>
                  <a:lnTo>
                    <a:pt x="198" y="480"/>
                  </a:lnTo>
                  <a:lnTo>
                    <a:pt x="152" y="482"/>
                  </a:lnTo>
                  <a:lnTo>
                    <a:pt x="152" y="482"/>
                  </a:lnTo>
                  <a:lnTo>
                    <a:pt x="126" y="480"/>
                  </a:lnTo>
                  <a:lnTo>
                    <a:pt x="98" y="480"/>
                  </a:lnTo>
                  <a:lnTo>
                    <a:pt x="70" y="480"/>
                  </a:lnTo>
                  <a:lnTo>
                    <a:pt x="40" y="476"/>
                  </a:lnTo>
                  <a:lnTo>
                    <a:pt x="40" y="476"/>
                  </a:lnTo>
                  <a:lnTo>
                    <a:pt x="20" y="480"/>
                  </a:lnTo>
                  <a:lnTo>
                    <a:pt x="0" y="480"/>
                  </a:lnTo>
                  <a:lnTo>
                    <a:pt x="2" y="122"/>
                  </a:lnTo>
                  <a:lnTo>
                    <a:pt x="2" y="2"/>
                  </a:lnTo>
                  <a:lnTo>
                    <a:pt x="2" y="2"/>
                  </a:lnTo>
                  <a:lnTo>
                    <a:pt x="56" y="0"/>
                  </a:lnTo>
                  <a:lnTo>
                    <a:pt x="108" y="0"/>
                  </a:lnTo>
                  <a:lnTo>
                    <a:pt x="160" y="2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20" y="2"/>
                  </a:lnTo>
                  <a:lnTo>
                    <a:pt x="228" y="2"/>
                  </a:lnTo>
                  <a:lnTo>
                    <a:pt x="244" y="2"/>
                  </a:lnTo>
                  <a:lnTo>
                    <a:pt x="244" y="2"/>
                  </a:lnTo>
                  <a:lnTo>
                    <a:pt x="254" y="2"/>
                  </a:lnTo>
                  <a:lnTo>
                    <a:pt x="266" y="2"/>
                  </a:lnTo>
                  <a:lnTo>
                    <a:pt x="276" y="2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332" y="44"/>
                  </a:lnTo>
                  <a:lnTo>
                    <a:pt x="378" y="80"/>
                  </a:lnTo>
                  <a:lnTo>
                    <a:pt x="378" y="80"/>
                  </a:lnTo>
                  <a:lnTo>
                    <a:pt x="382" y="84"/>
                  </a:lnTo>
                  <a:lnTo>
                    <a:pt x="380" y="86"/>
                  </a:lnTo>
                  <a:lnTo>
                    <a:pt x="380" y="90"/>
                  </a:lnTo>
                  <a:lnTo>
                    <a:pt x="382" y="92"/>
                  </a:lnTo>
                  <a:lnTo>
                    <a:pt x="382" y="92"/>
                  </a:lnTo>
                  <a:lnTo>
                    <a:pt x="388" y="100"/>
                  </a:lnTo>
                  <a:lnTo>
                    <a:pt x="394" y="102"/>
                  </a:lnTo>
                  <a:lnTo>
                    <a:pt x="400" y="102"/>
                  </a:lnTo>
                  <a:lnTo>
                    <a:pt x="408" y="96"/>
                  </a:lnTo>
                  <a:lnTo>
                    <a:pt x="408" y="96"/>
                  </a:lnTo>
                  <a:lnTo>
                    <a:pt x="466" y="48"/>
                  </a:lnTo>
                  <a:lnTo>
                    <a:pt x="524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8d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75"/>
            <p:cNvSpPr/>
            <p:nvPr/>
          </p:nvSpPr>
          <p:spPr>
            <a:xfrm>
              <a:off x="12972960" y="9544320"/>
              <a:ext cx="374760" cy="3808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6" h="240">
                  <a:moveTo>
                    <a:pt x="218" y="56"/>
                  </a:moveTo>
                  <a:lnTo>
                    <a:pt x="218" y="56"/>
                  </a:lnTo>
                  <a:lnTo>
                    <a:pt x="224" y="66"/>
                  </a:lnTo>
                  <a:lnTo>
                    <a:pt x="230" y="80"/>
                  </a:lnTo>
                  <a:lnTo>
                    <a:pt x="234" y="94"/>
                  </a:lnTo>
                  <a:lnTo>
                    <a:pt x="234" y="108"/>
                  </a:lnTo>
                  <a:lnTo>
                    <a:pt x="236" y="124"/>
                  </a:lnTo>
                  <a:lnTo>
                    <a:pt x="234" y="138"/>
                  </a:lnTo>
                  <a:lnTo>
                    <a:pt x="232" y="152"/>
                  </a:lnTo>
                  <a:lnTo>
                    <a:pt x="228" y="164"/>
                  </a:lnTo>
                  <a:lnTo>
                    <a:pt x="228" y="164"/>
                  </a:lnTo>
                  <a:lnTo>
                    <a:pt x="218" y="182"/>
                  </a:lnTo>
                  <a:lnTo>
                    <a:pt x="206" y="198"/>
                  </a:lnTo>
                  <a:lnTo>
                    <a:pt x="192" y="210"/>
                  </a:lnTo>
                  <a:lnTo>
                    <a:pt x="176" y="222"/>
                  </a:lnTo>
                  <a:lnTo>
                    <a:pt x="160" y="230"/>
                  </a:lnTo>
                  <a:lnTo>
                    <a:pt x="140" y="236"/>
                  </a:lnTo>
                  <a:lnTo>
                    <a:pt x="122" y="240"/>
                  </a:lnTo>
                  <a:lnTo>
                    <a:pt x="100" y="240"/>
                  </a:lnTo>
                  <a:lnTo>
                    <a:pt x="100" y="240"/>
                  </a:lnTo>
                  <a:lnTo>
                    <a:pt x="84" y="236"/>
                  </a:lnTo>
                  <a:lnTo>
                    <a:pt x="70" y="230"/>
                  </a:lnTo>
                  <a:lnTo>
                    <a:pt x="56" y="224"/>
                  </a:lnTo>
                  <a:lnTo>
                    <a:pt x="42" y="214"/>
                  </a:lnTo>
                  <a:lnTo>
                    <a:pt x="30" y="204"/>
                  </a:lnTo>
                  <a:lnTo>
                    <a:pt x="20" y="192"/>
                  </a:lnTo>
                  <a:lnTo>
                    <a:pt x="12" y="180"/>
                  </a:lnTo>
                  <a:lnTo>
                    <a:pt x="6" y="164"/>
                  </a:lnTo>
                  <a:lnTo>
                    <a:pt x="6" y="164"/>
                  </a:lnTo>
                  <a:lnTo>
                    <a:pt x="0" y="134"/>
                  </a:lnTo>
                  <a:lnTo>
                    <a:pt x="0" y="118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2" y="94"/>
                  </a:lnTo>
                  <a:lnTo>
                    <a:pt x="4" y="88"/>
                  </a:lnTo>
                  <a:lnTo>
                    <a:pt x="10" y="72"/>
                  </a:lnTo>
                  <a:lnTo>
                    <a:pt x="18" y="60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8" y="2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78" y="12"/>
                  </a:lnTo>
                  <a:lnTo>
                    <a:pt x="96" y="6"/>
                  </a:lnTo>
                  <a:lnTo>
                    <a:pt x="106" y="2"/>
                  </a:lnTo>
                  <a:lnTo>
                    <a:pt x="116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36" y="4"/>
                  </a:lnTo>
                  <a:lnTo>
                    <a:pt x="160" y="12"/>
                  </a:lnTo>
                  <a:lnTo>
                    <a:pt x="182" y="22"/>
                  </a:lnTo>
                  <a:lnTo>
                    <a:pt x="192" y="30"/>
                  </a:lnTo>
                  <a:lnTo>
                    <a:pt x="202" y="36"/>
                  </a:lnTo>
                  <a:lnTo>
                    <a:pt x="210" y="46"/>
                  </a:lnTo>
                  <a:lnTo>
                    <a:pt x="218" y="56"/>
                  </a:lnTo>
                  <a:lnTo>
                    <a:pt x="21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76"/>
            <p:cNvSpPr/>
            <p:nvPr/>
          </p:nvSpPr>
          <p:spPr>
            <a:xfrm>
              <a:off x="13014360" y="9595080"/>
              <a:ext cx="285480" cy="282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80" h="178">
                  <a:moveTo>
                    <a:pt x="170" y="50"/>
                  </a:moveTo>
                  <a:lnTo>
                    <a:pt x="170" y="50"/>
                  </a:lnTo>
                  <a:lnTo>
                    <a:pt x="174" y="60"/>
                  </a:lnTo>
                  <a:lnTo>
                    <a:pt x="178" y="72"/>
                  </a:lnTo>
                  <a:lnTo>
                    <a:pt x="180" y="92"/>
                  </a:lnTo>
                  <a:lnTo>
                    <a:pt x="178" y="114"/>
                  </a:lnTo>
                  <a:lnTo>
                    <a:pt x="174" y="124"/>
                  </a:lnTo>
                  <a:lnTo>
                    <a:pt x="170" y="132"/>
                  </a:lnTo>
                  <a:lnTo>
                    <a:pt x="170" y="132"/>
                  </a:lnTo>
                  <a:lnTo>
                    <a:pt x="164" y="144"/>
                  </a:lnTo>
                  <a:lnTo>
                    <a:pt x="154" y="154"/>
                  </a:lnTo>
                  <a:lnTo>
                    <a:pt x="144" y="162"/>
                  </a:lnTo>
                  <a:lnTo>
                    <a:pt x="132" y="168"/>
                  </a:lnTo>
                  <a:lnTo>
                    <a:pt x="120" y="172"/>
                  </a:lnTo>
                  <a:lnTo>
                    <a:pt x="106" y="174"/>
                  </a:lnTo>
                  <a:lnTo>
                    <a:pt x="80" y="178"/>
                  </a:lnTo>
                  <a:lnTo>
                    <a:pt x="80" y="178"/>
                  </a:lnTo>
                  <a:lnTo>
                    <a:pt x="64" y="174"/>
                  </a:lnTo>
                  <a:lnTo>
                    <a:pt x="52" y="168"/>
                  </a:lnTo>
                  <a:lnTo>
                    <a:pt x="40" y="162"/>
                  </a:lnTo>
                  <a:lnTo>
                    <a:pt x="28" y="152"/>
                  </a:lnTo>
                  <a:lnTo>
                    <a:pt x="20" y="142"/>
                  </a:lnTo>
                  <a:lnTo>
                    <a:pt x="12" y="130"/>
                  </a:lnTo>
                  <a:lnTo>
                    <a:pt x="4" y="11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2" y="74"/>
                  </a:lnTo>
                  <a:lnTo>
                    <a:pt x="6" y="60"/>
                  </a:lnTo>
                  <a:lnTo>
                    <a:pt x="12" y="48"/>
                  </a:lnTo>
                  <a:lnTo>
                    <a:pt x="18" y="36"/>
                  </a:lnTo>
                  <a:lnTo>
                    <a:pt x="28" y="26"/>
                  </a:lnTo>
                  <a:lnTo>
                    <a:pt x="38" y="1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60" y="4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6" y="2"/>
                  </a:lnTo>
                  <a:lnTo>
                    <a:pt x="106" y="4"/>
                  </a:lnTo>
                  <a:lnTo>
                    <a:pt x="118" y="6"/>
                  </a:lnTo>
                  <a:lnTo>
                    <a:pt x="128" y="12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8" y="24"/>
                  </a:lnTo>
                  <a:lnTo>
                    <a:pt x="156" y="32"/>
                  </a:lnTo>
                  <a:lnTo>
                    <a:pt x="170" y="50"/>
                  </a:lnTo>
                  <a:lnTo>
                    <a:pt x="170" y="50"/>
                  </a:lnTo>
                  <a:close/>
                </a:path>
              </a:pathLst>
            </a:custGeom>
            <a:solidFill>
              <a:srgbClr val="eea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グループ化 185"/>
          <p:cNvGrpSpPr/>
          <p:nvPr/>
        </p:nvGrpSpPr>
        <p:grpSpPr>
          <a:xfrm>
            <a:off x="1603440" y="482760"/>
            <a:ext cx="3114360" cy="2609640"/>
            <a:chOff x="1603440" y="482760"/>
            <a:chExt cx="3114360" cy="2609640"/>
          </a:xfrm>
        </p:grpSpPr>
        <p:sp>
          <p:nvSpPr>
            <p:cNvPr id="219" name="Freeform 177"/>
            <p:cNvSpPr/>
            <p:nvPr/>
          </p:nvSpPr>
          <p:spPr>
            <a:xfrm>
              <a:off x="1822320" y="48276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290" y="0"/>
                  </a:lnTo>
                  <a:lnTo>
                    <a:pt x="258" y="6"/>
                  </a:lnTo>
                  <a:lnTo>
                    <a:pt x="226" y="14"/>
                  </a:lnTo>
                  <a:lnTo>
                    <a:pt x="196" y="24"/>
                  </a:lnTo>
                  <a:lnTo>
                    <a:pt x="168" y="38"/>
                  </a:lnTo>
                  <a:lnTo>
                    <a:pt x="142" y="54"/>
                  </a:lnTo>
                  <a:lnTo>
                    <a:pt x="118" y="72"/>
                  </a:lnTo>
                  <a:lnTo>
                    <a:pt x="94" y="94"/>
                  </a:lnTo>
                  <a:lnTo>
                    <a:pt x="74" y="116"/>
                  </a:lnTo>
                  <a:lnTo>
                    <a:pt x="54" y="142"/>
                  </a:lnTo>
                  <a:lnTo>
                    <a:pt x="38" y="168"/>
                  </a:lnTo>
                  <a:lnTo>
                    <a:pt x="26" y="196"/>
                  </a:lnTo>
                  <a:lnTo>
                    <a:pt x="14" y="226"/>
                  </a:lnTo>
                  <a:lnTo>
                    <a:pt x="6" y="258"/>
                  </a:lnTo>
                  <a:lnTo>
                    <a:pt x="2" y="290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2" y="356"/>
                  </a:lnTo>
                  <a:lnTo>
                    <a:pt x="6" y="388"/>
                  </a:lnTo>
                  <a:lnTo>
                    <a:pt x="14" y="418"/>
                  </a:lnTo>
                  <a:lnTo>
                    <a:pt x="26" y="448"/>
                  </a:lnTo>
                  <a:lnTo>
                    <a:pt x="38" y="476"/>
                  </a:lnTo>
                  <a:lnTo>
                    <a:pt x="54" y="502"/>
                  </a:lnTo>
                  <a:lnTo>
                    <a:pt x="74" y="528"/>
                  </a:lnTo>
                  <a:lnTo>
                    <a:pt x="94" y="550"/>
                  </a:lnTo>
                  <a:lnTo>
                    <a:pt x="118" y="572"/>
                  </a:lnTo>
                  <a:lnTo>
                    <a:pt x="142" y="590"/>
                  </a:lnTo>
                  <a:lnTo>
                    <a:pt x="168" y="606"/>
                  </a:lnTo>
                  <a:lnTo>
                    <a:pt x="196" y="620"/>
                  </a:lnTo>
                  <a:lnTo>
                    <a:pt x="226" y="630"/>
                  </a:lnTo>
                  <a:lnTo>
                    <a:pt x="258" y="638"/>
                  </a:lnTo>
                  <a:lnTo>
                    <a:pt x="290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356" y="644"/>
                  </a:lnTo>
                  <a:lnTo>
                    <a:pt x="388" y="638"/>
                  </a:lnTo>
                  <a:lnTo>
                    <a:pt x="418" y="630"/>
                  </a:lnTo>
                  <a:lnTo>
                    <a:pt x="448" y="620"/>
                  </a:lnTo>
                  <a:lnTo>
                    <a:pt x="476" y="606"/>
                  </a:lnTo>
                  <a:lnTo>
                    <a:pt x="504" y="590"/>
                  </a:lnTo>
                  <a:lnTo>
                    <a:pt x="528" y="572"/>
                  </a:lnTo>
                  <a:lnTo>
                    <a:pt x="552" y="550"/>
                  </a:lnTo>
                  <a:lnTo>
                    <a:pt x="572" y="528"/>
                  </a:lnTo>
                  <a:lnTo>
                    <a:pt x="590" y="502"/>
                  </a:lnTo>
                  <a:lnTo>
                    <a:pt x="606" y="476"/>
                  </a:lnTo>
                  <a:lnTo>
                    <a:pt x="620" y="448"/>
                  </a:lnTo>
                  <a:lnTo>
                    <a:pt x="632" y="418"/>
                  </a:lnTo>
                  <a:lnTo>
                    <a:pt x="640" y="388"/>
                  </a:lnTo>
                  <a:lnTo>
                    <a:pt x="644" y="356"/>
                  </a:lnTo>
                  <a:lnTo>
                    <a:pt x="646" y="322"/>
                  </a:lnTo>
                  <a:lnTo>
                    <a:pt x="646" y="322"/>
                  </a:lnTo>
                  <a:lnTo>
                    <a:pt x="644" y="290"/>
                  </a:lnTo>
                  <a:lnTo>
                    <a:pt x="640" y="258"/>
                  </a:lnTo>
                  <a:lnTo>
                    <a:pt x="632" y="226"/>
                  </a:lnTo>
                  <a:lnTo>
                    <a:pt x="620" y="196"/>
                  </a:lnTo>
                  <a:lnTo>
                    <a:pt x="606" y="168"/>
                  </a:lnTo>
                  <a:lnTo>
                    <a:pt x="590" y="142"/>
                  </a:lnTo>
                  <a:lnTo>
                    <a:pt x="572" y="116"/>
                  </a:lnTo>
                  <a:lnTo>
                    <a:pt x="552" y="94"/>
                  </a:lnTo>
                  <a:lnTo>
                    <a:pt x="528" y="72"/>
                  </a:lnTo>
                  <a:lnTo>
                    <a:pt x="504" y="54"/>
                  </a:lnTo>
                  <a:lnTo>
                    <a:pt x="476" y="38"/>
                  </a:lnTo>
                  <a:lnTo>
                    <a:pt x="448" y="24"/>
                  </a:lnTo>
                  <a:lnTo>
                    <a:pt x="418" y="14"/>
                  </a:lnTo>
                  <a:lnTo>
                    <a:pt x="388" y="6"/>
                  </a:lnTo>
                  <a:lnTo>
                    <a:pt x="356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78"/>
            <p:cNvSpPr/>
            <p:nvPr/>
          </p:nvSpPr>
          <p:spPr>
            <a:xfrm>
              <a:off x="2079720" y="736560"/>
              <a:ext cx="511200" cy="51408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2" h="324">
                  <a:moveTo>
                    <a:pt x="160" y="0"/>
                  </a:moveTo>
                  <a:lnTo>
                    <a:pt x="160" y="0"/>
                  </a:lnTo>
                  <a:lnTo>
                    <a:pt x="144" y="2"/>
                  </a:lnTo>
                  <a:lnTo>
                    <a:pt x="128" y="4"/>
                  </a:lnTo>
                  <a:lnTo>
                    <a:pt x="112" y="8"/>
                  </a:lnTo>
                  <a:lnTo>
                    <a:pt x="98" y="14"/>
                  </a:lnTo>
                  <a:lnTo>
                    <a:pt x="84" y="20"/>
                  </a:lnTo>
                  <a:lnTo>
                    <a:pt x="70" y="28"/>
                  </a:lnTo>
                  <a:lnTo>
                    <a:pt x="58" y="38"/>
                  </a:lnTo>
                  <a:lnTo>
                    <a:pt x="46" y="48"/>
                  </a:lnTo>
                  <a:lnTo>
                    <a:pt x="36" y="60"/>
                  </a:lnTo>
                  <a:lnTo>
                    <a:pt x="26" y="72"/>
                  </a:lnTo>
                  <a:lnTo>
                    <a:pt x="18" y="86"/>
                  </a:lnTo>
                  <a:lnTo>
                    <a:pt x="12" y="100"/>
                  </a:lnTo>
                  <a:lnTo>
                    <a:pt x="6" y="114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" y="194"/>
                  </a:lnTo>
                  <a:lnTo>
                    <a:pt x="6" y="210"/>
                  </a:lnTo>
                  <a:lnTo>
                    <a:pt x="12" y="224"/>
                  </a:lnTo>
                  <a:lnTo>
                    <a:pt x="18" y="240"/>
                  </a:lnTo>
                  <a:lnTo>
                    <a:pt x="26" y="252"/>
                  </a:lnTo>
                  <a:lnTo>
                    <a:pt x="36" y="264"/>
                  </a:lnTo>
                  <a:lnTo>
                    <a:pt x="46" y="276"/>
                  </a:lnTo>
                  <a:lnTo>
                    <a:pt x="58" y="286"/>
                  </a:lnTo>
                  <a:lnTo>
                    <a:pt x="70" y="296"/>
                  </a:lnTo>
                  <a:lnTo>
                    <a:pt x="84" y="304"/>
                  </a:lnTo>
                  <a:lnTo>
                    <a:pt x="98" y="310"/>
                  </a:lnTo>
                  <a:lnTo>
                    <a:pt x="112" y="316"/>
                  </a:lnTo>
                  <a:lnTo>
                    <a:pt x="128" y="320"/>
                  </a:lnTo>
                  <a:lnTo>
                    <a:pt x="144" y="322"/>
                  </a:lnTo>
                  <a:lnTo>
                    <a:pt x="160" y="324"/>
                  </a:lnTo>
                  <a:lnTo>
                    <a:pt x="160" y="324"/>
                  </a:lnTo>
                  <a:lnTo>
                    <a:pt x="178" y="322"/>
                  </a:lnTo>
                  <a:lnTo>
                    <a:pt x="194" y="320"/>
                  </a:lnTo>
                  <a:lnTo>
                    <a:pt x="208" y="316"/>
                  </a:lnTo>
                  <a:lnTo>
                    <a:pt x="224" y="310"/>
                  </a:lnTo>
                  <a:lnTo>
                    <a:pt x="238" y="304"/>
                  </a:lnTo>
                  <a:lnTo>
                    <a:pt x="250" y="296"/>
                  </a:lnTo>
                  <a:lnTo>
                    <a:pt x="264" y="286"/>
                  </a:lnTo>
                  <a:lnTo>
                    <a:pt x="274" y="276"/>
                  </a:lnTo>
                  <a:lnTo>
                    <a:pt x="286" y="264"/>
                  </a:lnTo>
                  <a:lnTo>
                    <a:pt x="294" y="252"/>
                  </a:lnTo>
                  <a:lnTo>
                    <a:pt x="302" y="240"/>
                  </a:lnTo>
                  <a:lnTo>
                    <a:pt x="310" y="224"/>
                  </a:lnTo>
                  <a:lnTo>
                    <a:pt x="314" y="210"/>
                  </a:lnTo>
                  <a:lnTo>
                    <a:pt x="318" y="194"/>
                  </a:lnTo>
                  <a:lnTo>
                    <a:pt x="322" y="178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46"/>
                  </a:lnTo>
                  <a:lnTo>
                    <a:pt x="318" y="130"/>
                  </a:lnTo>
                  <a:lnTo>
                    <a:pt x="314" y="114"/>
                  </a:lnTo>
                  <a:lnTo>
                    <a:pt x="310" y="100"/>
                  </a:lnTo>
                  <a:lnTo>
                    <a:pt x="302" y="86"/>
                  </a:lnTo>
                  <a:lnTo>
                    <a:pt x="294" y="72"/>
                  </a:lnTo>
                  <a:lnTo>
                    <a:pt x="286" y="60"/>
                  </a:lnTo>
                  <a:lnTo>
                    <a:pt x="274" y="48"/>
                  </a:lnTo>
                  <a:lnTo>
                    <a:pt x="264" y="38"/>
                  </a:lnTo>
                  <a:lnTo>
                    <a:pt x="250" y="28"/>
                  </a:lnTo>
                  <a:lnTo>
                    <a:pt x="238" y="20"/>
                  </a:lnTo>
                  <a:lnTo>
                    <a:pt x="224" y="14"/>
                  </a:lnTo>
                  <a:lnTo>
                    <a:pt x="208" y="8"/>
                  </a:lnTo>
                  <a:lnTo>
                    <a:pt x="194" y="4"/>
                  </a:lnTo>
                  <a:lnTo>
                    <a:pt x="178" y="2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79"/>
            <p:cNvSpPr/>
            <p:nvPr/>
          </p:nvSpPr>
          <p:spPr>
            <a:xfrm>
              <a:off x="3473640" y="48276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356" y="0"/>
                  </a:lnTo>
                  <a:lnTo>
                    <a:pt x="388" y="6"/>
                  </a:lnTo>
                  <a:lnTo>
                    <a:pt x="418" y="14"/>
                  </a:lnTo>
                  <a:lnTo>
                    <a:pt x="448" y="24"/>
                  </a:lnTo>
                  <a:lnTo>
                    <a:pt x="476" y="38"/>
                  </a:lnTo>
                  <a:lnTo>
                    <a:pt x="502" y="54"/>
                  </a:lnTo>
                  <a:lnTo>
                    <a:pt x="528" y="72"/>
                  </a:lnTo>
                  <a:lnTo>
                    <a:pt x="550" y="94"/>
                  </a:lnTo>
                  <a:lnTo>
                    <a:pt x="572" y="116"/>
                  </a:lnTo>
                  <a:lnTo>
                    <a:pt x="590" y="142"/>
                  </a:lnTo>
                  <a:lnTo>
                    <a:pt x="606" y="168"/>
                  </a:lnTo>
                  <a:lnTo>
                    <a:pt x="620" y="196"/>
                  </a:lnTo>
                  <a:lnTo>
                    <a:pt x="630" y="226"/>
                  </a:lnTo>
                  <a:lnTo>
                    <a:pt x="638" y="258"/>
                  </a:lnTo>
                  <a:lnTo>
                    <a:pt x="644" y="290"/>
                  </a:lnTo>
                  <a:lnTo>
                    <a:pt x="646" y="322"/>
                  </a:lnTo>
                  <a:lnTo>
                    <a:pt x="646" y="322"/>
                  </a:lnTo>
                  <a:lnTo>
                    <a:pt x="644" y="356"/>
                  </a:lnTo>
                  <a:lnTo>
                    <a:pt x="638" y="388"/>
                  </a:lnTo>
                  <a:lnTo>
                    <a:pt x="630" y="418"/>
                  </a:lnTo>
                  <a:lnTo>
                    <a:pt x="620" y="448"/>
                  </a:lnTo>
                  <a:lnTo>
                    <a:pt x="606" y="476"/>
                  </a:lnTo>
                  <a:lnTo>
                    <a:pt x="590" y="502"/>
                  </a:lnTo>
                  <a:lnTo>
                    <a:pt x="572" y="528"/>
                  </a:lnTo>
                  <a:lnTo>
                    <a:pt x="550" y="550"/>
                  </a:lnTo>
                  <a:lnTo>
                    <a:pt x="528" y="572"/>
                  </a:lnTo>
                  <a:lnTo>
                    <a:pt x="502" y="590"/>
                  </a:lnTo>
                  <a:lnTo>
                    <a:pt x="476" y="606"/>
                  </a:lnTo>
                  <a:lnTo>
                    <a:pt x="448" y="620"/>
                  </a:lnTo>
                  <a:lnTo>
                    <a:pt x="418" y="630"/>
                  </a:lnTo>
                  <a:lnTo>
                    <a:pt x="388" y="638"/>
                  </a:lnTo>
                  <a:lnTo>
                    <a:pt x="356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290" y="644"/>
                  </a:lnTo>
                  <a:lnTo>
                    <a:pt x="258" y="638"/>
                  </a:lnTo>
                  <a:lnTo>
                    <a:pt x="226" y="630"/>
                  </a:lnTo>
                  <a:lnTo>
                    <a:pt x="196" y="620"/>
                  </a:lnTo>
                  <a:lnTo>
                    <a:pt x="168" y="606"/>
                  </a:lnTo>
                  <a:lnTo>
                    <a:pt x="142" y="590"/>
                  </a:lnTo>
                  <a:lnTo>
                    <a:pt x="116" y="572"/>
                  </a:lnTo>
                  <a:lnTo>
                    <a:pt x="94" y="550"/>
                  </a:lnTo>
                  <a:lnTo>
                    <a:pt x="72" y="528"/>
                  </a:lnTo>
                  <a:lnTo>
                    <a:pt x="54" y="502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8"/>
                  </a:lnTo>
                  <a:lnTo>
                    <a:pt x="6" y="388"/>
                  </a:lnTo>
                  <a:lnTo>
                    <a:pt x="0" y="356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0"/>
                  </a:lnTo>
                  <a:lnTo>
                    <a:pt x="6" y="258"/>
                  </a:lnTo>
                  <a:lnTo>
                    <a:pt x="14" y="226"/>
                  </a:lnTo>
                  <a:lnTo>
                    <a:pt x="24" y="196"/>
                  </a:lnTo>
                  <a:lnTo>
                    <a:pt x="38" y="168"/>
                  </a:lnTo>
                  <a:lnTo>
                    <a:pt x="54" y="142"/>
                  </a:lnTo>
                  <a:lnTo>
                    <a:pt x="72" y="116"/>
                  </a:lnTo>
                  <a:lnTo>
                    <a:pt x="94" y="94"/>
                  </a:lnTo>
                  <a:lnTo>
                    <a:pt x="116" y="72"/>
                  </a:lnTo>
                  <a:lnTo>
                    <a:pt x="142" y="54"/>
                  </a:lnTo>
                  <a:lnTo>
                    <a:pt x="168" y="38"/>
                  </a:lnTo>
                  <a:lnTo>
                    <a:pt x="196" y="24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80"/>
            <p:cNvSpPr/>
            <p:nvPr/>
          </p:nvSpPr>
          <p:spPr>
            <a:xfrm>
              <a:off x="3727440" y="736560"/>
              <a:ext cx="514080" cy="5140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4" h="324">
                  <a:moveTo>
                    <a:pt x="162" y="0"/>
                  </a:moveTo>
                  <a:lnTo>
                    <a:pt x="162" y="0"/>
                  </a:lnTo>
                  <a:lnTo>
                    <a:pt x="178" y="2"/>
                  </a:lnTo>
                  <a:lnTo>
                    <a:pt x="194" y="4"/>
                  </a:lnTo>
                  <a:lnTo>
                    <a:pt x="210" y="8"/>
                  </a:lnTo>
                  <a:lnTo>
                    <a:pt x="226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4" y="38"/>
                  </a:lnTo>
                  <a:lnTo>
                    <a:pt x="276" y="48"/>
                  </a:lnTo>
                  <a:lnTo>
                    <a:pt x="286" y="60"/>
                  </a:lnTo>
                  <a:lnTo>
                    <a:pt x="296" y="72"/>
                  </a:lnTo>
                  <a:lnTo>
                    <a:pt x="304" y="86"/>
                  </a:lnTo>
                  <a:lnTo>
                    <a:pt x="310" y="100"/>
                  </a:lnTo>
                  <a:lnTo>
                    <a:pt x="316" y="114"/>
                  </a:lnTo>
                  <a:lnTo>
                    <a:pt x="320" y="130"/>
                  </a:lnTo>
                  <a:lnTo>
                    <a:pt x="322" y="146"/>
                  </a:lnTo>
                  <a:lnTo>
                    <a:pt x="324" y="162"/>
                  </a:lnTo>
                  <a:lnTo>
                    <a:pt x="324" y="162"/>
                  </a:lnTo>
                  <a:lnTo>
                    <a:pt x="322" y="178"/>
                  </a:lnTo>
                  <a:lnTo>
                    <a:pt x="320" y="194"/>
                  </a:lnTo>
                  <a:lnTo>
                    <a:pt x="316" y="210"/>
                  </a:lnTo>
                  <a:lnTo>
                    <a:pt x="310" y="224"/>
                  </a:lnTo>
                  <a:lnTo>
                    <a:pt x="304" y="240"/>
                  </a:lnTo>
                  <a:lnTo>
                    <a:pt x="296" y="252"/>
                  </a:lnTo>
                  <a:lnTo>
                    <a:pt x="286" y="264"/>
                  </a:lnTo>
                  <a:lnTo>
                    <a:pt x="276" y="276"/>
                  </a:lnTo>
                  <a:lnTo>
                    <a:pt x="264" y="286"/>
                  </a:lnTo>
                  <a:lnTo>
                    <a:pt x="252" y="296"/>
                  </a:lnTo>
                  <a:lnTo>
                    <a:pt x="240" y="304"/>
                  </a:lnTo>
                  <a:lnTo>
                    <a:pt x="226" y="310"/>
                  </a:lnTo>
                  <a:lnTo>
                    <a:pt x="210" y="316"/>
                  </a:lnTo>
                  <a:lnTo>
                    <a:pt x="194" y="320"/>
                  </a:lnTo>
                  <a:lnTo>
                    <a:pt x="178" y="322"/>
                  </a:lnTo>
                  <a:lnTo>
                    <a:pt x="162" y="324"/>
                  </a:lnTo>
                  <a:lnTo>
                    <a:pt x="162" y="324"/>
                  </a:lnTo>
                  <a:lnTo>
                    <a:pt x="146" y="322"/>
                  </a:lnTo>
                  <a:lnTo>
                    <a:pt x="130" y="320"/>
                  </a:lnTo>
                  <a:lnTo>
                    <a:pt x="114" y="316"/>
                  </a:lnTo>
                  <a:lnTo>
                    <a:pt x="100" y="310"/>
                  </a:lnTo>
                  <a:lnTo>
                    <a:pt x="86" y="304"/>
                  </a:lnTo>
                  <a:lnTo>
                    <a:pt x="72" y="296"/>
                  </a:lnTo>
                  <a:lnTo>
                    <a:pt x="60" y="286"/>
                  </a:lnTo>
                  <a:lnTo>
                    <a:pt x="48" y="276"/>
                  </a:lnTo>
                  <a:lnTo>
                    <a:pt x="38" y="264"/>
                  </a:lnTo>
                  <a:lnTo>
                    <a:pt x="28" y="252"/>
                  </a:lnTo>
                  <a:lnTo>
                    <a:pt x="20" y="240"/>
                  </a:lnTo>
                  <a:lnTo>
                    <a:pt x="14" y="224"/>
                  </a:lnTo>
                  <a:lnTo>
                    <a:pt x="8" y="210"/>
                  </a:lnTo>
                  <a:lnTo>
                    <a:pt x="4" y="194"/>
                  </a:lnTo>
                  <a:lnTo>
                    <a:pt x="2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" y="146"/>
                  </a:lnTo>
                  <a:lnTo>
                    <a:pt x="4" y="130"/>
                  </a:lnTo>
                  <a:lnTo>
                    <a:pt x="8" y="114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81"/>
            <p:cNvSpPr/>
            <p:nvPr/>
          </p:nvSpPr>
          <p:spPr>
            <a:xfrm>
              <a:off x="1793880" y="727200"/>
              <a:ext cx="2733840" cy="2038320"/>
            </a:xfrm>
            <a:custGeom>
              <a:avLst/>
              <a:gdLst/>
              <a:ahLst/>
              <a:rect l="l" t="t" r="r" b="b"/>
              <a:pathLst>
                <a:path w="1722" h="1284">
                  <a:moveTo>
                    <a:pt x="860" y="0"/>
                  </a:moveTo>
                  <a:lnTo>
                    <a:pt x="860" y="0"/>
                  </a:lnTo>
                  <a:lnTo>
                    <a:pt x="816" y="2"/>
                  </a:lnTo>
                  <a:lnTo>
                    <a:pt x="772" y="4"/>
                  </a:lnTo>
                  <a:lnTo>
                    <a:pt x="730" y="10"/>
                  </a:lnTo>
                  <a:lnTo>
                    <a:pt x="688" y="16"/>
                  </a:lnTo>
                  <a:lnTo>
                    <a:pt x="646" y="24"/>
                  </a:lnTo>
                  <a:lnTo>
                    <a:pt x="604" y="34"/>
                  </a:lnTo>
                  <a:lnTo>
                    <a:pt x="564" y="46"/>
                  </a:lnTo>
                  <a:lnTo>
                    <a:pt x="526" y="60"/>
                  </a:lnTo>
                  <a:lnTo>
                    <a:pt x="488" y="74"/>
                  </a:lnTo>
                  <a:lnTo>
                    <a:pt x="450" y="90"/>
                  </a:lnTo>
                  <a:lnTo>
                    <a:pt x="414" y="108"/>
                  </a:lnTo>
                  <a:lnTo>
                    <a:pt x="380" y="128"/>
                  </a:lnTo>
                  <a:lnTo>
                    <a:pt x="346" y="148"/>
                  </a:lnTo>
                  <a:lnTo>
                    <a:pt x="314" y="170"/>
                  </a:lnTo>
                  <a:lnTo>
                    <a:pt x="282" y="194"/>
                  </a:lnTo>
                  <a:lnTo>
                    <a:pt x="252" y="218"/>
                  </a:lnTo>
                  <a:lnTo>
                    <a:pt x="224" y="244"/>
                  </a:lnTo>
                  <a:lnTo>
                    <a:pt x="196" y="272"/>
                  </a:lnTo>
                  <a:lnTo>
                    <a:pt x="170" y="300"/>
                  </a:lnTo>
                  <a:lnTo>
                    <a:pt x="146" y="330"/>
                  </a:lnTo>
                  <a:lnTo>
                    <a:pt x="124" y="360"/>
                  </a:lnTo>
                  <a:lnTo>
                    <a:pt x="104" y="390"/>
                  </a:lnTo>
                  <a:lnTo>
                    <a:pt x="84" y="422"/>
                  </a:lnTo>
                  <a:lnTo>
                    <a:pt x="68" y="456"/>
                  </a:lnTo>
                  <a:lnTo>
                    <a:pt x="52" y="490"/>
                  </a:lnTo>
                  <a:lnTo>
                    <a:pt x="38" y="524"/>
                  </a:lnTo>
                  <a:lnTo>
                    <a:pt x="26" y="560"/>
                  </a:lnTo>
                  <a:lnTo>
                    <a:pt x="18" y="596"/>
                  </a:lnTo>
                  <a:lnTo>
                    <a:pt x="10" y="632"/>
                  </a:lnTo>
                  <a:lnTo>
                    <a:pt x="4" y="670"/>
                  </a:lnTo>
                  <a:lnTo>
                    <a:pt x="0" y="708"/>
                  </a:lnTo>
                  <a:lnTo>
                    <a:pt x="0" y="746"/>
                  </a:lnTo>
                  <a:lnTo>
                    <a:pt x="0" y="746"/>
                  </a:lnTo>
                  <a:lnTo>
                    <a:pt x="0" y="784"/>
                  </a:lnTo>
                  <a:lnTo>
                    <a:pt x="4" y="824"/>
                  </a:lnTo>
                  <a:lnTo>
                    <a:pt x="10" y="862"/>
                  </a:lnTo>
                  <a:lnTo>
                    <a:pt x="18" y="900"/>
                  </a:lnTo>
                  <a:lnTo>
                    <a:pt x="28" y="936"/>
                  </a:lnTo>
                  <a:lnTo>
                    <a:pt x="40" y="974"/>
                  </a:lnTo>
                  <a:lnTo>
                    <a:pt x="54" y="1008"/>
                  </a:lnTo>
                  <a:lnTo>
                    <a:pt x="72" y="1044"/>
                  </a:lnTo>
                  <a:lnTo>
                    <a:pt x="90" y="1078"/>
                  </a:lnTo>
                  <a:lnTo>
                    <a:pt x="110" y="1110"/>
                  </a:lnTo>
                  <a:lnTo>
                    <a:pt x="132" y="1142"/>
                  </a:lnTo>
                  <a:lnTo>
                    <a:pt x="156" y="1172"/>
                  </a:lnTo>
                  <a:lnTo>
                    <a:pt x="180" y="1202"/>
                  </a:lnTo>
                  <a:lnTo>
                    <a:pt x="208" y="1230"/>
                  </a:lnTo>
                  <a:lnTo>
                    <a:pt x="236" y="1258"/>
                  </a:lnTo>
                  <a:lnTo>
                    <a:pt x="266" y="1284"/>
                  </a:lnTo>
                  <a:lnTo>
                    <a:pt x="266" y="1284"/>
                  </a:lnTo>
                  <a:lnTo>
                    <a:pt x="272" y="1254"/>
                  </a:lnTo>
                  <a:lnTo>
                    <a:pt x="280" y="1224"/>
                  </a:lnTo>
                  <a:lnTo>
                    <a:pt x="290" y="1196"/>
                  </a:lnTo>
                  <a:lnTo>
                    <a:pt x="304" y="1166"/>
                  </a:lnTo>
                  <a:lnTo>
                    <a:pt x="318" y="1140"/>
                  </a:lnTo>
                  <a:lnTo>
                    <a:pt x="336" y="1114"/>
                  </a:lnTo>
                  <a:lnTo>
                    <a:pt x="354" y="1088"/>
                  </a:lnTo>
                  <a:lnTo>
                    <a:pt x="376" y="1064"/>
                  </a:lnTo>
                  <a:lnTo>
                    <a:pt x="400" y="1040"/>
                  </a:lnTo>
                  <a:lnTo>
                    <a:pt x="424" y="1018"/>
                  </a:lnTo>
                  <a:lnTo>
                    <a:pt x="452" y="998"/>
                  </a:lnTo>
                  <a:lnTo>
                    <a:pt x="480" y="978"/>
                  </a:lnTo>
                  <a:lnTo>
                    <a:pt x="510" y="960"/>
                  </a:lnTo>
                  <a:lnTo>
                    <a:pt x="540" y="944"/>
                  </a:lnTo>
                  <a:lnTo>
                    <a:pt x="574" y="930"/>
                  </a:lnTo>
                  <a:lnTo>
                    <a:pt x="608" y="916"/>
                  </a:lnTo>
                  <a:lnTo>
                    <a:pt x="608" y="916"/>
                  </a:lnTo>
                  <a:lnTo>
                    <a:pt x="638" y="906"/>
                  </a:lnTo>
                  <a:lnTo>
                    <a:pt x="668" y="898"/>
                  </a:lnTo>
                  <a:lnTo>
                    <a:pt x="698" y="890"/>
                  </a:lnTo>
                  <a:lnTo>
                    <a:pt x="730" y="884"/>
                  </a:lnTo>
                  <a:lnTo>
                    <a:pt x="762" y="880"/>
                  </a:lnTo>
                  <a:lnTo>
                    <a:pt x="794" y="876"/>
                  </a:lnTo>
                  <a:lnTo>
                    <a:pt x="828" y="874"/>
                  </a:lnTo>
                  <a:lnTo>
                    <a:pt x="860" y="872"/>
                  </a:lnTo>
                  <a:lnTo>
                    <a:pt x="860" y="872"/>
                  </a:lnTo>
                  <a:lnTo>
                    <a:pt x="894" y="874"/>
                  </a:lnTo>
                  <a:lnTo>
                    <a:pt x="928" y="876"/>
                  </a:lnTo>
                  <a:lnTo>
                    <a:pt x="960" y="880"/>
                  </a:lnTo>
                  <a:lnTo>
                    <a:pt x="992" y="884"/>
                  </a:lnTo>
                  <a:lnTo>
                    <a:pt x="1024" y="890"/>
                  </a:lnTo>
                  <a:lnTo>
                    <a:pt x="1054" y="898"/>
                  </a:lnTo>
                  <a:lnTo>
                    <a:pt x="1084" y="906"/>
                  </a:lnTo>
                  <a:lnTo>
                    <a:pt x="1114" y="916"/>
                  </a:lnTo>
                  <a:lnTo>
                    <a:pt x="1114" y="916"/>
                  </a:lnTo>
                  <a:lnTo>
                    <a:pt x="1148" y="930"/>
                  </a:lnTo>
                  <a:lnTo>
                    <a:pt x="1180" y="944"/>
                  </a:lnTo>
                  <a:lnTo>
                    <a:pt x="1212" y="960"/>
                  </a:lnTo>
                  <a:lnTo>
                    <a:pt x="1242" y="978"/>
                  </a:lnTo>
                  <a:lnTo>
                    <a:pt x="1270" y="998"/>
                  </a:lnTo>
                  <a:lnTo>
                    <a:pt x="1298" y="1018"/>
                  </a:lnTo>
                  <a:lnTo>
                    <a:pt x="1322" y="1040"/>
                  </a:lnTo>
                  <a:lnTo>
                    <a:pt x="1346" y="1064"/>
                  </a:lnTo>
                  <a:lnTo>
                    <a:pt x="1368" y="1088"/>
                  </a:lnTo>
                  <a:lnTo>
                    <a:pt x="1386" y="1114"/>
                  </a:lnTo>
                  <a:lnTo>
                    <a:pt x="1404" y="1140"/>
                  </a:lnTo>
                  <a:lnTo>
                    <a:pt x="1418" y="1166"/>
                  </a:lnTo>
                  <a:lnTo>
                    <a:pt x="1432" y="1196"/>
                  </a:lnTo>
                  <a:lnTo>
                    <a:pt x="1442" y="1224"/>
                  </a:lnTo>
                  <a:lnTo>
                    <a:pt x="1450" y="1254"/>
                  </a:lnTo>
                  <a:lnTo>
                    <a:pt x="1456" y="1284"/>
                  </a:lnTo>
                  <a:lnTo>
                    <a:pt x="1456" y="1284"/>
                  </a:lnTo>
                  <a:lnTo>
                    <a:pt x="1486" y="1258"/>
                  </a:lnTo>
                  <a:lnTo>
                    <a:pt x="1514" y="1230"/>
                  </a:lnTo>
                  <a:lnTo>
                    <a:pt x="1542" y="1202"/>
                  </a:lnTo>
                  <a:lnTo>
                    <a:pt x="1566" y="1172"/>
                  </a:lnTo>
                  <a:lnTo>
                    <a:pt x="1590" y="1142"/>
                  </a:lnTo>
                  <a:lnTo>
                    <a:pt x="1612" y="1110"/>
                  </a:lnTo>
                  <a:lnTo>
                    <a:pt x="1632" y="1078"/>
                  </a:lnTo>
                  <a:lnTo>
                    <a:pt x="1650" y="1044"/>
                  </a:lnTo>
                  <a:lnTo>
                    <a:pt x="1666" y="1008"/>
                  </a:lnTo>
                  <a:lnTo>
                    <a:pt x="1682" y="974"/>
                  </a:lnTo>
                  <a:lnTo>
                    <a:pt x="1694" y="936"/>
                  </a:lnTo>
                  <a:lnTo>
                    <a:pt x="1704" y="900"/>
                  </a:lnTo>
                  <a:lnTo>
                    <a:pt x="1712" y="862"/>
                  </a:lnTo>
                  <a:lnTo>
                    <a:pt x="1718" y="824"/>
                  </a:lnTo>
                  <a:lnTo>
                    <a:pt x="1722" y="784"/>
                  </a:lnTo>
                  <a:lnTo>
                    <a:pt x="1722" y="746"/>
                  </a:lnTo>
                  <a:lnTo>
                    <a:pt x="1722" y="746"/>
                  </a:lnTo>
                  <a:lnTo>
                    <a:pt x="1722" y="708"/>
                  </a:lnTo>
                  <a:lnTo>
                    <a:pt x="1718" y="670"/>
                  </a:lnTo>
                  <a:lnTo>
                    <a:pt x="1712" y="632"/>
                  </a:lnTo>
                  <a:lnTo>
                    <a:pt x="1704" y="596"/>
                  </a:lnTo>
                  <a:lnTo>
                    <a:pt x="1696" y="560"/>
                  </a:lnTo>
                  <a:lnTo>
                    <a:pt x="1684" y="524"/>
                  </a:lnTo>
                  <a:lnTo>
                    <a:pt x="1670" y="490"/>
                  </a:lnTo>
                  <a:lnTo>
                    <a:pt x="1654" y="456"/>
                  </a:lnTo>
                  <a:lnTo>
                    <a:pt x="1638" y="422"/>
                  </a:lnTo>
                  <a:lnTo>
                    <a:pt x="1618" y="390"/>
                  </a:lnTo>
                  <a:lnTo>
                    <a:pt x="1598" y="360"/>
                  </a:lnTo>
                  <a:lnTo>
                    <a:pt x="1576" y="330"/>
                  </a:lnTo>
                  <a:lnTo>
                    <a:pt x="1552" y="300"/>
                  </a:lnTo>
                  <a:lnTo>
                    <a:pt x="1526" y="272"/>
                  </a:lnTo>
                  <a:lnTo>
                    <a:pt x="1498" y="244"/>
                  </a:lnTo>
                  <a:lnTo>
                    <a:pt x="1470" y="218"/>
                  </a:lnTo>
                  <a:lnTo>
                    <a:pt x="1440" y="194"/>
                  </a:lnTo>
                  <a:lnTo>
                    <a:pt x="1408" y="170"/>
                  </a:lnTo>
                  <a:lnTo>
                    <a:pt x="1376" y="148"/>
                  </a:lnTo>
                  <a:lnTo>
                    <a:pt x="1342" y="128"/>
                  </a:lnTo>
                  <a:lnTo>
                    <a:pt x="1308" y="108"/>
                  </a:lnTo>
                  <a:lnTo>
                    <a:pt x="1272" y="90"/>
                  </a:lnTo>
                  <a:lnTo>
                    <a:pt x="1234" y="74"/>
                  </a:lnTo>
                  <a:lnTo>
                    <a:pt x="1196" y="60"/>
                  </a:lnTo>
                  <a:lnTo>
                    <a:pt x="1158" y="46"/>
                  </a:lnTo>
                  <a:lnTo>
                    <a:pt x="1118" y="34"/>
                  </a:lnTo>
                  <a:lnTo>
                    <a:pt x="1076" y="24"/>
                  </a:lnTo>
                  <a:lnTo>
                    <a:pt x="1034" y="16"/>
                  </a:lnTo>
                  <a:lnTo>
                    <a:pt x="992" y="10"/>
                  </a:lnTo>
                  <a:lnTo>
                    <a:pt x="950" y="4"/>
                  </a:lnTo>
                  <a:lnTo>
                    <a:pt x="906" y="2"/>
                  </a:lnTo>
                  <a:lnTo>
                    <a:pt x="860" y="0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fff1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2"/>
            <p:cNvSpPr/>
            <p:nvPr/>
          </p:nvSpPr>
          <p:spPr>
            <a:xfrm>
              <a:off x="2594160" y="186048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68" y="22"/>
                  </a:lnTo>
                  <a:lnTo>
                    <a:pt x="70" y="28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0" y="42"/>
                  </a:lnTo>
                  <a:lnTo>
                    <a:pt x="68" y="50"/>
                  </a:lnTo>
                  <a:lnTo>
                    <a:pt x="66" y="56"/>
                  </a:lnTo>
                  <a:lnTo>
                    <a:pt x="60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2" y="7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3"/>
            <p:cNvSpPr/>
            <p:nvPr/>
          </p:nvSpPr>
          <p:spPr>
            <a:xfrm>
              <a:off x="2216160" y="2181240"/>
              <a:ext cx="1889280" cy="91116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1190" h="574">
                  <a:moveTo>
                    <a:pt x="848" y="0"/>
                  </a:moveTo>
                  <a:lnTo>
                    <a:pt x="848" y="0"/>
                  </a:lnTo>
                  <a:lnTo>
                    <a:pt x="838" y="20"/>
                  </a:lnTo>
                  <a:lnTo>
                    <a:pt x="824" y="38"/>
                  </a:lnTo>
                  <a:lnTo>
                    <a:pt x="806" y="56"/>
                  </a:lnTo>
                  <a:lnTo>
                    <a:pt x="788" y="72"/>
                  </a:lnTo>
                  <a:lnTo>
                    <a:pt x="768" y="88"/>
                  </a:lnTo>
                  <a:lnTo>
                    <a:pt x="746" y="104"/>
                  </a:lnTo>
                  <a:lnTo>
                    <a:pt x="704" y="130"/>
                  </a:lnTo>
                  <a:lnTo>
                    <a:pt x="662" y="154"/>
                  </a:lnTo>
                  <a:lnTo>
                    <a:pt x="628" y="170"/>
                  </a:lnTo>
                  <a:lnTo>
                    <a:pt x="594" y="184"/>
                  </a:lnTo>
                  <a:lnTo>
                    <a:pt x="594" y="184"/>
                  </a:lnTo>
                  <a:lnTo>
                    <a:pt x="562" y="170"/>
                  </a:lnTo>
                  <a:lnTo>
                    <a:pt x="528" y="154"/>
                  </a:lnTo>
                  <a:lnTo>
                    <a:pt x="486" y="130"/>
                  </a:lnTo>
                  <a:lnTo>
                    <a:pt x="444" y="104"/>
                  </a:lnTo>
                  <a:lnTo>
                    <a:pt x="422" y="88"/>
                  </a:lnTo>
                  <a:lnTo>
                    <a:pt x="402" y="72"/>
                  </a:lnTo>
                  <a:lnTo>
                    <a:pt x="384" y="56"/>
                  </a:lnTo>
                  <a:lnTo>
                    <a:pt x="366" y="38"/>
                  </a:lnTo>
                  <a:lnTo>
                    <a:pt x="352" y="2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08" y="14"/>
                  </a:lnTo>
                  <a:lnTo>
                    <a:pt x="274" y="28"/>
                  </a:lnTo>
                  <a:lnTo>
                    <a:pt x="244" y="44"/>
                  </a:lnTo>
                  <a:lnTo>
                    <a:pt x="214" y="62"/>
                  </a:lnTo>
                  <a:lnTo>
                    <a:pt x="186" y="82"/>
                  </a:lnTo>
                  <a:lnTo>
                    <a:pt x="158" y="102"/>
                  </a:lnTo>
                  <a:lnTo>
                    <a:pt x="134" y="124"/>
                  </a:lnTo>
                  <a:lnTo>
                    <a:pt x="110" y="148"/>
                  </a:lnTo>
                  <a:lnTo>
                    <a:pt x="88" y="172"/>
                  </a:lnTo>
                  <a:lnTo>
                    <a:pt x="70" y="198"/>
                  </a:lnTo>
                  <a:lnTo>
                    <a:pt x="52" y="224"/>
                  </a:lnTo>
                  <a:lnTo>
                    <a:pt x="38" y="250"/>
                  </a:lnTo>
                  <a:lnTo>
                    <a:pt x="24" y="280"/>
                  </a:lnTo>
                  <a:lnTo>
                    <a:pt x="14" y="308"/>
                  </a:lnTo>
                  <a:lnTo>
                    <a:pt x="6" y="338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0" y="392"/>
                  </a:lnTo>
                  <a:lnTo>
                    <a:pt x="60" y="414"/>
                  </a:lnTo>
                  <a:lnTo>
                    <a:pt x="92" y="434"/>
                  </a:lnTo>
                  <a:lnTo>
                    <a:pt x="126" y="454"/>
                  </a:lnTo>
                  <a:lnTo>
                    <a:pt x="160" y="472"/>
                  </a:lnTo>
                  <a:lnTo>
                    <a:pt x="196" y="490"/>
                  </a:lnTo>
                  <a:lnTo>
                    <a:pt x="232" y="504"/>
                  </a:lnTo>
                  <a:lnTo>
                    <a:pt x="270" y="520"/>
                  </a:lnTo>
                  <a:lnTo>
                    <a:pt x="308" y="532"/>
                  </a:lnTo>
                  <a:lnTo>
                    <a:pt x="346" y="542"/>
                  </a:lnTo>
                  <a:lnTo>
                    <a:pt x="386" y="552"/>
                  </a:lnTo>
                  <a:lnTo>
                    <a:pt x="426" y="560"/>
                  </a:lnTo>
                  <a:lnTo>
                    <a:pt x="468" y="566"/>
                  </a:lnTo>
                  <a:lnTo>
                    <a:pt x="510" y="570"/>
                  </a:lnTo>
                  <a:lnTo>
                    <a:pt x="552" y="574"/>
                  </a:lnTo>
                  <a:lnTo>
                    <a:pt x="594" y="574"/>
                  </a:lnTo>
                  <a:lnTo>
                    <a:pt x="594" y="574"/>
                  </a:lnTo>
                  <a:lnTo>
                    <a:pt x="638" y="574"/>
                  </a:lnTo>
                  <a:lnTo>
                    <a:pt x="680" y="570"/>
                  </a:lnTo>
                  <a:lnTo>
                    <a:pt x="722" y="566"/>
                  </a:lnTo>
                  <a:lnTo>
                    <a:pt x="764" y="560"/>
                  </a:lnTo>
                  <a:lnTo>
                    <a:pt x="804" y="552"/>
                  </a:lnTo>
                  <a:lnTo>
                    <a:pt x="844" y="542"/>
                  </a:lnTo>
                  <a:lnTo>
                    <a:pt x="882" y="532"/>
                  </a:lnTo>
                  <a:lnTo>
                    <a:pt x="920" y="520"/>
                  </a:lnTo>
                  <a:lnTo>
                    <a:pt x="958" y="504"/>
                  </a:lnTo>
                  <a:lnTo>
                    <a:pt x="994" y="490"/>
                  </a:lnTo>
                  <a:lnTo>
                    <a:pt x="1030" y="472"/>
                  </a:lnTo>
                  <a:lnTo>
                    <a:pt x="1064" y="454"/>
                  </a:lnTo>
                  <a:lnTo>
                    <a:pt x="1098" y="434"/>
                  </a:lnTo>
                  <a:lnTo>
                    <a:pt x="1130" y="414"/>
                  </a:lnTo>
                  <a:lnTo>
                    <a:pt x="1160" y="392"/>
                  </a:lnTo>
                  <a:lnTo>
                    <a:pt x="1190" y="368"/>
                  </a:lnTo>
                  <a:lnTo>
                    <a:pt x="1190" y="368"/>
                  </a:lnTo>
                  <a:lnTo>
                    <a:pt x="1184" y="338"/>
                  </a:lnTo>
                  <a:lnTo>
                    <a:pt x="1176" y="308"/>
                  </a:lnTo>
                  <a:lnTo>
                    <a:pt x="1166" y="280"/>
                  </a:lnTo>
                  <a:lnTo>
                    <a:pt x="1152" y="250"/>
                  </a:lnTo>
                  <a:lnTo>
                    <a:pt x="1138" y="224"/>
                  </a:lnTo>
                  <a:lnTo>
                    <a:pt x="1120" y="198"/>
                  </a:lnTo>
                  <a:lnTo>
                    <a:pt x="1102" y="172"/>
                  </a:lnTo>
                  <a:lnTo>
                    <a:pt x="1080" y="148"/>
                  </a:lnTo>
                  <a:lnTo>
                    <a:pt x="1056" y="124"/>
                  </a:lnTo>
                  <a:lnTo>
                    <a:pt x="1032" y="102"/>
                  </a:lnTo>
                  <a:lnTo>
                    <a:pt x="1004" y="82"/>
                  </a:lnTo>
                  <a:lnTo>
                    <a:pt x="976" y="62"/>
                  </a:lnTo>
                  <a:lnTo>
                    <a:pt x="946" y="44"/>
                  </a:lnTo>
                  <a:lnTo>
                    <a:pt x="914" y="28"/>
                  </a:lnTo>
                  <a:lnTo>
                    <a:pt x="882" y="14"/>
                  </a:lnTo>
                  <a:lnTo>
                    <a:pt x="848" y="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ff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84"/>
            <p:cNvSpPr/>
            <p:nvPr/>
          </p:nvSpPr>
          <p:spPr>
            <a:xfrm>
              <a:off x="2759040" y="2111400"/>
              <a:ext cx="803160" cy="3618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506" h="228">
                  <a:moveTo>
                    <a:pt x="252" y="228"/>
                  </a:moveTo>
                  <a:lnTo>
                    <a:pt x="252" y="228"/>
                  </a:lnTo>
                  <a:lnTo>
                    <a:pt x="286" y="214"/>
                  </a:lnTo>
                  <a:lnTo>
                    <a:pt x="320" y="198"/>
                  </a:lnTo>
                  <a:lnTo>
                    <a:pt x="362" y="174"/>
                  </a:lnTo>
                  <a:lnTo>
                    <a:pt x="404" y="148"/>
                  </a:lnTo>
                  <a:lnTo>
                    <a:pt x="426" y="132"/>
                  </a:lnTo>
                  <a:lnTo>
                    <a:pt x="446" y="116"/>
                  </a:lnTo>
                  <a:lnTo>
                    <a:pt x="464" y="100"/>
                  </a:lnTo>
                  <a:lnTo>
                    <a:pt x="482" y="82"/>
                  </a:lnTo>
                  <a:lnTo>
                    <a:pt x="496" y="64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476" y="34"/>
                  </a:lnTo>
                  <a:lnTo>
                    <a:pt x="446" y="26"/>
                  </a:lnTo>
                  <a:lnTo>
                    <a:pt x="416" y="18"/>
                  </a:lnTo>
                  <a:lnTo>
                    <a:pt x="384" y="12"/>
                  </a:lnTo>
                  <a:lnTo>
                    <a:pt x="352" y="8"/>
                  </a:lnTo>
                  <a:lnTo>
                    <a:pt x="320" y="4"/>
                  </a:lnTo>
                  <a:lnTo>
                    <a:pt x="286" y="2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20" y="2"/>
                  </a:lnTo>
                  <a:lnTo>
                    <a:pt x="186" y="4"/>
                  </a:lnTo>
                  <a:lnTo>
                    <a:pt x="154" y="8"/>
                  </a:lnTo>
                  <a:lnTo>
                    <a:pt x="122" y="12"/>
                  </a:lnTo>
                  <a:lnTo>
                    <a:pt x="90" y="18"/>
                  </a:lnTo>
                  <a:lnTo>
                    <a:pt x="60" y="26"/>
                  </a:lnTo>
                  <a:lnTo>
                    <a:pt x="30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64"/>
                  </a:lnTo>
                  <a:lnTo>
                    <a:pt x="24" y="82"/>
                  </a:lnTo>
                  <a:lnTo>
                    <a:pt x="42" y="100"/>
                  </a:lnTo>
                  <a:lnTo>
                    <a:pt x="60" y="116"/>
                  </a:lnTo>
                  <a:lnTo>
                    <a:pt x="80" y="132"/>
                  </a:lnTo>
                  <a:lnTo>
                    <a:pt x="102" y="148"/>
                  </a:lnTo>
                  <a:lnTo>
                    <a:pt x="144" y="174"/>
                  </a:lnTo>
                  <a:lnTo>
                    <a:pt x="186" y="198"/>
                  </a:lnTo>
                  <a:lnTo>
                    <a:pt x="220" y="214"/>
                  </a:lnTo>
                  <a:lnTo>
                    <a:pt x="252" y="228"/>
                  </a:lnTo>
                  <a:lnTo>
                    <a:pt x="252" y="228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85"/>
            <p:cNvSpPr/>
            <p:nvPr/>
          </p:nvSpPr>
          <p:spPr>
            <a:xfrm>
              <a:off x="1797120" y="199080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24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2"/>
                  </a:lnTo>
                  <a:lnTo>
                    <a:pt x="12" y="84"/>
                  </a:lnTo>
                  <a:lnTo>
                    <a:pt x="246" y="8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86"/>
            <p:cNvSpPr/>
            <p:nvPr/>
          </p:nvSpPr>
          <p:spPr>
            <a:xfrm>
              <a:off x="1803240" y="1631880"/>
              <a:ext cx="438120" cy="24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76" h="152">
                  <a:moveTo>
                    <a:pt x="276" y="7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42"/>
                  </a:lnTo>
                  <a:lnTo>
                    <a:pt x="0" y="84"/>
                  </a:lnTo>
                  <a:lnTo>
                    <a:pt x="254" y="152"/>
                  </a:lnTo>
                  <a:lnTo>
                    <a:pt x="276" y="7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87"/>
            <p:cNvSpPr/>
            <p:nvPr/>
          </p:nvSpPr>
          <p:spPr>
            <a:xfrm>
              <a:off x="1917720" y="1301760"/>
              <a:ext cx="444240" cy="3301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80" h="208">
                  <a:moveTo>
                    <a:pt x="280" y="136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22" y="36"/>
                  </a:lnTo>
                  <a:lnTo>
                    <a:pt x="0" y="72"/>
                  </a:lnTo>
                  <a:lnTo>
                    <a:pt x="236" y="208"/>
                  </a:lnTo>
                  <a:lnTo>
                    <a:pt x="280" y="13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88"/>
            <p:cNvSpPr/>
            <p:nvPr/>
          </p:nvSpPr>
          <p:spPr>
            <a:xfrm>
              <a:off x="2886120" y="888840"/>
              <a:ext cx="549000" cy="149040"/>
            </a:xfrm>
            <a:prstGeom prst="rect">
              <a:avLst/>
            </a:prstGeom>
            <a:solidFill>
              <a:srgbClr val="000000"/>
            </a:solidFill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9"/>
            <p:cNvSpPr/>
            <p:nvPr/>
          </p:nvSpPr>
          <p:spPr>
            <a:xfrm>
              <a:off x="2886120" y="1171440"/>
              <a:ext cx="549000" cy="145800"/>
            </a:xfrm>
            <a:prstGeom prst="rect">
              <a:avLst/>
            </a:prstGeom>
            <a:solidFill>
              <a:srgbClr val="000000"/>
            </a:solidFill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190"/>
            <p:cNvSpPr/>
            <p:nvPr/>
          </p:nvSpPr>
          <p:spPr>
            <a:xfrm>
              <a:off x="3079800" y="727200"/>
              <a:ext cx="161640" cy="771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02" h="486">
                  <a:moveTo>
                    <a:pt x="102" y="486"/>
                  </a:moveTo>
                  <a:lnTo>
                    <a:pt x="102" y="2"/>
                  </a:lnTo>
                  <a:lnTo>
                    <a:pt x="10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0" y="2"/>
                  </a:lnTo>
                  <a:lnTo>
                    <a:pt x="0" y="486"/>
                  </a:lnTo>
                  <a:lnTo>
                    <a:pt x="102" y="48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191"/>
            <p:cNvSpPr/>
            <p:nvPr/>
          </p:nvSpPr>
          <p:spPr>
            <a:xfrm>
              <a:off x="2543040" y="2406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92"/>
            <p:cNvSpPr/>
            <p:nvPr/>
          </p:nvSpPr>
          <p:spPr>
            <a:xfrm>
              <a:off x="2473200" y="26002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20"/>
                  </a:lnTo>
                  <a:lnTo>
                    <a:pt x="50" y="10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93"/>
            <p:cNvSpPr/>
            <p:nvPr/>
          </p:nvSpPr>
          <p:spPr>
            <a:xfrm>
              <a:off x="2736720" y="251460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0" y="58"/>
                  </a:lnTo>
                  <a:lnTo>
                    <a:pt x="50" y="50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94"/>
            <p:cNvSpPr/>
            <p:nvPr/>
          </p:nvSpPr>
          <p:spPr>
            <a:xfrm>
              <a:off x="2832120" y="2791080"/>
              <a:ext cx="326880" cy="1332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6" h="84">
                  <a:moveTo>
                    <a:pt x="206" y="0"/>
                  </a:moveTo>
                  <a:lnTo>
                    <a:pt x="206" y="0"/>
                  </a:lnTo>
                  <a:lnTo>
                    <a:pt x="206" y="10"/>
                  </a:lnTo>
                  <a:lnTo>
                    <a:pt x="204" y="18"/>
                  </a:lnTo>
                  <a:lnTo>
                    <a:pt x="200" y="28"/>
                  </a:lnTo>
                  <a:lnTo>
                    <a:pt x="196" y="36"/>
                  </a:lnTo>
                  <a:lnTo>
                    <a:pt x="184" y="52"/>
                  </a:lnTo>
                  <a:lnTo>
                    <a:pt x="170" y="64"/>
                  </a:lnTo>
                  <a:lnTo>
                    <a:pt x="152" y="74"/>
                  </a:lnTo>
                  <a:lnTo>
                    <a:pt x="134" y="80"/>
                  </a:lnTo>
                  <a:lnTo>
                    <a:pt x="116" y="84"/>
                  </a:lnTo>
                  <a:lnTo>
                    <a:pt x="96" y="84"/>
                  </a:lnTo>
                  <a:lnTo>
                    <a:pt x="96" y="84"/>
                  </a:lnTo>
                  <a:lnTo>
                    <a:pt x="80" y="82"/>
                  </a:lnTo>
                  <a:lnTo>
                    <a:pt x="62" y="76"/>
                  </a:lnTo>
                  <a:lnTo>
                    <a:pt x="46" y="66"/>
                  </a:lnTo>
                  <a:lnTo>
                    <a:pt x="32" y="56"/>
                  </a:lnTo>
                  <a:lnTo>
                    <a:pt x="20" y="44"/>
                  </a:lnTo>
                  <a:lnTo>
                    <a:pt x="10" y="30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195"/>
            <p:cNvSpPr/>
            <p:nvPr/>
          </p:nvSpPr>
          <p:spPr>
            <a:xfrm flipV="1">
              <a:off x="1603440" y="2454120"/>
              <a:ext cx="819000" cy="6012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96"/>
            <p:cNvSpPr/>
            <p:nvPr/>
          </p:nvSpPr>
          <p:spPr>
            <a:xfrm>
              <a:off x="1730160" y="2641680"/>
              <a:ext cx="644400" cy="1490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6" h="94">
                  <a:moveTo>
                    <a:pt x="0" y="94"/>
                  </a:moveTo>
                  <a:lnTo>
                    <a:pt x="0" y="94"/>
                  </a:lnTo>
                  <a:lnTo>
                    <a:pt x="406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197"/>
            <p:cNvSpPr/>
            <p:nvPr/>
          </p:nvSpPr>
          <p:spPr>
            <a:xfrm flipV="1">
              <a:off x="1857240" y="2796840"/>
              <a:ext cx="530280" cy="22860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98"/>
            <p:cNvSpPr/>
            <p:nvPr/>
          </p:nvSpPr>
          <p:spPr>
            <a:xfrm>
              <a:off x="3613320" y="186048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2" y="68"/>
                  </a:lnTo>
                  <a:lnTo>
                    <a:pt x="28" y="7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2" y="70"/>
                  </a:lnTo>
                  <a:lnTo>
                    <a:pt x="50" y="68"/>
                  </a:lnTo>
                  <a:lnTo>
                    <a:pt x="56" y="66"/>
                  </a:lnTo>
                  <a:lnTo>
                    <a:pt x="60" y="62"/>
                  </a:lnTo>
                  <a:lnTo>
                    <a:pt x="66" y="56"/>
                  </a:lnTo>
                  <a:lnTo>
                    <a:pt x="68" y="50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99"/>
            <p:cNvSpPr/>
            <p:nvPr/>
          </p:nvSpPr>
          <p:spPr>
            <a:xfrm>
              <a:off x="4134240" y="199080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0" y="0"/>
                  </a:moveTo>
                  <a:lnTo>
                    <a:pt x="246" y="0"/>
                  </a:lnTo>
                  <a:lnTo>
                    <a:pt x="246" y="0"/>
                  </a:lnTo>
                  <a:lnTo>
                    <a:pt x="240" y="42"/>
                  </a:lnTo>
                  <a:lnTo>
                    <a:pt x="232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00"/>
            <p:cNvSpPr/>
            <p:nvPr/>
          </p:nvSpPr>
          <p:spPr>
            <a:xfrm>
              <a:off x="4077000" y="1631880"/>
              <a:ext cx="438120" cy="24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76" h="152">
                  <a:moveTo>
                    <a:pt x="0" y="70"/>
                  </a:moveTo>
                  <a:lnTo>
                    <a:pt x="260" y="0"/>
                  </a:lnTo>
                  <a:lnTo>
                    <a:pt x="260" y="0"/>
                  </a:lnTo>
                  <a:lnTo>
                    <a:pt x="270" y="42"/>
                  </a:lnTo>
                  <a:lnTo>
                    <a:pt x="276" y="84"/>
                  </a:lnTo>
                  <a:lnTo>
                    <a:pt x="22" y="15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01"/>
            <p:cNvSpPr/>
            <p:nvPr/>
          </p:nvSpPr>
          <p:spPr>
            <a:xfrm>
              <a:off x="3959280" y="1301760"/>
              <a:ext cx="441360" cy="3301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78" h="208">
                  <a:moveTo>
                    <a:pt x="0" y="136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58" y="36"/>
                  </a:lnTo>
                  <a:lnTo>
                    <a:pt x="278" y="72"/>
                  </a:lnTo>
                  <a:lnTo>
                    <a:pt x="42" y="20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02"/>
            <p:cNvSpPr/>
            <p:nvPr/>
          </p:nvSpPr>
          <p:spPr>
            <a:xfrm>
              <a:off x="3683160" y="2406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6" y="18"/>
                  </a:lnTo>
                  <a:lnTo>
                    <a:pt x="58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6" y="42"/>
                  </a:lnTo>
                  <a:lnTo>
                    <a:pt x="50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3"/>
            <p:cNvSpPr/>
            <p:nvPr/>
          </p:nvSpPr>
          <p:spPr>
            <a:xfrm>
              <a:off x="3753000" y="260028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50" y="10"/>
                  </a:lnTo>
                  <a:lnTo>
                    <a:pt x="56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6"/>
                  </a:lnTo>
                  <a:lnTo>
                    <a:pt x="56" y="42"/>
                  </a:lnTo>
                  <a:lnTo>
                    <a:pt x="50" y="52"/>
                  </a:lnTo>
                  <a:lnTo>
                    <a:pt x="40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04"/>
            <p:cNvSpPr/>
            <p:nvPr/>
          </p:nvSpPr>
          <p:spPr>
            <a:xfrm>
              <a:off x="3489480" y="2514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06"/>
            <p:cNvSpPr/>
            <p:nvPr/>
          </p:nvSpPr>
          <p:spPr>
            <a:xfrm>
              <a:off x="3159360" y="2400480"/>
              <a:ext cx="330120" cy="523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08" h="330">
                  <a:moveTo>
                    <a:pt x="208" y="246"/>
                  </a:moveTo>
                  <a:lnTo>
                    <a:pt x="208" y="246"/>
                  </a:lnTo>
                  <a:lnTo>
                    <a:pt x="204" y="262"/>
                  </a:lnTo>
                  <a:lnTo>
                    <a:pt x="196" y="276"/>
                  </a:lnTo>
                  <a:lnTo>
                    <a:pt x="186" y="290"/>
                  </a:lnTo>
                  <a:lnTo>
                    <a:pt x="174" y="302"/>
                  </a:lnTo>
                  <a:lnTo>
                    <a:pt x="160" y="312"/>
                  </a:lnTo>
                  <a:lnTo>
                    <a:pt x="144" y="322"/>
                  </a:lnTo>
                  <a:lnTo>
                    <a:pt x="128" y="328"/>
                  </a:lnTo>
                  <a:lnTo>
                    <a:pt x="110" y="330"/>
                  </a:lnTo>
                  <a:lnTo>
                    <a:pt x="110" y="330"/>
                  </a:lnTo>
                  <a:lnTo>
                    <a:pt x="92" y="330"/>
                  </a:lnTo>
                  <a:lnTo>
                    <a:pt x="74" y="326"/>
                  </a:lnTo>
                  <a:lnTo>
                    <a:pt x="54" y="320"/>
                  </a:lnTo>
                  <a:lnTo>
                    <a:pt x="38" y="310"/>
                  </a:lnTo>
                  <a:lnTo>
                    <a:pt x="22" y="298"/>
                  </a:lnTo>
                  <a:lnTo>
                    <a:pt x="10" y="282"/>
                  </a:lnTo>
                  <a:lnTo>
                    <a:pt x="6" y="274"/>
                  </a:lnTo>
                  <a:lnTo>
                    <a:pt x="2" y="264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07"/>
            <p:cNvSpPr/>
            <p:nvPr/>
          </p:nvSpPr>
          <p:spPr>
            <a:xfrm flipH="1" flipV="1">
              <a:off x="3898800" y="2454120"/>
              <a:ext cx="819000" cy="6012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08"/>
            <p:cNvSpPr/>
            <p:nvPr/>
          </p:nvSpPr>
          <p:spPr>
            <a:xfrm>
              <a:off x="3943440" y="2641680"/>
              <a:ext cx="644400" cy="1490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6" h="94">
                  <a:moveTo>
                    <a:pt x="406" y="94"/>
                  </a:moveTo>
                  <a:lnTo>
                    <a:pt x="406" y="94"/>
                  </a:lnTo>
                  <a:lnTo>
                    <a:pt x="0" y="0"/>
                  </a:lnTo>
                </a:path>
              </a:pathLst>
            </a:custGeom>
            <a:noFill/>
            <a:ln w="108000">
              <a:solidFill>
                <a:srgbClr val="66646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09"/>
            <p:cNvSpPr/>
            <p:nvPr/>
          </p:nvSpPr>
          <p:spPr>
            <a:xfrm flipH="1" flipV="1">
              <a:off x="3930480" y="2796840"/>
              <a:ext cx="530280" cy="228600"/>
            </a:xfrm>
            <a:prstGeom prst="line">
              <a:avLst/>
            </a:prstGeom>
            <a:ln w="108000">
              <a:solidFill>
                <a:srgbClr val="66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10"/>
            <p:cNvSpPr/>
            <p:nvPr/>
          </p:nvSpPr>
          <p:spPr>
            <a:xfrm>
              <a:off x="1822320" y="48276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290" y="0"/>
                  </a:lnTo>
                  <a:lnTo>
                    <a:pt x="258" y="6"/>
                  </a:lnTo>
                  <a:lnTo>
                    <a:pt x="226" y="14"/>
                  </a:lnTo>
                  <a:lnTo>
                    <a:pt x="196" y="24"/>
                  </a:lnTo>
                  <a:lnTo>
                    <a:pt x="168" y="38"/>
                  </a:lnTo>
                  <a:lnTo>
                    <a:pt x="142" y="54"/>
                  </a:lnTo>
                  <a:lnTo>
                    <a:pt x="118" y="72"/>
                  </a:lnTo>
                  <a:lnTo>
                    <a:pt x="94" y="94"/>
                  </a:lnTo>
                  <a:lnTo>
                    <a:pt x="74" y="116"/>
                  </a:lnTo>
                  <a:lnTo>
                    <a:pt x="54" y="142"/>
                  </a:lnTo>
                  <a:lnTo>
                    <a:pt x="38" y="168"/>
                  </a:lnTo>
                  <a:lnTo>
                    <a:pt x="26" y="196"/>
                  </a:lnTo>
                  <a:lnTo>
                    <a:pt x="14" y="226"/>
                  </a:lnTo>
                  <a:lnTo>
                    <a:pt x="6" y="258"/>
                  </a:lnTo>
                  <a:lnTo>
                    <a:pt x="2" y="290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2" y="356"/>
                  </a:lnTo>
                  <a:lnTo>
                    <a:pt x="6" y="388"/>
                  </a:lnTo>
                  <a:lnTo>
                    <a:pt x="14" y="418"/>
                  </a:lnTo>
                  <a:lnTo>
                    <a:pt x="26" y="448"/>
                  </a:lnTo>
                  <a:lnTo>
                    <a:pt x="38" y="476"/>
                  </a:lnTo>
                  <a:lnTo>
                    <a:pt x="54" y="502"/>
                  </a:lnTo>
                  <a:lnTo>
                    <a:pt x="74" y="528"/>
                  </a:lnTo>
                  <a:lnTo>
                    <a:pt x="94" y="550"/>
                  </a:lnTo>
                  <a:lnTo>
                    <a:pt x="118" y="572"/>
                  </a:lnTo>
                  <a:lnTo>
                    <a:pt x="142" y="590"/>
                  </a:lnTo>
                  <a:lnTo>
                    <a:pt x="168" y="606"/>
                  </a:lnTo>
                  <a:lnTo>
                    <a:pt x="196" y="620"/>
                  </a:lnTo>
                  <a:lnTo>
                    <a:pt x="226" y="630"/>
                  </a:lnTo>
                  <a:lnTo>
                    <a:pt x="258" y="638"/>
                  </a:lnTo>
                  <a:lnTo>
                    <a:pt x="290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356" y="644"/>
                  </a:lnTo>
                  <a:lnTo>
                    <a:pt x="388" y="638"/>
                  </a:lnTo>
                  <a:lnTo>
                    <a:pt x="418" y="630"/>
                  </a:lnTo>
                  <a:lnTo>
                    <a:pt x="448" y="620"/>
                  </a:lnTo>
                  <a:lnTo>
                    <a:pt x="476" y="606"/>
                  </a:lnTo>
                  <a:lnTo>
                    <a:pt x="504" y="590"/>
                  </a:lnTo>
                  <a:lnTo>
                    <a:pt x="528" y="572"/>
                  </a:lnTo>
                  <a:lnTo>
                    <a:pt x="552" y="550"/>
                  </a:lnTo>
                  <a:lnTo>
                    <a:pt x="572" y="528"/>
                  </a:lnTo>
                  <a:lnTo>
                    <a:pt x="590" y="502"/>
                  </a:lnTo>
                  <a:lnTo>
                    <a:pt x="606" y="476"/>
                  </a:lnTo>
                  <a:lnTo>
                    <a:pt x="620" y="448"/>
                  </a:lnTo>
                  <a:lnTo>
                    <a:pt x="632" y="418"/>
                  </a:lnTo>
                  <a:lnTo>
                    <a:pt x="640" y="388"/>
                  </a:lnTo>
                  <a:lnTo>
                    <a:pt x="644" y="356"/>
                  </a:lnTo>
                  <a:lnTo>
                    <a:pt x="646" y="322"/>
                  </a:lnTo>
                  <a:lnTo>
                    <a:pt x="646" y="322"/>
                  </a:lnTo>
                  <a:lnTo>
                    <a:pt x="644" y="290"/>
                  </a:lnTo>
                  <a:lnTo>
                    <a:pt x="640" y="258"/>
                  </a:lnTo>
                  <a:lnTo>
                    <a:pt x="632" y="226"/>
                  </a:lnTo>
                  <a:lnTo>
                    <a:pt x="620" y="196"/>
                  </a:lnTo>
                  <a:lnTo>
                    <a:pt x="606" y="168"/>
                  </a:lnTo>
                  <a:lnTo>
                    <a:pt x="590" y="142"/>
                  </a:lnTo>
                  <a:lnTo>
                    <a:pt x="572" y="116"/>
                  </a:lnTo>
                  <a:lnTo>
                    <a:pt x="552" y="94"/>
                  </a:lnTo>
                  <a:lnTo>
                    <a:pt x="528" y="72"/>
                  </a:lnTo>
                  <a:lnTo>
                    <a:pt x="504" y="54"/>
                  </a:lnTo>
                  <a:lnTo>
                    <a:pt x="476" y="38"/>
                  </a:lnTo>
                  <a:lnTo>
                    <a:pt x="448" y="24"/>
                  </a:lnTo>
                  <a:lnTo>
                    <a:pt x="418" y="14"/>
                  </a:lnTo>
                  <a:lnTo>
                    <a:pt x="388" y="6"/>
                  </a:lnTo>
                  <a:lnTo>
                    <a:pt x="356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1"/>
            <p:cNvSpPr/>
            <p:nvPr/>
          </p:nvSpPr>
          <p:spPr>
            <a:xfrm>
              <a:off x="2079720" y="736560"/>
              <a:ext cx="511200" cy="51408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2" h="324">
                  <a:moveTo>
                    <a:pt x="160" y="0"/>
                  </a:moveTo>
                  <a:lnTo>
                    <a:pt x="160" y="0"/>
                  </a:lnTo>
                  <a:lnTo>
                    <a:pt x="144" y="2"/>
                  </a:lnTo>
                  <a:lnTo>
                    <a:pt x="128" y="4"/>
                  </a:lnTo>
                  <a:lnTo>
                    <a:pt x="112" y="8"/>
                  </a:lnTo>
                  <a:lnTo>
                    <a:pt x="98" y="14"/>
                  </a:lnTo>
                  <a:lnTo>
                    <a:pt x="84" y="20"/>
                  </a:lnTo>
                  <a:lnTo>
                    <a:pt x="70" y="28"/>
                  </a:lnTo>
                  <a:lnTo>
                    <a:pt x="58" y="38"/>
                  </a:lnTo>
                  <a:lnTo>
                    <a:pt x="46" y="48"/>
                  </a:lnTo>
                  <a:lnTo>
                    <a:pt x="36" y="60"/>
                  </a:lnTo>
                  <a:lnTo>
                    <a:pt x="26" y="72"/>
                  </a:lnTo>
                  <a:lnTo>
                    <a:pt x="18" y="86"/>
                  </a:lnTo>
                  <a:lnTo>
                    <a:pt x="12" y="100"/>
                  </a:lnTo>
                  <a:lnTo>
                    <a:pt x="6" y="114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" y="194"/>
                  </a:lnTo>
                  <a:lnTo>
                    <a:pt x="6" y="210"/>
                  </a:lnTo>
                  <a:lnTo>
                    <a:pt x="12" y="224"/>
                  </a:lnTo>
                  <a:lnTo>
                    <a:pt x="18" y="240"/>
                  </a:lnTo>
                  <a:lnTo>
                    <a:pt x="26" y="252"/>
                  </a:lnTo>
                  <a:lnTo>
                    <a:pt x="36" y="264"/>
                  </a:lnTo>
                  <a:lnTo>
                    <a:pt x="46" y="276"/>
                  </a:lnTo>
                  <a:lnTo>
                    <a:pt x="58" y="286"/>
                  </a:lnTo>
                  <a:lnTo>
                    <a:pt x="70" y="296"/>
                  </a:lnTo>
                  <a:lnTo>
                    <a:pt x="84" y="304"/>
                  </a:lnTo>
                  <a:lnTo>
                    <a:pt x="98" y="310"/>
                  </a:lnTo>
                  <a:lnTo>
                    <a:pt x="112" y="316"/>
                  </a:lnTo>
                  <a:lnTo>
                    <a:pt x="128" y="320"/>
                  </a:lnTo>
                  <a:lnTo>
                    <a:pt x="144" y="322"/>
                  </a:lnTo>
                  <a:lnTo>
                    <a:pt x="160" y="324"/>
                  </a:lnTo>
                  <a:lnTo>
                    <a:pt x="160" y="324"/>
                  </a:lnTo>
                  <a:lnTo>
                    <a:pt x="178" y="322"/>
                  </a:lnTo>
                  <a:lnTo>
                    <a:pt x="194" y="320"/>
                  </a:lnTo>
                  <a:lnTo>
                    <a:pt x="208" y="316"/>
                  </a:lnTo>
                  <a:lnTo>
                    <a:pt x="224" y="310"/>
                  </a:lnTo>
                  <a:lnTo>
                    <a:pt x="238" y="304"/>
                  </a:lnTo>
                  <a:lnTo>
                    <a:pt x="250" y="296"/>
                  </a:lnTo>
                  <a:lnTo>
                    <a:pt x="264" y="286"/>
                  </a:lnTo>
                  <a:lnTo>
                    <a:pt x="274" y="276"/>
                  </a:lnTo>
                  <a:lnTo>
                    <a:pt x="286" y="264"/>
                  </a:lnTo>
                  <a:lnTo>
                    <a:pt x="294" y="252"/>
                  </a:lnTo>
                  <a:lnTo>
                    <a:pt x="302" y="240"/>
                  </a:lnTo>
                  <a:lnTo>
                    <a:pt x="310" y="224"/>
                  </a:lnTo>
                  <a:lnTo>
                    <a:pt x="314" y="210"/>
                  </a:lnTo>
                  <a:lnTo>
                    <a:pt x="318" y="194"/>
                  </a:lnTo>
                  <a:lnTo>
                    <a:pt x="322" y="178"/>
                  </a:lnTo>
                  <a:lnTo>
                    <a:pt x="322" y="162"/>
                  </a:lnTo>
                  <a:lnTo>
                    <a:pt x="322" y="162"/>
                  </a:lnTo>
                  <a:lnTo>
                    <a:pt x="322" y="146"/>
                  </a:lnTo>
                  <a:lnTo>
                    <a:pt x="318" y="130"/>
                  </a:lnTo>
                  <a:lnTo>
                    <a:pt x="314" y="114"/>
                  </a:lnTo>
                  <a:lnTo>
                    <a:pt x="310" y="100"/>
                  </a:lnTo>
                  <a:lnTo>
                    <a:pt x="302" y="86"/>
                  </a:lnTo>
                  <a:lnTo>
                    <a:pt x="294" y="72"/>
                  </a:lnTo>
                  <a:lnTo>
                    <a:pt x="286" y="60"/>
                  </a:lnTo>
                  <a:lnTo>
                    <a:pt x="274" y="48"/>
                  </a:lnTo>
                  <a:lnTo>
                    <a:pt x="264" y="38"/>
                  </a:lnTo>
                  <a:lnTo>
                    <a:pt x="250" y="28"/>
                  </a:lnTo>
                  <a:lnTo>
                    <a:pt x="238" y="20"/>
                  </a:lnTo>
                  <a:lnTo>
                    <a:pt x="224" y="14"/>
                  </a:lnTo>
                  <a:lnTo>
                    <a:pt x="208" y="8"/>
                  </a:lnTo>
                  <a:lnTo>
                    <a:pt x="194" y="4"/>
                  </a:lnTo>
                  <a:lnTo>
                    <a:pt x="178" y="2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12"/>
            <p:cNvSpPr/>
            <p:nvPr/>
          </p:nvSpPr>
          <p:spPr>
            <a:xfrm>
              <a:off x="3473640" y="482760"/>
              <a:ext cx="1025640" cy="102528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646" h="646">
                  <a:moveTo>
                    <a:pt x="322" y="0"/>
                  </a:moveTo>
                  <a:lnTo>
                    <a:pt x="322" y="0"/>
                  </a:lnTo>
                  <a:lnTo>
                    <a:pt x="356" y="0"/>
                  </a:lnTo>
                  <a:lnTo>
                    <a:pt x="388" y="6"/>
                  </a:lnTo>
                  <a:lnTo>
                    <a:pt x="418" y="14"/>
                  </a:lnTo>
                  <a:lnTo>
                    <a:pt x="448" y="24"/>
                  </a:lnTo>
                  <a:lnTo>
                    <a:pt x="476" y="38"/>
                  </a:lnTo>
                  <a:lnTo>
                    <a:pt x="502" y="54"/>
                  </a:lnTo>
                  <a:lnTo>
                    <a:pt x="528" y="72"/>
                  </a:lnTo>
                  <a:lnTo>
                    <a:pt x="550" y="94"/>
                  </a:lnTo>
                  <a:lnTo>
                    <a:pt x="572" y="116"/>
                  </a:lnTo>
                  <a:lnTo>
                    <a:pt x="590" y="142"/>
                  </a:lnTo>
                  <a:lnTo>
                    <a:pt x="606" y="168"/>
                  </a:lnTo>
                  <a:lnTo>
                    <a:pt x="620" y="196"/>
                  </a:lnTo>
                  <a:lnTo>
                    <a:pt x="630" y="226"/>
                  </a:lnTo>
                  <a:lnTo>
                    <a:pt x="638" y="258"/>
                  </a:lnTo>
                  <a:lnTo>
                    <a:pt x="644" y="290"/>
                  </a:lnTo>
                  <a:lnTo>
                    <a:pt x="646" y="322"/>
                  </a:lnTo>
                  <a:lnTo>
                    <a:pt x="646" y="322"/>
                  </a:lnTo>
                  <a:lnTo>
                    <a:pt x="644" y="356"/>
                  </a:lnTo>
                  <a:lnTo>
                    <a:pt x="638" y="388"/>
                  </a:lnTo>
                  <a:lnTo>
                    <a:pt x="630" y="418"/>
                  </a:lnTo>
                  <a:lnTo>
                    <a:pt x="620" y="448"/>
                  </a:lnTo>
                  <a:lnTo>
                    <a:pt x="606" y="476"/>
                  </a:lnTo>
                  <a:lnTo>
                    <a:pt x="590" y="502"/>
                  </a:lnTo>
                  <a:lnTo>
                    <a:pt x="572" y="528"/>
                  </a:lnTo>
                  <a:lnTo>
                    <a:pt x="550" y="550"/>
                  </a:lnTo>
                  <a:lnTo>
                    <a:pt x="528" y="572"/>
                  </a:lnTo>
                  <a:lnTo>
                    <a:pt x="502" y="590"/>
                  </a:lnTo>
                  <a:lnTo>
                    <a:pt x="476" y="606"/>
                  </a:lnTo>
                  <a:lnTo>
                    <a:pt x="448" y="620"/>
                  </a:lnTo>
                  <a:lnTo>
                    <a:pt x="418" y="630"/>
                  </a:lnTo>
                  <a:lnTo>
                    <a:pt x="388" y="638"/>
                  </a:lnTo>
                  <a:lnTo>
                    <a:pt x="356" y="644"/>
                  </a:lnTo>
                  <a:lnTo>
                    <a:pt x="322" y="646"/>
                  </a:lnTo>
                  <a:lnTo>
                    <a:pt x="322" y="646"/>
                  </a:lnTo>
                  <a:lnTo>
                    <a:pt x="290" y="644"/>
                  </a:lnTo>
                  <a:lnTo>
                    <a:pt x="258" y="638"/>
                  </a:lnTo>
                  <a:lnTo>
                    <a:pt x="226" y="630"/>
                  </a:lnTo>
                  <a:lnTo>
                    <a:pt x="196" y="620"/>
                  </a:lnTo>
                  <a:lnTo>
                    <a:pt x="168" y="606"/>
                  </a:lnTo>
                  <a:lnTo>
                    <a:pt x="142" y="590"/>
                  </a:lnTo>
                  <a:lnTo>
                    <a:pt x="116" y="572"/>
                  </a:lnTo>
                  <a:lnTo>
                    <a:pt x="94" y="550"/>
                  </a:lnTo>
                  <a:lnTo>
                    <a:pt x="72" y="528"/>
                  </a:lnTo>
                  <a:lnTo>
                    <a:pt x="54" y="502"/>
                  </a:lnTo>
                  <a:lnTo>
                    <a:pt x="38" y="476"/>
                  </a:lnTo>
                  <a:lnTo>
                    <a:pt x="24" y="448"/>
                  </a:lnTo>
                  <a:lnTo>
                    <a:pt x="14" y="418"/>
                  </a:lnTo>
                  <a:lnTo>
                    <a:pt x="6" y="388"/>
                  </a:lnTo>
                  <a:lnTo>
                    <a:pt x="0" y="356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0"/>
                  </a:lnTo>
                  <a:lnTo>
                    <a:pt x="6" y="258"/>
                  </a:lnTo>
                  <a:lnTo>
                    <a:pt x="14" y="226"/>
                  </a:lnTo>
                  <a:lnTo>
                    <a:pt x="24" y="196"/>
                  </a:lnTo>
                  <a:lnTo>
                    <a:pt x="38" y="168"/>
                  </a:lnTo>
                  <a:lnTo>
                    <a:pt x="54" y="142"/>
                  </a:lnTo>
                  <a:lnTo>
                    <a:pt x="72" y="116"/>
                  </a:lnTo>
                  <a:lnTo>
                    <a:pt x="94" y="94"/>
                  </a:lnTo>
                  <a:lnTo>
                    <a:pt x="116" y="72"/>
                  </a:lnTo>
                  <a:lnTo>
                    <a:pt x="142" y="54"/>
                  </a:lnTo>
                  <a:lnTo>
                    <a:pt x="168" y="38"/>
                  </a:lnTo>
                  <a:lnTo>
                    <a:pt x="196" y="24"/>
                  </a:lnTo>
                  <a:lnTo>
                    <a:pt x="226" y="14"/>
                  </a:lnTo>
                  <a:lnTo>
                    <a:pt x="258" y="6"/>
                  </a:lnTo>
                  <a:lnTo>
                    <a:pt x="290" y="0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3"/>
            <p:cNvSpPr/>
            <p:nvPr/>
          </p:nvSpPr>
          <p:spPr>
            <a:xfrm>
              <a:off x="3727440" y="736560"/>
              <a:ext cx="514080" cy="51408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4" h="324">
                  <a:moveTo>
                    <a:pt x="162" y="0"/>
                  </a:moveTo>
                  <a:lnTo>
                    <a:pt x="162" y="0"/>
                  </a:lnTo>
                  <a:lnTo>
                    <a:pt x="178" y="2"/>
                  </a:lnTo>
                  <a:lnTo>
                    <a:pt x="194" y="4"/>
                  </a:lnTo>
                  <a:lnTo>
                    <a:pt x="210" y="8"/>
                  </a:lnTo>
                  <a:lnTo>
                    <a:pt x="226" y="14"/>
                  </a:lnTo>
                  <a:lnTo>
                    <a:pt x="240" y="20"/>
                  </a:lnTo>
                  <a:lnTo>
                    <a:pt x="252" y="28"/>
                  </a:lnTo>
                  <a:lnTo>
                    <a:pt x="264" y="38"/>
                  </a:lnTo>
                  <a:lnTo>
                    <a:pt x="276" y="48"/>
                  </a:lnTo>
                  <a:lnTo>
                    <a:pt x="286" y="60"/>
                  </a:lnTo>
                  <a:lnTo>
                    <a:pt x="296" y="72"/>
                  </a:lnTo>
                  <a:lnTo>
                    <a:pt x="304" y="86"/>
                  </a:lnTo>
                  <a:lnTo>
                    <a:pt x="310" y="100"/>
                  </a:lnTo>
                  <a:lnTo>
                    <a:pt x="316" y="114"/>
                  </a:lnTo>
                  <a:lnTo>
                    <a:pt x="320" y="130"/>
                  </a:lnTo>
                  <a:lnTo>
                    <a:pt x="322" y="146"/>
                  </a:lnTo>
                  <a:lnTo>
                    <a:pt x="324" y="162"/>
                  </a:lnTo>
                  <a:lnTo>
                    <a:pt x="324" y="162"/>
                  </a:lnTo>
                  <a:lnTo>
                    <a:pt x="322" y="178"/>
                  </a:lnTo>
                  <a:lnTo>
                    <a:pt x="320" y="194"/>
                  </a:lnTo>
                  <a:lnTo>
                    <a:pt x="316" y="210"/>
                  </a:lnTo>
                  <a:lnTo>
                    <a:pt x="310" y="224"/>
                  </a:lnTo>
                  <a:lnTo>
                    <a:pt x="304" y="240"/>
                  </a:lnTo>
                  <a:lnTo>
                    <a:pt x="296" y="252"/>
                  </a:lnTo>
                  <a:lnTo>
                    <a:pt x="286" y="264"/>
                  </a:lnTo>
                  <a:lnTo>
                    <a:pt x="276" y="276"/>
                  </a:lnTo>
                  <a:lnTo>
                    <a:pt x="264" y="286"/>
                  </a:lnTo>
                  <a:lnTo>
                    <a:pt x="252" y="296"/>
                  </a:lnTo>
                  <a:lnTo>
                    <a:pt x="240" y="304"/>
                  </a:lnTo>
                  <a:lnTo>
                    <a:pt x="226" y="310"/>
                  </a:lnTo>
                  <a:lnTo>
                    <a:pt x="210" y="316"/>
                  </a:lnTo>
                  <a:lnTo>
                    <a:pt x="194" y="320"/>
                  </a:lnTo>
                  <a:lnTo>
                    <a:pt x="178" y="322"/>
                  </a:lnTo>
                  <a:lnTo>
                    <a:pt x="162" y="324"/>
                  </a:lnTo>
                  <a:lnTo>
                    <a:pt x="162" y="324"/>
                  </a:lnTo>
                  <a:lnTo>
                    <a:pt x="146" y="322"/>
                  </a:lnTo>
                  <a:lnTo>
                    <a:pt x="130" y="320"/>
                  </a:lnTo>
                  <a:lnTo>
                    <a:pt x="114" y="316"/>
                  </a:lnTo>
                  <a:lnTo>
                    <a:pt x="100" y="310"/>
                  </a:lnTo>
                  <a:lnTo>
                    <a:pt x="86" y="304"/>
                  </a:lnTo>
                  <a:lnTo>
                    <a:pt x="72" y="296"/>
                  </a:lnTo>
                  <a:lnTo>
                    <a:pt x="60" y="286"/>
                  </a:lnTo>
                  <a:lnTo>
                    <a:pt x="48" y="276"/>
                  </a:lnTo>
                  <a:lnTo>
                    <a:pt x="38" y="264"/>
                  </a:lnTo>
                  <a:lnTo>
                    <a:pt x="28" y="252"/>
                  </a:lnTo>
                  <a:lnTo>
                    <a:pt x="20" y="240"/>
                  </a:lnTo>
                  <a:lnTo>
                    <a:pt x="14" y="224"/>
                  </a:lnTo>
                  <a:lnTo>
                    <a:pt x="8" y="210"/>
                  </a:lnTo>
                  <a:lnTo>
                    <a:pt x="4" y="194"/>
                  </a:lnTo>
                  <a:lnTo>
                    <a:pt x="2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2" y="146"/>
                  </a:lnTo>
                  <a:lnTo>
                    <a:pt x="4" y="130"/>
                  </a:lnTo>
                  <a:lnTo>
                    <a:pt x="8" y="114"/>
                  </a:lnTo>
                  <a:lnTo>
                    <a:pt x="14" y="100"/>
                  </a:lnTo>
                  <a:lnTo>
                    <a:pt x="20" y="86"/>
                  </a:lnTo>
                  <a:lnTo>
                    <a:pt x="28" y="72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2" y="28"/>
                  </a:lnTo>
                  <a:lnTo>
                    <a:pt x="86" y="20"/>
                  </a:lnTo>
                  <a:lnTo>
                    <a:pt x="100" y="14"/>
                  </a:lnTo>
                  <a:lnTo>
                    <a:pt x="114" y="8"/>
                  </a:lnTo>
                  <a:lnTo>
                    <a:pt x="130" y="4"/>
                  </a:lnTo>
                  <a:lnTo>
                    <a:pt x="146" y="2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14"/>
            <p:cNvSpPr/>
            <p:nvPr/>
          </p:nvSpPr>
          <p:spPr>
            <a:xfrm>
              <a:off x="1793880" y="727200"/>
              <a:ext cx="2733840" cy="2038320"/>
            </a:xfrm>
            <a:custGeom>
              <a:avLst/>
              <a:gdLst/>
              <a:ahLst/>
              <a:rect l="l" t="t" r="r" b="b"/>
              <a:pathLst>
                <a:path w="1722" h="1284">
                  <a:moveTo>
                    <a:pt x="860" y="0"/>
                  </a:moveTo>
                  <a:lnTo>
                    <a:pt x="860" y="0"/>
                  </a:lnTo>
                  <a:lnTo>
                    <a:pt x="816" y="2"/>
                  </a:lnTo>
                  <a:lnTo>
                    <a:pt x="772" y="4"/>
                  </a:lnTo>
                  <a:lnTo>
                    <a:pt x="730" y="10"/>
                  </a:lnTo>
                  <a:lnTo>
                    <a:pt x="688" y="16"/>
                  </a:lnTo>
                  <a:lnTo>
                    <a:pt x="646" y="24"/>
                  </a:lnTo>
                  <a:lnTo>
                    <a:pt x="604" y="34"/>
                  </a:lnTo>
                  <a:lnTo>
                    <a:pt x="564" y="46"/>
                  </a:lnTo>
                  <a:lnTo>
                    <a:pt x="526" y="60"/>
                  </a:lnTo>
                  <a:lnTo>
                    <a:pt x="488" y="74"/>
                  </a:lnTo>
                  <a:lnTo>
                    <a:pt x="450" y="90"/>
                  </a:lnTo>
                  <a:lnTo>
                    <a:pt x="414" y="108"/>
                  </a:lnTo>
                  <a:lnTo>
                    <a:pt x="380" y="128"/>
                  </a:lnTo>
                  <a:lnTo>
                    <a:pt x="346" y="148"/>
                  </a:lnTo>
                  <a:lnTo>
                    <a:pt x="314" y="170"/>
                  </a:lnTo>
                  <a:lnTo>
                    <a:pt x="282" y="194"/>
                  </a:lnTo>
                  <a:lnTo>
                    <a:pt x="252" y="218"/>
                  </a:lnTo>
                  <a:lnTo>
                    <a:pt x="224" y="244"/>
                  </a:lnTo>
                  <a:lnTo>
                    <a:pt x="196" y="272"/>
                  </a:lnTo>
                  <a:lnTo>
                    <a:pt x="170" y="300"/>
                  </a:lnTo>
                  <a:lnTo>
                    <a:pt x="146" y="330"/>
                  </a:lnTo>
                  <a:lnTo>
                    <a:pt x="124" y="360"/>
                  </a:lnTo>
                  <a:lnTo>
                    <a:pt x="104" y="390"/>
                  </a:lnTo>
                  <a:lnTo>
                    <a:pt x="84" y="422"/>
                  </a:lnTo>
                  <a:lnTo>
                    <a:pt x="68" y="456"/>
                  </a:lnTo>
                  <a:lnTo>
                    <a:pt x="52" y="490"/>
                  </a:lnTo>
                  <a:lnTo>
                    <a:pt x="38" y="524"/>
                  </a:lnTo>
                  <a:lnTo>
                    <a:pt x="26" y="560"/>
                  </a:lnTo>
                  <a:lnTo>
                    <a:pt x="18" y="596"/>
                  </a:lnTo>
                  <a:lnTo>
                    <a:pt x="10" y="632"/>
                  </a:lnTo>
                  <a:lnTo>
                    <a:pt x="4" y="670"/>
                  </a:lnTo>
                  <a:lnTo>
                    <a:pt x="0" y="708"/>
                  </a:lnTo>
                  <a:lnTo>
                    <a:pt x="0" y="746"/>
                  </a:lnTo>
                  <a:lnTo>
                    <a:pt x="0" y="746"/>
                  </a:lnTo>
                  <a:lnTo>
                    <a:pt x="0" y="784"/>
                  </a:lnTo>
                  <a:lnTo>
                    <a:pt x="4" y="824"/>
                  </a:lnTo>
                  <a:lnTo>
                    <a:pt x="10" y="862"/>
                  </a:lnTo>
                  <a:lnTo>
                    <a:pt x="18" y="900"/>
                  </a:lnTo>
                  <a:lnTo>
                    <a:pt x="28" y="936"/>
                  </a:lnTo>
                  <a:lnTo>
                    <a:pt x="40" y="974"/>
                  </a:lnTo>
                  <a:lnTo>
                    <a:pt x="54" y="1008"/>
                  </a:lnTo>
                  <a:lnTo>
                    <a:pt x="72" y="1044"/>
                  </a:lnTo>
                  <a:lnTo>
                    <a:pt x="90" y="1078"/>
                  </a:lnTo>
                  <a:lnTo>
                    <a:pt x="110" y="1110"/>
                  </a:lnTo>
                  <a:lnTo>
                    <a:pt x="132" y="1142"/>
                  </a:lnTo>
                  <a:lnTo>
                    <a:pt x="156" y="1172"/>
                  </a:lnTo>
                  <a:lnTo>
                    <a:pt x="180" y="1202"/>
                  </a:lnTo>
                  <a:lnTo>
                    <a:pt x="208" y="1230"/>
                  </a:lnTo>
                  <a:lnTo>
                    <a:pt x="236" y="1258"/>
                  </a:lnTo>
                  <a:lnTo>
                    <a:pt x="266" y="1284"/>
                  </a:lnTo>
                  <a:lnTo>
                    <a:pt x="266" y="1284"/>
                  </a:lnTo>
                  <a:lnTo>
                    <a:pt x="272" y="1254"/>
                  </a:lnTo>
                  <a:lnTo>
                    <a:pt x="280" y="1224"/>
                  </a:lnTo>
                  <a:lnTo>
                    <a:pt x="290" y="1196"/>
                  </a:lnTo>
                  <a:lnTo>
                    <a:pt x="304" y="1166"/>
                  </a:lnTo>
                  <a:lnTo>
                    <a:pt x="318" y="1140"/>
                  </a:lnTo>
                  <a:lnTo>
                    <a:pt x="336" y="1114"/>
                  </a:lnTo>
                  <a:lnTo>
                    <a:pt x="354" y="1088"/>
                  </a:lnTo>
                  <a:lnTo>
                    <a:pt x="376" y="1064"/>
                  </a:lnTo>
                  <a:lnTo>
                    <a:pt x="400" y="1040"/>
                  </a:lnTo>
                  <a:lnTo>
                    <a:pt x="424" y="1018"/>
                  </a:lnTo>
                  <a:lnTo>
                    <a:pt x="452" y="998"/>
                  </a:lnTo>
                  <a:lnTo>
                    <a:pt x="480" y="978"/>
                  </a:lnTo>
                  <a:lnTo>
                    <a:pt x="510" y="960"/>
                  </a:lnTo>
                  <a:lnTo>
                    <a:pt x="540" y="944"/>
                  </a:lnTo>
                  <a:lnTo>
                    <a:pt x="574" y="930"/>
                  </a:lnTo>
                  <a:lnTo>
                    <a:pt x="608" y="916"/>
                  </a:lnTo>
                  <a:lnTo>
                    <a:pt x="608" y="916"/>
                  </a:lnTo>
                  <a:lnTo>
                    <a:pt x="638" y="906"/>
                  </a:lnTo>
                  <a:lnTo>
                    <a:pt x="668" y="898"/>
                  </a:lnTo>
                  <a:lnTo>
                    <a:pt x="698" y="890"/>
                  </a:lnTo>
                  <a:lnTo>
                    <a:pt x="730" y="884"/>
                  </a:lnTo>
                  <a:lnTo>
                    <a:pt x="762" y="880"/>
                  </a:lnTo>
                  <a:lnTo>
                    <a:pt x="794" y="876"/>
                  </a:lnTo>
                  <a:lnTo>
                    <a:pt x="828" y="874"/>
                  </a:lnTo>
                  <a:lnTo>
                    <a:pt x="860" y="872"/>
                  </a:lnTo>
                  <a:lnTo>
                    <a:pt x="860" y="872"/>
                  </a:lnTo>
                  <a:lnTo>
                    <a:pt x="894" y="874"/>
                  </a:lnTo>
                  <a:lnTo>
                    <a:pt x="928" y="876"/>
                  </a:lnTo>
                  <a:lnTo>
                    <a:pt x="960" y="880"/>
                  </a:lnTo>
                  <a:lnTo>
                    <a:pt x="992" y="884"/>
                  </a:lnTo>
                  <a:lnTo>
                    <a:pt x="1024" y="890"/>
                  </a:lnTo>
                  <a:lnTo>
                    <a:pt x="1054" y="898"/>
                  </a:lnTo>
                  <a:lnTo>
                    <a:pt x="1084" y="906"/>
                  </a:lnTo>
                  <a:lnTo>
                    <a:pt x="1114" y="916"/>
                  </a:lnTo>
                  <a:lnTo>
                    <a:pt x="1114" y="916"/>
                  </a:lnTo>
                  <a:lnTo>
                    <a:pt x="1148" y="930"/>
                  </a:lnTo>
                  <a:lnTo>
                    <a:pt x="1180" y="944"/>
                  </a:lnTo>
                  <a:lnTo>
                    <a:pt x="1212" y="960"/>
                  </a:lnTo>
                  <a:lnTo>
                    <a:pt x="1242" y="978"/>
                  </a:lnTo>
                  <a:lnTo>
                    <a:pt x="1270" y="998"/>
                  </a:lnTo>
                  <a:lnTo>
                    <a:pt x="1298" y="1018"/>
                  </a:lnTo>
                  <a:lnTo>
                    <a:pt x="1322" y="1040"/>
                  </a:lnTo>
                  <a:lnTo>
                    <a:pt x="1346" y="1064"/>
                  </a:lnTo>
                  <a:lnTo>
                    <a:pt x="1368" y="1088"/>
                  </a:lnTo>
                  <a:lnTo>
                    <a:pt x="1386" y="1114"/>
                  </a:lnTo>
                  <a:lnTo>
                    <a:pt x="1404" y="1140"/>
                  </a:lnTo>
                  <a:lnTo>
                    <a:pt x="1418" y="1166"/>
                  </a:lnTo>
                  <a:lnTo>
                    <a:pt x="1432" y="1196"/>
                  </a:lnTo>
                  <a:lnTo>
                    <a:pt x="1442" y="1224"/>
                  </a:lnTo>
                  <a:lnTo>
                    <a:pt x="1450" y="1254"/>
                  </a:lnTo>
                  <a:lnTo>
                    <a:pt x="1456" y="1284"/>
                  </a:lnTo>
                  <a:lnTo>
                    <a:pt x="1456" y="1284"/>
                  </a:lnTo>
                  <a:lnTo>
                    <a:pt x="1486" y="1258"/>
                  </a:lnTo>
                  <a:lnTo>
                    <a:pt x="1514" y="1230"/>
                  </a:lnTo>
                  <a:lnTo>
                    <a:pt x="1542" y="1202"/>
                  </a:lnTo>
                  <a:lnTo>
                    <a:pt x="1566" y="1172"/>
                  </a:lnTo>
                  <a:lnTo>
                    <a:pt x="1590" y="1142"/>
                  </a:lnTo>
                  <a:lnTo>
                    <a:pt x="1612" y="1110"/>
                  </a:lnTo>
                  <a:lnTo>
                    <a:pt x="1632" y="1078"/>
                  </a:lnTo>
                  <a:lnTo>
                    <a:pt x="1650" y="1044"/>
                  </a:lnTo>
                  <a:lnTo>
                    <a:pt x="1666" y="1008"/>
                  </a:lnTo>
                  <a:lnTo>
                    <a:pt x="1682" y="974"/>
                  </a:lnTo>
                  <a:lnTo>
                    <a:pt x="1694" y="936"/>
                  </a:lnTo>
                  <a:lnTo>
                    <a:pt x="1704" y="900"/>
                  </a:lnTo>
                  <a:lnTo>
                    <a:pt x="1712" y="862"/>
                  </a:lnTo>
                  <a:lnTo>
                    <a:pt x="1718" y="824"/>
                  </a:lnTo>
                  <a:lnTo>
                    <a:pt x="1722" y="784"/>
                  </a:lnTo>
                  <a:lnTo>
                    <a:pt x="1722" y="746"/>
                  </a:lnTo>
                  <a:lnTo>
                    <a:pt x="1722" y="746"/>
                  </a:lnTo>
                  <a:lnTo>
                    <a:pt x="1722" y="708"/>
                  </a:lnTo>
                  <a:lnTo>
                    <a:pt x="1718" y="670"/>
                  </a:lnTo>
                  <a:lnTo>
                    <a:pt x="1712" y="632"/>
                  </a:lnTo>
                  <a:lnTo>
                    <a:pt x="1704" y="596"/>
                  </a:lnTo>
                  <a:lnTo>
                    <a:pt x="1696" y="560"/>
                  </a:lnTo>
                  <a:lnTo>
                    <a:pt x="1684" y="524"/>
                  </a:lnTo>
                  <a:lnTo>
                    <a:pt x="1670" y="490"/>
                  </a:lnTo>
                  <a:lnTo>
                    <a:pt x="1654" y="456"/>
                  </a:lnTo>
                  <a:lnTo>
                    <a:pt x="1638" y="422"/>
                  </a:lnTo>
                  <a:lnTo>
                    <a:pt x="1618" y="390"/>
                  </a:lnTo>
                  <a:lnTo>
                    <a:pt x="1598" y="360"/>
                  </a:lnTo>
                  <a:lnTo>
                    <a:pt x="1576" y="330"/>
                  </a:lnTo>
                  <a:lnTo>
                    <a:pt x="1552" y="300"/>
                  </a:lnTo>
                  <a:lnTo>
                    <a:pt x="1526" y="272"/>
                  </a:lnTo>
                  <a:lnTo>
                    <a:pt x="1498" y="244"/>
                  </a:lnTo>
                  <a:lnTo>
                    <a:pt x="1470" y="218"/>
                  </a:lnTo>
                  <a:lnTo>
                    <a:pt x="1440" y="194"/>
                  </a:lnTo>
                  <a:lnTo>
                    <a:pt x="1408" y="170"/>
                  </a:lnTo>
                  <a:lnTo>
                    <a:pt x="1376" y="148"/>
                  </a:lnTo>
                  <a:lnTo>
                    <a:pt x="1342" y="128"/>
                  </a:lnTo>
                  <a:lnTo>
                    <a:pt x="1308" y="108"/>
                  </a:lnTo>
                  <a:lnTo>
                    <a:pt x="1272" y="90"/>
                  </a:lnTo>
                  <a:lnTo>
                    <a:pt x="1234" y="74"/>
                  </a:lnTo>
                  <a:lnTo>
                    <a:pt x="1196" y="60"/>
                  </a:lnTo>
                  <a:lnTo>
                    <a:pt x="1158" y="46"/>
                  </a:lnTo>
                  <a:lnTo>
                    <a:pt x="1118" y="34"/>
                  </a:lnTo>
                  <a:lnTo>
                    <a:pt x="1076" y="24"/>
                  </a:lnTo>
                  <a:lnTo>
                    <a:pt x="1034" y="16"/>
                  </a:lnTo>
                  <a:lnTo>
                    <a:pt x="992" y="10"/>
                  </a:lnTo>
                  <a:lnTo>
                    <a:pt x="950" y="4"/>
                  </a:lnTo>
                  <a:lnTo>
                    <a:pt x="906" y="2"/>
                  </a:lnTo>
                  <a:lnTo>
                    <a:pt x="860" y="0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15"/>
            <p:cNvSpPr/>
            <p:nvPr/>
          </p:nvSpPr>
          <p:spPr>
            <a:xfrm>
              <a:off x="2594160" y="186048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6" y="16"/>
                  </a:lnTo>
                  <a:lnTo>
                    <a:pt x="68" y="22"/>
                  </a:lnTo>
                  <a:lnTo>
                    <a:pt x="70" y="28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0" y="42"/>
                  </a:lnTo>
                  <a:lnTo>
                    <a:pt x="68" y="50"/>
                  </a:lnTo>
                  <a:lnTo>
                    <a:pt x="66" y="56"/>
                  </a:lnTo>
                  <a:lnTo>
                    <a:pt x="60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2" y="7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16"/>
            <p:cNvSpPr/>
            <p:nvPr/>
          </p:nvSpPr>
          <p:spPr>
            <a:xfrm>
              <a:off x="2216160" y="2181240"/>
              <a:ext cx="1889280" cy="911160"/>
            </a:xfrm>
            <a:custGeom>
              <a:avLst/>
              <a:gdLst>
                <a:gd name="textAreaLeft" fmla="*/ 0 w 1889280"/>
                <a:gd name="textAreaRight" fmla="*/ 1889640 w 188928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1190" h="574">
                  <a:moveTo>
                    <a:pt x="848" y="0"/>
                  </a:moveTo>
                  <a:lnTo>
                    <a:pt x="848" y="0"/>
                  </a:lnTo>
                  <a:lnTo>
                    <a:pt x="838" y="20"/>
                  </a:lnTo>
                  <a:lnTo>
                    <a:pt x="824" y="38"/>
                  </a:lnTo>
                  <a:lnTo>
                    <a:pt x="806" y="56"/>
                  </a:lnTo>
                  <a:lnTo>
                    <a:pt x="788" y="72"/>
                  </a:lnTo>
                  <a:lnTo>
                    <a:pt x="768" y="88"/>
                  </a:lnTo>
                  <a:lnTo>
                    <a:pt x="746" y="104"/>
                  </a:lnTo>
                  <a:lnTo>
                    <a:pt x="704" y="130"/>
                  </a:lnTo>
                  <a:lnTo>
                    <a:pt x="662" y="154"/>
                  </a:lnTo>
                  <a:lnTo>
                    <a:pt x="628" y="170"/>
                  </a:lnTo>
                  <a:lnTo>
                    <a:pt x="594" y="184"/>
                  </a:lnTo>
                  <a:lnTo>
                    <a:pt x="594" y="184"/>
                  </a:lnTo>
                  <a:lnTo>
                    <a:pt x="562" y="170"/>
                  </a:lnTo>
                  <a:lnTo>
                    <a:pt x="528" y="154"/>
                  </a:lnTo>
                  <a:lnTo>
                    <a:pt x="486" y="130"/>
                  </a:lnTo>
                  <a:lnTo>
                    <a:pt x="444" y="104"/>
                  </a:lnTo>
                  <a:lnTo>
                    <a:pt x="422" y="88"/>
                  </a:lnTo>
                  <a:lnTo>
                    <a:pt x="402" y="72"/>
                  </a:lnTo>
                  <a:lnTo>
                    <a:pt x="384" y="56"/>
                  </a:lnTo>
                  <a:lnTo>
                    <a:pt x="366" y="38"/>
                  </a:lnTo>
                  <a:lnTo>
                    <a:pt x="352" y="2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08" y="14"/>
                  </a:lnTo>
                  <a:lnTo>
                    <a:pt x="274" y="28"/>
                  </a:lnTo>
                  <a:lnTo>
                    <a:pt x="244" y="44"/>
                  </a:lnTo>
                  <a:lnTo>
                    <a:pt x="214" y="62"/>
                  </a:lnTo>
                  <a:lnTo>
                    <a:pt x="186" y="82"/>
                  </a:lnTo>
                  <a:lnTo>
                    <a:pt x="158" y="102"/>
                  </a:lnTo>
                  <a:lnTo>
                    <a:pt x="134" y="124"/>
                  </a:lnTo>
                  <a:lnTo>
                    <a:pt x="110" y="148"/>
                  </a:lnTo>
                  <a:lnTo>
                    <a:pt x="88" y="172"/>
                  </a:lnTo>
                  <a:lnTo>
                    <a:pt x="70" y="198"/>
                  </a:lnTo>
                  <a:lnTo>
                    <a:pt x="52" y="224"/>
                  </a:lnTo>
                  <a:lnTo>
                    <a:pt x="38" y="250"/>
                  </a:lnTo>
                  <a:lnTo>
                    <a:pt x="24" y="280"/>
                  </a:lnTo>
                  <a:lnTo>
                    <a:pt x="14" y="308"/>
                  </a:lnTo>
                  <a:lnTo>
                    <a:pt x="6" y="338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0" y="392"/>
                  </a:lnTo>
                  <a:lnTo>
                    <a:pt x="60" y="414"/>
                  </a:lnTo>
                  <a:lnTo>
                    <a:pt x="92" y="434"/>
                  </a:lnTo>
                  <a:lnTo>
                    <a:pt x="126" y="454"/>
                  </a:lnTo>
                  <a:lnTo>
                    <a:pt x="160" y="472"/>
                  </a:lnTo>
                  <a:lnTo>
                    <a:pt x="196" y="490"/>
                  </a:lnTo>
                  <a:lnTo>
                    <a:pt x="232" y="504"/>
                  </a:lnTo>
                  <a:lnTo>
                    <a:pt x="270" y="520"/>
                  </a:lnTo>
                  <a:lnTo>
                    <a:pt x="308" y="532"/>
                  </a:lnTo>
                  <a:lnTo>
                    <a:pt x="346" y="542"/>
                  </a:lnTo>
                  <a:lnTo>
                    <a:pt x="386" y="552"/>
                  </a:lnTo>
                  <a:lnTo>
                    <a:pt x="426" y="560"/>
                  </a:lnTo>
                  <a:lnTo>
                    <a:pt x="468" y="566"/>
                  </a:lnTo>
                  <a:lnTo>
                    <a:pt x="510" y="570"/>
                  </a:lnTo>
                  <a:lnTo>
                    <a:pt x="552" y="574"/>
                  </a:lnTo>
                  <a:lnTo>
                    <a:pt x="594" y="574"/>
                  </a:lnTo>
                  <a:lnTo>
                    <a:pt x="594" y="574"/>
                  </a:lnTo>
                  <a:lnTo>
                    <a:pt x="638" y="574"/>
                  </a:lnTo>
                  <a:lnTo>
                    <a:pt x="680" y="570"/>
                  </a:lnTo>
                  <a:lnTo>
                    <a:pt x="722" y="566"/>
                  </a:lnTo>
                  <a:lnTo>
                    <a:pt x="764" y="560"/>
                  </a:lnTo>
                  <a:lnTo>
                    <a:pt x="804" y="552"/>
                  </a:lnTo>
                  <a:lnTo>
                    <a:pt x="844" y="542"/>
                  </a:lnTo>
                  <a:lnTo>
                    <a:pt x="882" y="532"/>
                  </a:lnTo>
                  <a:lnTo>
                    <a:pt x="920" y="520"/>
                  </a:lnTo>
                  <a:lnTo>
                    <a:pt x="958" y="504"/>
                  </a:lnTo>
                  <a:lnTo>
                    <a:pt x="994" y="490"/>
                  </a:lnTo>
                  <a:lnTo>
                    <a:pt x="1030" y="472"/>
                  </a:lnTo>
                  <a:lnTo>
                    <a:pt x="1064" y="454"/>
                  </a:lnTo>
                  <a:lnTo>
                    <a:pt x="1098" y="434"/>
                  </a:lnTo>
                  <a:lnTo>
                    <a:pt x="1130" y="414"/>
                  </a:lnTo>
                  <a:lnTo>
                    <a:pt x="1160" y="392"/>
                  </a:lnTo>
                  <a:lnTo>
                    <a:pt x="1190" y="368"/>
                  </a:lnTo>
                  <a:lnTo>
                    <a:pt x="1190" y="368"/>
                  </a:lnTo>
                  <a:lnTo>
                    <a:pt x="1184" y="338"/>
                  </a:lnTo>
                  <a:lnTo>
                    <a:pt x="1176" y="308"/>
                  </a:lnTo>
                  <a:lnTo>
                    <a:pt x="1166" y="280"/>
                  </a:lnTo>
                  <a:lnTo>
                    <a:pt x="1152" y="250"/>
                  </a:lnTo>
                  <a:lnTo>
                    <a:pt x="1138" y="224"/>
                  </a:lnTo>
                  <a:lnTo>
                    <a:pt x="1120" y="198"/>
                  </a:lnTo>
                  <a:lnTo>
                    <a:pt x="1102" y="172"/>
                  </a:lnTo>
                  <a:lnTo>
                    <a:pt x="1080" y="148"/>
                  </a:lnTo>
                  <a:lnTo>
                    <a:pt x="1056" y="124"/>
                  </a:lnTo>
                  <a:lnTo>
                    <a:pt x="1032" y="102"/>
                  </a:lnTo>
                  <a:lnTo>
                    <a:pt x="1004" y="82"/>
                  </a:lnTo>
                  <a:lnTo>
                    <a:pt x="976" y="62"/>
                  </a:lnTo>
                  <a:lnTo>
                    <a:pt x="946" y="44"/>
                  </a:lnTo>
                  <a:lnTo>
                    <a:pt x="914" y="28"/>
                  </a:lnTo>
                  <a:lnTo>
                    <a:pt x="882" y="14"/>
                  </a:lnTo>
                  <a:lnTo>
                    <a:pt x="848" y="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17"/>
            <p:cNvSpPr/>
            <p:nvPr/>
          </p:nvSpPr>
          <p:spPr>
            <a:xfrm>
              <a:off x="2759040" y="2111400"/>
              <a:ext cx="803160" cy="36180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506" h="228">
                  <a:moveTo>
                    <a:pt x="252" y="228"/>
                  </a:moveTo>
                  <a:lnTo>
                    <a:pt x="252" y="228"/>
                  </a:lnTo>
                  <a:lnTo>
                    <a:pt x="286" y="214"/>
                  </a:lnTo>
                  <a:lnTo>
                    <a:pt x="320" y="198"/>
                  </a:lnTo>
                  <a:lnTo>
                    <a:pt x="362" y="174"/>
                  </a:lnTo>
                  <a:lnTo>
                    <a:pt x="404" y="148"/>
                  </a:lnTo>
                  <a:lnTo>
                    <a:pt x="426" y="132"/>
                  </a:lnTo>
                  <a:lnTo>
                    <a:pt x="446" y="116"/>
                  </a:lnTo>
                  <a:lnTo>
                    <a:pt x="464" y="100"/>
                  </a:lnTo>
                  <a:lnTo>
                    <a:pt x="482" y="82"/>
                  </a:lnTo>
                  <a:lnTo>
                    <a:pt x="496" y="64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476" y="34"/>
                  </a:lnTo>
                  <a:lnTo>
                    <a:pt x="446" y="26"/>
                  </a:lnTo>
                  <a:lnTo>
                    <a:pt x="416" y="18"/>
                  </a:lnTo>
                  <a:lnTo>
                    <a:pt x="384" y="12"/>
                  </a:lnTo>
                  <a:lnTo>
                    <a:pt x="352" y="8"/>
                  </a:lnTo>
                  <a:lnTo>
                    <a:pt x="320" y="4"/>
                  </a:lnTo>
                  <a:lnTo>
                    <a:pt x="286" y="2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20" y="2"/>
                  </a:lnTo>
                  <a:lnTo>
                    <a:pt x="186" y="4"/>
                  </a:lnTo>
                  <a:lnTo>
                    <a:pt x="154" y="8"/>
                  </a:lnTo>
                  <a:lnTo>
                    <a:pt x="122" y="12"/>
                  </a:lnTo>
                  <a:lnTo>
                    <a:pt x="90" y="18"/>
                  </a:lnTo>
                  <a:lnTo>
                    <a:pt x="60" y="26"/>
                  </a:lnTo>
                  <a:lnTo>
                    <a:pt x="30" y="3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64"/>
                  </a:lnTo>
                  <a:lnTo>
                    <a:pt x="24" y="82"/>
                  </a:lnTo>
                  <a:lnTo>
                    <a:pt x="42" y="100"/>
                  </a:lnTo>
                  <a:lnTo>
                    <a:pt x="60" y="116"/>
                  </a:lnTo>
                  <a:lnTo>
                    <a:pt x="80" y="132"/>
                  </a:lnTo>
                  <a:lnTo>
                    <a:pt x="102" y="148"/>
                  </a:lnTo>
                  <a:lnTo>
                    <a:pt x="144" y="174"/>
                  </a:lnTo>
                  <a:lnTo>
                    <a:pt x="186" y="198"/>
                  </a:lnTo>
                  <a:lnTo>
                    <a:pt x="220" y="214"/>
                  </a:lnTo>
                  <a:lnTo>
                    <a:pt x="252" y="228"/>
                  </a:lnTo>
                  <a:lnTo>
                    <a:pt x="252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1797120" y="199080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24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2"/>
                  </a:lnTo>
                  <a:lnTo>
                    <a:pt x="12" y="84"/>
                  </a:lnTo>
                  <a:lnTo>
                    <a:pt x="246" y="8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19"/>
            <p:cNvSpPr/>
            <p:nvPr/>
          </p:nvSpPr>
          <p:spPr>
            <a:xfrm>
              <a:off x="1803240" y="1631880"/>
              <a:ext cx="438120" cy="24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76" h="152">
                  <a:moveTo>
                    <a:pt x="276" y="7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8" y="42"/>
                  </a:lnTo>
                  <a:lnTo>
                    <a:pt x="0" y="84"/>
                  </a:lnTo>
                  <a:lnTo>
                    <a:pt x="254" y="152"/>
                  </a:lnTo>
                  <a:lnTo>
                    <a:pt x="27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20"/>
            <p:cNvSpPr/>
            <p:nvPr/>
          </p:nvSpPr>
          <p:spPr>
            <a:xfrm>
              <a:off x="1917720" y="1301760"/>
              <a:ext cx="444240" cy="3301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80" h="208">
                  <a:moveTo>
                    <a:pt x="280" y="136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22" y="36"/>
                  </a:lnTo>
                  <a:lnTo>
                    <a:pt x="0" y="72"/>
                  </a:lnTo>
                  <a:lnTo>
                    <a:pt x="236" y="208"/>
                  </a:lnTo>
                  <a:lnTo>
                    <a:pt x="28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221"/>
            <p:cNvSpPr/>
            <p:nvPr/>
          </p:nvSpPr>
          <p:spPr>
            <a:xfrm>
              <a:off x="2886120" y="888840"/>
              <a:ext cx="549000" cy="14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222"/>
            <p:cNvSpPr/>
            <p:nvPr/>
          </p:nvSpPr>
          <p:spPr>
            <a:xfrm>
              <a:off x="2886120" y="1171440"/>
              <a:ext cx="549000" cy="14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223"/>
            <p:cNvSpPr/>
            <p:nvPr/>
          </p:nvSpPr>
          <p:spPr>
            <a:xfrm>
              <a:off x="3079800" y="727200"/>
              <a:ext cx="161640" cy="77148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02" h="486">
                  <a:moveTo>
                    <a:pt x="102" y="486"/>
                  </a:moveTo>
                  <a:lnTo>
                    <a:pt x="102" y="2"/>
                  </a:lnTo>
                  <a:lnTo>
                    <a:pt x="10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0" y="2"/>
                  </a:lnTo>
                  <a:lnTo>
                    <a:pt x="0" y="486"/>
                  </a:lnTo>
                  <a:lnTo>
                    <a:pt x="102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224"/>
            <p:cNvSpPr/>
            <p:nvPr/>
          </p:nvSpPr>
          <p:spPr>
            <a:xfrm>
              <a:off x="2543040" y="2406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5"/>
            <p:cNvSpPr/>
            <p:nvPr/>
          </p:nvSpPr>
          <p:spPr>
            <a:xfrm>
              <a:off x="2473200" y="260028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8" y="20"/>
                  </a:lnTo>
                  <a:lnTo>
                    <a:pt x="50" y="10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8" y="1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26"/>
            <p:cNvSpPr/>
            <p:nvPr/>
          </p:nvSpPr>
          <p:spPr>
            <a:xfrm>
              <a:off x="2736720" y="251460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30" y="60"/>
                  </a:moveTo>
                  <a:lnTo>
                    <a:pt x="30" y="60"/>
                  </a:lnTo>
                  <a:lnTo>
                    <a:pt x="36" y="60"/>
                  </a:lnTo>
                  <a:lnTo>
                    <a:pt x="40" y="58"/>
                  </a:lnTo>
                  <a:lnTo>
                    <a:pt x="50" y="50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27"/>
            <p:cNvSpPr/>
            <p:nvPr/>
          </p:nvSpPr>
          <p:spPr>
            <a:xfrm>
              <a:off x="2832120" y="2791080"/>
              <a:ext cx="326880" cy="133200"/>
            </a:xfrm>
            <a:custGeom>
              <a:avLst/>
              <a:gdLst>
                <a:gd name="textAreaLeft" fmla="*/ 0 w 326880"/>
                <a:gd name="textAreaRight" fmla="*/ 326880 w 326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6" h="84">
                  <a:moveTo>
                    <a:pt x="206" y="0"/>
                  </a:moveTo>
                  <a:lnTo>
                    <a:pt x="206" y="0"/>
                  </a:lnTo>
                  <a:lnTo>
                    <a:pt x="206" y="10"/>
                  </a:lnTo>
                  <a:lnTo>
                    <a:pt x="204" y="18"/>
                  </a:lnTo>
                  <a:lnTo>
                    <a:pt x="200" y="28"/>
                  </a:lnTo>
                  <a:lnTo>
                    <a:pt x="196" y="36"/>
                  </a:lnTo>
                  <a:lnTo>
                    <a:pt x="184" y="52"/>
                  </a:lnTo>
                  <a:lnTo>
                    <a:pt x="170" y="64"/>
                  </a:lnTo>
                  <a:lnTo>
                    <a:pt x="152" y="74"/>
                  </a:lnTo>
                  <a:lnTo>
                    <a:pt x="134" y="80"/>
                  </a:lnTo>
                  <a:lnTo>
                    <a:pt x="116" y="84"/>
                  </a:lnTo>
                  <a:lnTo>
                    <a:pt x="96" y="84"/>
                  </a:lnTo>
                  <a:lnTo>
                    <a:pt x="96" y="84"/>
                  </a:lnTo>
                  <a:lnTo>
                    <a:pt x="80" y="82"/>
                  </a:lnTo>
                  <a:lnTo>
                    <a:pt x="62" y="76"/>
                  </a:lnTo>
                  <a:lnTo>
                    <a:pt x="46" y="66"/>
                  </a:lnTo>
                  <a:lnTo>
                    <a:pt x="32" y="56"/>
                  </a:lnTo>
                  <a:lnTo>
                    <a:pt x="20" y="44"/>
                  </a:lnTo>
                  <a:lnTo>
                    <a:pt x="10" y="30"/>
                  </a:lnTo>
                  <a:lnTo>
                    <a:pt x="4" y="16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Line 228"/>
            <p:cNvSpPr/>
            <p:nvPr/>
          </p:nvSpPr>
          <p:spPr>
            <a:xfrm flipV="1">
              <a:off x="1603440" y="2454120"/>
              <a:ext cx="819000" cy="601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29"/>
            <p:cNvSpPr/>
            <p:nvPr/>
          </p:nvSpPr>
          <p:spPr>
            <a:xfrm>
              <a:off x="1730160" y="2641680"/>
              <a:ext cx="644400" cy="1490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6" h="94">
                  <a:moveTo>
                    <a:pt x="0" y="94"/>
                  </a:moveTo>
                  <a:lnTo>
                    <a:pt x="0" y="94"/>
                  </a:lnTo>
                  <a:lnTo>
                    <a:pt x="406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230"/>
            <p:cNvSpPr/>
            <p:nvPr/>
          </p:nvSpPr>
          <p:spPr>
            <a:xfrm flipV="1">
              <a:off x="1857240" y="2796840"/>
              <a:ext cx="530280" cy="2286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31"/>
            <p:cNvSpPr/>
            <p:nvPr/>
          </p:nvSpPr>
          <p:spPr>
            <a:xfrm>
              <a:off x="3613320" y="186048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2" y="68"/>
                  </a:lnTo>
                  <a:lnTo>
                    <a:pt x="28" y="70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2" y="70"/>
                  </a:lnTo>
                  <a:lnTo>
                    <a:pt x="50" y="68"/>
                  </a:lnTo>
                  <a:lnTo>
                    <a:pt x="56" y="66"/>
                  </a:lnTo>
                  <a:lnTo>
                    <a:pt x="60" y="62"/>
                  </a:lnTo>
                  <a:lnTo>
                    <a:pt x="66" y="56"/>
                  </a:lnTo>
                  <a:lnTo>
                    <a:pt x="68" y="50"/>
                  </a:lnTo>
                  <a:lnTo>
                    <a:pt x="70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8" y="22"/>
                  </a:lnTo>
                  <a:lnTo>
                    <a:pt x="66" y="16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2"/>
            <p:cNvSpPr/>
            <p:nvPr/>
          </p:nvSpPr>
          <p:spPr>
            <a:xfrm>
              <a:off x="4134240" y="1990800"/>
              <a:ext cx="390240" cy="1332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46" h="84">
                  <a:moveTo>
                    <a:pt x="0" y="0"/>
                  </a:moveTo>
                  <a:lnTo>
                    <a:pt x="246" y="0"/>
                  </a:lnTo>
                  <a:lnTo>
                    <a:pt x="246" y="0"/>
                  </a:lnTo>
                  <a:lnTo>
                    <a:pt x="240" y="42"/>
                  </a:lnTo>
                  <a:lnTo>
                    <a:pt x="232" y="84"/>
                  </a:lnTo>
                  <a:lnTo>
                    <a:pt x="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33"/>
            <p:cNvSpPr/>
            <p:nvPr/>
          </p:nvSpPr>
          <p:spPr>
            <a:xfrm>
              <a:off x="4077000" y="1631880"/>
              <a:ext cx="438120" cy="24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76" h="152">
                  <a:moveTo>
                    <a:pt x="0" y="70"/>
                  </a:moveTo>
                  <a:lnTo>
                    <a:pt x="260" y="0"/>
                  </a:lnTo>
                  <a:lnTo>
                    <a:pt x="260" y="0"/>
                  </a:lnTo>
                  <a:lnTo>
                    <a:pt x="270" y="42"/>
                  </a:lnTo>
                  <a:lnTo>
                    <a:pt x="276" y="84"/>
                  </a:lnTo>
                  <a:lnTo>
                    <a:pt x="22" y="15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34"/>
            <p:cNvSpPr/>
            <p:nvPr/>
          </p:nvSpPr>
          <p:spPr>
            <a:xfrm>
              <a:off x="3959280" y="1301760"/>
              <a:ext cx="441360" cy="3301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78" h="208">
                  <a:moveTo>
                    <a:pt x="0" y="136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58" y="36"/>
                  </a:lnTo>
                  <a:lnTo>
                    <a:pt x="278" y="72"/>
                  </a:lnTo>
                  <a:lnTo>
                    <a:pt x="42" y="20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35"/>
            <p:cNvSpPr/>
            <p:nvPr/>
          </p:nvSpPr>
          <p:spPr>
            <a:xfrm>
              <a:off x="3683160" y="2406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6" y="18"/>
                  </a:lnTo>
                  <a:lnTo>
                    <a:pt x="58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6" y="42"/>
                  </a:lnTo>
                  <a:lnTo>
                    <a:pt x="50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36"/>
            <p:cNvSpPr/>
            <p:nvPr/>
          </p:nvSpPr>
          <p:spPr>
            <a:xfrm>
              <a:off x="3753000" y="2600280"/>
              <a:ext cx="91800" cy="95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8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50" y="10"/>
                  </a:lnTo>
                  <a:lnTo>
                    <a:pt x="56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36"/>
                  </a:lnTo>
                  <a:lnTo>
                    <a:pt x="56" y="42"/>
                  </a:lnTo>
                  <a:lnTo>
                    <a:pt x="50" y="52"/>
                  </a:lnTo>
                  <a:lnTo>
                    <a:pt x="40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37"/>
            <p:cNvSpPr/>
            <p:nvPr/>
          </p:nvSpPr>
          <p:spPr>
            <a:xfrm>
              <a:off x="3489480" y="251460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60">
                  <a:moveTo>
                    <a:pt x="30" y="60"/>
                  </a:move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0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0" y="8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8"/>
            <p:cNvSpPr/>
            <p:nvPr/>
          </p:nvSpPr>
          <p:spPr>
            <a:xfrm>
              <a:off x="3159360" y="2400480"/>
              <a:ext cx="330120" cy="523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208" h="330">
                  <a:moveTo>
                    <a:pt x="208" y="246"/>
                  </a:moveTo>
                  <a:lnTo>
                    <a:pt x="208" y="246"/>
                  </a:lnTo>
                  <a:lnTo>
                    <a:pt x="204" y="262"/>
                  </a:lnTo>
                  <a:lnTo>
                    <a:pt x="196" y="276"/>
                  </a:lnTo>
                  <a:lnTo>
                    <a:pt x="186" y="290"/>
                  </a:lnTo>
                  <a:lnTo>
                    <a:pt x="174" y="302"/>
                  </a:lnTo>
                  <a:lnTo>
                    <a:pt x="160" y="312"/>
                  </a:lnTo>
                  <a:lnTo>
                    <a:pt x="144" y="322"/>
                  </a:lnTo>
                  <a:lnTo>
                    <a:pt x="128" y="328"/>
                  </a:lnTo>
                  <a:lnTo>
                    <a:pt x="110" y="330"/>
                  </a:lnTo>
                  <a:lnTo>
                    <a:pt x="110" y="330"/>
                  </a:lnTo>
                  <a:lnTo>
                    <a:pt x="92" y="330"/>
                  </a:lnTo>
                  <a:lnTo>
                    <a:pt x="74" y="326"/>
                  </a:lnTo>
                  <a:lnTo>
                    <a:pt x="54" y="320"/>
                  </a:lnTo>
                  <a:lnTo>
                    <a:pt x="38" y="310"/>
                  </a:lnTo>
                  <a:lnTo>
                    <a:pt x="22" y="298"/>
                  </a:lnTo>
                  <a:lnTo>
                    <a:pt x="10" y="282"/>
                  </a:lnTo>
                  <a:lnTo>
                    <a:pt x="6" y="274"/>
                  </a:lnTo>
                  <a:lnTo>
                    <a:pt x="2" y="264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239"/>
            <p:cNvSpPr/>
            <p:nvPr/>
          </p:nvSpPr>
          <p:spPr>
            <a:xfrm flipH="1" flipV="1">
              <a:off x="3898800" y="2454120"/>
              <a:ext cx="819000" cy="6012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40"/>
            <p:cNvSpPr/>
            <p:nvPr/>
          </p:nvSpPr>
          <p:spPr>
            <a:xfrm>
              <a:off x="3943440" y="2641680"/>
              <a:ext cx="644400" cy="14904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06" h="94">
                  <a:moveTo>
                    <a:pt x="406" y="94"/>
                  </a:moveTo>
                  <a:lnTo>
                    <a:pt x="406" y="94"/>
                  </a:lnTo>
                  <a:lnTo>
                    <a:pt x="0" y="0"/>
                  </a:lnTo>
                </a:path>
              </a:pathLst>
            </a:custGeom>
            <a:noFill/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241"/>
            <p:cNvSpPr/>
            <p:nvPr/>
          </p:nvSpPr>
          <p:spPr>
            <a:xfrm flipH="1" flipV="1">
              <a:off x="3930480" y="2796840"/>
              <a:ext cx="530280" cy="2286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グループ化 250"/>
          <p:cNvGrpSpPr/>
          <p:nvPr/>
        </p:nvGrpSpPr>
        <p:grpSpPr>
          <a:xfrm>
            <a:off x="33467760" y="247680"/>
            <a:ext cx="3635280" cy="3616200"/>
            <a:chOff x="33467760" y="247680"/>
            <a:chExt cx="3635280" cy="3616200"/>
          </a:xfrm>
        </p:grpSpPr>
        <p:sp>
          <p:nvSpPr>
            <p:cNvPr id="284" name="Freeform 242"/>
            <p:cNvSpPr/>
            <p:nvPr/>
          </p:nvSpPr>
          <p:spPr>
            <a:xfrm>
              <a:off x="33467760" y="1822320"/>
              <a:ext cx="968400" cy="46656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610" h="294">
                  <a:moveTo>
                    <a:pt x="610" y="294"/>
                  </a:moveTo>
                  <a:lnTo>
                    <a:pt x="610" y="294"/>
                  </a:lnTo>
                  <a:lnTo>
                    <a:pt x="558" y="272"/>
                  </a:lnTo>
                  <a:lnTo>
                    <a:pt x="490" y="238"/>
                  </a:lnTo>
                  <a:lnTo>
                    <a:pt x="324" y="154"/>
                  </a:lnTo>
                  <a:lnTo>
                    <a:pt x="236" y="108"/>
                  </a:lnTo>
                  <a:lnTo>
                    <a:pt x="148" y="68"/>
                  </a:lnTo>
                  <a:lnTo>
                    <a:pt x="108" y="52"/>
                  </a:lnTo>
                  <a:lnTo>
                    <a:pt x="68" y="36"/>
                  </a:lnTo>
                  <a:lnTo>
                    <a:pt x="32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00" y="4"/>
                  </a:lnTo>
                  <a:lnTo>
                    <a:pt x="146" y="2"/>
                  </a:lnTo>
                  <a:lnTo>
                    <a:pt x="190" y="0"/>
                  </a:lnTo>
                  <a:lnTo>
                    <a:pt x="232" y="0"/>
                  </a:lnTo>
                  <a:lnTo>
                    <a:pt x="272" y="4"/>
                  </a:lnTo>
                  <a:lnTo>
                    <a:pt x="312" y="12"/>
                  </a:lnTo>
                  <a:lnTo>
                    <a:pt x="350" y="22"/>
                  </a:lnTo>
                  <a:lnTo>
                    <a:pt x="386" y="38"/>
                  </a:lnTo>
                  <a:lnTo>
                    <a:pt x="402" y="46"/>
                  </a:lnTo>
                  <a:lnTo>
                    <a:pt x="420" y="56"/>
                  </a:lnTo>
                  <a:lnTo>
                    <a:pt x="436" y="68"/>
                  </a:lnTo>
                  <a:lnTo>
                    <a:pt x="454" y="82"/>
                  </a:lnTo>
                  <a:lnTo>
                    <a:pt x="470" y="96"/>
                  </a:lnTo>
                  <a:lnTo>
                    <a:pt x="486" y="112"/>
                  </a:lnTo>
                  <a:lnTo>
                    <a:pt x="518" y="148"/>
                  </a:lnTo>
                  <a:lnTo>
                    <a:pt x="548" y="190"/>
                  </a:lnTo>
                  <a:lnTo>
                    <a:pt x="580" y="238"/>
                  </a:lnTo>
                  <a:lnTo>
                    <a:pt x="610" y="294"/>
                  </a:lnTo>
                  <a:lnTo>
                    <a:pt x="610" y="294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43"/>
            <p:cNvSpPr/>
            <p:nvPr/>
          </p:nvSpPr>
          <p:spPr>
            <a:xfrm>
              <a:off x="34191360" y="1203120"/>
              <a:ext cx="244440" cy="10857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54" h="684">
                  <a:moveTo>
                    <a:pt x="154" y="684"/>
                  </a:moveTo>
                  <a:lnTo>
                    <a:pt x="154" y="684"/>
                  </a:lnTo>
                  <a:lnTo>
                    <a:pt x="154" y="660"/>
                  </a:lnTo>
                  <a:lnTo>
                    <a:pt x="154" y="628"/>
                  </a:lnTo>
                  <a:lnTo>
                    <a:pt x="148" y="550"/>
                  </a:lnTo>
                  <a:lnTo>
                    <a:pt x="128" y="358"/>
                  </a:lnTo>
                  <a:lnTo>
                    <a:pt x="120" y="256"/>
                  </a:lnTo>
                  <a:lnTo>
                    <a:pt x="116" y="206"/>
                  </a:lnTo>
                  <a:lnTo>
                    <a:pt x="114" y="158"/>
                  </a:lnTo>
                  <a:lnTo>
                    <a:pt x="114" y="114"/>
                  </a:lnTo>
                  <a:lnTo>
                    <a:pt x="116" y="70"/>
                  </a:lnTo>
                  <a:lnTo>
                    <a:pt x="118" y="3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98" y="42"/>
                  </a:lnTo>
                  <a:lnTo>
                    <a:pt x="74" y="84"/>
                  </a:lnTo>
                  <a:lnTo>
                    <a:pt x="52" y="124"/>
                  </a:lnTo>
                  <a:lnTo>
                    <a:pt x="34" y="164"/>
                  </a:lnTo>
                  <a:lnTo>
                    <a:pt x="20" y="204"/>
                  </a:lnTo>
                  <a:lnTo>
                    <a:pt x="10" y="242"/>
                  </a:lnTo>
                  <a:lnTo>
                    <a:pt x="4" y="282"/>
                  </a:lnTo>
                  <a:lnTo>
                    <a:pt x="0" y="322"/>
                  </a:lnTo>
                  <a:lnTo>
                    <a:pt x="4" y="362"/>
                  </a:lnTo>
                  <a:lnTo>
                    <a:pt x="10" y="404"/>
                  </a:lnTo>
                  <a:lnTo>
                    <a:pt x="22" y="446"/>
                  </a:lnTo>
                  <a:lnTo>
                    <a:pt x="38" y="490"/>
                  </a:lnTo>
                  <a:lnTo>
                    <a:pt x="58" y="534"/>
                  </a:lnTo>
                  <a:lnTo>
                    <a:pt x="84" y="582"/>
                  </a:lnTo>
                  <a:lnTo>
                    <a:pt x="116" y="632"/>
                  </a:lnTo>
                  <a:lnTo>
                    <a:pt x="154" y="684"/>
                  </a:lnTo>
                  <a:lnTo>
                    <a:pt x="154" y="68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44"/>
            <p:cNvSpPr/>
            <p:nvPr/>
          </p:nvSpPr>
          <p:spPr>
            <a:xfrm>
              <a:off x="33804000" y="1168200"/>
              <a:ext cx="631800" cy="112068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1120680"/>
                <a:gd name="textAreaBottom" fmla="*/ 1121040 h 1120680"/>
              </a:gdLst>
              <a:ahLst/>
              <a:rect l="textAreaLeft" t="textAreaTop" r="textAreaRight" b="textAreaBottom"/>
              <a:pathLst>
                <a:path w="398" h="706">
                  <a:moveTo>
                    <a:pt x="398" y="706"/>
                  </a:moveTo>
                  <a:lnTo>
                    <a:pt x="398" y="706"/>
                  </a:lnTo>
                  <a:lnTo>
                    <a:pt x="392" y="682"/>
                  </a:lnTo>
                  <a:lnTo>
                    <a:pt x="382" y="650"/>
                  </a:lnTo>
                  <a:lnTo>
                    <a:pt x="354" y="570"/>
                  </a:lnTo>
                  <a:lnTo>
                    <a:pt x="336" y="522"/>
                  </a:lnTo>
                  <a:lnTo>
                    <a:pt x="316" y="472"/>
                  </a:lnTo>
                  <a:lnTo>
                    <a:pt x="292" y="420"/>
                  </a:lnTo>
                  <a:lnTo>
                    <a:pt x="266" y="368"/>
                  </a:lnTo>
                  <a:lnTo>
                    <a:pt x="240" y="314"/>
                  </a:lnTo>
                  <a:lnTo>
                    <a:pt x="210" y="260"/>
                  </a:lnTo>
                  <a:lnTo>
                    <a:pt x="180" y="208"/>
                  </a:lnTo>
                  <a:lnTo>
                    <a:pt x="146" y="158"/>
                  </a:lnTo>
                  <a:lnTo>
                    <a:pt x="112" y="112"/>
                  </a:lnTo>
                  <a:lnTo>
                    <a:pt x="76" y="70"/>
                  </a:lnTo>
                  <a:lnTo>
                    <a:pt x="38" y="3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" y="108"/>
                  </a:lnTo>
                  <a:lnTo>
                    <a:pt x="6" y="160"/>
                  </a:lnTo>
                  <a:lnTo>
                    <a:pt x="16" y="210"/>
                  </a:lnTo>
                  <a:lnTo>
                    <a:pt x="26" y="256"/>
                  </a:lnTo>
                  <a:lnTo>
                    <a:pt x="42" y="302"/>
                  </a:lnTo>
                  <a:lnTo>
                    <a:pt x="60" y="348"/>
                  </a:lnTo>
                  <a:lnTo>
                    <a:pt x="84" y="390"/>
                  </a:lnTo>
                  <a:lnTo>
                    <a:pt x="110" y="432"/>
                  </a:lnTo>
                  <a:lnTo>
                    <a:pt x="138" y="474"/>
                  </a:lnTo>
                  <a:lnTo>
                    <a:pt x="172" y="514"/>
                  </a:lnTo>
                  <a:lnTo>
                    <a:pt x="210" y="554"/>
                  </a:lnTo>
                  <a:lnTo>
                    <a:pt x="250" y="592"/>
                  </a:lnTo>
                  <a:lnTo>
                    <a:pt x="296" y="630"/>
                  </a:lnTo>
                  <a:lnTo>
                    <a:pt x="344" y="668"/>
                  </a:lnTo>
                  <a:lnTo>
                    <a:pt x="398" y="706"/>
                  </a:lnTo>
                  <a:lnTo>
                    <a:pt x="398" y="706"/>
                  </a:lnTo>
                  <a:close/>
                </a:path>
              </a:pathLst>
            </a:custGeom>
            <a:solidFill>
              <a:srgbClr val="8f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45"/>
            <p:cNvSpPr/>
            <p:nvPr/>
          </p:nvSpPr>
          <p:spPr>
            <a:xfrm>
              <a:off x="34331400" y="2216160"/>
              <a:ext cx="222120" cy="222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40" h="140">
                  <a:moveTo>
                    <a:pt x="116" y="122"/>
                  </a:moveTo>
                  <a:lnTo>
                    <a:pt x="116" y="122"/>
                  </a:lnTo>
                  <a:lnTo>
                    <a:pt x="126" y="112"/>
                  </a:lnTo>
                  <a:lnTo>
                    <a:pt x="134" y="100"/>
                  </a:lnTo>
                  <a:lnTo>
                    <a:pt x="138" y="88"/>
                  </a:lnTo>
                  <a:lnTo>
                    <a:pt x="140" y="74"/>
                  </a:lnTo>
                  <a:lnTo>
                    <a:pt x="140" y="60"/>
                  </a:lnTo>
                  <a:lnTo>
                    <a:pt x="136" y="48"/>
                  </a:lnTo>
                  <a:lnTo>
                    <a:pt x="132" y="34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12" y="14"/>
                  </a:lnTo>
                  <a:lnTo>
                    <a:pt x="102" y="6"/>
                  </a:lnTo>
                  <a:lnTo>
                    <a:pt x="88" y="2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48" y="2"/>
                  </a:lnTo>
                  <a:lnTo>
                    <a:pt x="36" y="8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14" y="2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4" y="90"/>
                  </a:lnTo>
                  <a:lnTo>
                    <a:pt x="10" y="104"/>
                  </a:lnTo>
                  <a:lnTo>
                    <a:pt x="18" y="116"/>
                  </a:lnTo>
                  <a:lnTo>
                    <a:pt x="18" y="116"/>
                  </a:lnTo>
                  <a:lnTo>
                    <a:pt x="28" y="124"/>
                  </a:lnTo>
                  <a:lnTo>
                    <a:pt x="40" y="132"/>
                  </a:lnTo>
                  <a:lnTo>
                    <a:pt x="52" y="136"/>
                  </a:lnTo>
                  <a:lnTo>
                    <a:pt x="66" y="140"/>
                  </a:lnTo>
                  <a:lnTo>
                    <a:pt x="78" y="138"/>
                  </a:lnTo>
                  <a:lnTo>
                    <a:pt x="92" y="136"/>
                  </a:lnTo>
                  <a:lnTo>
                    <a:pt x="104" y="130"/>
                  </a:lnTo>
                  <a:lnTo>
                    <a:pt x="116" y="122"/>
                  </a:lnTo>
                  <a:lnTo>
                    <a:pt x="116" y="122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46"/>
            <p:cNvSpPr/>
            <p:nvPr/>
          </p:nvSpPr>
          <p:spPr>
            <a:xfrm>
              <a:off x="34839360" y="247680"/>
              <a:ext cx="2263680" cy="2476440"/>
            </a:xfrm>
            <a:custGeom>
              <a:avLst/>
              <a:gdLst>
                <a:gd name="textAreaLeft" fmla="*/ 0 w 2263680"/>
                <a:gd name="textAreaRight" fmla="*/ 2264040 w 2263680"/>
                <a:gd name="textAreaTop" fmla="*/ 0 h 2476440"/>
                <a:gd name="textAreaBottom" fmla="*/ 2476800 h 2476440"/>
              </a:gdLst>
              <a:ahLst/>
              <a:rect l="textAreaLeft" t="textAreaTop" r="textAreaRight" b="textAreaBottom"/>
              <a:pathLst>
                <a:path w="1426" h="1560">
                  <a:moveTo>
                    <a:pt x="0" y="1194"/>
                  </a:moveTo>
                  <a:lnTo>
                    <a:pt x="422" y="0"/>
                  </a:lnTo>
                  <a:lnTo>
                    <a:pt x="1426" y="424"/>
                  </a:lnTo>
                  <a:lnTo>
                    <a:pt x="862" y="1560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47"/>
            <p:cNvSpPr/>
            <p:nvPr/>
          </p:nvSpPr>
          <p:spPr>
            <a:xfrm>
              <a:off x="35359920" y="247680"/>
              <a:ext cx="1743120" cy="115560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1098" h="728">
                  <a:moveTo>
                    <a:pt x="1098" y="424"/>
                  </a:moveTo>
                  <a:lnTo>
                    <a:pt x="94" y="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28" y="236"/>
                  </a:lnTo>
                  <a:lnTo>
                    <a:pt x="58" y="234"/>
                  </a:lnTo>
                  <a:lnTo>
                    <a:pt x="90" y="234"/>
                  </a:lnTo>
                  <a:lnTo>
                    <a:pt x="120" y="234"/>
                  </a:lnTo>
                  <a:lnTo>
                    <a:pt x="154" y="236"/>
                  </a:lnTo>
                  <a:lnTo>
                    <a:pt x="186" y="240"/>
                  </a:lnTo>
                  <a:lnTo>
                    <a:pt x="220" y="244"/>
                  </a:lnTo>
                  <a:lnTo>
                    <a:pt x="254" y="250"/>
                  </a:lnTo>
                  <a:lnTo>
                    <a:pt x="324" y="266"/>
                  </a:lnTo>
                  <a:lnTo>
                    <a:pt x="394" y="286"/>
                  </a:lnTo>
                  <a:lnTo>
                    <a:pt x="464" y="312"/>
                  </a:lnTo>
                  <a:lnTo>
                    <a:pt x="532" y="342"/>
                  </a:lnTo>
                  <a:lnTo>
                    <a:pt x="566" y="360"/>
                  </a:lnTo>
                  <a:lnTo>
                    <a:pt x="600" y="378"/>
                  </a:lnTo>
                  <a:lnTo>
                    <a:pt x="634" y="396"/>
                  </a:lnTo>
                  <a:lnTo>
                    <a:pt x="666" y="416"/>
                  </a:lnTo>
                  <a:lnTo>
                    <a:pt x="696" y="438"/>
                  </a:lnTo>
                  <a:lnTo>
                    <a:pt x="728" y="460"/>
                  </a:lnTo>
                  <a:lnTo>
                    <a:pt x="756" y="482"/>
                  </a:lnTo>
                  <a:lnTo>
                    <a:pt x="786" y="506"/>
                  </a:lnTo>
                  <a:lnTo>
                    <a:pt x="812" y="530"/>
                  </a:lnTo>
                  <a:lnTo>
                    <a:pt x="838" y="556"/>
                  </a:lnTo>
                  <a:lnTo>
                    <a:pt x="862" y="582"/>
                  </a:lnTo>
                  <a:lnTo>
                    <a:pt x="886" y="610"/>
                  </a:lnTo>
                  <a:lnTo>
                    <a:pt x="906" y="638"/>
                  </a:lnTo>
                  <a:lnTo>
                    <a:pt x="926" y="668"/>
                  </a:lnTo>
                  <a:lnTo>
                    <a:pt x="944" y="698"/>
                  </a:lnTo>
                  <a:lnTo>
                    <a:pt x="960" y="728"/>
                  </a:lnTo>
                  <a:lnTo>
                    <a:pt x="1098" y="42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48"/>
            <p:cNvSpPr/>
            <p:nvPr/>
          </p:nvSpPr>
          <p:spPr>
            <a:xfrm>
              <a:off x="34766280" y="3032280"/>
              <a:ext cx="657000" cy="8316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414" h="524">
                  <a:moveTo>
                    <a:pt x="414" y="98"/>
                  </a:moveTo>
                  <a:lnTo>
                    <a:pt x="234" y="524"/>
                  </a:lnTo>
                  <a:lnTo>
                    <a:pt x="0" y="426"/>
                  </a:lnTo>
                  <a:lnTo>
                    <a:pt x="180" y="0"/>
                  </a:lnTo>
                  <a:lnTo>
                    <a:pt x="4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49"/>
            <p:cNvSpPr/>
            <p:nvPr/>
          </p:nvSpPr>
          <p:spPr>
            <a:xfrm>
              <a:off x="34839360" y="2143080"/>
              <a:ext cx="1368360" cy="90468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904680"/>
                <a:gd name="textAreaBottom" fmla="*/ 905040 h 904680"/>
              </a:gdLst>
              <a:ahLst/>
              <a:rect l="textAreaLeft" t="textAreaTop" r="textAreaRight" b="textAreaBottom"/>
              <a:pathLst>
                <a:path w="862" h="570">
                  <a:moveTo>
                    <a:pt x="862" y="366"/>
                  </a:moveTo>
                  <a:lnTo>
                    <a:pt x="862" y="366"/>
                  </a:lnTo>
                  <a:lnTo>
                    <a:pt x="834" y="364"/>
                  </a:lnTo>
                  <a:lnTo>
                    <a:pt x="808" y="364"/>
                  </a:lnTo>
                  <a:lnTo>
                    <a:pt x="784" y="366"/>
                  </a:lnTo>
                  <a:lnTo>
                    <a:pt x="760" y="372"/>
                  </a:lnTo>
                  <a:lnTo>
                    <a:pt x="740" y="378"/>
                  </a:lnTo>
                  <a:lnTo>
                    <a:pt x="720" y="386"/>
                  </a:lnTo>
                  <a:lnTo>
                    <a:pt x="700" y="398"/>
                  </a:lnTo>
                  <a:lnTo>
                    <a:pt x="684" y="410"/>
                  </a:lnTo>
                  <a:lnTo>
                    <a:pt x="668" y="424"/>
                  </a:lnTo>
                  <a:lnTo>
                    <a:pt x="654" y="440"/>
                  </a:lnTo>
                  <a:lnTo>
                    <a:pt x="642" y="458"/>
                  </a:lnTo>
                  <a:lnTo>
                    <a:pt x="632" y="476"/>
                  </a:lnTo>
                  <a:lnTo>
                    <a:pt x="624" y="498"/>
                  </a:lnTo>
                  <a:lnTo>
                    <a:pt x="616" y="520"/>
                  </a:lnTo>
                  <a:lnTo>
                    <a:pt x="612" y="544"/>
                  </a:lnTo>
                  <a:lnTo>
                    <a:pt x="608" y="57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46" y="304"/>
                  </a:lnTo>
                  <a:lnTo>
                    <a:pt x="60" y="284"/>
                  </a:lnTo>
                  <a:lnTo>
                    <a:pt x="72" y="264"/>
                  </a:lnTo>
                  <a:lnTo>
                    <a:pt x="80" y="244"/>
                  </a:lnTo>
                  <a:lnTo>
                    <a:pt x="88" y="222"/>
                  </a:lnTo>
                  <a:lnTo>
                    <a:pt x="92" y="202"/>
                  </a:lnTo>
                  <a:lnTo>
                    <a:pt x="94" y="180"/>
                  </a:lnTo>
                  <a:lnTo>
                    <a:pt x="92" y="160"/>
                  </a:lnTo>
                  <a:lnTo>
                    <a:pt x="90" y="138"/>
                  </a:lnTo>
                  <a:lnTo>
                    <a:pt x="84" y="118"/>
                  </a:lnTo>
                  <a:lnTo>
                    <a:pt x="76" y="98"/>
                  </a:lnTo>
                  <a:lnTo>
                    <a:pt x="66" y="78"/>
                  </a:lnTo>
                  <a:lnTo>
                    <a:pt x="54" y="58"/>
                  </a:lnTo>
                  <a:lnTo>
                    <a:pt x="38" y="38"/>
                  </a:lnTo>
                  <a:lnTo>
                    <a:pt x="20" y="20"/>
                  </a:lnTo>
                  <a:lnTo>
                    <a:pt x="0" y="0"/>
                  </a:lnTo>
                  <a:lnTo>
                    <a:pt x="862" y="366"/>
                  </a:lnTo>
                  <a:close/>
                </a:path>
              </a:pathLst>
            </a:custGeom>
            <a:solidFill>
              <a:srgbClr val="f9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50"/>
            <p:cNvSpPr/>
            <p:nvPr/>
          </p:nvSpPr>
          <p:spPr>
            <a:xfrm>
              <a:off x="35575920" y="828720"/>
              <a:ext cx="574560" cy="564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62" h="356">
                  <a:moveTo>
                    <a:pt x="362" y="148"/>
                  </a:moveTo>
                  <a:lnTo>
                    <a:pt x="362" y="148"/>
                  </a:lnTo>
                  <a:lnTo>
                    <a:pt x="362" y="132"/>
                  </a:lnTo>
                  <a:lnTo>
                    <a:pt x="356" y="118"/>
                  </a:lnTo>
                  <a:lnTo>
                    <a:pt x="350" y="104"/>
                  </a:lnTo>
                  <a:lnTo>
                    <a:pt x="340" y="92"/>
                  </a:lnTo>
                  <a:lnTo>
                    <a:pt x="328" y="82"/>
                  </a:lnTo>
                  <a:lnTo>
                    <a:pt x="316" y="76"/>
                  </a:lnTo>
                  <a:lnTo>
                    <a:pt x="300" y="72"/>
                  </a:lnTo>
                  <a:lnTo>
                    <a:pt x="284" y="70"/>
                  </a:lnTo>
                  <a:lnTo>
                    <a:pt x="284" y="70"/>
                  </a:lnTo>
                  <a:lnTo>
                    <a:pt x="272" y="70"/>
                  </a:lnTo>
                  <a:lnTo>
                    <a:pt x="260" y="74"/>
                  </a:lnTo>
                  <a:lnTo>
                    <a:pt x="248" y="78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38" y="78"/>
                  </a:lnTo>
                  <a:lnTo>
                    <a:pt x="238" y="78"/>
                  </a:lnTo>
                  <a:lnTo>
                    <a:pt x="238" y="62"/>
                  </a:lnTo>
                  <a:lnTo>
                    <a:pt x="232" y="48"/>
                  </a:lnTo>
                  <a:lnTo>
                    <a:pt x="226" y="36"/>
                  </a:lnTo>
                  <a:lnTo>
                    <a:pt x="216" y="24"/>
                  </a:lnTo>
                  <a:lnTo>
                    <a:pt x="204" y="14"/>
                  </a:lnTo>
                  <a:lnTo>
                    <a:pt x="192" y="6"/>
                  </a:lnTo>
                  <a:lnTo>
                    <a:pt x="17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6" y="2"/>
                  </a:lnTo>
                  <a:lnTo>
                    <a:pt x="130" y="6"/>
                  </a:lnTo>
                  <a:lnTo>
                    <a:pt x="118" y="14"/>
                  </a:lnTo>
                  <a:lnTo>
                    <a:pt x="106" y="24"/>
                  </a:lnTo>
                  <a:lnTo>
                    <a:pt x="96" y="36"/>
                  </a:lnTo>
                  <a:lnTo>
                    <a:pt x="90" y="48"/>
                  </a:lnTo>
                  <a:lnTo>
                    <a:pt x="84" y="6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92"/>
                  </a:lnTo>
                  <a:lnTo>
                    <a:pt x="88" y="104"/>
                  </a:lnTo>
                  <a:lnTo>
                    <a:pt x="88" y="104"/>
                  </a:lnTo>
                  <a:lnTo>
                    <a:pt x="78" y="104"/>
                  </a:lnTo>
                  <a:lnTo>
                    <a:pt x="78" y="104"/>
                  </a:lnTo>
                  <a:lnTo>
                    <a:pt x="62" y="106"/>
                  </a:lnTo>
                  <a:lnTo>
                    <a:pt x="48" y="110"/>
                  </a:lnTo>
                  <a:lnTo>
                    <a:pt x="36" y="118"/>
                  </a:lnTo>
                  <a:lnTo>
                    <a:pt x="24" y="126"/>
                  </a:lnTo>
                  <a:lnTo>
                    <a:pt x="14" y="138"/>
                  </a:lnTo>
                  <a:lnTo>
                    <a:pt x="6" y="152"/>
                  </a:lnTo>
                  <a:lnTo>
                    <a:pt x="2" y="166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6" y="208"/>
                  </a:lnTo>
                  <a:lnTo>
                    <a:pt x="10" y="220"/>
                  </a:lnTo>
                  <a:lnTo>
                    <a:pt x="18" y="232"/>
                  </a:lnTo>
                  <a:lnTo>
                    <a:pt x="28" y="240"/>
                  </a:lnTo>
                  <a:lnTo>
                    <a:pt x="38" y="248"/>
                  </a:lnTo>
                  <a:lnTo>
                    <a:pt x="50" y="254"/>
                  </a:lnTo>
                  <a:lnTo>
                    <a:pt x="62" y="258"/>
                  </a:lnTo>
                  <a:lnTo>
                    <a:pt x="62" y="258"/>
                  </a:lnTo>
                  <a:lnTo>
                    <a:pt x="60" y="268"/>
                  </a:lnTo>
                  <a:lnTo>
                    <a:pt x="60" y="280"/>
                  </a:lnTo>
                  <a:lnTo>
                    <a:pt x="60" y="280"/>
                  </a:lnTo>
                  <a:lnTo>
                    <a:pt x="62" y="294"/>
                  </a:lnTo>
                  <a:lnTo>
                    <a:pt x="66" y="310"/>
                  </a:lnTo>
                  <a:lnTo>
                    <a:pt x="72" y="322"/>
                  </a:lnTo>
                  <a:lnTo>
                    <a:pt x="82" y="334"/>
                  </a:lnTo>
                  <a:lnTo>
                    <a:pt x="94" y="344"/>
                  </a:lnTo>
                  <a:lnTo>
                    <a:pt x="108" y="350"/>
                  </a:lnTo>
                  <a:lnTo>
                    <a:pt x="122" y="356"/>
                  </a:lnTo>
                  <a:lnTo>
                    <a:pt x="138" y="356"/>
                  </a:lnTo>
                  <a:lnTo>
                    <a:pt x="138" y="356"/>
                  </a:lnTo>
                  <a:lnTo>
                    <a:pt x="150" y="356"/>
                  </a:lnTo>
                  <a:lnTo>
                    <a:pt x="162" y="354"/>
                  </a:lnTo>
                  <a:lnTo>
                    <a:pt x="172" y="348"/>
                  </a:lnTo>
                  <a:lnTo>
                    <a:pt x="182" y="342"/>
                  </a:lnTo>
                  <a:lnTo>
                    <a:pt x="190" y="336"/>
                  </a:lnTo>
                  <a:lnTo>
                    <a:pt x="198" y="328"/>
                  </a:lnTo>
                  <a:lnTo>
                    <a:pt x="206" y="318"/>
                  </a:lnTo>
                  <a:lnTo>
                    <a:pt x="210" y="306"/>
                  </a:lnTo>
                  <a:lnTo>
                    <a:pt x="210" y="306"/>
                  </a:lnTo>
                  <a:lnTo>
                    <a:pt x="222" y="320"/>
                  </a:lnTo>
                  <a:lnTo>
                    <a:pt x="238" y="330"/>
                  </a:lnTo>
                  <a:lnTo>
                    <a:pt x="254" y="338"/>
                  </a:lnTo>
                  <a:lnTo>
                    <a:pt x="264" y="340"/>
                  </a:lnTo>
                  <a:lnTo>
                    <a:pt x="274" y="340"/>
                  </a:lnTo>
                  <a:lnTo>
                    <a:pt x="274" y="340"/>
                  </a:lnTo>
                  <a:lnTo>
                    <a:pt x="290" y="338"/>
                  </a:lnTo>
                  <a:lnTo>
                    <a:pt x="304" y="334"/>
                  </a:lnTo>
                  <a:lnTo>
                    <a:pt x="318" y="326"/>
                  </a:lnTo>
                  <a:lnTo>
                    <a:pt x="328" y="318"/>
                  </a:lnTo>
                  <a:lnTo>
                    <a:pt x="338" y="306"/>
                  </a:lnTo>
                  <a:lnTo>
                    <a:pt x="346" y="292"/>
                  </a:lnTo>
                  <a:lnTo>
                    <a:pt x="350" y="278"/>
                  </a:lnTo>
                  <a:lnTo>
                    <a:pt x="352" y="262"/>
                  </a:lnTo>
                  <a:lnTo>
                    <a:pt x="352" y="262"/>
                  </a:lnTo>
                  <a:lnTo>
                    <a:pt x="350" y="248"/>
                  </a:lnTo>
                  <a:lnTo>
                    <a:pt x="346" y="234"/>
                  </a:lnTo>
                  <a:lnTo>
                    <a:pt x="340" y="222"/>
                  </a:lnTo>
                  <a:lnTo>
                    <a:pt x="332" y="210"/>
                  </a:lnTo>
                  <a:lnTo>
                    <a:pt x="332" y="210"/>
                  </a:lnTo>
                  <a:lnTo>
                    <a:pt x="344" y="198"/>
                  </a:lnTo>
                  <a:lnTo>
                    <a:pt x="354" y="182"/>
                  </a:lnTo>
                  <a:lnTo>
                    <a:pt x="360" y="166"/>
                  </a:lnTo>
                  <a:lnTo>
                    <a:pt x="362" y="148"/>
                  </a:lnTo>
                  <a:lnTo>
                    <a:pt x="362" y="148"/>
                  </a:lnTo>
                  <a:close/>
                  <a:moveTo>
                    <a:pt x="202" y="234"/>
                  </a:moveTo>
                  <a:lnTo>
                    <a:pt x="202" y="234"/>
                  </a:lnTo>
                  <a:lnTo>
                    <a:pt x="192" y="224"/>
                  </a:lnTo>
                  <a:lnTo>
                    <a:pt x="180" y="214"/>
                  </a:lnTo>
                  <a:lnTo>
                    <a:pt x="168" y="208"/>
                  </a:lnTo>
                  <a:lnTo>
                    <a:pt x="154" y="202"/>
                  </a:lnTo>
                  <a:lnTo>
                    <a:pt x="154" y="202"/>
                  </a:lnTo>
                  <a:lnTo>
                    <a:pt x="156" y="192"/>
                  </a:lnTo>
                  <a:lnTo>
                    <a:pt x="156" y="182"/>
                  </a:lnTo>
                  <a:lnTo>
                    <a:pt x="156" y="182"/>
                  </a:lnTo>
                  <a:lnTo>
                    <a:pt x="156" y="168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62" y="156"/>
                  </a:lnTo>
                  <a:lnTo>
                    <a:pt x="162" y="156"/>
                  </a:lnTo>
                  <a:lnTo>
                    <a:pt x="174" y="156"/>
                  </a:lnTo>
                  <a:lnTo>
                    <a:pt x="186" y="152"/>
                  </a:lnTo>
                  <a:lnTo>
                    <a:pt x="198" y="148"/>
                  </a:lnTo>
                  <a:lnTo>
                    <a:pt x="208" y="142"/>
                  </a:lnTo>
                  <a:lnTo>
                    <a:pt x="208" y="142"/>
                  </a:lnTo>
                  <a:lnTo>
                    <a:pt x="208" y="148"/>
                  </a:lnTo>
                  <a:lnTo>
                    <a:pt x="208" y="148"/>
                  </a:lnTo>
                  <a:lnTo>
                    <a:pt x="208" y="162"/>
                  </a:lnTo>
                  <a:lnTo>
                    <a:pt x="212" y="176"/>
                  </a:lnTo>
                  <a:lnTo>
                    <a:pt x="218" y="188"/>
                  </a:lnTo>
                  <a:lnTo>
                    <a:pt x="228" y="200"/>
                  </a:lnTo>
                  <a:lnTo>
                    <a:pt x="228" y="200"/>
                  </a:lnTo>
                  <a:lnTo>
                    <a:pt x="220" y="206"/>
                  </a:lnTo>
                  <a:lnTo>
                    <a:pt x="212" y="216"/>
                  </a:lnTo>
                  <a:lnTo>
                    <a:pt x="206" y="224"/>
                  </a:lnTo>
                  <a:lnTo>
                    <a:pt x="202" y="234"/>
                  </a:lnTo>
                  <a:lnTo>
                    <a:pt x="202" y="234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1"/>
            <p:cNvSpPr/>
            <p:nvPr/>
          </p:nvSpPr>
          <p:spPr>
            <a:xfrm>
              <a:off x="35715600" y="1854000"/>
              <a:ext cx="574560" cy="564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62" h="356">
                  <a:moveTo>
                    <a:pt x="362" y="146"/>
                  </a:moveTo>
                  <a:lnTo>
                    <a:pt x="362" y="146"/>
                  </a:lnTo>
                  <a:lnTo>
                    <a:pt x="360" y="130"/>
                  </a:lnTo>
                  <a:lnTo>
                    <a:pt x="356" y="116"/>
                  </a:lnTo>
                  <a:lnTo>
                    <a:pt x="348" y="102"/>
                  </a:lnTo>
                  <a:lnTo>
                    <a:pt x="338" y="92"/>
                  </a:lnTo>
                  <a:lnTo>
                    <a:pt x="326" y="82"/>
                  </a:lnTo>
                  <a:lnTo>
                    <a:pt x="314" y="74"/>
                  </a:lnTo>
                  <a:lnTo>
                    <a:pt x="300" y="70"/>
                  </a:lnTo>
                  <a:lnTo>
                    <a:pt x="284" y="68"/>
                  </a:lnTo>
                  <a:lnTo>
                    <a:pt x="284" y="68"/>
                  </a:lnTo>
                  <a:lnTo>
                    <a:pt x="270" y="70"/>
                  </a:lnTo>
                  <a:lnTo>
                    <a:pt x="258" y="72"/>
                  </a:lnTo>
                  <a:lnTo>
                    <a:pt x="248" y="78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38" y="78"/>
                  </a:lnTo>
                  <a:lnTo>
                    <a:pt x="238" y="78"/>
                  </a:lnTo>
                  <a:lnTo>
                    <a:pt x="236" y="62"/>
                  </a:lnTo>
                  <a:lnTo>
                    <a:pt x="232" y="48"/>
                  </a:lnTo>
                  <a:lnTo>
                    <a:pt x="224" y="34"/>
                  </a:lnTo>
                  <a:lnTo>
                    <a:pt x="214" y="22"/>
                  </a:lnTo>
                  <a:lnTo>
                    <a:pt x="204" y="12"/>
                  </a:lnTo>
                  <a:lnTo>
                    <a:pt x="190" y="6"/>
                  </a:lnTo>
                  <a:lnTo>
                    <a:pt x="176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4" y="2"/>
                  </a:lnTo>
                  <a:lnTo>
                    <a:pt x="130" y="6"/>
                  </a:lnTo>
                  <a:lnTo>
                    <a:pt x="116" y="12"/>
                  </a:lnTo>
                  <a:lnTo>
                    <a:pt x="104" y="22"/>
                  </a:lnTo>
                  <a:lnTo>
                    <a:pt x="96" y="34"/>
                  </a:lnTo>
                  <a:lnTo>
                    <a:pt x="88" y="48"/>
                  </a:lnTo>
                  <a:lnTo>
                    <a:pt x="84" y="62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2" y="9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62" y="104"/>
                  </a:lnTo>
                  <a:lnTo>
                    <a:pt x="46" y="108"/>
                  </a:lnTo>
                  <a:lnTo>
                    <a:pt x="34" y="116"/>
                  </a:lnTo>
                  <a:lnTo>
                    <a:pt x="22" y="126"/>
                  </a:lnTo>
                  <a:lnTo>
                    <a:pt x="12" y="138"/>
                  </a:lnTo>
                  <a:lnTo>
                    <a:pt x="6" y="150"/>
                  </a:lnTo>
                  <a:lnTo>
                    <a:pt x="0" y="164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4"/>
                  </a:lnTo>
                  <a:lnTo>
                    <a:pt x="4" y="208"/>
                  </a:lnTo>
                  <a:lnTo>
                    <a:pt x="10" y="220"/>
                  </a:lnTo>
                  <a:lnTo>
                    <a:pt x="16" y="230"/>
                  </a:lnTo>
                  <a:lnTo>
                    <a:pt x="26" y="240"/>
                  </a:lnTo>
                  <a:lnTo>
                    <a:pt x="36" y="248"/>
                  </a:lnTo>
                  <a:lnTo>
                    <a:pt x="48" y="252"/>
                  </a:lnTo>
                  <a:lnTo>
                    <a:pt x="62" y="256"/>
                  </a:lnTo>
                  <a:lnTo>
                    <a:pt x="62" y="256"/>
                  </a:lnTo>
                  <a:lnTo>
                    <a:pt x="58" y="268"/>
                  </a:lnTo>
                  <a:lnTo>
                    <a:pt x="58" y="278"/>
                  </a:lnTo>
                  <a:lnTo>
                    <a:pt x="58" y="278"/>
                  </a:lnTo>
                  <a:lnTo>
                    <a:pt x="60" y="294"/>
                  </a:lnTo>
                  <a:lnTo>
                    <a:pt x="64" y="308"/>
                  </a:lnTo>
                  <a:lnTo>
                    <a:pt x="72" y="322"/>
                  </a:lnTo>
                  <a:lnTo>
                    <a:pt x="80" y="332"/>
                  </a:lnTo>
                  <a:lnTo>
                    <a:pt x="92" y="342"/>
                  </a:lnTo>
                  <a:lnTo>
                    <a:pt x="106" y="350"/>
                  </a:lnTo>
                  <a:lnTo>
                    <a:pt x="120" y="354"/>
                  </a:lnTo>
                  <a:lnTo>
                    <a:pt x="136" y="356"/>
                  </a:lnTo>
                  <a:lnTo>
                    <a:pt x="136" y="356"/>
                  </a:lnTo>
                  <a:lnTo>
                    <a:pt x="148" y="354"/>
                  </a:lnTo>
                  <a:lnTo>
                    <a:pt x="160" y="352"/>
                  </a:lnTo>
                  <a:lnTo>
                    <a:pt x="170" y="348"/>
                  </a:lnTo>
                  <a:lnTo>
                    <a:pt x="180" y="342"/>
                  </a:lnTo>
                  <a:lnTo>
                    <a:pt x="190" y="334"/>
                  </a:lnTo>
                  <a:lnTo>
                    <a:pt x="198" y="326"/>
                  </a:lnTo>
                  <a:lnTo>
                    <a:pt x="204" y="316"/>
                  </a:lnTo>
                  <a:lnTo>
                    <a:pt x="208" y="306"/>
                  </a:lnTo>
                  <a:lnTo>
                    <a:pt x="208" y="306"/>
                  </a:lnTo>
                  <a:lnTo>
                    <a:pt x="220" y="320"/>
                  </a:lnTo>
                  <a:lnTo>
                    <a:pt x="236" y="330"/>
                  </a:lnTo>
                  <a:lnTo>
                    <a:pt x="254" y="336"/>
                  </a:lnTo>
                  <a:lnTo>
                    <a:pt x="262" y="338"/>
                  </a:lnTo>
                  <a:lnTo>
                    <a:pt x="272" y="338"/>
                  </a:lnTo>
                  <a:lnTo>
                    <a:pt x="272" y="338"/>
                  </a:lnTo>
                  <a:lnTo>
                    <a:pt x="288" y="338"/>
                  </a:lnTo>
                  <a:lnTo>
                    <a:pt x="302" y="332"/>
                  </a:lnTo>
                  <a:lnTo>
                    <a:pt x="316" y="326"/>
                  </a:lnTo>
                  <a:lnTo>
                    <a:pt x="328" y="316"/>
                  </a:lnTo>
                  <a:lnTo>
                    <a:pt x="336" y="304"/>
                  </a:lnTo>
                  <a:lnTo>
                    <a:pt x="344" y="292"/>
                  </a:lnTo>
                  <a:lnTo>
                    <a:pt x="348" y="276"/>
                  </a:lnTo>
                  <a:lnTo>
                    <a:pt x="350" y="260"/>
                  </a:lnTo>
                  <a:lnTo>
                    <a:pt x="350" y="260"/>
                  </a:lnTo>
                  <a:lnTo>
                    <a:pt x="348" y="246"/>
                  </a:lnTo>
                  <a:lnTo>
                    <a:pt x="344" y="232"/>
                  </a:lnTo>
                  <a:lnTo>
                    <a:pt x="338" y="220"/>
                  </a:lnTo>
                  <a:lnTo>
                    <a:pt x="330" y="208"/>
                  </a:lnTo>
                  <a:lnTo>
                    <a:pt x="330" y="208"/>
                  </a:lnTo>
                  <a:lnTo>
                    <a:pt x="342" y="196"/>
                  </a:lnTo>
                  <a:lnTo>
                    <a:pt x="352" y="182"/>
                  </a:lnTo>
                  <a:lnTo>
                    <a:pt x="358" y="164"/>
                  </a:lnTo>
                  <a:lnTo>
                    <a:pt x="362" y="146"/>
                  </a:lnTo>
                  <a:lnTo>
                    <a:pt x="362" y="146"/>
                  </a:lnTo>
                  <a:close/>
                  <a:moveTo>
                    <a:pt x="200" y="234"/>
                  </a:moveTo>
                  <a:lnTo>
                    <a:pt x="200" y="234"/>
                  </a:lnTo>
                  <a:lnTo>
                    <a:pt x="190" y="222"/>
                  </a:lnTo>
                  <a:lnTo>
                    <a:pt x="178" y="212"/>
                  </a:lnTo>
                  <a:lnTo>
                    <a:pt x="166" y="206"/>
                  </a:lnTo>
                  <a:lnTo>
                    <a:pt x="152" y="202"/>
                  </a:lnTo>
                  <a:lnTo>
                    <a:pt x="152" y="202"/>
                  </a:lnTo>
                  <a:lnTo>
                    <a:pt x="154" y="192"/>
                  </a:lnTo>
                  <a:lnTo>
                    <a:pt x="154" y="180"/>
                  </a:lnTo>
                  <a:lnTo>
                    <a:pt x="154" y="180"/>
                  </a:lnTo>
                  <a:lnTo>
                    <a:pt x="154" y="168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60" y="156"/>
                  </a:lnTo>
                  <a:lnTo>
                    <a:pt x="160" y="156"/>
                  </a:lnTo>
                  <a:lnTo>
                    <a:pt x="172" y="154"/>
                  </a:lnTo>
                  <a:lnTo>
                    <a:pt x="184" y="152"/>
                  </a:lnTo>
                  <a:lnTo>
                    <a:pt x="196" y="146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6" y="146"/>
                  </a:lnTo>
                  <a:lnTo>
                    <a:pt x="206" y="146"/>
                  </a:lnTo>
                  <a:lnTo>
                    <a:pt x="206" y="160"/>
                  </a:lnTo>
                  <a:lnTo>
                    <a:pt x="212" y="174"/>
                  </a:lnTo>
                  <a:lnTo>
                    <a:pt x="218" y="188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18" y="206"/>
                  </a:lnTo>
                  <a:lnTo>
                    <a:pt x="210" y="214"/>
                  </a:lnTo>
                  <a:lnTo>
                    <a:pt x="204" y="224"/>
                  </a:lnTo>
                  <a:lnTo>
                    <a:pt x="200" y="234"/>
                  </a:lnTo>
                  <a:lnTo>
                    <a:pt x="200" y="2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52"/>
            <p:cNvSpPr/>
            <p:nvPr/>
          </p:nvSpPr>
          <p:spPr>
            <a:xfrm>
              <a:off x="35404560" y="210492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100"/>
                  </a:lnTo>
                  <a:lnTo>
                    <a:pt x="70" y="96"/>
                  </a:lnTo>
                  <a:lnTo>
                    <a:pt x="78" y="92"/>
                  </a:lnTo>
                  <a:lnTo>
                    <a:pt x="86" y="86"/>
                  </a:lnTo>
                  <a:lnTo>
                    <a:pt x="92" y="78"/>
                  </a:lnTo>
                  <a:lnTo>
                    <a:pt x="96" y="70"/>
                  </a:lnTo>
                  <a:lnTo>
                    <a:pt x="100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40"/>
                  </a:lnTo>
                  <a:lnTo>
                    <a:pt x="96" y="32"/>
                  </a:lnTo>
                  <a:lnTo>
                    <a:pt x="92" y="22"/>
                  </a:lnTo>
                  <a:lnTo>
                    <a:pt x="86" y="16"/>
                  </a:lnTo>
                  <a:lnTo>
                    <a:pt x="78" y="10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2" y="10"/>
                  </a:lnTo>
                  <a:lnTo>
                    <a:pt x="16" y="16"/>
                  </a:lnTo>
                  <a:lnTo>
                    <a:pt x="10" y="22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4" y="70"/>
                  </a:lnTo>
                  <a:lnTo>
                    <a:pt x="10" y="78"/>
                  </a:lnTo>
                  <a:lnTo>
                    <a:pt x="16" y="86"/>
                  </a:lnTo>
                  <a:lnTo>
                    <a:pt x="22" y="92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53"/>
            <p:cNvSpPr/>
            <p:nvPr/>
          </p:nvSpPr>
          <p:spPr>
            <a:xfrm>
              <a:off x="36404640" y="146664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98"/>
                  </a:lnTo>
                  <a:lnTo>
                    <a:pt x="70" y="96"/>
                  </a:lnTo>
                  <a:lnTo>
                    <a:pt x="78" y="90"/>
                  </a:lnTo>
                  <a:lnTo>
                    <a:pt x="86" y="84"/>
                  </a:lnTo>
                  <a:lnTo>
                    <a:pt x="92" y="78"/>
                  </a:lnTo>
                  <a:lnTo>
                    <a:pt x="96" y="68"/>
                  </a:lnTo>
                  <a:lnTo>
                    <a:pt x="98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40"/>
                  </a:lnTo>
                  <a:lnTo>
                    <a:pt x="96" y="30"/>
                  </a:lnTo>
                  <a:lnTo>
                    <a:pt x="92" y="22"/>
                  </a:lnTo>
                  <a:lnTo>
                    <a:pt x="86" y="14"/>
                  </a:lnTo>
                  <a:lnTo>
                    <a:pt x="78" y="8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" y="68"/>
                  </a:lnTo>
                  <a:lnTo>
                    <a:pt x="8" y="78"/>
                  </a:lnTo>
                  <a:lnTo>
                    <a:pt x="14" y="84"/>
                  </a:lnTo>
                  <a:lnTo>
                    <a:pt x="22" y="90"/>
                  </a:lnTo>
                  <a:lnTo>
                    <a:pt x="30" y="96"/>
                  </a:lnTo>
                  <a:lnTo>
                    <a:pt x="40" y="98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a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54"/>
            <p:cNvSpPr/>
            <p:nvPr/>
          </p:nvSpPr>
          <p:spPr>
            <a:xfrm>
              <a:off x="35299800" y="1425600"/>
              <a:ext cx="158760" cy="158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0" h="100">
                  <a:moveTo>
                    <a:pt x="50" y="100"/>
                  </a:moveTo>
                  <a:lnTo>
                    <a:pt x="50" y="100"/>
                  </a:lnTo>
                  <a:lnTo>
                    <a:pt x="60" y="100"/>
                  </a:lnTo>
                  <a:lnTo>
                    <a:pt x="70" y="96"/>
                  </a:lnTo>
                  <a:lnTo>
                    <a:pt x="78" y="92"/>
                  </a:lnTo>
                  <a:lnTo>
                    <a:pt x="86" y="86"/>
                  </a:lnTo>
                  <a:lnTo>
                    <a:pt x="92" y="78"/>
                  </a:lnTo>
                  <a:lnTo>
                    <a:pt x="96" y="70"/>
                  </a:lnTo>
                  <a:lnTo>
                    <a:pt x="98" y="6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98" y="40"/>
                  </a:lnTo>
                  <a:lnTo>
                    <a:pt x="96" y="30"/>
                  </a:lnTo>
                  <a:lnTo>
                    <a:pt x="92" y="22"/>
                  </a:lnTo>
                  <a:lnTo>
                    <a:pt x="86" y="14"/>
                  </a:lnTo>
                  <a:lnTo>
                    <a:pt x="78" y="8"/>
                  </a:lnTo>
                  <a:lnTo>
                    <a:pt x="70" y="4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4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" y="70"/>
                  </a:lnTo>
                  <a:lnTo>
                    <a:pt x="8" y="78"/>
                  </a:lnTo>
                  <a:lnTo>
                    <a:pt x="14" y="86"/>
                  </a:lnTo>
                  <a:lnTo>
                    <a:pt x="22" y="92"/>
                  </a:lnTo>
                  <a:lnTo>
                    <a:pt x="30" y="96"/>
                  </a:lnTo>
                  <a:lnTo>
                    <a:pt x="40" y="100"/>
                  </a:lnTo>
                  <a:lnTo>
                    <a:pt x="50" y="100"/>
                  </a:lnTo>
                  <a:lnTo>
                    <a:pt x="50" y="100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55"/>
            <p:cNvSpPr/>
            <p:nvPr/>
          </p:nvSpPr>
          <p:spPr>
            <a:xfrm>
              <a:off x="34963200" y="1698480"/>
              <a:ext cx="1463760" cy="31104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22" h="196">
                  <a:moveTo>
                    <a:pt x="40" y="100"/>
                  </a:moveTo>
                  <a:lnTo>
                    <a:pt x="40" y="100"/>
                  </a:lnTo>
                  <a:lnTo>
                    <a:pt x="28" y="106"/>
                  </a:lnTo>
                  <a:lnTo>
                    <a:pt x="16" y="114"/>
                  </a:lnTo>
                  <a:lnTo>
                    <a:pt x="8" y="122"/>
                  </a:lnTo>
                  <a:lnTo>
                    <a:pt x="4" y="132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8"/>
                  </a:lnTo>
                  <a:lnTo>
                    <a:pt x="4" y="166"/>
                  </a:lnTo>
                  <a:lnTo>
                    <a:pt x="8" y="174"/>
                  </a:lnTo>
                  <a:lnTo>
                    <a:pt x="12" y="180"/>
                  </a:lnTo>
                  <a:lnTo>
                    <a:pt x="18" y="186"/>
                  </a:lnTo>
                  <a:lnTo>
                    <a:pt x="26" y="190"/>
                  </a:lnTo>
                  <a:lnTo>
                    <a:pt x="34" y="194"/>
                  </a:lnTo>
                  <a:lnTo>
                    <a:pt x="44" y="196"/>
                  </a:lnTo>
                  <a:lnTo>
                    <a:pt x="52" y="194"/>
                  </a:lnTo>
                  <a:lnTo>
                    <a:pt x="62" y="192"/>
                  </a:lnTo>
                  <a:lnTo>
                    <a:pt x="62" y="192"/>
                  </a:lnTo>
                  <a:lnTo>
                    <a:pt x="124" y="166"/>
                  </a:lnTo>
                  <a:lnTo>
                    <a:pt x="220" y="132"/>
                  </a:lnTo>
                  <a:lnTo>
                    <a:pt x="276" y="112"/>
                  </a:lnTo>
                  <a:lnTo>
                    <a:pt x="334" y="96"/>
                  </a:lnTo>
                  <a:lnTo>
                    <a:pt x="390" y="8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98" y="64"/>
                  </a:lnTo>
                  <a:lnTo>
                    <a:pt x="558" y="56"/>
                  </a:lnTo>
                  <a:lnTo>
                    <a:pt x="686" y="46"/>
                  </a:lnTo>
                  <a:lnTo>
                    <a:pt x="748" y="44"/>
                  </a:lnTo>
                  <a:lnTo>
                    <a:pt x="802" y="42"/>
                  </a:lnTo>
                  <a:lnTo>
                    <a:pt x="848" y="42"/>
                  </a:lnTo>
                  <a:lnTo>
                    <a:pt x="882" y="42"/>
                  </a:lnTo>
                  <a:lnTo>
                    <a:pt x="882" y="42"/>
                  </a:lnTo>
                  <a:lnTo>
                    <a:pt x="894" y="44"/>
                  </a:lnTo>
                  <a:lnTo>
                    <a:pt x="904" y="44"/>
                  </a:lnTo>
                  <a:lnTo>
                    <a:pt x="912" y="42"/>
                  </a:lnTo>
                  <a:lnTo>
                    <a:pt x="916" y="40"/>
                  </a:lnTo>
                  <a:lnTo>
                    <a:pt x="920" y="36"/>
                  </a:lnTo>
                  <a:lnTo>
                    <a:pt x="922" y="32"/>
                  </a:lnTo>
                  <a:lnTo>
                    <a:pt x="922" y="28"/>
                  </a:lnTo>
                  <a:lnTo>
                    <a:pt x="920" y="24"/>
                  </a:lnTo>
                  <a:lnTo>
                    <a:pt x="912" y="16"/>
                  </a:lnTo>
                  <a:lnTo>
                    <a:pt x="898" y="8"/>
                  </a:lnTo>
                  <a:lnTo>
                    <a:pt x="882" y="2"/>
                  </a:lnTo>
                  <a:lnTo>
                    <a:pt x="862" y="0"/>
                  </a:lnTo>
                  <a:lnTo>
                    <a:pt x="862" y="0"/>
                  </a:lnTo>
                  <a:lnTo>
                    <a:pt x="726" y="4"/>
                  </a:lnTo>
                  <a:lnTo>
                    <a:pt x="642" y="6"/>
                  </a:lnTo>
                  <a:lnTo>
                    <a:pt x="564" y="8"/>
                  </a:lnTo>
                  <a:lnTo>
                    <a:pt x="564" y="8"/>
                  </a:lnTo>
                  <a:lnTo>
                    <a:pt x="520" y="10"/>
                  </a:lnTo>
                  <a:lnTo>
                    <a:pt x="460" y="14"/>
                  </a:lnTo>
                  <a:lnTo>
                    <a:pt x="388" y="22"/>
                  </a:lnTo>
                  <a:lnTo>
                    <a:pt x="310" y="32"/>
                  </a:lnTo>
                  <a:lnTo>
                    <a:pt x="232" y="46"/>
                  </a:lnTo>
                  <a:lnTo>
                    <a:pt x="156" y="62"/>
                  </a:lnTo>
                  <a:lnTo>
                    <a:pt x="122" y="70"/>
                  </a:lnTo>
                  <a:lnTo>
                    <a:pt x="92" y="80"/>
                  </a:lnTo>
                  <a:lnTo>
                    <a:pt x="64" y="90"/>
                  </a:lnTo>
                  <a:lnTo>
                    <a:pt x="40" y="100"/>
                  </a:lnTo>
                  <a:lnTo>
                    <a:pt x="40" y="100"/>
                  </a:lnTo>
                  <a:close/>
                </a:path>
              </a:pathLst>
            </a:custGeom>
            <a:solidFill>
              <a:srgbClr val="c3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56"/>
            <p:cNvSpPr/>
            <p:nvPr/>
          </p:nvSpPr>
          <p:spPr>
            <a:xfrm>
              <a:off x="35226720" y="1311120"/>
              <a:ext cx="1257120" cy="84456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792" h="532">
                  <a:moveTo>
                    <a:pt x="20" y="444"/>
                  </a:moveTo>
                  <a:lnTo>
                    <a:pt x="20" y="444"/>
                  </a:lnTo>
                  <a:lnTo>
                    <a:pt x="10" y="456"/>
                  </a:lnTo>
                  <a:lnTo>
                    <a:pt x="4" y="468"/>
                  </a:lnTo>
                  <a:lnTo>
                    <a:pt x="0" y="478"/>
                  </a:lnTo>
                  <a:lnTo>
                    <a:pt x="0" y="488"/>
                  </a:lnTo>
                  <a:lnTo>
                    <a:pt x="0" y="498"/>
                  </a:lnTo>
                  <a:lnTo>
                    <a:pt x="4" y="506"/>
                  </a:lnTo>
                  <a:lnTo>
                    <a:pt x="8" y="514"/>
                  </a:lnTo>
                  <a:lnTo>
                    <a:pt x="14" y="520"/>
                  </a:lnTo>
                  <a:lnTo>
                    <a:pt x="20" y="526"/>
                  </a:lnTo>
                  <a:lnTo>
                    <a:pt x="28" y="530"/>
                  </a:lnTo>
                  <a:lnTo>
                    <a:pt x="36" y="532"/>
                  </a:lnTo>
                  <a:lnTo>
                    <a:pt x="44" y="532"/>
                  </a:lnTo>
                  <a:lnTo>
                    <a:pt x="54" y="532"/>
                  </a:lnTo>
                  <a:lnTo>
                    <a:pt x="62" y="530"/>
                  </a:lnTo>
                  <a:lnTo>
                    <a:pt x="70" y="524"/>
                  </a:lnTo>
                  <a:lnTo>
                    <a:pt x="76" y="518"/>
                  </a:lnTo>
                  <a:lnTo>
                    <a:pt x="76" y="518"/>
                  </a:lnTo>
                  <a:lnTo>
                    <a:pt x="122" y="470"/>
                  </a:lnTo>
                  <a:lnTo>
                    <a:pt x="196" y="396"/>
                  </a:lnTo>
                  <a:lnTo>
                    <a:pt x="240" y="356"/>
                  </a:lnTo>
                  <a:lnTo>
                    <a:pt x="284" y="318"/>
                  </a:lnTo>
                  <a:lnTo>
                    <a:pt x="330" y="280"/>
                  </a:lnTo>
                  <a:lnTo>
                    <a:pt x="374" y="248"/>
                  </a:lnTo>
                  <a:lnTo>
                    <a:pt x="374" y="248"/>
                  </a:lnTo>
                  <a:lnTo>
                    <a:pt x="420" y="218"/>
                  </a:lnTo>
                  <a:lnTo>
                    <a:pt x="472" y="188"/>
                  </a:lnTo>
                  <a:lnTo>
                    <a:pt x="584" y="124"/>
                  </a:lnTo>
                  <a:lnTo>
                    <a:pt x="638" y="96"/>
                  </a:lnTo>
                  <a:lnTo>
                    <a:pt x="686" y="70"/>
                  </a:lnTo>
                  <a:lnTo>
                    <a:pt x="728" y="52"/>
                  </a:lnTo>
                  <a:lnTo>
                    <a:pt x="760" y="38"/>
                  </a:lnTo>
                  <a:lnTo>
                    <a:pt x="760" y="38"/>
                  </a:lnTo>
                  <a:lnTo>
                    <a:pt x="770" y="34"/>
                  </a:lnTo>
                  <a:lnTo>
                    <a:pt x="780" y="30"/>
                  </a:lnTo>
                  <a:lnTo>
                    <a:pt x="786" y="26"/>
                  </a:lnTo>
                  <a:lnTo>
                    <a:pt x="790" y="22"/>
                  </a:lnTo>
                  <a:lnTo>
                    <a:pt x="792" y="16"/>
                  </a:lnTo>
                  <a:lnTo>
                    <a:pt x="790" y="12"/>
                  </a:lnTo>
                  <a:lnTo>
                    <a:pt x="790" y="10"/>
                  </a:lnTo>
                  <a:lnTo>
                    <a:pt x="786" y="6"/>
                  </a:lnTo>
                  <a:lnTo>
                    <a:pt x="774" y="2"/>
                  </a:lnTo>
                  <a:lnTo>
                    <a:pt x="760" y="0"/>
                  </a:lnTo>
                  <a:lnTo>
                    <a:pt x="742" y="2"/>
                  </a:lnTo>
                  <a:lnTo>
                    <a:pt x="722" y="10"/>
                  </a:lnTo>
                  <a:lnTo>
                    <a:pt x="722" y="10"/>
                  </a:lnTo>
                  <a:lnTo>
                    <a:pt x="602" y="70"/>
                  </a:lnTo>
                  <a:lnTo>
                    <a:pt x="526" y="106"/>
                  </a:lnTo>
                  <a:lnTo>
                    <a:pt x="456" y="140"/>
                  </a:lnTo>
                  <a:lnTo>
                    <a:pt x="456" y="140"/>
                  </a:lnTo>
                  <a:lnTo>
                    <a:pt x="416" y="160"/>
                  </a:lnTo>
                  <a:lnTo>
                    <a:pt x="364" y="190"/>
                  </a:lnTo>
                  <a:lnTo>
                    <a:pt x="302" y="228"/>
                  </a:lnTo>
                  <a:lnTo>
                    <a:pt x="236" y="270"/>
                  </a:lnTo>
                  <a:lnTo>
                    <a:pt x="170" y="314"/>
                  </a:lnTo>
                  <a:lnTo>
                    <a:pt x="108" y="360"/>
                  </a:lnTo>
                  <a:lnTo>
                    <a:pt x="82" y="382"/>
                  </a:lnTo>
                  <a:lnTo>
                    <a:pt x="58" y="404"/>
                  </a:lnTo>
                  <a:lnTo>
                    <a:pt x="36" y="424"/>
                  </a:lnTo>
                  <a:lnTo>
                    <a:pt x="2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c3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57"/>
            <p:cNvSpPr/>
            <p:nvPr/>
          </p:nvSpPr>
          <p:spPr>
            <a:xfrm>
              <a:off x="35023320" y="2301840"/>
              <a:ext cx="234720" cy="4316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48" h="272">
                  <a:moveTo>
                    <a:pt x="120" y="0"/>
                  </a:moveTo>
                  <a:lnTo>
                    <a:pt x="0" y="260"/>
                  </a:lnTo>
                  <a:lnTo>
                    <a:pt x="28" y="272"/>
                  </a:lnTo>
                  <a:lnTo>
                    <a:pt x="148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58"/>
            <p:cNvSpPr/>
            <p:nvPr/>
          </p:nvSpPr>
          <p:spPr>
            <a:xfrm>
              <a:off x="35220240" y="2381400"/>
              <a:ext cx="228600" cy="438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44" h="276">
                  <a:moveTo>
                    <a:pt x="116" y="0"/>
                  </a:moveTo>
                  <a:lnTo>
                    <a:pt x="0" y="262"/>
                  </a:lnTo>
                  <a:lnTo>
                    <a:pt x="28" y="276"/>
                  </a:lnTo>
                  <a:lnTo>
                    <a:pt x="144" y="1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59"/>
            <p:cNvSpPr/>
            <p:nvPr/>
          </p:nvSpPr>
          <p:spPr>
            <a:xfrm>
              <a:off x="35401320" y="2463840"/>
              <a:ext cx="241200" cy="4316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2" h="272">
                  <a:moveTo>
                    <a:pt x="120" y="0"/>
                  </a:moveTo>
                  <a:lnTo>
                    <a:pt x="0" y="258"/>
                  </a:lnTo>
                  <a:lnTo>
                    <a:pt x="30" y="272"/>
                  </a:lnTo>
                  <a:lnTo>
                    <a:pt x="152" y="1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60"/>
            <p:cNvSpPr/>
            <p:nvPr/>
          </p:nvSpPr>
          <p:spPr>
            <a:xfrm>
              <a:off x="35591760" y="2533680"/>
              <a:ext cx="244440" cy="4474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54" h="282">
                  <a:moveTo>
                    <a:pt x="126" y="0"/>
                  </a:moveTo>
                  <a:lnTo>
                    <a:pt x="0" y="268"/>
                  </a:lnTo>
                  <a:lnTo>
                    <a:pt x="28" y="282"/>
                  </a:lnTo>
                  <a:lnTo>
                    <a:pt x="154" y="12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61"/>
            <p:cNvSpPr/>
            <p:nvPr/>
          </p:nvSpPr>
          <p:spPr>
            <a:xfrm>
              <a:off x="34886880" y="2657520"/>
              <a:ext cx="917640" cy="52992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578" h="334">
                  <a:moveTo>
                    <a:pt x="578" y="246"/>
                  </a:moveTo>
                  <a:lnTo>
                    <a:pt x="578" y="246"/>
                  </a:lnTo>
                  <a:lnTo>
                    <a:pt x="554" y="236"/>
                  </a:lnTo>
                  <a:lnTo>
                    <a:pt x="532" y="230"/>
                  </a:lnTo>
                  <a:lnTo>
                    <a:pt x="510" y="228"/>
                  </a:lnTo>
                  <a:lnTo>
                    <a:pt x="490" y="226"/>
                  </a:lnTo>
                  <a:lnTo>
                    <a:pt x="470" y="228"/>
                  </a:lnTo>
                  <a:lnTo>
                    <a:pt x="452" y="232"/>
                  </a:lnTo>
                  <a:lnTo>
                    <a:pt x="434" y="238"/>
                  </a:lnTo>
                  <a:lnTo>
                    <a:pt x="418" y="244"/>
                  </a:lnTo>
                  <a:lnTo>
                    <a:pt x="404" y="252"/>
                  </a:lnTo>
                  <a:lnTo>
                    <a:pt x="392" y="262"/>
                  </a:lnTo>
                  <a:lnTo>
                    <a:pt x="380" y="274"/>
                  </a:lnTo>
                  <a:lnTo>
                    <a:pt x="368" y="284"/>
                  </a:lnTo>
                  <a:lnTo>
                    <a:pt x="358" y="298"/>
                  </a:lnTo>
                  <a:lnTo>
                    <a:pt x="350" y="310"/>
                  </a:lnTo>
                  <a:lnTo>
                    <a:pt x="338" y="334"/>
                  </a:lnTo>
                  <a:lnTo>
                    <a:pt x="104" y="236"/>
                  </a:lnTo>
                  <a:lnTo>
                    <a:pt x="104" y="236"/>
                  </a:lnTo>
                  <a:lnTo>
                    <a:pt x="114" y="210"/>
                  </a:lnTo>
                  <a:lnTo>
                    <a:pt x="116" y="194"/>
                  </a:lnTo>
                  <a:lnTo>
                    <a:pt x="118" y="180"/>
                  </a:lnTo>
                  <a:lnTo>
                    <a:pt x="120" y="164"/>
                  </a:lnTo>
                  <a:lnTo>
                    <a:pt x="118" y="148"/>
                  </a:lnTo>
                  <a:lnTo>
                    <a:pt x="116" y="130"/>
                  </a:lnTo>
                  <a:lnTo>
                    <a:pt x="112" y="114"/>
                  </a:lnTo>
                  <a:lnTo>
                    <a:pt x="106" y="98"/>
                  </a:lnTo>
                  <a:lnTo>
                    <a:pt x="98" y="82"/>
                  </a:lnTo>
                  <a:lnTo>
                    <a:pt x="88" y="66"/>
                  </a:lnTo>
                  <a:lnTo>
                    <a:pt x="76" y="52"/>
                  </a:lnTo>
                  <a:lnTo>
                    <a:pt x="62" y="38"/>
                  </a:lnTo>
                  <a:lnTo>
                    <a:pt x="44" y="24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578" y="24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62"/>
            <p:cNvSpPr/>
            <p:nvPr/>
          </p:nvSpPr>
          <p:spPr>
            <a:xfrm>
              <a:off x="35715600" y="1854000"/>
              <a:ext cx="574560" cy="564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62" h="356">
                  <a:moveTo>
                    <a:pt x="362" y="146"/>
                  </a:moveTo>
                  <a:lnTo>
                    <a:pt x="362" y="146"/>
                  </a:lnTo>
                  <a:lnTo>
                    <a:pt x="360" y="130"/>
                  </a:lnTo>
                  <a:lnTo>
                    <a:pt x="356" y="116"/>
                  </a:lnTo>
                  <a:lnTo>
                    <a:pt x="348" y="102"/>
                  </a:lnTo>
                  <a:lnTo>
                    <a:pt x="338" y="92"/>
                  </a:lnTo>
                  <a:lnTo>
                    <a:pt x="326" y="82"/>
                  </a:lnTo>
                  <a:lnTo>
                    <a:pt x="314" y="74"/>
                  </a:lnTo>
                  <a:lnTo>
                    <a:pt x="300" y="70"/>
                  </a:lnTo>
                  <a:lnTo>
                    <a:pt x="284" y="68"/>
                  </a:lnTo>
                  <a:lnTo>
                    <a:pt x="284" y="68"/>
                  </a:lnTo>
                  <a:lnTo>
                    <a:pt x="270" y="70"/>
                  </a:lnTo>
                  <a:lnTo>
                    <a:pt x="258" y="72"/>
                  </a:lnTo>
                  <a:lnTo>
                    <a:pt x="248" y="78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38" y="78"/>
                  </a:lnTo>
                  <a:lnTo>
                    <a:pt x="238" y="78"/>
                  </a:lnTo>
                  <a:lnTo>
                    <a:pt x="236" y="62"/>
                  </a:lnTo>
                  <a:lnTo>
                    <a:pt x="232" y="48"/>
                  </a:lnTo>
                  <a:lnTo>
                    <a:pt x="224" y="34"/>
                  </a:lnTo>
                  <a:lnTo>
                    <a:pt x="214" y="22"/>
                  </a:lnTo>
                  <a:lnTo>
                    <a:pt x="204" y="12"/>
                  </a:lnTo>
                  <a:lnTo>
                    <a:pt x="190" y="6"/>
                  </a:lnTo>
                  <a:lnTo>
                    <a:pt x="176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44" y="2"/>
                  </a:lnTo>
                  <a:lnTo>
                    <a:pt x="130" y="6"/>
                  </a:lnTo>
                  <a:lnTo>
                    <a:pt x="116" y="12"/>
                  </a:lnTo>
                  <a:lnTo>
                    <a:pt x="104" y="22"/>
                  </a:lnTo>
                  <a:lnTo>
                    <a:pt x="96" y="34"/>
                  </a:lnTo>
                  <a:lnTo>
                    <a:pt x="88" y="48"/>
                  </a:lnTo>
                  <a:lnTo>
                    <a:pt x="84" y="62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2" y="9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62" y="104"/>
                  </a:lnTo>
                  <a:lnTo>
                    <a:pt x="46" y="108"/>
                  </a:lnTo>
                  <a:lnTo>
                    <a:pt x="34" y="116"/>
                  </a:lnTo>
                  <a:lnTo>
                    <a:pt x="22" y="126"/>
                  </a:lnTo>
                  <a:lnTo>
                    <a:pt x="12" y="138"/>
                  </a:lnTo>
                  <a:lnTo>
                    <a:pt x="6" y="150"/>
                  </a:lnTo>
                  <a:lnTo>
                    <a:pt x="0" y="164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4"/>
                  </a:lnTo>
                  <a:lnTo>
                    <a:pt x="4" y="208"/>
                  </a:lnTo>
                  <a:lnTo>
                    <a:pt x="10" y="220"/>
                  </a:lnTo>
                  <a:lnTo>
                    <a:pt x="16" y="230"/>
                  </a:lnTo>
                  <a:lnTo>
                    <a:pt x="26" y="240"/>
                  </a:lnTo>
                  <a:lnTo>
                    <a:pt x="36" y="248"/>
                  </a:lnTo>
                  <a:lnTo>
                    <a:pt x="48" y="252"/>
                  </a:lnTo>
                  <a:lnTo>
                    <a:pt x="62" y="256"/>
                  </a:lnTo>
                  <a:lnTo>
                    <a:pt x="62" y="256"/>
                  </a:lnTo>
                  <a:lnTo>
                    <a:pt x="58" y="268"/>
                  </a:lnTo>
                  <a:lnTo>
                    <a:pt x="58" y="278"/>
                  </a:lnTo>
                  <a:lnTo>
                    <a:pt x="58" y="278"/>
                  </a:lnTo>
                  <a:lnTo>
                    <a:pt x="60" y="294"/>
                  </a:lnTo>
                  <a:lnTo>
                    <a:pt x="64" y="308"/>
                  </a:lnTo>
                  <a:lnTo>
                    <a:pt x="72" y="322"/>
                  </a:lnTo>
                  <a:lnTo>
                    <a:pt x="80" y="332"/>
                  </a:lnTo>
                  <a:lnTo>
                    <a:pt x="92" y="342"/>
                  </a:lnTo>
                  <a:lnTo>
                    <a:pt x="106" y="350"/>
                  </a:lnTo>
                  <a:lnTo>
                    <a:pt x="120" y="354"/>
                  </a:lnTo>
                  <a:lnTo>
                    <a:pt x="136" y="356"/>
                  </a:lnTo>
                  <a:lnTo>
                    <a:pt x="136" y="356"/>
                  </a:lnTo>
                  <a:lnTo>
                    <a:pt x="148" y="354"/>
                  </a:lnTo>
                  <a:lnTo>
                    <a:pt x="160" y="352"/>
                  </a:lnTo>
                  <a:lnTo>
                    <a:pt x="170" y="348"/>
                  </a:lnTo>
                  <a:lnTo>
                    <a:pt x="180" y="342"/>
                  </a:lnTo>
                  <a:lnTo>
                    <a:pt x="190" y="334"/>
                  </a:lnTo>
                  <a:lnTo>
                    <a:pt x="198" y="326"/>
                  </a:lnTo>
                  <a:lnTo>
                    <a:pt x="204" y="316"/>
                  </a:lnTo>
                  <a:lnTo>
                    <a:pt x="208" y="306"/>
                  </a:lnTo>
                  <a:lnTo>
                    <a:pt x="208" y="306"/>
                  </a:lnTo>
                  <a:lnTo>
                    <a:pt x="220" y="320"/>
                  </a:lnTo>
                  <a:lnTo>
                    <a:pt x="236" y="330"/>
                  </a:lnTo>
                  <a:lnTo>
                    <a:pt x="254" y="336"/>
                  </a:lnTo>
                  <a:lnTo>
                    <a:pt x="262" y="338"/>
                  </a:lnTo>
                  <a:lnTo>
                    <a:pt x="272" y="338"/>
                  </a:lnTo>
                  <a:lnTo>
                    <a:pt x="272" y="338"/>
                  </a:lnTo>
                  <a:lnTo>
                    <a:pt x="288" y="338"/>
                  </a:lnTo>
                  <a:lnTo>
                    <a:pt x="302" y="332"/>
                  </a:lnTo>
                  <a:lnTo>
                    <a:pt x="316" y="326"/>
                  </a:lnTo>
                  <a:lnTo>
                    <a:pt x="328" y="316"/>
                  </a:lnTo>
                  <a:lnTo>
                    <a:pt x="336" y="304"/>
                  </a:lnTo>
                  <a:lnTo>
                    <a:pt x="344" y="292"/>
                  </a:lnTo>
                  <a:lnTo>
                    <a:pt x="348" y="276"/>
                  </a:lnTo>
                  <a:lnTo>
                    <a:pt x="350" y="260"/>
                  </a:lnTo>
                  <a:lnTo>
                    <a:pt x="350" y="260"/>
                  </a:lnTo>
                  <a:lnTo>
                    <a:pt x="348" y="246"/>
                  </a:lnTo>
                  <a:lnTo>
                    <a:pt x="344" y="232"/>
                  </a:lnTo>
                  <a:lnTo>
                    <a:pt x="338" y="220"/>
                  </a:lnTo>
                  <a:lnTo>
                    <a:pt x="330" y="208"/>
                  </a:lnTo>
                  <a:lnTo>
                    <a:pt x="330" y="208"/>
                  </a:lnTo>
                  <a:lnTo>
                    <a:pt x="342" y="196"/>
                  </a:lnTo>
                  <a:lnTo>
                    <a:pt x="352" y="182"/>
                  </a:lnTo>
                  <a:lnTo>
                    <a:pt x="358" y="164"/>
                  </a:lnTo>
                  <a:lnTo>
                    <a:pt x="362" y="146"/>
                  </a:lnTo>
                  <a:lnTo>
                    <a:pt x="362" y="146"/>
                  </a:lnTo>
                  <a:close/>
                  <a:moveTo>
                    <a:pt x="200" y="234"/>
                  </a:moveTo>
                  <a:lnTo>
                    <a:pt x="200" y="234"/>
                  </a:lnTo>
                  <a:lnTo>
                    <a:pt x="190" y="222"/>
                  </a:lnTo>
                  <a:lnTo>
                    <a:pt x="178" y="212"/>
                  </a:lnTo>
                  <a:lnTo>
                    <a:pt x="166" y="206"/>
                  </a:lnTo>
                  <a:lnTo>
                    <a:pt x="152" y="202"/>
                  </a:lnTo>
                  <a:lnTo>
                    <a:pt x="152" y="202"/>
                  </a:lnTo>
                  <a:lnTo>
                    <a:pt x="154" y="192"/>
                  </a:lnTo>
                  <a:lnTo>
                    <a:pt x="154" y="180"/>
                  </a:lnTo>
                  <a:lnTo>
                    <a:pt x="154" y="180"/>
                  </a:lnTo>
                  <a:lnTo>
                    <a:pt x="154" y="168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60" y="156"/>
                  </a:lnTo>
                  <a:lnTo>
                    <a:pt x="160" y="156"/>
                  </a:lnTo>
                  <a:lnTo>
                    <a:pt x="172" y="154"/>
                  </a:lnTo>
                  <a:lnTo>
                    <a:pt x="184" y="152"/>
                  </a:lnTo>
                  <a:lnTo>
                    <a:pt x="196" y="146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6" y="146"/>
                  </a:lnTo>
                  <a:lnTo>
                    <a:pt x="206" y="146"/>
                  </a:lnTo>
                  <a:lnTo>
                    <a:pt x="206" y="160"/>
                  </a:lnTo>
                  <a:lnTo>
                    <a:pt x="212" y="174"/>
                  </a:lnTo>
                  <a:lnTo>
                    <a:pt x="218" y="188"/>
                  </a:lnTo>
                  <a:lnTo>
                    <a:pt x="226" y="198"/>
                  </a:lnTo>
                  <a:lnTo>
                    <a:pt x="226" y="198"/>
                  </a:lnTo>
                  <a:lnTo>
                    <a:pt x="218" y="206"/>
                  </a:lnTo>
                  <a:lnTo>
                    <a:pt x="210" y="214"/>
                  </a:lnTo>
                  <a:lnTo>
                    <a:pt x="204" y="224"/>
                  </a:lnTo>
                  <a:lnTo>
                    <a:pt x="200" y="234"/>
                  </a:lnTo>
                  <a:lnTo>
                    <a:pt x="200" y="234"/>
                  </a:lnTo>
                  <a:close/>
                </a:path>
              </a:pathLst>
            </a:cu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グループ化 272"/>
          <p:cNvGrpSpPr/>
          <p:nvPr/>
        </p:nvGrpSpPr>
        <p:grpSpPr>
          <a:xfrm>
            <a:off x="9366120" y="3568680"/>
            <a:ext cx="26749440" cy="3298680"/>
            <a:chOff x="9366120" y="3568680"/>
            <a:chExt cx="26749440" cy="3298680"/>
          </a:xfrm>
        </p:grpSpPr>
        <p:sp>
          <p:nvSpPr>
            <p:cNvPr id="306" name="Freeform 5"/>
            <p:cNvSpPr/>
            <p:nvPr/>
          </p:nvSpPr>
          <p:spPr>
            <a:xfrm>
              <a:off x="9366120" y="3568680"/>
              <a:ext cx="3305160" cy="3289320"/>
            </a:xfrm>
            <a:custGeom>
              <a:avLst/>
              <a:gdLst>
                <a:gd name="textAreaLeft" fmla="*/ 0 w 3305160"/>
                <a:gd name="textAreaRight" fmla="*/ 3305520 w 3305160"/>
                <a:gd name="textAreaTop" fmla="*/ 0 h 3289320"/>
                <a:gd name="textAreaBottom" fmla="*/ 3289680 h 3289320"/>
              </a:gdLst>
              <a:ahLst/>
              <a:rect l="textAreaLeft" t="textAreaTop" r="textAreaRight" b="textAreaBottom"/>
              <a:pathLst>
                <a:path w="2082" h="2072">
                  <a:moveTo>
                    <a:pt x="752" y="1044"/>
                  </a:moveTo>
                  <a:lnTo>
                    <a:pt x="848" y="1044"/>
                  </a:lnTo>
                  <a:lnTo>
                    <a:pt x="848" y="1044"/>
                  </a:lnTo>
                  <a:lnTo>
                    <a:pt x="922" y="1044"/>
                  </a:lnTo>
                  <a:lnTo>
                    <a:pt x="978" y="1042"/>
                  </a:lnTo>
                  <a:lnTo>
                    <a:pt x="1024" y="1038"/>
                  </a:lnTo>
                  <a:lnTo>
                    <a:pt x="1068" y="1032"/>
                  </a:lnTo>
                  <a:lnTo>
                    <a:pt x="1068" y="1346"/>
                  </a:lnTo>
                  <a:lnTo>
                    <a:pt x="1068" y="1346"/>
                  </a:lnTo>
                  <a:lnTo>
                    <a:pt x="1022" y="1342"/>
                  </a:lnTo>
                  <a:lnTo>
                    <a:pt x="974" y="1340"/>
                  </a:lnTo>
                  <a:lnTo>
                    <a:pt x="920" y="1338"/>
                  </a:lnTo>
                  <a:lnTo>
                    <a:pt x="854" y="1338"/>
                  </a:lnTo>
                  <a:lnTo>
                    <a:pt x="854" y="1338"/>
                  </a:lnTo>
                  <a:lnTo>
                    <a:pt x="890" y="1374"/>
                  </a:lnTo>
                  <a:lnTo>
                    <a:pt x="928" y="1408"/>
                  </a:lnTo>
                  <a:lnTo>
                    <a:pt x="972" y="1442"/>
                  </a:lnTo>
                  <a:lnTo>
                    <a:pt x="1024" y="1478"/>
                  </a:lnTo>
                  <a:lnTo>
                    <a:pt x="1024" y="1478"/>
                  </a:lnTo>
                  <a:lnTo>
                    <a:pt x="982" y="1560"/>
                  </a:lnTo>
                  <a:lnTo>
                    <a:pt x="948" y="1632"/>
                  </a:lnTo>
                  <a:lnTo>
                    <a:pt x="920" y="1702"/>
                  </a:lnTo>
                  <a:lnTo>
                    <a:pt x="892" y="1772"/>
                  </a:lnTo>
                  <a:lnTo>
                    <a:pt x="892" y="1772"/>
                  </a:lnTo>
                  <a:lnTo>
                    <a:pt x="846" y="1730"/>
                  </a:lnTo>
                  <a:lnTo>
                    <a:pt x="810" y="1694"/>
                  </a:lnTo>
                  <a:lnTo>
                    <a:pt x="780" y="1656"/>
                  </a:lnTo>
                  <a:lnTo>
                    <a:pt x="748" y="1610"/>
                  </a:lnTo>
                  <a:lnTo>
                    <a:pt x="748" y="1610"/>
                  </a:lnTo>
                  <a:lnTo>
                    <a:pt x="750" y="1702"/>
                  </a:lnTo>
                  <a:lnTo>
                    <a:pt x="752" y="1754"/>
                  </a:lnTo>
                  <a:lnTo>
                    <a:pt x="752" y="1878"/>
                  </a:lnTo>
                  <a:lnTo>
                    <a:pt x="752" y="1878"/>
                  </a:lnTo>
                  <a:lnTo>
                    <a:pt x="752" y="1932"/>
                  </a:lnTo>
                  <a:lnTo>
                    <a:pt x="754" y="1978"/>
                  </a:lnTo>
                  <a:lnTo>
                    <a:pt x="758" y="2016"/>
                  </a:lnTo>
                  <a:lnTo>
                    <a:pt x="762" y="2054"/>
                  </a:lnTo>
                  <a:lnTo>
                    <a:pt x="426" y="2054"/>
                  </a:lnTo>
                  <a:lnTo>
                    <a:pt x="426" y="2054"/>
                  </a:lnTo>
                  <a:lnTo>
                    <a:pt x="430" y="2020"/>
                  </a:lnTo>
                  <a:lnTo>
                    <a:pt x="432" y="1982"/>
                  </a:lnTo>
                  <a:lnTo>
                    <a:pt x="434" y="1942"/>
                  </a:lnTo>
                  <a:lnTo>
                    <a:pt x="434" y="1894"/>
                  </a:lnTo>
                  <a:lnTo>
                    <a:pt x="434" y="1786"/>
                  </a:lnTo>
                  <a:lnTo>
                    <a:pt x="434" y="1786"/>
                  </a:lnTo>
                  <a:lnTo>
                    <a:pt x="436" y="1734"/>
                  </a:lnTo>
                  <a:lnTo>
                    <a:pt x="438" y="1666"/>
                  </a:lnTo>
                  <a:lnTo>
                    <a:pt x="438" y="1666"/>
                  </a:lnTo>
                  <a:lnTo>
                    <a:pt x="404" y="1716"/>
                  </a:lnTo>
                  <a:lnTo>
                    <a:pt x="372" y="1760"/>
                  </a:lnTo>
                  <a:lnTo>
                    <a:pt x="338" y="1800"/>
                  </a:lnTo>
                  <a:lnTo>
                    <a:pt x="306" y="1836"/>
                  </a:lnTo>
                  <a:lnTo>
                    <a:pt x="268" y="1870"/>
                  </a:lnTo>
                  <a:lnTo>
                    <a:pt x="228" y="1904"/>
                  </a:lnTo>
                  <a:lnTo>
                    <a:pt x="184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0" y="1934"/>
                  </a:lnTo>
                  <a:lnTo>
                    <a:pt x="106" y="1892"/>
                  </a:lnTo>
                  <a:lnTo>
                    <a:pt x="94" y="1850"/>
                  </a:lnTo>
                  <a:lnTo>
                    <a:pt x="78" y="1812"/>
                  </a:lnTo>
                  <a:lnTo>
                    <a:pt x="62" y="1772"/>
                  </a:lnTo>
                  <a:lnTo>
                    <a:pt x="42" y="1734"/>
                  </a:lnTo>
                  <a:lnTo>
                    <a:pt x="22" y="1694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22" y="1638"/>
                  </a:lnTo>
                  <a:lnTo>
                    <a:pt x="48" y="1624"/>
                  </a:lnTo>
                  <a:lnTo>
                    <a:pt x="98" y="1586"/>
                  </a:lnTo>
                  <a:lnTo>
                    <a:pt x="156" y="1542"/>
                  </a:lnTo>
                  <a:lnTo>
                    <a:pt x="220" y="1484"/>
                  </a:lnTo>
                  <a:lnTo>
                    <a:pt x="220" y="1484"/>
                  </a:lnTo>
                  <a:lnTo>
                    <a:pt x="252" y="1454"/>
                  </a:lnTo>
                  <a:lnTo>
                    <a:pt x="282" y="1420"/>
                  </a:lnTo>
                  <a:lnTo>
                    <a:pt x="312" y="1384"/>
                  </a:lnTo>
                  <a:lnTo>
                    <a:pt x="346" y="1338"/>
                  </a:lnTo>
                  <a:lnTo>
                    <a:pt x="252" y="1338"/>
                  </a:lnTo>
                  <a:lnTo>
                    <a:pt x="252" y="1338"/>
                  </a:lnTo>
                  <a:lnTo>
                    <a:pt x="184" y="1338"/>
                  </a:lnTo>
                  <a:lnTo>
                    <a:pt x="130" y="1340"/>
                  </a:lnTo>
                  <a:lnTo>
                    <a:pt x="82" y="1342"/>
                  </a:lnTo>
                  <a:lnTo>
                    <a:pt x="36" y="1346"/>
                  </a:lnTo>
                  <a:lnTo>
                    <a:pt x="36" y="1032"/>
                  </a:lnTo>
                  <a:lnTo>
                    <a:pt x="36" y="1032"/>
                  </a:lnTo>
                  <a:lnTo>
                    <a:pt x="80" y="1038"/>
                  </a:lnTo>
                  <a:lnTo>
                    <a:pt x="128" y="1042"/>
                  </a:lnTo>
                  <a:lnTo>
                    <a:pt x="184" y="1044"/>
                  </a:lnTo>
                  <a:lnTo>
                    <a:pt x="258" y="1044"/>
                  </a:lnTo>
                  <a:lnTo>
                    <a:pt x="434" y="1044"/>
                  </a:lnTo>
                  <a:lnTo>
                    <a:pt x="434" y="948"/>
                  </a:lnTo>
                  <a:lnTo>
                    <a:pt x="252" y="948"/>
                  </a:lnTo>
                  <a:lnTo>
                    <a:pt x="252" y="948"/>
                  </a:lnTo>
                  <a:lnTo>
                    <a:pt x="186" y="948"/>
                  </a:lnTo>
                  <a:lnTo>
                    <a:pt x="130" y="950"/>
                  </a:lnTo>
                  <a:lnTo>
                    <a:pt x="82" y="952"/>
                  </a:lnTo>
                  <a:lnTo>
                    <a:pt x="36" y="958"/>
                  </a:lnTo>
                  <a:lnTo>
                    <a:pt x="36" y="636"/>
                  </a:lnTo>
                  <a:lnTo>
                    <a:pt x="36" y="636"/>
                  </a:lnTo>
                  <a:lnTo>
                    <a:pt x="76" y="642"/>
                  </a:lnTo>
                  <a:lnTo>
                    <a:pt x="116" y="646"/>
                  </a:lnTo>
                  <a:lnTo>
                    <a:pt x="168" y="648"/>
                  </a:lnTo>
                  <a:lnTo>
                    <a:pt x="236" y="648"/>
                  </a:lnTo>
                  <a:lnTo>
                    <a:pt x="236" y="648"/>
                  </a:lnTo>
                  <a:lnTo>
                    <a:pt x="226" y="602"/>
                  </a:lnTo>
                  <a:lnTo>
                    <a:pt x="216" y="556"/>
                  </a:lnTo>
                  <a:lnTo>
                    <a:pt x="202" y="512"/>
                  </a:lnTo>
                  <a:lnTo>
                    <a:pt x="188" y="468"/>
                  </a:lnTo>
                  <a:lnTo>
                    <a:pt x="188" y="468"/>
                  </a:lnTo>
                  <a:lnTo>
                    <a:pt x="130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2" y="164"/>
                  </a:lnTo>
                  <a:lnTo>
                    <a:pt x="170" y="168"/>
                  </a:lnTo>
                  <a:lnTo>
                    <a:pt x="228" y="170"/>
                  </a:lnTo>
                  <a:lnTo>
                    <a:pt x="300" y="170"/>
                  </a:lnTo>
                  <a:lnTo>
                    <a:pt x="422" y="170"/>
                  </a:lnTo>
                  <a:lnTo>
                    <a:pt x="422" y="170"/>
                  </a:lnTo>
                  <a:lnTo>
                    <a:pt x="418" y="82"/>
                  </a:lnTo>
                  <a:lnTo>
                    <a:pt x="416" y="50"/>
                  </a:lnTo>
                  <a:lnTo>
                    <a:pt x="410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68" y="48"/>
                  </a:lnTo>
                  <a:lnTo>
                    <a:pt x="766" y="80"/>
                  </a:lnTo>
                  <a:lnTo>
                    <a:pt x="764" y="118"/>
                  </a:lnTo>
                  <a:lnTo>
                    <a:pt x="762" y="170"/>
                  </a:lnTo>
                  <a:lnTo>
                    <a:pt x="852" y="170"/>
                  </a:lnTo>
                  <a:lnTo>
                    <a:pt x="852" y="170"/>
                  </a:lnTo>
                  <a:lnTo>
                    <a:pt x="926" y="170"/>
                  </a:lnTo>
                  <a:lnTo>
                    <a:pt x="982" y="168"/>
                  </a:lnTo>
                  <a:lnTo>
                    <a:pt x="1028" y="164"/>
                  </a:lnTo>
                  <a:lnTo>
                    <a:pt x="1072" y="158"/>
                  </a:lnTo>
                  <a:lnTo>
                    <a:pt x="1072" y="474"/>
                  </a:lnTo>
                  <a:lnTo>
                    <a:pt x="1072" y="474"/>
                  </a:lnTo>
                  <a:lnTo>
                    <a:pt x="1028" y="470"/>
                  </a:lnTo>
                  <a:lnTo>
                    <a:pt x="986" y="468"/>
                  </a:lnTo>
                  <a:lnTo>
                    <a:pt x="986" y="468"/>
                  </a:lnTo>
                  <a:lnTo>
                    <a:pt x="960" y="562"/>
                  </a:lnTo>
                  <a:lnTo>
                    <a:pt x="936" y="648"/>
                  </a:lnTo>
                  <a:lnTo>
                    <a:pt x="936" y="648"/>
                  </a:lnTo>
                  <a:lnTo>
                    <a:pt x="1016" y="644"/>
                  </a:lnTo>
                  <a:lnTo>
                    <a:pt x="1080" y="636"/>
                  </a:lnTo>
                  <a:lnTo>
                    <a:pt x="1080" y="958"/>
                  </a:lnTo>
                  <a:lnTo>
                    <a:pt x="1080" y="958"/>
                  </a:lnTo>
                  <a:lnTo>
                    <a:pt x="1032" y="952"/>
                  </a:lnTo>
                  <a:lnTo>
                    <a:pt x="984" y="950"/>
                  </a:lnTo>
                  <a:lnTo>
                    <a:pt x="928" y="948"/>
                  </a:lnTo>
                  <a:lnTo>
                    <a:pt x="860" y="948"/>
                  </a:lnTo>
                  <a:lnTo>
                    <a:pt x="752" y="948"/>
                  </a:lnTo>
                  <a:lnTo>
                    <a:pt x="752" y="1044"/>
                  </a:lnTo>
                  <a:close/>
                  <a:moveTo>
                    <a:pt x="634" y="648"/>
                  </a:moveTo>
                  <a:lnTo>
                    <a:pt x="634" y="648"/>
                  </a:lnTo>
                  <a:lnTo>
                    <a:pt x="648" y="602"/>
                  </a:lnTo>
                  <a:lnTo>
                    <a:pt x="660" y="560"/>
                  </a:lnTo>
                  <a:lnTo>
                    <a:pt x="670" y="516"/>
                  </a:lnTo>
                  <a:lnTo>
                    <a:pt x="678" y="466"/>
                  </a:lnTo>
                  <a:lnTo>
                    <a:pt x="496" y="466"/>
                  </a:lnTo>
                  <a:lnTo>
                    <a:pt x="496" y="466"/>
                  </a:lnTo>
                  <a:lnTo>
                    <a:pt x="512" y="508"/>
                  </a:lnTo>
                  <a:lnTo>
                    <a:pt x="522" y="548"/>
                  </a:lnTo>
                  <a:lnTo>
                    <a:pt x="532" y="590"/>
                  </a:lnTo>
                  <a:lnTo>
                    <a:pt x="542" y="648"/>
                  </a:lnTo>
                  <a:lnTo>
                    <a:pt x="634" y="648"/>
                  </a:lnTo>
                  <a:close/>
                  <a:moveTo>
                    <a:pt x="1880" y="654"/>
                  </a:moveTo>
                  <a:lnTo>
                    <a:pt x="1880" y="654"/>
                  </a:lnTo>
                  <a:lnTo>
                    <a:pt x="1942" y="654"/>
                  </a:lnTo>
                  <a:lnTo>
                    <a:pt x="1994" y="650"/>
                  </a:lnTo>
                  <a:lnTo>
                    <a:pt x="2038" y="646"/>
                  </a:lnTo>
                  <a:lnTo>
                    <a:pt x="2076" y="642"/>
                  </a:lnTo>
                  <a:lnTo>
                    <a:pt x="2076" y="974"/>
                  </a:lnTo>
                  <a:lnTo>
                    <a:pt x="2076" y="974"/>
                  </a:lnTo>
                  <a:lnTo>
                    <a:pt x="2042" y="970"/>
                  </a:lnTo>
                  <a:lnTo>
                    <a:pt x="2008" y="968"/>
                  </a:lnTo>
                  <a:lnTo>
                    <a:pt x="1970" y="966"/>
                  </a:lnTo>
                  <a:lnTo>
                    <a:pt x="1918" y="966"/>
                  </a:lnTo>
                  <a:lnTo>
                    <a:pt x="1892" y="966"/>
                  </a:lnTo>
                  <a:lnTo>
                    <a:pt x="1892" y="1764"/>
                  </a:lnTo>
                  <a:lnTo>
                    <a:pt x="1892" y="1764"/>
                  </a:lnTo>
                  <a:lnTo>
                    <a:pt x="1892" y="1862"/>
                  </a:lnTo>
                  <a:lnTo>
                    <a:pt x="1894" y="1938"/>
                  </a:lnTo>
                  <a:lnTo>
                    <a:pt x="1898" y="1998"/>
                  </a:lnTo>
                  <a:lnTo>
                    <a:pt x="1906" y="2056"/>
                  </a:lnTo>
                  <a:lnTo>
                    <a:pt x="1554" y="2056"/>
                  </a:lnTo>
                  <a:lnTo>
                    <a:pt x="1554" y="2056"/>
                  </a:lnTo>
                  <a:lnTo>
                    <a:pt x="1562" y="1998"/>
                  </a:lnTo>
                  <a:lnTo>
                    <a:pt x="1566" y="1936"/>
                  </a:lnTo>
                  <a:lnTo>
                    <a:pt x="1568" y="1862"/>
                  </a:lnTo>
                  <a:lnTo>
                    <a:pt x="1568" y="1764"/>
                  </a:lnTo>
                  <a:lnTo>
                    <a:pt x="1568" y="966"/>
                  </a:lnTo>
                  <a:lnTo>
                    <a:pt x="1448" y="966"/>
                  </a:lnTo>
                  <a:lnTo>
                    <a:pt x="1448" y="966"/>
                  </a:lnTo>
                  <a:lnTo>
                    <a:pt x="1446" y="1070"/>
                  </a:lnTo>
                  <a:lnTo>
                    <a:pt x="1442" y="1162"/>
                  </a:lnTo>
                  <a:lnTo>
                    <a:pt x="1436" y="1242"/>
                  </a:lnTo>
                  <a:lnTo>
                    <a:pt x="1430" y="1316"/>
                  </a:lnTo>
                  <a:lnTo>
                    <a:pt x="1422" y="1386"/>
                  </a:lnTo>
                  <a:lnTo>
                    <a:pt x="1412" y="1452"/>
                  </a:lnTo>
                  <a:lnTo>
                    <a:pt x="1402" y="1516"/>
                  </a:lnTo>
                  <a:lnTo>
                    <a:pt x="1388" y="1584"/>
                  </a:lnTo>
                  <a:lnTo>
                    <a:pt x="1388" y="1584"/>
                  </a:lnTo>
                  <a:lnTo>
                    <a:pt x="1372" y="1654"/>
                  </a:lnTo>
                  <a:lnTo>
                    <a:pt x="1354" y="1718"/>
                  </a:lnTo>
                  <a:lnTo>
                    <a:pt x="1334" y="1780"/>
                  </a:lnTo>
                  <a:lnTo>
                    <a:pt x="1312" y="1840"/>
                  </a:lnTo>
                  <a:lnTo>
                    <a:pt x="1286" y="1898"/>
                  </a:lnTo>
                  <a:lnTo>
                    <a:pt x="1258" y="1954"/>
                  </a:lnTo>
                  <a:lnTo>
                    <a:pt x="1226" y="2012"/>
                  </a:lnTo>
                  <a:lnTo>
                    <a:pt x="1190" y="2072"/>
                  </a:lnTo>
                  <a:lnTo>
                    <a:pt x="1190" y="2072"/>
                  </a:lnTo>
                  <a:lnTo>
                    <a:pt x="1106" y="2008"/>
                  </a:lnTo>
                  <a:lnTo>
                    <a:pt x="1070" y="1984"/>
                  </a:lnTo>
                  <a:lnTo>
                    <a:pt x="1036" y="1962"/>
                  </a:lnTo>
                  <a:lnTo>
                    <a:pt x="1002" y="1940"/>
                  </a:lnTo>
                  <a:lnTo>
                    <a:pt x="966" y="1920"/>
                  </a:lnTo>
                  <a:lnTo>
                    <a:pt x="882" y="1878"/>
                  </a:lnTo>
                  <a:lnTo>
                    <a:pt x="882" y="1878"/>
                  </a:lnTo>
                  <a:lnTo>
                    <a:pt x="916" y="1830"/>
                  </a:lnTo>
                  <a:lnTo>
                    <a:pt x="948" y="1784"/>
                  </a:lnTo>
                  <a:lnTo>
                    <a:pt x="974" y="1738"/>
                  </a:lnTo>
                  <a:lnTo>
                    <a:pt x="1000" y="1692"/>
                  </a:lnTo>
                  <a:lnTo>
                    <a:pt x="1022" y="1646"/>
                  </a:lnTo>
                  <a:lnTo>
                    <a:pt x="1040" y="1596"/>
                  </a:lnTo>
                  <a:lnTo>
                    <a:pt x="1058" y="1546"/>
                  </a:lnTo>
                  <a:lnTo>
                    <a:pt x="1074" y="1492"/>
                  </a:lnTo>
                  <a:lnTo>
                    <a:pt x="1074" y="1492"/>
                  </a:lnTo>
                  <a:lnTo>
                    <a:pt x="1082" y="1462"/>
                  </a:lnTo>
                  <a:lnTo>
                    <a:pt x="1088" y="1428"/>
                  </a:lnTo>
                  <a:lnTo>
                    <a:pt x="1100" y="1348"/>
                  </a:lnTo>
                  <a:lnTo>
                    <a:pt x="1110" y="1250"/>
                  </a:lnTo>
                  <a:lnTo>
                    <a:pt x="1118" y="1132"/>
                  </a:lnTo>
                  <a:lnTo>
                    <a:pt x="1124" y="992"/>
                  </a:lnTo>
                  <a:lnTo>
                    <a:pt x="1128" y="830"/>
                  </a:lnTo>
                  <a:lnTo>
                    <a:pt x="1130" y="642"/>
                  </a:lnTo>
                  <a:lnTo>
                    <a:pt x="1130" y="430"/>
                  </a:lnTo>
                  <a:lnTo>
                    <a:pt x="1130" y="430"/>
                  </a:lnTo>
                  <a:lnTo>
                    <a:pt x="1130" y="360"/>
                  </a:lnTo>
                  <a:lnTo>
                    <a:pt x="1128" y="294"/>
                  </a:lnTo>
                  <a:lnTo>
                    <a:pt x="1122" y="234"/>
                  </a:lnTo>
                  <a:lnTo>
                    <a:pt x="1116" y="180"/>
                  </a:lnTo>
                  <a:lnTo>
                    <a:pt x="1116" y="180"/>
                  </a:lnTo>
                  <a:lnTo>
                    <a:pt x="1194" y="174"/>
                  </a:lnTo>
                  <a:lnTo>
                    <a:pt x="1266" y="164"/>
                  </a:lnTo>
                  <a:lnTo>
                    <a:pt x="1336" y="154"/>
                  </a:lnTo>
                  <a:lnTo>
                    <a:pt x="1402" y="142"/>
                  </a:lnTo>
                  <a:lnTo>
                    <a:pt x="1468" y="128"/>
                  </a:lnTo>
                  <a:lnTo>
                    <a:pt x="1534" y="114"/>
                  </a:lnTo>
                  <a:lnTo>
                    <a:pt x="1600" y="94"/>
                  </a:lnTo>
                  <a:lnTo>
                    <a:pt x="1668" y="74"/>
                  </a:lnTo>
                  <a:lnTo>
                    <a:pt x="1668" y="74"/>
                  </a:lnTo>
                  <a:lnTo>
                    <a:pt x="1726" y="54"/>
                  </a:lnTo>
                  <a:lnTo>
                    <a:pt x="1772" y="36"/>
                  </a:lnTo>
                  <a:lnTo>
                    <a:pt x="1808" y="18"/>
                  </a:lnTo>
                  <a:lnTo>
                    <a:pt x="1836" y="0"/>
                  </a:lnTo>
                  <a:lnTo>
                    <a:pt x="2082" y="302"/>
                  </a:lnTo>
                  <a:lnTo>
                    <a:pt x="2082" y="302"/>
                  </a:lnTo>
                  <a:lnTo>
                    <a:pt x="2002" y="326"/>
                  </a:lnTo>
                  <a:lnTo>
                    <a:pt x="2002" y="326"/>
                  </a:lnTo>
                  <a:lnTo>
                    <a:pt x="1952" y="342"/>
                  </a:lnTo>
                  <a:lnTo>
                    <a:pt x="1896" y="356"/>
                  </a:lnTo>
                  <a:lnTo>
                    <a:pt x="1836" y="372"/>
                  </a:lnTo>
                  <a:lnTo>
                    <a:pt x="1772" y="386"/>
                  </a:lnTo>
                  <a:lnTo>
                    <a:pt x="1700" y="400"/>
                  </a:lnTo>
                  <a:lnTo>
                    <a:pt x="1624" y="414"/>
                  </a:lnTo>
                  <a:lnTo>
                    <a:pt x="1450" y="442"/>
                  </a:lnTo>
                  <a:lnTo>
                    <a:pt x="1450" y="654"/>
                  </a:lnTo>
                  <a:lnTo>
                    <a:pt x="1880" y="65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>
              <a:off x="13471200" y="3568680"/>
              <a:ext cx="3330360" cy="3257640"/>
            </a:xfrm>
            <a:custGeom>
              <a:avLst/>
              <a:gdLst>
                <a:gd name="textAreaLeft" fmla="*/ 0 w 3330360"/>
                <a:gd name="textAreaRight" fmla="*/ 3330720 w 3330360"/>
                <a:gd name="textAreaTop" fmla="*/ 0 h 3257640"/>
                <a:gd name="textAreaBottom" fmla="*/ 3258000 h 3257640"/>
              </a:gdLst>
              <a:ahLst/>
              <a:rect l="textAreaLeft" t="textAreaTop" r="textAreaRight" b="textAreaBottom"/>
              <a:pathLst>
                <a:path w="2098" h="2052">
                  <a:moveTo>
                    <a:pt x="1690" y="1766"/>
                  </a:moveTo>
                  <a:lnTo>
                    <a:pt x="1690" y="1766"/>
                  </a:lnTo>
                  <a:lnTo>
                    <a:pt x="1692" y="1858"/>
                  </a:lnTo>
                  <a:lnTo>
                    <a:pt x="1694" y="1932"/>
                  </a:lnTo>
                  <a:lnTo>
                    <a:pt x="1696" y="1992"/>
                  </a:lnTo>
                  <a:lnTo>
                    <a:pt x="1704" y="2050"/>
                  </a:lnTo>
                  <a:lnTo>
                    <a:pt x="1372" y="2050"/>
                  </a:lnTo>
                  <a:lnTo>
                    <a:pt x="1372" y="1968"/>
                  </a:lnTo>
                  <a:lnTo>
                    <a:pt x="722" y="1968"/>
                  </a:lnTo>
                  <a:lnTo>
                    <a:pt x="722" y="2052"/>
                  </a:lnTo>
                  <a:lnTo>
                    <a:pt x="394" y="2052"/>
                  </a:lnTo>
                  <a:lnTo>
                    <a:pt x="394" y="2052"/>
                  </a:lnTo>
                  <a:lnTo>
                    <a:pt x="400" y="1994"/>
                  </a:lnTo>
                  <a:lnTo>
                    <a:pt x="404" y="1932"/>
                  </a:lnTo>
                  <a:lnTo>
                    <a:pt x="406" y="1858"/>
                  </a:lnTo>
                  <a:lnTo>
                    <a:pt x="408" y="1768"/>
                  </a:lnTo>
                  <a:lnTo>
                    <a:pt x="408" y="1460"/>
                  </a:lnTo>
                  <a:lnTo>
                    <a:pt x="408" y="1460"/>
                  </a:lnTo>
                  <a:lnTo>
                    <a:pt x="346" y="1510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40"/>
                  </a:lnTo>
                  <a:lnTo>
                    <a:pt x="112" y="1502"/>
                  </a:lnTo>
                  <a:lnTo>
                    <a:pt x="92" y="1468"/>
                  </a:lnTo>
                  <a:lnTo>
                    <a:pt x="72" y="1438"/>
                  </a:lnTo>
                  <a:lnTo>
                    <a:pt x="52" y="1408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6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4" y="1156"/>
                  </a:lnTo>
                  <a:lnTo>
                    <a:pt x="342" y="1116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8"/>
                  </a:lnTo>
                  <a:lnTo>
                    <a:pt x="162" y="1030"/>
                  </a:lnTo>
                  <a:lnTo>
                    <a:pt x="100" y="1034"/>
                  </a:lnTo>
                  <a:lnTo>
                    <a:pt x="42" y="1040"/>
                  </a:lnTo>
                  <a:lnTo>
                    <a:pt x="42" y="752"/>
                  </a:lnTo>
                  <a:lnTo>
                    <a:pt x="42" y="752"/>
                  </a:lnTo>
                  <a:lnTo>
                    <a:pt x="96" y="758"/>
                  </a:lnTo>
                  <a:lnTo>
                    <a:pt x="156" y="762"/>
                  </a:lnTo>
                  <a:lnTo>
                    <a:pt x="224" y="764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6" y="728"/>
                  </a:lnTo>
                  <a:lnTo>
                    <a:pt x="662" y="694"/>
                  </a:lnTo>
                  <a:lnTo>
                    <a:pt x="464" y="694"/>
                  </a:lnTo>
                  <a:lnTo>
                    <a:pt x="464" y="694"/>
                  </a:lnTo>
                  <a:lnTo>
                    <a:pt x="388" y="694"/>
                  </a:lnTo>
                  <a:lnTo>
                    <a:pt x="328" y="696"/>
                  </a:lnTo>
                  <a:lnTo>
                    <a:pt x="278" y="698"/>
                  </a:lnTo>
                  <a:lnTo>
                    <a:pt x="230" y="702"/>
                  </a:lnTo>
                  <a:lnTo>
                    <a:pt x="230" y="464"/>
                  </a:lnTo>
                  <a:lnTo>
                    <a:pt x="230" y="464"/>
                  </a:lnTo>
                  <a:lnTo>
                    <a:pt x="278" y="468"/>
                  </a:lnTo>
                  <a:lnTo>
                    <a:pt x="328" y="470"/>
                  </a:lnTo>
                  <a:lnTo>
                    <a:pt x="388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4" y="408"/>
                  </a:lnTo>
                  <a:lnTo>
                    <a:pt x="404" y="408"/>
                  </a:lnTo>
                  <a:lnTo>
                    <a:pt x="404" y="408"/>
                  </a:lnTo>
                  <a:lnTo>
                    <a:pt x="328" y="408"/>
                  </a:lnTo>
                  <a:lnTo>
                    <a:pt x="262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8"/>
                  </a:lnTo>
                  <a:lnTo>
                    <a:pt x="422" y="148"/>
                  </a:lnTo>
                  <a:lnTo>
                    <a:pt x="828" y="148"/>
                  </a:lnTo>
                  <a:lnTo>
                    <a:pt x="828" y="148"/>
                  </a:lnTo>
                  <a:lnTo>
                    <a:pt x="834" y="90"/>
                  </a:lnTo>
                  <a:lnTo>
                    <a:pt x="836" y="60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70" y="82"/>
                  </a:lnTo>
                  <a:lnTo>
                    <a:pt x="1158" y="148"/>
                  </a:lnTo>
                  <a:lnTo>
                    <a:pt x="1672" y="148"/>
                  </a:lnTo>
                  <a:lnTo>
                    <a:pt x="1672" y="148"/>
                  </a:lnTo>
                  <a:lnTo>
                    <a:pt x="1758" y="148"/>
                  </a:lnTo>
                  <a:lnTo>
                    <a:pt x="1830" y="144"/>
                  </a:lnTo>
                  <a:lnTo>
                    <a:pt x="1894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2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8"/>
                  </a:lnTo>
                  <a:lnTo>
                    <a:pt x="1104" y="408"/>
                  </a:lnTo>
                  <a:lnTo>
                    <a:pt x="1104" y="408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8"/>
                  </a:lnTo>
                  <a:lnTo>
                    <a:pt x="1858" y="464"/>
                  </a:lnTo>
                  <a:lnTo>
                    <a:pt x="1858" y="702"/>
                  </a:lnTo>
                  <a:lnTo>
                    <a:pt x="1858" y="702"/>
                  </a:lnTo>
                  <a:lnTo>
                    <a:pt x="1808" y="698"/>
                  </a:lnTo>
                  <a:lnTo>
                    <a:pt x="1758" y="696"/>
                  </a:lnTo>
                  <a:lnTo>
                    <a:pt x="1698" y="694"/>
                  </a:lnTo>
                  <a:lnTo>
                    <a:pt x="1624" y="694"/>
                  </a:lnTo>
                  <a:lnTo>
                    <a:pt x="1430" y="694"/>
                  </a:lnTo>
                  <a:lnTo>
                    <a:pt x="1430" y="694"/>
                  </a:lnTo>
                  <a:lnTo>
                    <a:pt x="1448" y="730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4"/>
                  </a:lnTo>
                  <a:lnTo>
                    <a:pt x="1942" y="762"/>
                  </a:lnTo>
                  <a:lnTo>
                    <a:pt x="2000" y="758"/>
                  </a:lnTo>
                  <a:lnTo>
                    <a:pt x="2052" y="752"/>
                  </a:lnTo>
                  <a:lnTo>
                    <a:pt x="2052" y="1040"/>
                  </a:lnTo>
                  <a:lnTo>
                    <a:pt x="2052" y="1040"/>
                  </a:lnTo>
                  <a:lnTo>
                    <a:pt x="1994" y="1034"/>
                  </a:lnTo>
                  <a:lnTo>
                    <a:pt x="1934" y="1030"/>
                  </a:lnTo>
                  <a:lnTo>
                    <a:pt x="1866" y="1028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4"/>
                  </a:lnTo>
                  <a:lnTo>
                    <a:pt x="1758" y="1118"/>
                  </a:lnTo>
                  <a:lnTo>
                    <a:pt x="1808" y="1158"/>
                  </a:lnTo>
                  <a:lnTo>
                    <a:pt x="1860" y="1194"/>
                  </a:lnTo>
                  <a:lnTo>
                    <a:pt x="1914" y="1230"/>
                  </a:lnTo>
                  <a:lnTo>
                    <a:pt x="1970" y="1262"/>
                  </a:lnTo>
                  <a:lnTo>
                    <a:pt x="2032" y="1294"/>
                  </a:lnTo>
                  <a:lnTo>
                    <a:pt x="2098" y="1324"/>
                  </a:lnTo>
                  <a:lnTo>
                    <a:pt x="2098" y="1324"/>
                  </a:lnTo>
                  <a:lnTo>
                    <a:pt x="2050" y="1402"/>
                  </a:lnTo>
                  <a:lnTo>
                    <a:pt x="2030" y="1436"/>
                  </a:lnTo>
                  <a:lnTo>
                    <a:pt x="2012" y="1472"/>
                  </a:lnTo>
                  <a:lnTo>
                    <a:pt x="1994" y="1508"/>
                  </a:lnTo>
                  <a:lnTo>
                    <a:pt x="1978" y="1548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2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2" y="1342"/>
                  </a:lnTo>
                  <a:lnTo>
                    <a:pt x="722" y="1422"/>
                  </a:lnTo>
                  <a:close/>
                  <a:moveTo>
                    <a:pt x="722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2" y="1636"/>
                  </a:lnTo>
                  <a:lnTo>
                    <a:pt x="722" y="1718"/>
                  </a:lnTo>
                  <a:close/>
                  <a:moveTo>
                    <a:pt x="1354" y="1104"/>
                  </a:moveTo>
                  <a:lnTo>
                    <a:pt x="1354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6"/>
                  </a:lnTo>
                  <a:lnTo>
                    <a:pt x="762" y="1104"/>
                  </a:lnTo>
                  <a:lnTo>
                    <a:pt x="1354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4"/>
                  </a:lnTo>
                  <a:lnTo>
                    <a:pt x="1004" y="694"/>
                  </a:lnTo>
                  <a:lnTo>
                    <a:pt x="1004" y="694"/>
                  </a:lnTo>
                  <a:lnTo>
                    <a:pt x="990" y="730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7"/>
            <p:cNvSpPr/>
            <p:nvPr/>
          </p:nvSpPr>
          <p:spPr>
            <a:xfrm>
              <a:off x="17662320" y="3571560"/>
              <a:ext cx="3279600" cy="3295800"/>
            </a:xfrm>
            <a:custGeom>
              <a:avLst/>
              <a:gdLst>
                <a:gd name="textAreaLeft" fmla="*/ 0 w 3279600"/>
                <a:gd name="textAreaRight" fmla="*/ 3279960 w 3279600"/>
                <a:gd name="textAreaTop" fmla="*/ 0 h 3295800"/>
                <a:gd name="textAreaBottom" fmla="*/ 3296160 h 3295800"/>
              </a:gdLst>
              <a:ahLst/>
              <a:rect l="textAreaLeft" t="textAreaTop" r="textAreaRight" b="textAreaBottom"/>
              <a:pathLst>
                <a:path w="2066" h="2076">
                  <a:moveTo>
                    <a:pt x="936" y="1194"/>
                  </a:moveTo>
                  <a:lnTo>
                    <a:pt x="936" y="1194"/>
                  </a:lnTo>
                  <a:lnTo>
                    <a:pt x="936" y="1316"/>
                  </a:lnTo>
                  <a:lnTo>
                    <a:pt x="942" y="1406"/>
                  </a:lnTo>
                  <a:lnTo>
                    <a:pt x="942" y="1406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500"/>
                  </a:lnTo>
                  <a:lnTo>
                    <a:pt x="920" y="1586"/>
                  </a:lnTo>
                  <a:lnTo>
                    <a:pt x="950" y="1668"/>
                  </a:lnTo>
                  <a:lnTo>
                    <a:pt x="980" y="1756"/>
                  </a:lnTo>
                  <a:lnTo>
                    <a:pt x="980" y="1756"/>
                  </a:lnTo>
                  <a:lnTo>
                    <a:pt x="1012" y="1710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4" y="1518"/>
                  </a:lnTo>
                  <a:lnTo>
                    <a:pt x="1104" y="1460"/>
                  </a:lnTo>
                  <a:lnTo>
                    <a:pt x="1114" y="1394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6"/>
                  </a:lnTo>
                  <a:lnTo>
                    <a:pt x="980" y="1010"/>
                  </a:lnTo>
                  <a:lnTo>
                    <a:pt x="980" y="1010"/>
                  </a:lnTo>
                  <a:lnTo>
                    <a:pt x="1014" y="1014"/>
                  </a:lnTo>
                  <a:lnTo>
                    <a:pt x="1046" y="1016"/>
                  </a:lnTo>
                  <a:lnTo>
                    <a:pt x="1082" y="1018"/>
                  </a:lnTo>
                  <a:lnTo>
                    <a:pt x="1132" y="1018"/>
                  </a:lnTo>
                  <a:lnTo>
                    <a:pt x="1132" y="1018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4"/>
                  </a:lnTo>
                  <a:lnTo>
                    <a:pt x="1152" y="456"/>
                  </a:lnTo>
                  <a:lnTo>
                    <a:pt x="1152" y="456"/>
                  </a:lnTo>
                  <a:lnTo>
                    <a:pt x="1118" y="350"/>
                  </a:lnTo>
                  <a:lnTo>
                    <a:pt x="1104" y="308"/>
                  </a:lnTo>
                  <a:lnTo>
                    <a:pt x="1088" y="266"/>
                  </a:lnTo>
                  <a:lnTo>
                    <a:pt x="1070" y="228"/>
                  </a:lnTo>
                  <a:lnTo>
                    <a:pt x="1052" y="190"/>
                  </a:lnTo>
                  <a:lnTo>
                    <a:pt x="1032" y="150"/>
                  </a:lnTo>
                  <a:lnTo>
                    <a:pt x="1008" y="106"/>
                  </a:lnTo>
                  <a:lnTo>
                    <a:pt x="1308" y="10"/>
                  </a:lnTo>
                  <a:lnTo>
                    <a:pt x="1308" y="10"/>
                  </a:lnTo>
                  <a:lnTo>
                    <a:pt x="1360" y="112"/>
                  </a:lnTo>
                  <a:lnTo>
                    <a:pt x="1400" y="198"/>
                  </a:lnTo>
                  <a:lnTo>
                    <a:pt x="1432" y="280"/>
                  </a:lnTo>
                  <a:lnTo>
                    <a:pt x="1466" y="374"/>
                  </a:lnTo>
                  <a:lnTo>
                    <a:pt x="1242" y="456"/>
                  </a:lnTo>
                  <a:lnTo>
                    <a:pt x="1510" y="456"/>
                  </a:lnTo>
                  <a:lnTo>
                    <a:pt x="1510" y="456"/>
                  </a:lnTo>
                  <a:lnTo>
                    <a:pt x="1540" y="392"/>
                  </a:lnTo>
                  <a:lnTo>
                    <a:pt x="1566" y="334"/>
                  </a:lnTo>
                  <a:lnTo>
                    <a:pt x="1590" y="278"/>
                  </a:lnTo>
                  <a:lnTo>
                    <a:pt x="1612" y="224"/>
                  </a:lnTo>
                  <a:lnTo>
                    <a:pt x="1630" y="170"/>
                  </a:lnTo>
                  <a:lnTo>
                    <a:pt x="1648" y="116"/>
                  </a:lnTo>
                  <a:lnTo>
                    <a:pt x="1664" y="60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6"/>
                  </a:lnTo>
                  <a:lnTo>
                    <a:pt x="1924" y="300"/>
                  </a:lnTo>
                  <a:lnTo>
                    <a:pt x="1882" y="384"/>
                  </a:lnTo>
                  <a:lnTo>
                    <a:pt x="1846" y="456"/>
                  </a:lnTo>
                  <a:lnTo>
                    <a:pt x="1846" y="456"/>
                  </a:lnTo>
                  <a:lnTo>
                    <a:pt x="1902" y="454"/>
                  </a:lnTo>
                  <a:lnTo>
                    <a:pt x="1950" y="454"/>
                  </a:lnTo>
                  <a:lnTo>
                    <a:pt x="1992" y="450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8"/>
                  </a:lnTo>
                  <a:lnTo>
                    <a:pt x="1882" y="1018"/>
                  </a:lnTo>
                  <a:lnTo>
                    <a:pt x="1946" y="1018"/>
                  </a:lnTo>
                  <a:lnTo>
                    <a:pt x="1994" y="1016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30"/>
                  </a:lnTo>
                  <a:lnTo>
                    <a:pt x="2066" y="1330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20"/>
                  </a:lnTo>
                  <a:lnTo>
                    <a:pt x="1882" y="1318"/>
                  </a:lnTo>
                  <a:lnTo>
                    <a:pt x="1882" y="1802"/>
                  </a:lnTo>
                  <a:lnTo>
                    <a:pt x="1882" y="1802"/>
                  </a:lnTo>
                  <a:lnTo>
                    <a:pt x="1884" y="1886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70" y="1802"/>
                  </a:lnTo>
                  <a:lnTo>
                    <a:pt x="1570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6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6"/>
                  </a:lnTo>
                  <a:lnTo>
                    <a:pt x="1348" y="1786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900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6"/>
                  </a:lnTo>
                  <a:lnTo>
                    <a:pt x="1160" y="2076"/>
                  </a:lnTo>
                  <a:lnTo>
                    <a:pt x="1116" y="2022"/>
                  </a:lnTo>
                  <a:lnTo>
                    <a:pt x="1078" y="1978"/>
                  </a:lnTo>
                  <a:lnTo>
                    <a:pt x="1038" y="1940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40"/>
                  </a:lnTo>
                  <a:lnTo>
                    <a:pt x="354" y="1974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4"/>
                  </a:lnTo>
                  <a:lnTo>
                    <a:pt x="128" y="2032"/>
                  </a:lnTo>
                  <a:lnTo>
                    <a:pt x="98" y="2044"/>
                  </a:lnTo>
                  <a:lnTo>
                    <a:pt x="26" y="1706"/>
                  </a:lnTo>
                  <a:lnTo>
                    <a:pt x="26" y="1706"/>
                  </a:lnTo>
                  <a:lnTo>
                    <a:pt x="80" y="1704"/>
                  </a:lnTo>
                  <a:lnTo>
                    <a:pt x="152" y="1698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2"/>
                  </a:lnTo>
                  <a:lnTo>
                    <a:pt x="150" y="692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2" y="602"/>
                  </a:lnTo>
                  <a:lnTo>
                    <a:pt x="52" y="560"/>
                  </a:lnTo>
                  <a:lnTo>
                    <a:pt x="42" y="522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8"/>
                  </a:lnTo>
                  <a:lnTo>
                    <a:pt x="132" y="310"/>
                  </a:lnTo>
                  <a:lnTo>
                    <a:pt x="156" y="290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80"/>
                  </a:lnTo>
                  <a:lnTo>
                    <a:pt x="300" y="150"/>
                  </a:lnTo>
                  <a:lnTo>
                    <a:pt x="324" y="122"/>
                  </a:lnTo>
                  <a:lnTo>
                    <a:pt x="346" y="94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6"/>
                  </a:lnTo>
                  <a:lnTo>
                    <a:pt x="776" y="72"/>
                  </a:lnTo>
                  <a:lnTo>
                    <a:pt x="800" y="100"/>
                  </a:lnTo>
                  <a:lnTo>
                    <a:pt x="830" y="130"/>
                  </a:lnTo>
                  <a:lnTo>
                    <a:pt x="830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60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4"/>
                  </a:lnTo>
                  <a:lnTo>
                    <a:pt x="978" y="434"/>
                  </a:lnTo>
                  <a:lnTo>
                    <a:pt x="960" y="466"/>
                  </a:lnTo>
                  <a:lnTo>
                    <a:pt x="942" y="500"/>
                  </a:lnTo>
                  <a:lnTo>
                    <a:pt x="926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8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6"/>
                  </a:lnTo>
                  <a:lnTo>
                    <a:pt x="936" y="744"/>
                  </a:lnTo>
                  <a:lnTo>
                    <a:pt x="936" y="1194"/>
                  </a:lnTo>
                  <a:close/>
                  <a:moveTo>
                    <a:pt x="450" y="484"/>
                  </a:moveTo>
                  <a:lnTo>
                    <a:pt x="450" y="484"/>
                  </a:lnTo>
                  <a:lnTo>
                    <a:pt x="450" y="460"/>
                  </a:lnTo>
                  <a:lnTo>
                    <a:pt x="448" y="432"/>
                  </a:lnTo>
                  <a:lnTo>
                    <a:pt x="448" y="432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4"/>
                  </a:lnTo>
                  <a:close/>
                  <a:moveTo>
                    <a:pt x="632" y="890"/>
                  </a:moveTo>
                  <a:lnTo>
                    <a:pt x="632" y="806"/>
                  </a:lnTo>
                  <a:lnTo>
                    <a:pt x="460" y="806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6"/>
                  </a:moveTo>
                  <a:lnTo>
                    <a:pt x="632" y="1176"/>
                  </a:lnTo>
                  <a:lnTo>
                    <a:pt x="632" y="1090"/>
                  </a:lnTo>
                  <a:lnTo>
                    <a:pt x="460" y="1090"/>
                  </a:lnTo>
                  <a:lnTo>
                    <a:pt x="460" y="1176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6"/>
                  </a:lnTo>
                  <a:lnTo>
                    <a:pt x="460" y="1646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4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6"/>
                  </a:lnTo>
                  <a:lnTo>
                    <a:pt x="628" y="338"/>
                  </a:lnTo>
                  <a:lnTo>
                    <a:pt x="602" y="308"/>
                  </a:lnTo>
                  <a:lnTo>
                    <a:pt x="570" y="268"/>
                  </a:lnTo>
                  <a:lnTo>
                    <a:pt x="570" y="268"/>
                  </a:lnTo>
                  <a:lnTo>
                    <a:pt x="542" y="310"/>
                  </a:lnTo>
                  <a:lnTo>
                    <a:pt x="518" y="342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70"/>
                  </a:lnTo>
                  <a:lnTo>
                    <a:pt x="720" y="430"/>
                  </a:lnTo>
                  <a:lnTo>
                    <a:pt x="720" y="430"/>
                  </a:lnTo>
                  <a:lnTo>
                    <a:pt x="720" y="460"/>
                  </a:lnTo>
                  <a:lnTo>
                    <a:pt x="718" y="486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2" y="960"/>
                  </a:lnTo>
                  <a:lnTo>
                    <a:pt x="1440" y="1018"/>
                  </a:lnTo>
                  <a:lnTo>
                    <a:pt x="1570" y="1018"/>
                  </a:lnTo>
                  <a:lnTo>
                    <a:pt x="1570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8"/>
            <p:cNvSpPr/>
            <p:nvPr/>
          </p:nvSpPr>
          <p:spPr>
            <a:xfrm>
              <a:off x="21691440" y="4044960"/>
              <a:ext cx="3041640" cy="2549520"/>
            </a:xfrm>
            <a:custGeom>
              <a:avLst/>
              <a:gdLst>
                <a:gd name="textAreaLeft" fmla="*/ 0 w 3041640"/>
                <a:gd name="textAreaRight" fmla="*/ 3042000 w 3041640"/>
                <a:gd name="textAreaTop" fmla="*/ 0 h 2549520"/>
                <a:gd name="textAreaBottom" fmla="*/ 2549520 h 2549520"/>
              </a:gdLst>
              <a:ahLst/>
              <a:rect l="textAreaLeft" t="textAreaTop" r="textAreaRight" b="textAreaBottom"/>
              <a:pathLst>
                <a:path w="1916" h="1606">
                  <a:moveTo>
                    <a:pt x="0" y="164"/>
                  </a:moveTo>
                  <a:lnTo>
                    <a:pt x="0" y="164"/>
                  </a:lnTo>
                  <a:lnTo>
                    <a:pt x="62" y="156"/>
                  </a:lnTo>
                  <a:lnTo>
                    <a:pt x="122" y="148"/>
                  </a:lnTo>
                  <a:lnTo>
                    <a:pt x="192" y="134"/>
                  </a:lnTo>
                  <a:lnTo>
                    <a:pt x="286" y="114"/>
                  </a:lnTo>
                  <a:lnTo>
                    <a:pt x="286" y="114"/>
                  </a:lnTo>
                  <a:lnTo>
                    <a:pt x="440" y="82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2"/>
                  </a:lnTo>
                  <a:lnTo>
                    <a:pt x="872" y="12"/>
                  </a:lnTo>
                  <a:lnTo>
                    <a:pt x="954" y="4"/>
                  </a:lnTo>
                  <a:lnTo>
                    <a:pt x="1032" y="0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6" y="2"/>
                  </a:lnTo>
                  <a:lnTo>
                    <a:pt x="1274" y="8"/>
                  </a:lnTo>
                  <a:lnTo>
                    <a:pt x="1312" y="12"/>
                  </a:lnTo>
                  <a:lnTo>
                    <a:pt x="1348" y="18"/>
                  </a:lnTo>
                  <a:lnTo>
                    <a:pt x="1384" y="26"/>
                  </a:lnTo>
                  <a:lnTo>
                    <a:pt x="1418" y="34"/>
                  </a:lnTo>
                  <a:lnTo>
                    <a:pt x="1450" y="42"/>
                  </a:lnTo>
                  <a:lnTo>
                    <a:pt x="1482" y="52"/>
                  </a:lnTo>
                  <a:lnTo>
                    <a:pt x="1512" y="64"/>
                  </a:lnTo>
                  <a:lnTo>
                    <a:pt x="1542" y="76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58"/>
                  </a:lnTo>
                  <a:lnTo>
                    <a:pt x="1708" y="184"/>
                  </a:lnTo>
                  <a:lnTo>
                    <a:pt x="1736" y="210"/>
                  </a:lnTo>
                  <a:lnTo>
                    <a:pt x="1762" y="238"/>
                  </a:lnTo>
                  <a:lnTo>
                    <a:pt x="1786" y="268"/>
                  </a:lnTo>
                  <a:lnTo>
                    <a:pt x="1808" y="298"/>
                  </a:lnTo>
                  <a:lnTo>
                    <a:pt x="1828" y="332"/>
                  </a:lnTo>
                  <a:lnTo>
                    <a:pt x="1846" y="364"/>
                  </a:lnTo>
                  <a:lnTo>
                    <a:pt x="1862" y="400"/>
                  </a:lnTo>
                  <a:lnTo>
                    <a:pt x="1876" y="436"/>
                  </a:lnTo>
                  <a:lnTo>
                    <a:pt x="1888" y="472"/>
                  </a:lnTo>
                  <a:lnTo>
                    <a:pt x="1898" y="512"/>
                  </a:lnTo>
                  <a:lnTo>
                    <a:pt x="1904" y="550"/>
                  </a:lnTo>
                  <a:lnTo>
                    <a:pt x="1910" y="590"/>
                  </a:lnTo>
                  <a:lnTo>
                    <a:pt x="1914" y="630"/>
                  </a:lnTo>
                  <a:lnTo>
                    <a:pt x="1916" y="672"/>
                  </a:lnTo>
                  <a:lnTo>
                    <a:pt x="1916" y="672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6"/>
                  </a:lnTo>
                  <a:lnTo>
                    <a:pt x="1882" y="902"/>
                  </a:lnTo>
                  <a:lnTo>
                    <a:pt x="1862" y="956"/>
                  </a:lnTo>
                  <a:lnTo>
                    <a:pt x="1840" y="1008"/>
                  </a:lnTo>
                  <a:lnTo>
                    <a:pt x="1812" y="1058"/>
                  </a:lnTo>
                  <a:lnTo>
                    <a:pt x="1782" y="1108"/>
                  </a:lnTo>
                  <a:lnTo>
                    <a:pt x="1748" y="1154"/>
                  </a:lnTo>
                  <a:lnTo>
                    <a:pt x="1710" y="1198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8" y="1388"/>
                  </a:lnTo>
                  <a:lnTo>
                    <a:pt x="1408" y="1418"/>
                  </a:lnTo>
                  <a:lnTo>
                    <a:pt x="1408" y="1418"/>
                  </a:lnTo>
                  <a:lnTo>
                    <a:pt x="1326" y="1456"/>
                  </a:lnTo>
                  <a:lnTo>
                    <a:pt x="1286" y="1472"/>
                  </a:lnTo>
                  <a:lnTo>
                    <a:pt x="1244" y="1488"/>
                  </a:lnTo>
                  <a:lnTo>
                    <a:pt x="1200" y="1502"/>
                  </a:lnTo>
                  <a:lnTo>
                    <a:pt x="1156" y="1514"/>
                  </a:lnTo>
                  <a:lnTo>
                    <a:pt x="1112" y="1528"/>
                  </a:lnTo>
                  <a:lnTo>
                    <a:pt x="1064" y="1538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8" y="1606"/>
                  </a:lnTo>
                  <a:lnTo>
                    <a:pt x="598" y="1606"/>
                  </a:lnTo>
                  <a:lnTo>
                    <a:pt x="564" y="1486"/>
                  </a:lnTo>
                  <a:lnTo>
                    <a:pt x="548" y="1438"/>
                  </a:lnTo>
                  <a:lnTo>
                    <a:pt x="532" y="1396"/>
                  </a:lnTo>
                  <a:lnTo>
                    <a:pt x="516" y="1356"/>
                  </a:lnTo>
                  <a:lnTo>
                    <a:pt x="496" y="1314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30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4" y="1184"/>
                  </a:lnTo>
                  <a:lnTo>
                    <a:pt x="932" y="1172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80" y="1096"/>
                  </a:lnTo>
                  <a:lnTo>
                    <a:pt x="1232" y="1070"/>
                  </a:lnTo>
                  <a:lnTo>
                    <a:pt x="1280" y="1042"/>
                  </a:lnTo>
                  <a:lnTo>
                    <a:pt x="1304" y="1026"/>
                  </a:lnTo>
                  <a:lnTo>
                    <a:pt x="1324" y="1010"/>
                  </a:lnTo>
                  <a:lnTo>
                    <a:pt x="1346" y="994"/>
                  </a:lnTo>
                  <a:lnTo>
                    <a:pt x="1364" y="976"/>
                  </a:lnTo>
                  <a:lnTo>
                    <a:pt x="1384" y="958"/>
                  </a:lnTo>
                  <a:lnTo>
                    <a:pt x="1400" y="938"/>
                  </a:lnTo>
                  <a:lnTo>
                    <a:pt x="1418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50" y="872"/>
                  </a:lnTo>
                  <a:lnTo>
                    <a:pt x="1464" y="848"/>
                  </a:lnTo>
                  <a:lnTo>
                    <a:pt x="1476" y="822"/>
                  </a:lnTo>
                  <a:lnTo>
                    <a:pt x="1486" y="796"/>
                  </a:lnTo>
                  <a:lnTo>
                    <a:pt x="1492" y="768"/>
                  </a:lnTo>
                  <a:lnTo>
                    <a:pt x="1498" y="740"/>
                  </a:lnTo>
                  <a:lnTo>
                    <a:pt x="1500" y="712"/>
                  </a:lnTo>
                  <a:lnTo>
                    <a:pt x="1502" y="680"/>
                  </a:lnTo>
                  <a:lnTo>
                    <a:pt x="1502" y="680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0"/>
                  </a:lnTo>
                  <a:lnTo>
                    <a:pt x="1482" y="564"/>
                  </a:lnTo>
                  <a:lnTo>
                    <a:pt x="1470" y="538"/>
                  </a:lnTo>
                  <a:lnTo>
                    <a:pt x="1458" y="514"/>
                  </a:lnTo>
                  <a:lnTo>
                    <a:pt x="1440" y="492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6"/>
                  </a:lnTo>
                  <a:lnTo>
                    <a:pt x="1364" y="424"/>
                  </a:lnTo>
                  <a:lnTo>
                    <a:pt x="1330" y="406"/>
                  </a:lnTo>
                  <a:lnTo>
                    <a:pt x="1292" y="392"/>
                  </a:lnTo>
                  <a:lnTo>
                    <a:pt x="1252" y="382"/>
                  </a:lnTo>
                  <a:lnTo>
                    <a:pt x="1206" y="374"/>
                  </a:lnTo>
                  <a:lnTo>
                    <a:pt x="1156" y="368"/>
                  </a:lnTo>
                  <a:lnTo>
                    <a:pt x="1102" y="368"/>
                  </a:lnTo>
                  <a:lnTo>
                    <a:pt x="1102" y="368"/>
                  </a:lnTo>
                  <a:lnTo>
                    <a:pt x="1014" y="370"/>
                  </a:lnTo>
                  <a:lnTo>
                    <a:pt x="922" y="376"/>
                  </a:lnTo>
                  <a:lnTo>
                    <a:pt x="828" y="388"/>
                  </a:lnTo>
                  <a:lnTo>
                    <a:pt x="728" y="404"/>
                  </a:lnTo>
                  <a:lnTo>
                    <a:pt x="622" y="426"/>
                  </a:lnTo>
                  <a:lnTo>
                    <a:pt x="510" y="452"/>
                  </a:lnTo>
                  <a:lnTo>
                    <a:pt x="394" y="484"/>
                  </a:lnTo>
                  <a:lnTo>
                    <a:pt x="268" y="520"/>
                  </a:lnTo>
                  <a:lnTo>
                    <a:pt x="268" y="520"/>
                  </a:lnTo>
                  <a:lnTo>
                    <a:pt x="212" y="538"/>
                  </a:lnTo>
                  <a:lnTo>
                    <a:pt x="164" y="556"/>
                  </a:lnTo>
                  <a:lnTo>
                    <a:pt x="122" y="572"/>
                  </a:lnTo>
                  <a:lnTo>
                    <a:pt x="82" y="59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9"/>
            <p:cNvSpPr/>
            <p:nvPr/>
          </p:nvSpPr>
          <p:spPr>
            <a:xfrm>
              <a:off x="25565040" y="363852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2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6"/>
                  </a:lnTo>
                  <a:lnTo>
                    <a:pt x="468" y="272"/>
                  </a:lnTo>
                  <a:lnTo>
                    <a:pt x="568" y="268"/>
                  </a:lnTo>
                  <a:lnTo>
                    <a:pt x="652" y="262"/>
                  </a:lnTo>
                  <a:lnTo>
                    <a:pt x="652" y="262"/>
                  </a:lnTo>
                  <a:lnTo>
                    <a:pt x="622" y="184"/>
                  </a:lnTo>
                  <a:lnTo>
                    <a:pt x="596" y="124"/>
                  </a:lnTo>
                  <a:lnTo>
                    <a:pt x="578" y="78"/>
                  </a:lnTo>
                  <a:lnTo>
                    <a:pt x="562" y="46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50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6"/>
                  </a:lnTo>
                  <a:lnTo>
                    <a:pt x="1006" y="226"/>
                  </a:lnTo>
                  <a:lnTo>
                    <a:pt x="1086" y="214"/>
                  </a:lnTo>
                  <a:lnTo>
                    <a:pt x="1168" y="200"/>
                  </a:lnTo>
                  <a:lnTo>
                    <a:pt x="1250" y="186"/>
                  </a:lnTo>
                  <a:lnTo>
                    <a:pt x="1330" y="170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20"/>
                  </a:lnTo>
                  <a:lnTo>
                    <a:pt x="1594" y="104"/>
                  </a:lnTo>
                  <a:lnTo>
                    <a:pt x="1624" y="420"/>
                  </a:lnTo>
                  <a:lnTo>
                    <a:pt x="1624" y="420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8"/>
                  </a:lnTo>
                  <a:lnTo>
                    <a:pt x="1170" y="628"/>
                  </a:lnTo>
                  <a:lnTo>
                    <a:pt x="1360" y="592"/>
                  </a:lnTo>
                  <a:lnTo>
                    <a:pt x="1496" y="564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6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2"/>
                  </a:lnTo>
                  <a:lnTo>
                    <a:pt x="1372" y="1012"/>
                  </a:lnTo>
                  <a:lnTo>
                    <a:pt x="1402" y="1060"/>
                  </a:lnTo>
                  <a:lnTo>
                    <a:pt x="1434" y="1106"/>
                  </a:lnTo>
                  <a:lnTo>
                    <a:pt x="1466" y="1152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70"/>
                  </a:lnTo>
                  <a:lnTo>
                    <a:pt x="1268" y="1470"/>
                  </a:lnTo>
                  <a:lnTo>
                    <a:pt x="1220" y="1446"/>
                  </a:lnTo>
                  <a:lnTo>
                    <a:pt x="1170" y="1426"/>
                  </a:lnTo>
                  <a:lnTo>
                    <a:pt x="1118" y="1410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80"/>
                  </a:lnTo>
                  <a:lnTo>
                    <a:pt x="882" y="1376"/>
                  </a:lnTo>
                  <a:lnTo>
                    <a:pt x="814" y="1374"/>
                  </a:lnTo>
                  <a:lnTo>
                    <a:pt x="814" y="1374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80"/>
                  </a:lnTo>
                  <a:lnTo>
                    <a:pt x="654" y="1384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2"/>
                  </a:lnTo>
                  <a:lnTo>
                    <a:pt x="538" y="1410"/>
                  </a:lnTo>
                  <a:lnTo>
                    <a:pt x="516" y="1420"/>
                  </a:lnTo>
                  <a:lnTo>
                    <a:pt x="496" y="1430"/>
                  </a:lnTo>
                  <a:lnTo>
                    <a:pt x="480" y="1442"/>
                  </a:lnTo>
                  <a:lnTo>
                    <a:pt x="466" y="1454"/>
                  </a:lnTo>
                  <a:lnTo>
                    <a:pt x="456" y="1468"/>
                  </a:lnTo>
                  <a:lnTo>
                    <a:pt x="448" y="1482"/>
                  </a:lnTo>
                  <a:lnTo>
                    <a:pt x="444" y="1498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30"/>
                  </a:lnTo>
                  <a:lnTo>
                    <a:pt x="448" y="1542"/>
                  </a:lnTo>
                  <a:lnTo>
                    <a:pt x="454" y="1556"/>
                  </a:lnTo>
                  <a:lnTo>
                    <a:pt x="464" y="1566"/>
                  </a:lnTo>
                  <a:lnTo>
                    <a:pt x="476" y="1578"/>
                  </a:lnTo>
                  <a:lnTo>
                    <a:pt x="490" y="1588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2"/>
                  </a:lnTo>
                  <a:lnTo>
                    <a:pt x="784" y="1634"/>
                  </a:lnTo>
                  <a:lnTo>
                    <a:pt x="784" y="1634"/>
                  </a:lnTo>
                  <a:lnTo>
                    <a:pt x="878" y="1632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8"/>
                  </a:lnTo>
                  <a:lnTo>
                    <a:pt x="1244" y="1578"/>
                  </a:lnTo>
                  <a:lnTo>
                    <a:pt x="1286" y="1566"/>
                  </a:lnTo>
                  <a:lnTo>
                    <a:pt x="1326" y="1556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500"/>
                  </a:lnTo>
                  <a:lnTo>
                    <a:pt x="1522" y="1866"/>
                  </a:lnTo>
                  <a:lnTo>
                    <a:pt x="1522" y="1866"/>
                  </a:lnTo>
                  <a:lnTo>
                    <a:pt x="1468" y="1874"/>
                  </a:lnTo>
                  <a:lnTo>
                    <a:pt x="1370" y="1896"/>
                  </a:lnTo>
                  <a:lnTo>
                    <a:pt x="1370" y="1896"/>
                  </a:lnTo>
                  <a:lnTo>
                    <a:pt x="1294" y="1912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6"/>
                  </a:lnTo>
                  <a:lnTo>
                    <a:pt x="990" y="1954"/>
                  </a:lnTo>
                  <a:lnTo>
                    <a:pt x="916" y="1958"/>
                  </a:lnTo>
                  <a:lnTo>
                    <a:pt x="840" y="1962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2"/>
                  </a:lnTo>
                  <a:lnTo>
                    <a:pt x="646" y="1960"/>
                  </a:lnTo>
                  <a:lnTo>
                    <a:pt x="592" y="1956"/>
                  </a:lnTo>
                  <a:lnTo>
                    <a:pt x="538" y="1950"/>
                  </a:lnTo>
                  <a:lnTo>
                    <a:pt x="488" y="1942"/>
                  </a:lnTo>
                  <a:lnTo>
                    <a:pt x="440" y="1934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8"/>
                  </a:lnTo>
                  <a:lnTo>
                    <a:pt x="276" y="1882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2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2"/>
                  </a:lnTo>
                  <a:lnTo>
                    <a:pt x="76" y="1704"/>
                  </a:lnTo>
                  <a:lnTo>
                    <a:pt x="62" y="1676"/>
                  </a:lnTo>
                  <a:lnTo>
                    <a:pt x="50" y="1646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6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8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6"/>
                  </a:lnTo>
                  <a:lnTo>
                    <a:pt x="136" y="1264"/>
                  </a:lnTo>
                  <a:lnTo>
                    <a:pt x="156" y="1244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6"/>
                  </a:lnTo>
                  <a:lnTo>
                    <a:pt x="286" y="1162"/>
                  </a:lnTo>
                  <a:lnTo>
                    <a:pt x="286" y="1162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2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4"/>
                  </a:lnTo>
                  <a:lnTo>
                    <a:pt x="750" y="1082"/>
                  </a:lnTo>
                  <a:lnTo>
                    <a:pt x="750" y="1082"/>
                  </a:lnTo>
                  <a:lnTo>
                    <a:pt x="830" y="1084"/>
                  </a:lnTo>
                  <a:lnTo>
                    <a:pt x="906" y="1088"/>
                  </a:lnTo>
                  <a:lnTo>
                    <a:pt x="976" y="1096"/>
                  </a:lnTo>
                  <a:lnTo>
                    <a:pt x="1048" y="1108"/>
                  </a:lnTo>
                  <a:lnTo>
                    <a:pt x="1048" y="1108"/>
                  </a:lnTo>
                  <a:lnTo>
                    <a:pt x="1028" y="1080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4"/>
                  </a:lnTo>
                  <a:lnTo>
                    <a:pt x="426" y="994"/>
                  </a:lnTo>
                  <a:lnTo>
                    <a:pt x="204" y="1002"/>
                  </a:lnTo>
                  <a:lnTo>
                    <a:pt x="204" y="1002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700"/>
                  </a:lnTo>
                  <a:lnTo>
                    <a:pt x="148" y="700"/>
                  </a:lnTo>
                  <a:lnTo>
                    <a:pt x="224" y="702"/>
                  </a:lnTo>
                  <a:lnTo>
                    <a:pt x="224" y="702"/>
                  </a:lnTo>
                  <a:lnTo>
                    <a:pt x="378" y="700"/>
                  </a:lnTo>
                  <a:lnTo>
                    <a:pt x="532" y="694"/>
                  </a:lnTo>
                  <a:lnTo>
                    <a:pt x="678" y="684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8"/>
                  </a:lnTo>
                  <a:lnTo>
                    <a:pt x="514" y="576"/>
                  </a:lnTo>
                  <a:lnTo>
                    <a:pt x="378" y="578"/>
                  </a:lnTo>
                  <a:lnTo>
                    <a:pt x="200" y="580"/>
                  </a:lnTo>
                  <a:lnTo>
                    <a:pt x="200" y="580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28882800" y="3666960"/>
              <a:ext cx="3314520" cy="315612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4"/>
                  </a:lnTo>
                  <a:lnTo>
                    <a:pt x="1266" y="912"/>
                  </a:lnTo>
                  <a:lnTo>
                    <a:pt x="1300" y="978"/>
                  </a:lnTo>
                  <a:lnTo>
                    <a:pt x="1338" y="1044"/>
                  </a:lnTo>
                  <a:lnTo>
                    <a:pt x="1380" y="1108"/>
                  </a:lnTo>
                  <a:lnTo>
                    <a:pt x="1426" y="1170"/>
                  </a:lnTo>
                  <a:lnTo>
                    <a:pt x="1476" y="1230"/>
                  </a:lnTo>
                  <a:lnTo>
                    <a:pt x="1528" y="1286"/>
                  </a:lnTo>
                  <a:lnTo>
                    <a:pt x="1528" y="1286"/>
                  </a:lnTo>
                  <a:lnTo>
                    <a:pt x="1586" y="1340"/>
                  </a:lnTo>
                  <a:lnTo>
                    <a:pt x="1646" y="1392"/>
                  </a:lnTo>
                  <a:lnTo>
                    <a:pt x="1708" y="1438"/>
                  </a:lnTo>
                  <a:lnTo>
                    <a:pt x="1774" y="1484"/>
                  </a:lnTo>
                  <a:lnTo>
                    <a:pt x="1846" y="1526"/>
                  </a:lnTo>
                  <a:lnTo>
                    <a:pt x="1920" y="1566"/>
                  </a:lnTo>
                  <a:lnTo>
                    <a:pt x="2002" y="1602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4" y="1722"/>
                  </a:lnTo>
                  <a:lnTo>
                    <a:pt x="1996" y="1762"/>
                  </a:lnTo>
                  <a:lnTo>
                    <a:pt x="1970" y="1802"/>
                  </a:lnTo>
                  <a:lnTo>
                    <a:pt x="1946" y="1844"/>
                  </a:lnTo>
                  <a:lnTo>
                    <a:pt x="1922" y="1888"/>
                  </a:lnTo>
                  <a:lnTo>
                    <a:pt x="1898" y="1936"/>
                  </a:lnTo>
                  <a:lnTo>
                    <a:pt x="1872" y="1988"/>
                  </a:lnTo>
                  <a:lnTo>
                    <a:pt x="1872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8" y="1872"/>
                  </a:lnTo>
                  <a:lnTo>
                    <a:pt x="1608" y="1834"/>
                  </a:lnTo>
                  <a:lnTo>
                    <a:pt x="1550" y="1792"/>
                  </a:lnTo>
                  <a:lnTo>
                    <a:pt x="1496" y="1748"/>
                  </a:lnTo>
                  <a:lnTo>
                    <a:pt x="1442" y="1704"/>
                  </a:lnTo>
                  <a:lnTo>
                    <a:pt x="1390" y="1654"/>
                  </a:lnTo>
                  <a:lnTo>
                    <a:pt x="1390" y="1654"/>
                  </a:lnTo>
                  <a:lnTo>
                    <a:pt x="1336" y="1600"/>
                  </a:lnTo>
                  <a:lnTo>
                    <a:pt x="1288" y="1546"/>
                  </a:lnTo>
                  <a:lnTo>
                    <a:pt x="1242" y="1490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0"/>
                  </a:lnTo>
                  <a:lnTo>
                    <a:pt x="1084" y="1244"/>
                  </a:lnTo>
                  <a:lnTo>
                    <a:pt x="1050" y="1172"/>
                  </a:lnTo>
                  <a:lnTo>
                    <a:pt x="1050" y="1172"/>
                  </a:lnTo>
                  <a:lnTo>
                    <a:pt x="1026" y="1226"/>
                  </a:lnTo>
                  <a:lnTo>
                    <a:pt x="1000" y="1280"/>
                  </a:lnTo>
                  <a:lnTo>
                    <a:pt x="972" y="1330"/>
                  </a:lnTo>
                  <a:lnTo>
                    <a:pt x="944" y="1380"/>
                  </a:lnTo>
                  <a:lnTo>
                    <a:pt x="912" y="1426"/>
                  </a:lnTo>
                  <a:lnTo>
                    <a:pt x="878" y="1474"/>
                  </a:lnTo>
                  <a:lnTo>
                    <a:pt x="842" y="1518"/>
                  </a:lnTo>
                  <a:lnTo>
                    <a:pt x="804" y="1564"/>
                  </a:lnTo>
                  <a:lnTo>
                    <a:pt x="804" y="1564"/>
                  </a:lnTo>
                  <a:lnTo>
                    <a:pt x="762" y="1610"/>
                  </a:lnTo>
                  <a:lnTo>
                    <a:pt x="718" y="1652"/>
                  </a:lnTo>
                  <a:lnTo>
                    <a:pt x="674" y="1694"/>
                  </a:lnTo>
                  <a:lnTo>
                    <a:pt x="628" y="1734"/>
                  </a:lnTo>
                  <a:lnTo>
                    <a:pt x="582" y="1772"/>
                  </a:lnTo>
                  <a:lnTo>
                    <a:pt x="534" y="1808"/>
                  </a:lnTo>
                  <a:lnTo>
                    <a:pt x="484" y="1842"/>
                  </a:lnTo>
                  <a:lnTo>
                    <a:pt x="436" y="1874"/>
                  </a:lnTo>
                  <a:lnTo>
                    <a:pt x="436" y="1874"/>
                  </a:lnTo>
                  <a:lnTo>
                    <a:pt x="388" y="1900"/>
                  </a:lnTo>
                  <a:lnTo>
                    <a:pt x="340" y="1926"/>
                  </a:lnTo>
                  <a:lnTo>
                    <a:pt x="284" y="1954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8" y="1942"/>
                  </a:lnTo>
                  <a:lnTo>
                    <a:pt x="164" y="1898"/>
                  </a:lnTo>
                  <a:lnTo>
                    <a:pt x="142" y="1858"/>
                  </a:lnTo>
                  <a:lnTo>
                    <a:pt x="118" y="1820"/>
                  </a:lnTo>
                  <a:lnTo>
                    <a:pt x="92" y="1782"/>
                  </a:lnTo>
                  <a:lnTo>
                    <a:pt x="64" y="1744"/>
                  </a:lnTo>
                  <a:lnTo>
                    <a:pt x="34" y="1704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4" y="1626"/>
                  </a:lnTo>
                  <a:lnTo>
                    <a:pt x="178" y="1586"/>
                  </a:lnTo>
                  <a:lnTo>
                    <a:pt x="218" y="1566"/>
                  </a:lnTo>
                  <a:lnTo>
                    <a:pt x="256" y="1546"/>
                  </a:lnTo>
                  <a:lnTo>
                    <a:pt x="292" y="1524"/>
                  </a:lnTo>
                  <a:lnTo>
                    <a:pt x="328" y="1502"/>
                  </a:lnTo>
                  <a:lnTo>
                    <a:pt x="362" y="1478"/>
                  </a:lnTo>
                  <a:lnTo>
                    <a:pt x="394" y="1456"/>
                  </a:lnTo>
                  <a:lnTo>
                    <a:pt x="426" y="1430"/>
                  </a:lnTo>
                  <a:lnTo>
                    <a:pt x="456" y="1406"/>
                  </a:lnTo>
                  <a:lnTo>
                    <a:pt x="486" y="1380"/>
                  </a:lnTo>
                  <a:lnTo>
                    <a:pt x="514" y="1352"/>
                  </a:lnTo>
                  <a:lnTo>
                    <a:pt x="542" y="1322"/>
                  </a:lnTo>
                  <a:lnTo>
                    <a:pt x="570" y="1294"/>
                  </a:lnTo>
                  <a:lnTo>
                    <a:pt x="570" y="1294"/>
                  </a:lnTo>
                  <a:lnTo>
                    <a:pt x="594" y="1266"/>
                  </a:lnTo>
                  <a:lnTo>
                    <a:pt x="618" y="1238"/>
                  </a:lnTo>
                  <a:lnTo>
                    <a:pt x="640" y="1208"/>
                  </a:lnTo>
                  <a:lnTo>
                    <a:pt x="660" y="1180"/>
                  </a:lnTo>
                  <a:lnTo>
                    <a:pt x="678" y="1150"/>
                  </a:lnTo>
                  <a:lnTo>
                    <a:pt x="696" y="1120"/>
                  </a:lnTo>
                  <a:lnTo>
                    <a:pt x="712" y="1090"/>
                  </a:lnTo>
                  <a:lnTo>
                    <a:pt x="728" y="1058"/>
                  </a:lnTo>
                  <a:lnTo>
                    <a:pt x="742" y="1026"/>
                  </a:lnTo>
                  <a:lnTo>
                    <a:pt x="754" y="994"/>
                  </a:lnTo>
                  <a:lnTo>
                    <a:pt x="766" y="960"/>
                  </a:lnTo>
                  <a:lnTo>
                    <a:pt x="776" y="924"/>
                  </a:lnTo>
                  <a:lnTo>
                    <a:pt x="786" y="890"/>
                  </a:lnTo>
                  <a:lnTo>
                    <a:pt x="794" y="852"/>
                  </a:lnTo>
                  <a:lnTo>
                    <a:pt x="802" y="814"/>
                  </a:lnTo>
                  <a:lnTo>
                    <a:pt x="808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70" y="776"/>
                  </a:lnTo>
                  <a:lnTo>
                    <a:pt x="192" y="778"/>
                  </a:lnTo>
                  <a:lnTo>
                    <a:pt x="130" y="782"/>
                  </a:lnTo>
                  <a:lnTo>
                    <a:pt x="68" y="790"/>
                  </a:lnTo>
                  <a:lnTo>
                    <a:pt x="68" y="426"/>
                  </a:lnTo>
                  <a:lnTo>
                    <a:pt x="68" y="426"/>
                  </a:lnTo>
                  <a:lnTo>
                    <a:pt x="130" y="432"/>
                  </a:lnTo>
                  <a:lnTo>
                    <a:pt x="196" y="436"/>
                  </a:lnTo>
                  <a:lnTo>
                    <a:pt x="276" y="438"/>
                  </a:lnTo>
                  <a:lnTo>
                    <a:pt x="370" y="438"/>
                  </a:lnTo>
                  <a:lnTo>
                    <a:pt x="836" y="438"/>
                  </a:lnTo>
                  <a:lnTo>
                    <a:pt x="836" y="438"/>
                  </a:lnTo>
                  <a:lnTo>
                    <a:pt x="838" y="330"/>
                  </a:lnTo>
                  <a:lnTo>
                    <a:pt x="838" y="230"/>
                  </a:lnTo>
                  <a:lnTo>
                    <a:pt x="838" y="230"/>
                  </a:lnTo>
                  <a:lnTo>
                    <a:pt x="838" y="156"/>
                  </a:lnTo>
                  <a:lnTo>
                    <a:pt x="834" y="98"/>
                  </a:lnTo>
                  <a:lnTo>
                    <a:pt x="830" y="48"/>
                  </a:lnTo>
                  <a:lnTo>
                    <a:pt x="824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2" y="52"/>
                  </a:lnTo>
                  <a:lnTo>
                    <a:pt x="1208" y="108"/>
                  </a:lnTo>
                  <a:lnTo>
                    <a:pt x="1204" y="202"/>
                  </a:lnTo>
                  <a:lnTo>
                    <a:pt x="1202" y="364"/>
                  </a:lnTo>
                  <a:lnTo>
                    <a:pt x="1202" y="364"/>
                  </a:lnTo>
                  <a:lnTo>
                    <a:pt x="1202" y="438"/>
                  </a:lnTo>
                  <a:lnTo>
                    <a:pt x="1694" y="438"/>
                  </a:lnTo>
                  <a:lnTo>
                    <a:pt x="1694" y="438"/>
                  </a:lnTo>
                  <a:lnTo>
                    <a:pt x="1788" y="438"/>
                  </a:lnTo>
                  <a:lnTo>
                    <a:pt x="1866" y="436"/>
                  </a:lnTo>
                  <a:lnTo>
                    <a:pt x="1934" y="432"/>
                  </a:lnTo>
                  <a:lnTo>
                    <a:pt x="2000" y="426"/>
                  </a:lnTo>
                  <a:lnTo>
                    <a:pt x="2000" y="790"/>
                  </a:lnTo>
                  <a:lnTo>
                    <a:pt x="2000" y="790"/>
                  </a:lnTo>
                  <a:lnTo>
                    <a:pt x="1930" y="782"/>
                  </a:lnTo>
                  <a:lnTo>
                    <a:pt x="1862" y="778"/>
                  </a:lnTo>
                  <a:lnTo>
                    <a:pt x="1786" y="776"/>
                  </a:lnTo>
                  <a:lnTo>
                    <a:pt x="1698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32788440" y="3622320"/>
              <a:ext cx="3327120" cy="3238560"/>
            </a:xfrm>
            <a:custGeom>
              <a:avLst/>
              <a:gdLst>
                <a:gd name="textAreaLeft" fmla="*/ 0 w 3327120"/>
                <a:gd name="textAreaRight" fmla="*/ 3327480 w 332712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58"/>
                  </a:moveTo>
                  <a:lnTo>
                    <a:pt x="466" y="758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0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6"/>
                  </a:lnTo>
                  <a:lnTo>
                    <a:pt x="70" y="700"/>
                  </a:lnTo>
                  <a:lnTo>
                    <a:pt x="50" y="664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4"/>
                  </a:lnTo>
                  <a:lnTo>
                    <a:pt x="138" y="542"/>
                  </a:lnTo>
                  <a:lnTo>
                    <a:pt x="200" y="516"/>
                  </a:lnTo>
                  <a:lnTo>
                    <a:pt x="260" y="490"/>
                  </a:lnTo>
                  <a:lnTo>
                    <a:pt x="318" y="460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2"/>
                  </a:lnTo>
                  <a:lnTo>
                    <a:pt x="710" y="180"/>
                  </a:lnTo>
                  <a:lnTo>
                    <a:pt x="752" y="138"/>
                  </a:lnTo>
                  <a:lnTo>
                    <a:pt x="790" y="94"/>
                  </a:lnTo>
                  <a:lnTo>
                    <a:pt x="826" y="48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48"/>
                  </a:lnTo>
                  <a:lnTo>
                    <a:pt x="1290" y="94"/>
                  </a:lnTo>
                  <a:lnTo>
                    <a:pt x="1330" y="136"/>
                  </a:lnTo>
                  <a:lnTo>
                    <a:pt x="1372" y="178"/>
                  </a:lnTo>
                  <a:lnTo>
                    <a:pt x="1416" y="216"/>
                  </a:lnTo>
                  <a:lnTo>
                    <a:pt x="1466" y="254"/>
                  </a:lnTo>
                  <a:lnTo>
                    <a:pt x="1520" y="294"/>
                  </a:lnTo>
                  <a:lnTo>
                    <a:pt x="1578" y="332"/>
                  </a:lnTo>
                  <a:lnTo>
                    <a:pt x="1578" y="332"/>
                  </a:lnTo>
                  <a:lnTo>
                    <a:pt x="1642" y="372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0"/>
                  </a:lnTo>
                  <a:lnTo>
                    <a:pt x="2096" y="572"/>
                  </a:lnTo>
                  <a:lnTo>
                    <a:pt x="2096" y="572"/>
                  </a:lnTo>
                  <a:lnTo>
                    <a:pt x="2070" y="618"/>
                  </a:lnTo>
                  <a:lnTo>
                    <a:pt x="2046" y="660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2"/>
                  </a:lnTo>
                  <a:lnTo>
                    <a:pt x="1960" y="866"/>
                  </a:lnTo>
                  <a:lnTo>
                    <a:pt x="1944" y="914"/>
                  </a:lnTo>
                  <a:lnTo>
                    <a:pt x="1944" y="914"/>
                  </a:lnTo>
                  <a:lnTo>
                    <a:pt x="1858" y="880"/>
                  </a:lnTo>
                  <a:lnTo>
                    <a:pt x="1782" y="844"/>
                  </a:lnTo>
                  <a:lnTo>
                    <a:pt x="1708" y="806"/>
                  </a:lnTo>
                  <a:lnTo>
                    <a:pt x="1622" y="756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58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298"/>
                  </a:lnTo>
                  <a:lnTo>
                    <a:pt x="224" y="1300"/>
                  </a:lnTo>
                  <a:lnTo>
                    <a:pt x="164" y="1304"/>
                  </a:lnTo>
                  <a:lnTo>
                    <a:pt x="104" y="1310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0"/>
                  </a:lnTo>
                  <a:lnTo>
                    <a:pt x="1990" y="1310"/>
                  </a:lnTo>
                  <a:lnTo>
                    <a:pt x="1930" y="1304"/>
                  </a:lnTo>
                  <a:lnTo>
                    <a:pt x="1870" y="1300"/>
                  </a:lnTo>
                  <a:lnTo>
                    <a:pt x="1804" y="1298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0"/>
                  </a:lnTo>
                  <a:lnTo>
                    <a:pt x="1708" y="1514"/>
                  </a:lnTo>
                  <a:lnTo>
                    <a:pt x="1758" y="1576"/>
                  </a:lnTo>
                  <a:lnTo>
                    <a:pt x="1808" y="1636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4" y="1906"/>
                  </a:lnTo>
                  <a:lnTo>
                    <a:pt x="1200" y="1918"/>
                  </a:lnTo>
                  <a:lnTo>
                    <a:pt x="1200" y="1918"/>
                  </a:lnTo>
                  <a:lnTo>
                    <a:pt x="1024" y="1934"/>
                  </a:lnTo>
                  <a:lnTo>
                    <a:pt x="772" y="1956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2"/>
                  </a:lnTo>
                  <a:lnTo>
                    <a:pt x="292" y="1654"/>
                  </a:lnTo>
                  <a:lnTo>
                    <a:pt x="292" y="1654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4"/>
                  </a:lnTo>
                  <a:lnTo>
                    <a:pt x="544" y="1478"/>
                  </a:lnTo>
                  <a:lnTo>
                    <a:pt x="590" y="1388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0" y="544"/>
                  </a:lnTo>
                  <a:lnTo>
                    <a:pt x="1260" y="510"/>
                  </a:lnTo>
                  <a:lnTo>
                    <a:pt x="1220" y="476"/>
                  </a:lnTo>
                  <a:lnTo>
                    <a:pt x="1184" y="444"/>
                  </a:lnTo>
                  <a:lnTo>
                    <a:pt x="1148" y="408"/>
                  </a:lnTo>
                  <a:lnTo>
                    <a:pt x="1114" y="372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2"/>
                  </a:lnTo>
                  <a:lnTo>
                    <a:pt x="976" y="370"/>
                  </a:lnTo>
                  <a:lnTo>
                    <a:pt x="944" y="404"/>
                  </a:lnTo>
                  <a:lnTo>
                    <a:pt x="910" y="438"/>
                  </a:lnTo>
                  <a:lnTo>
                    <a:pt x="874" y="470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18"/>
                  </a:lnTo>
                  <a:lnTo>
                    <a:pt x="1366" y="1606"/>
                  </a:lnTo>
                  <a:lnTo>
                    <a:pt x="1366" y="1606"/>
                  </a:lnTo>
                  <a:lnTo>
                    <a:pt x="1324" y="1558"/>
                  </a:lnTo>
                  <a:lnTo>
                    <a:pt x="1286" y="1512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7207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9366120" y="3568680"/>
              <a:ext cx="3305160" cy="3289320"/>
            </a:xfrm>
            <a:custGeom>
              <a:avLst/>
              <a:gdLst>
                <a:gd name="textAreaLeft" fmla="*/ 0 w 3305160"/>
                <a:gd name="textAreaRight" fmla="*/ 3305520 w 3305160"/>
                <a:gd name="textAreaTop" fmla="*/ 0 h 3289320"/>
                <a:gd name="textAreaBottom" fmla="*/ 3289680 h 3289320"/>
              </a:gdLst>
              <a:ahLst/>
              <a:rect l="textAreaLeft" t="textAreaTop" r="textAreaRight" b="textAreaBottom"/>
              <a:pathLst>
                <a:path w="2082" h="2072">
                  <a:moveTo>
                    <a:pt x="752" y="1044"/>
                  </a:moveTo>
                  <a:lnTo>
                    <a:pt x="848" y="1044"/>
                  </a:lnTo>
                  <a:lnTo>
                    <a:pt x="848" y="1044"/>
                  </a:lnTo>
                  <a:lnTo>
                    <a:pt x="922" y="1044"/>
                  </a:lnTo>
                  <a:lnTo>
                    <a:pt x="978" y="1042"/>
                  </a:lnTo>
                  <a:lnTo>
                    <a:pt x="1024" y="1038"/>
                  </a:lnTo>
                  <a:lnTo>
                    <a:pt x="1068" y="1032"/>
                  </a:lnTo>
                  <a:lnTo>
                    <a:pt x="1068" y="1346"/>
                  </a:lnTo>
                  <a:lnTo>
                    <a:pt x="1068" y="1346"/>
                  </a:lnTo>
                  <a:lnTo>
                    <a:pt x="1022" y="1342"/>
                  </a:lnTo>
                  <a:lnTo>
                    <a:pt x="974" y="1340"/>
                  </a:lnTo>
                  <a:lnTo>
                    <a:pt x="920" y="1338"/>
                  </a:lnTo>
                  <a:lnTo>
                    <a:pt x="854" y="1338"/>
                  </a:lnTo>
                  <a:lnTo>
                    <a:pt x="854" y="1338"/>
                  </a:lnTo>
                  <a:lnTo>
                    <a:pt x="890" y="1374"/>
                  </a:lnTo>
                  <a:lnTo>
                    <a:pt x="928" y="1408"/>
                  </a:lnTo>
                  <a:lnTo>
                    <a:pt x="972" y="1442"/>
                  </a:lnTo>
                  <a:lnTo>
                    <a:pt x="1024" y="1478"/>
                  </a:lnTo>
                  <a:lnTo>
                    <a:pt x="1024" y="1478"/>
                  </a:lnTo>
                  <a:lnTo>
                    <a:pt x="982" y="1560"/>
                  </a:lnTo>
                  <a:lnTo>
                    <a:pt x="948" y="1632"/>
                  </a:lnTo>
                  <a:lnTo>
                    <a:pt x="920" y="1702"/>
                  </a:lnTo>
                  <a:lnTo>
                    <a:pt x="892" y="1772"/>
                  </a:lnTo>
                  <a:lnTo>
                    <a:pt x="892" y="1772"/>
                  </a:lnTo>
                  <a:lnTo>
                    <a:pt x="846" y="1730"/>
                  </a:lnTo>
                  <a:lnTo>
                    <a:pt x="810" y="1694"/>
                  </a:lnTo>
                  <a:lnTo>
                    <a:pt x="780" y="1656"/>
                  </a:lnTo>
                  <a:lnTo>
                    <a:pt x="748" y="1610"/>
                  </a:lnTo>
                  <a:lnTo>
                    <a:pt x="748" y="1610"/>
                  </a:lnTo>
                  <a:lnTo>
                    <a:pt x="750" y="1702"/>
                  </a:lnTo>
                  <a:lnTo>
                    <a:pt x="752" y="1754"/>
                  </a:lnTo>
                  <a:lnTo>
                    <a:pt x="752" y="1878"/>
                  </a:lnTo>
                  <a:lnTo>
                    <a:pt x="752" y="1878"/>
                  </a:lnTo>
                  <a:lnTo>
                    <a:pt x="752" y="1932"/>
                  </a:lnTo>
                  <a:lnTo>
                    <a:pt x="754" y="1978"/>
                  </a:lnTo>
                  <a:lnTo>
                    <a:pt x="758" y="2016"/>
                  </a:lnTo>
                  <a:lnTo>
                    <a:pt x="762" y="2054"/>
                  </a:lnTo>
                  <a:lnTo>
                    <a:pt x="426" y="2054"/>
                  </a:lnTo>
                  <a:lnTo>
                    <a:pt x="426" y="2054"/>
                  </a:lnTo>
                  <a:lnTo>
                    <a:pt x="430" y="2020"/>
                  </a:lnTo>
                  <a:lnTo>
                    <a:pt x="432" y="1982"/>
                  </a:lnTo>
                  <a:lnTo>
                    <a:pt x="434" y="1942"/>
                  </a:lnTo>
                  <a:lnTo>
                    <a:pt x="434" y="1894"/>
                  </a:lnTo>
                  <a:lnTo>
                    <a:pt x="434" y="1786"/>
                  </a:lnTo>
                  <a:lnTo>
                    <a:pt x="434" y="1786"/>
                  </a:lnTo>
                  <a:lnTo>
                    <a:pt x="436" y="1734"/>
                  </a:lnTo>
                  <a:lnTo>
                    <a:pt x="438" y="1666"/>
                  </a:lnTo>
                  <a:lnTo>
                    <a:pt x="438" y="1666"/>
                  </a:lnTo>
                  <a:lnTo>
                    <a:pt x="404" y="1716"/>
                  </a:lnTo>
                  <a:lnTo>
                    <a:pt x="372" y="1760"/>
                  </a:lnTo>
                  <a:lnTo>
                    <a:pt x="338" y="1800"/>
                  </a:lnTo>
                  <a:lnTo>
                    <a:pt x="306" y="1836"/>
                  </a:lnTo>
                  <a:lnTo>
                    <a:pt x="268" y="1870"/>
                  </a:lnTo>
                  <a:lnTo>
                    <a:pt x="228" y="1904"/>
                  </a:lnTo>
                  <a:lnTo>
                    <a:pt x="184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0" y="1934"/>
                  </a:lnTo>
                  <a:lnTo>
                    <a:pt x="106" y="1892"/>
                  </a:lnTo>
                  <a:lnTo>
                    <a:pt x="94" y="1850"/>
                  </a:lnTo>
                  <a:lnTo>
                    <a:pt x="78" y="1812"/>
                  </a:lnTo>
                  <a:lnTo>
                    <a:pt x="62" y="1772"/>
                  </a:lnTo>
                  <a:lnTo>
                    <a:pt x="42" y="1734"/>
                  </a:lnTo>
                  <a:lnTo>
                    <a:pt x="22" y="1694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22" y="1638"/>
                  </a:lnTo>
                  <a:lnTo>
                    <a:pt x="48" y="1624"/>
                  </a:lnTo>
                  <a:lnTo>
                    <a:pt x="98" y="1586"/>
                  </a:lnTo>
                  <a:lnTo>
                    <a:pt x="156" y="1542"/>
                  </a:lnTo>
                  <a:lnTo>
                    <a:pt x="220" y="1484"/>
                  </a:lnTo>
                  <a:lnTo>
                    <a:pt x="220" y="1484"/>
                  </a:lnTo>
                  <a:lnTo>
                    <a:pt x="252" y="1454"/>
                  </a:lnTo>
                  <a:lnTo>
                    <a:pt x="282" y="1420"/>
                  </a:lnTo>
                  <a:lnTo>
                    <a:pt x="312" y="1384"/>
                  </a:lnTo>
                  <a:lnTo>
                    <a:pt x="346" y="1338"/>
                  </a:lnTo>
                  <a:lnTo>
                    <a:pt x="252" y="1338"/>
                  </a:lnTo>
                  <a:lnTo>
                    <a:pt x="252" y="1338"/>
                  </a:lnTo>
                  <a:lnTo>
                    <a:pt x="184" y="1338"/>
                  </a:lnTo>
                  <a:lnTo>
                    <a:pt x="130" y="1340"/>
                  </a:lnTo>
                  <a:lnTo>
                    <a:pt x="82" y="1342"/>
                  </a:lnTo>
                  <a:lnTo>
                    <a:pt x="36" y="1346"/>
                  </a:lnTo>
                  <a:lnTo>
                    <a:pt x="36" y="1032"/>
                  </a:lnTo>
                  <a:lnTo>
                    <a:pt x="36" y="1032"/>
                  </a:lnTo>
                  <a:lnTo>
                    <a:pt x="80" y="1038"/>
                  </a:lnTo>
                  <a:lnTo>
                    <a:pt x="128" y="1042"/>
                  </a:lnTo>
                  <a:lnTo>
                    <a:pt x="184" y="1044"/>
                  </a:lnTo>
                  <a:lnTo>
                    <a:pt x="258" y="1044"/>
                  </a:lnTo>
                  <a:lnTo>
                    <a:pt x="434" y="1044"/>
                  </a:lnTo>
                  <a:lnTo>
                    <a:pt x="434" y="948"/>
                  </a:lnTo>
                  <a:lnTo>
                    <a:pt x="252" y="948"/>
                  </a:lnTo>
                  <a:lnTo>
                    <a:pt x="252" y="948"/>
                  </a:lnTo>
                  <a:lnTo>
                    <a:pt x="186" y="948"/>
                  </a:lnTo>
                  <a:lnTo>
                    <a:pt x="130" y="950"/>
                  </a:lnTo>
                  <a:lnTo>
                    <a:pt x="82" y="952"/>
                  </a:lnTo>
                  <a:lnTo>
                    <a:pt x="36" y="958"/>
                  </a:lnTo>
                  <a:lnTo>
                    <a:pt x="36" y="636"/>
                  </a:lnTo>
                  <a:lnTo>
                    <a:pt x="36" y="636"/>
                  </a:lnTo>
                  <a:lnTo>
                    <a:pt x="76" y="642"/>
                  </a:lnTo>
                  <a:lnTo>
                    <a:pt x="116" y="646"/>
                  </a:lnTo>
                  <a:lnTo>
                    <a:pt x="168" y="648"/>
                  </a:lnTo>
                  <a:lnTo>
                    <a:pt x="236" y="648"/>
                  </a:lnTo>
                  <a:lnTo>
                    <a:pt x="236" y="648"/>
                  </a:lnTo>
                  <a:lnTo>
                    <a:pt x="226" y="602"/>
                  </a:lnTo>
                  <a:lnTo>
                    <a:pt x="216" y="556"/>
                  </a:lnTo>
                  <a:lnTo>
                    <a:pt x="202" y="512"/>
                  </a:lnTo>
                  <a:lnTo>
                    <a:pt x="188" y="468"/>
                  </a:lnTo>
                  <a:lnTo>
                    <a:pt x="188" y="468"/>
                  </a:lnTo>
                  <a:lnTo>
                    <a:pt x="130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2" y="164"/>
                  </a:lnTo>
                  <a:lnTo>
                    <a:pt x="170" y="168"/>
                  </a:lnTo>
                  <a:lnTo>
                    <a:pt x="228" y="170"/>
                  </a:lnTo>
                  <a:lnTo>
                    <a:pt x="300" y="170"/>
                  </a:lnTo>
                  <a:lnTo>
                    <a:pt x="422" y="170"/>
                  </a:lnTo>
                  <a:lnTo>
                    <a:pt x="422" y="170"/>
                  </a:lnTo>
                  <a:lnTo>
                    <a:pt x="418" y="82"/>
                  </a:lnTo>
                  <a:lnTo>
                    <a:pt x="416" y="50"/>
                  </a:lnTo>
                  <a:lnTo>
                    <a:pt x="410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68" y="48"/>
                  </a:lnTo>
                  <a:lnTo>
                    <a:pt x="766" y="80"/>
                  </a:lnTo>
                  <a:lnTo>
                    <a:pt x="764" y="118"/>
                  </a:lnTo>
                  <a:lnTo>
                    <a:pt x="762" y="170"/>
                  </a:lnTo>
                  <a:lnTo>
                    <a:pt x="852" y="170"/>
                  </a:lnTo>
                  <a:lnTo>
                    <a:pt x="852" y="170"/>
                  </a:lnTo>
                  <a:lnTo>
                    <a:pt x="926" y="170"/>
                  </a:lnTo>
                  <a:lnTo>
                    <a:pt x="982" y="168"/>
                  </a:lnTo>
                  <a:lnTo>
                    <a:pt x="1028" y="164"/>
                  </a:lnTo>
                  <a:lnTo>
                    <a:pt x="1072" y="158"/>
                  </a:lnTo>
                  <a:lnTo>
                    <a:pt x="1072" y="474"/>
                  </a:lnTo>
                  <a:lnTo>
                    <a:pt x="1072" y="474"/>
                  </a:lnTo>
                  <a:lnTo>
                    <a:pt x="1028" y="470"/>
                  </a:lnTo>
                  <a:lnTo>
                    <a:pt x="986" y="468"/>
                  </a:lnTo>
                  <a:lnTo>
                    <a:pt x="986" y="468"/>
                  </a:lnTo>
                  <a:lnTo>
                    <a:pt x="960" y="562"/>
                  </a:lnTo>
                  <a:lnTo>
                    <a:pt x="936" y="648"/>
                  </a:lnTo>
                  <a:lnTo>
                    <a:pt x="936" y="648"/>
                  </a:lnTo>
                  <a:lnTo>
                    <a:pt x="1016" y="644"/>
                  </a:lnTo>
                  <a:lnTo>
                    <a:pt x="1080" y="636"/>
                  </a:lnTo>
                  <a:lnTo>
                    <a:pt x="1080" y="958"/>
                  </a:lnTo>
                  <a:lnTo>
                    <a:pt x="1080" y="958"/>
                  </a:lnTo>
                  <a:lnTo>
                    <a:pt x="1032" y="952"/>
                  </a:lnTo>
                  <a:lnTo>
                    <a:pt x="984" y="950"/>
                  </a:lnTo>
                  <a:lnTo>
                    <a:pt x="928" y="948"/>
                  </a:lnTo>
                  <a:lnTo>
                    <a:pt x="860" y="948"/>
                  </a:lnTo>
                  <a:lnTo>
                    <a:pt x="752" y="948"/>
                  </a:lnTo>
                  <a:lnTo>
                    <a:pt x="752" y="1044"/>
                  </a:lnTo>
                  <a:close/>
                  <a:moveTo>
                    <a:pt x="634" y="648"/>
                  </a:moveTo>
                  <a:lnTo>
                    <a:pt x="634" y="648"/>
                  </a:lnTo>
                  <a:lnTo>
                    <a:pt x="648" y="602"/>
                  </a:lnTo>
                  <a:lnTo>
                    <a:pt x="660" y="560"/>
                  </a:lnTo>
                  <a:lnTo>
                    <a:pt x="670" y="516"/>
                  </a:lnTo>
                  <a:lnTo>
                    <a:pt x="678" y="466"/>
                  </a:lnTo>
                  <a:lnTo>
                    <a:pt x="496" y="466"/>
                  </a:lnTo>
                  <a:lnTo>
                    <a:pt x="496" y="466"/>
                  </a:lnTo>
                  <a:lnTo>
                    <a:pt x="512" y="508"/>
                  </a:lnTo>
                  <a:lnTo>
                    <a:pt x="522" y="548"/>
                  </a:lnTo>
                  <a:lnTo>
                    <a:pt x="532" y="590"/>
                  </a:lnTo>
                  <a:lnTo>
                    <a:pt x="542" y="648"/>
                  </a:lnTo>
                  <a:lnTo>
                    <a:pt x="634" y="648"/>
                  </a:lnTo>
                  <a:close/>
                  <a:moveTo>
                    <a:pt x="1880" y="654"/>
                  </a:moveTo>
                  <a:lnTo>
                    <a:pt x="1880" y="654"/>
                  </a:lnTo>
                  <a:lnTo>
                    <a:pt x="1942" y="654"/>
                  </a:lnTo>
                  <a:lnTo>
                    <a:pt x="1994" y="650"/>
                  </a:lnTo>
                  <a:lnTo>
                    <a:pt x="2038" y="646"/>
                  </a:lnTo>
                  <a:lnTo>
                    <a:pt x="2076" y="642"/>
                  </a:lnTo>
                  <a:lnTo>
                    <a:pt x="2076" y="974"/>
                  </a:lnTo>
                  <a:lnTo>
                    <a:pt x="2076" y="974"/>
                  </a:lnTo>
                  <a:lnTo>
                    <a:pt x="2042" y="970"/>
                  </a:lnTo>
                  <a:lnTo>
                    <a:pt x="2008" y="968"/>
                  </a:lnTo>
                  <a:lnTo>
                    <a:pt x="1970" y="966"/>
                  </a:lnTo>
                  <a:lnTo>
                    <a:pt x="1918" y="966"/>
                  </a:lnTo>
                  <a:lnTo>
                    <a:pt x="1892" y="966"/>
                  </a:lnTo>
                  <a:lnTo>
                    <a:pt x="1892" y="1764"/>
                  </a:lnTo>
                  <a:lnTo>
                    <a:pt x="1892" y="1764"/>
                  </a:lnTo>
                  <a:lnTo>
                    <a:pt x="1892" y="1862"/>
                  </a:lnTo>
                  <a:lnTo>
                    <a:pt x="1894" y="1938"/>
                  </a:lnTo>
                  <a:lnTo>
                    <a:pt x="1898" y="1998"/>
                  </a:lnTo>
                  <a:lnTo>
                    <a:pt x="1906" y="2056"/>
                  </a:lnTo>
                  <a:lnTo>
                    <a:pt x="1554" y="2056"/>
                  </a:lnTo>
                  <a:lnTo>
                    <a:pt x="1554" y="2056"/>
                  </a:lnTo>
                  <a:lnTo>
                    <a:pt x="1562" y="1998"/>
                  </a:lnTo>
                  <a:lnTo>
                    <a:pt x="1566" y="1936"/>
                  </a:lnTo>
                  <a:lnTo>
                    <a:pt x="1568" y="1862"/>
                  </a:lnTo>
                  <a:lnTo>
                    <a:pt x="1568" y="1764"/>
                  </a:lnTo>
                  <a:lnTo>
                    <a:pt x="1568" y="966"/>
                  </a:lnTo>
                  <a:lnTo>
                    <a:pt x="1448" y="966"/>
                  </a:lnTo>
                  <a:lnTo>
                    <a:pt x="1448" y="966"/>
                  </a:lnTo>
                  <a:lnTo>
                    <a:pt x="1446" y="1070"/>
                  </a:lnTo>
                  <a:lnTo>
                    <a:pt x="1442" y="1162"/>
                  </a:lnTo>
                  <a:lnTo>
                    <a:pt x="1436" y="1242"/>
                  </a:lnTo>
                  <a:lnTo>
                    <a:pt x="1430" y="1316"/>
                  </a:lnTo>
                  <a:lnTo>
                    <a:pt x="1422" y="1386"/>
                  </a:lnTo>
                  <a:lnTo>
                    <a:pt x="1412" y="1452"/>
                  </a:lnTo>
                  <a:lnTo>
                    <a:pt x="1402" y="1516"/>
                  </a:lnTo>
                  <a:lnTo>
                    <a:pt x="1388" y="1584"/>
                  </a:lnTo>
                  <a:lnTo>
                    <a:pt x="1388" y="1584"/>
                  </a:lnTo>
                  <a:lnTo>
                    <a:pt x="1372" y="1654"/>
                  </a:lnTo>
                  <a:lnTo>
                    <a:pt x="1354" y="1718"/>
                  </a:lnTo>
                  <a:lnTo>
                    <a:pt x="1334" y="1780"/>
                  </a:lnTo>
                  <a:lnTo>
                    <a:pt x="1312" y="1840"/>
                  </a:lnTo>
                  <a:lnTo>
                    <a:pt x="1286" y="1898"/>
                  </a:lnTo>
                  <a:lnTo>
                    <a:pt x="1258" y="1954"/>
                  </a:lnTo>
                  <a:lnTo>
                    <a:pt x="1226" y="2012"/>
                  </a:lnTo>
                  <a:lnTo>
                    <a:pt x="1190" y="2072"/>
                  </a:lnTo>
                  <a:lnTo>
                    <a:pt x="1190" y="2072"/>
                  </a:lnTo>
                  <a:lnTo>
                    <a:pt x="1106" y="2008"/>
                  </a:lnTo>
                  <a:lnTo>
                    <a:pt x="1070" y="1984"/>
                  </a:lnTo>
                  <a:lnTo>
                    <a:pt x="1036" y="1962"/>
                  </a:lnTo>
                  <a:lnTo>
                    <a:pt x="1002" y="1940"/>
                  </a:lnTo>
                  <a:lnTo>
                    <a:pt x="966" y="1920"/>
                  </a:lnTo>
                  <a:lnTo>
                    <a:pt x="882" y="1878"/>
                  </a:lnTo>
                  <a:lnTo>
                    <a:pt x="882" y="1878"/>
                  </a:lnTo>
                  <a:lnTo>
                    <a:pt x="916" y="1830"/>
                  </a:lnTo>
                  <a:lnTo>
                    <a:pt x="948" y="1784"/>
                  </a:lnTo>
                  <a:lnTo>
                    <a:pt x="974" y="1738"/>
                  </a:lnTo>
                  <a:lnTo>
                    <a:pt x="1000" y="1692"/>
                  </a:lnTo>
                  <a:lnTo>
                    <a:pt x="1022" y="1646"/>
                  </a:lnTo>
                  <a:lnTo>
                    <a:pt x="1040" y="1596"/>
                  </a:lnTo>
                  <a:lnTo>
                    <a:pt x="1058" y="1546"/>
                  </a:lnTo>
                  <a:lnTo>
                    <a:pt x="1074" y="1492"/>
                  </a:lnTo>
                  <a:lnTo>
                    <a:pt x="1074" y="1492"/>
                  </a:lnTo>
                  <a:lnTo>
                    <a:pt x="1082" y="1462"/>
                  </a:lnTo>
                  <a:lnTo>
                    <a:pt x="1088" y="1428"/>
                  </a:lnTo>
                  <a:lnTo>
                    <a:pt x="1100" y="1348"/>
                  </a:lnTo>
                  <a:lnTo>
                    <a:pt x="1110" y="1250"/>
                  </a:lnTo>
                  <a:lnTo>
                    <a:pt x="1118" y="1132"/>
                  </a:lnTo>
                  <a:lnTo>
                    <a:pt x="1124" y="992"/>
                  </a:lnTo>
                  <a:lnTo>
                    <a:pt x="1128" y="830"/>
                  </a:lnTo>
                  <a:lnTo>
                    <a:pt x="1130" y="642"/>
                  </a:lnTo>
                  <a:lnTo>
                    <a:pt x="1130" y="430"/>
                  </a:lnTo>
                  <a:lnTo>
                    <a:pt x="1130" y="430"/>
                  </a:lnTo>
                  <a:lnTo>
                    <a:pt x="1130" y="360"/>
                  </a:lnTo>
                  <a:lnTo>
                    <a:pt x="1128" y="294"/>
                  </a:lnTo>
                  <a:lnTo>
                    <a:pt x="1122" y="234"/>
                  </a:lnTo>
                  <a:lnTo>
                    <a:pt x="1116" y="180"/>
                  </a:lnTo>
                  <a:lnTo>
                    <a:pt x="1116" y="180"/>
                  </a:lnTo>
                  <a:lnTo>
                    <a:pt x="1194" y="174"/>
                  </a:lnTo>
                  <a:lnTo>
                    <a:pt x="1266" y="164"/>
                  </a:lnTo>
                  <a:lnTo>
                    <a:pt x="1336" y="154"/>
                  </a:lnTo>
                  <a:lnTo>
                    <a:pt x="1402" y="142"/>
                  </a:lnTo>
                  <a:lnTo>
                    <a:pt x="1468" y="128"/>
                  </a:lnTo>
                  <a:lnTo>
                    <a:pt x="1534" y="114"/>
                  </a:lnTo>
                  <a:lnTo>
                    <a:pt x="1600" y="94"/>
                  </a:lnTo>
                  <a:lnTo>
                    <a:pt x="1668" y="74"/>
                  </a:lnTo>
                  <a:lnTo>
                    <a:pt x="1668" y="74"/>
                  </a:lnTo>
                  <a:lnTo>
                    <a:pt x="1726" y="54"/>
                  </a:lnTo>
                  <a:lnTo>
                    <a:pt x="1772" y="36"/>
                  </a:lnTo>
                  <a:lnTo>
                    <a:pt x="1808" y="18"/>
                  </a:lnTo>
                  <a:lnTo>
                    <a:pt x="1836" y="0"/>
                  </a:lnTo>
                  <a:lnTo>
                    <a:pt x="2082" y="302"/>
                  </a:lnTo>
                  <a:lnTo>
                    <a:pt x="2082" y="302"/>
                  </a:lnTo>
                  <a:lnTo>
                    <a:pt x="2002" y="326"/>
                  </a:lnTo>
                  <a:lnTo>
                    <a:pt x="2002" y="326"/>
                  </a:lnTo>
                  <a:lnTo>
                    <a:pt x="1952" y="342"/>
                  </a:lnTo>
                  <a:lnTo>
                    <a:pt x="1896" y="356"/>
                  </a:lnTo>
                  <a:lnTo>
                    <a:pt x="1836" y="372"/>
                  </a:lnTo>
                  <a:lnTo>
                    <a:pt x="1772" y="386"/>
                  </a:lnTo>
                  <a:lnTo>
                    <a:pt x="1700" y="400"/>
                  </a:lnTo>
                  <a:lnTo>
                    <a:pt x="1624" y="414"/>
                  </a:lnTo>
                  <a:lnTo>
                    <a:pt x="1450" y="442"/>
                  </a:lnTo>
                  <a:lnTo>
                    <a:pt x="1450" y="654"/>
                  </a:lnTo>
                  <a:lnTo>
                    <a:pt x="1880" y="65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13471200" y="3568680"/>
              <a:ext cx="3330360" cy="3257640"/>
            </a:xfrm>
            <a:custGeom>
              <a:avLst/>
              <a:gdLst>
                <a:gd name="textAreaLeft" fmla="*/ 0 w 3330360"/>
                <a:gd name="textAreaRight" fmla="*/ 3330720 w 3330360"/>
                <a:gd name="textAreaTop" fmla="*/ 0 h 3257640"/>
                <a:gd name="textAreaBottom" fmla="*/ 3258000 h 3257640"/>
              </a:gdLst>
              <a:ahLst/>
              <a:rect l="textAreaLeft" t="textAreaTop" r="textAreaRight" b="textAreaBottom"/>
              <a:pathLst>
                <a:path w="2098" h="2052">
                  <a:moveTo>
                    <a:pt x="1690" y="1766"/>
                  </a:moveTo>
                  <a:lnTo>
                    <a:pt x="1690" y="1766"/>
                  </a:lnTo>
                  <a:lnTo>
                    <a:pt x="1692" y="1858"/>
                  </a:lnTo>
                  <a:lnTo>
                    <a:pt x="1694" y="1932"/>
                  </a:lnTo>
                  <a:lnTo>
                    <a:pt x="1696" y="1992"/>
                  </a:lnTo>
                  <a:lnTo>
                    <a:pt x="1704" y="2050"/>
                  </a:lnTo>
                  <a:lnTo>
                    <a:pt x="1372" y="2050"/>
                  </a:lnTo>
                  <a:lnTo>
                    <a:pt x="1372" y="1968"/>
                  </a:lnTo>
                  <a:lnTo>
                    <a:pt x="722" y="1968"/>
                  </a:lnTo>
                  <a:lnTo>
                    <a:pt x="722" y="2052"/>
                  </a:lnTo>
                  <a:lnTo>
                    <a:pt x="394" y="2052"/>
                  </a:lnTo>
                  <a:lnTo>
                    <a:pt x="394" y="2052"/>
                  </a:lnTo>
                  <a:lnTo>
                    <a:pt x="400" y="1994"/>
                  </a:lnTo>
                  <a:lnTo>
                    <a:pt x="404" y="1932"/>
                  </a:lnTo>
                  <a:lnTo>
                    <a:pt x="406" y="1858"/>
                  </a:lnTo>
                  <a:lnTo>
                    <a:pt x="408" y="1768"/>
                  </a:lnTo>
                  <a:lnTo>
                    <a:pt x="408" y="1460"/>
                  </a:lnTo>
                  <a:lnTo>
                    <a:pt x="408" y="1460"/>
                  </a:lnTo>
                  <a:lnTo>
                    <a:pt x="346" y="1510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40"/>
                  </a:lnTo>
                  <a:lnTo>
                    <a:pt x="112" y="1502"/>
                  </a:lnTo>
                  <a:lnTo>
                    <a:pt x="92" y="1468"/>
                  </a:lnTo>
                  <a:lnTo>
                    <a:pt x="72" y="1438"/>
                  </a:lnTo>
                  <a:lnTo>
                    <a:pt x="52" y="1408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6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4" y="1156"/>
                  </a:lnTo>
                  <a:lnTo>
                    <a:pt x="342" y="1116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8"/>
                  </a:lnTo>
                  <a:lnTo>
                    <a:pt x="162" y="1030"/>
                  </a:lnTo>
                  <a:lnTo>
                    <a:pt x="100" y="1034"/>
                  </a:lnTo>
                  <a:lnTo>
                    <a:pt x="42" y="1040"/>
                  </a:lnTo>
                  <a:lnTo>
                    <a:pt x="42" y="752"/>
                  </a:lnTo>
                  <a:lnTo>
                    <a:pt x="42" y="752"/>
                  </a:lnTo>
                  <a:lnTo>
                    <a:pt x="96" y="758"/>
                  </a:lnTo>
                  <a:lnTo>
                    <a:pt x="156" y="762"/>
                  </a:lnTo>
                  <a:lnTo>
                    <a:pt x="224" y="764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6" y="728"/>
                  </a:lnTo>
                  <a:lnTo>
                    <a:pt x="662" y="694"/>
                  </a:lnTo>
                  <a:lnTo>
                    <a:pt x="464" y="694"/>
                  </a:lnTo>
                  <a:lnTo>
                    <a:pt x="464" y="694"/>
                  </a:lnTo>
                  <a:lnTo>
                    <a:pt x="388" y="694"/>
                  </a:lnTo>
                  <a:lnTo>
                    <a:pt x="328" y="696"/>
                  </a:lnTo>
                  <a:lnTo>
                    <a:pt x="278" y="698"/>
                  </a:lnTo>
                  <a:lnTo>
                    <a:pt x="230" y="702"/>
                  </a:lnTo>
                  <a:lnTo>
                    <a:pt x="230" y="464"/>
                  </a:lnTo>
                  <a:lnTo>
                    <a:pt x="230" y="464"/>
                  </a:lnTo>
                  <a:lnTo>
                    <a:pt x="278" y="468"/>
                  </a:lnTo>
                  <a:lnTo>
                    <a:pt x="328" y="470"/>
                  </a:lnTo>
                  <a:lnTo>
                    <a:pt x="388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4" y="408"/>
                  </a:lnTo>
                  <a:lnTo>
                    <a:pt x="404" y="408"/>
                  </a:lnTo>
                  <a:lnTo>
                    <a:pt x="404" y="408"/>
                  </a:lnTo>
                  <a:lnTo>
                    <a:pt x="328" y="408"/>
                  </a:lnTo>
                  <a:lnTo>
                    <a:pt x="262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8"/>
                  </a:lnTo>
                  <a:lnTo>
                    <a:pt x="422" y="148"/>
                  </a:lnTo>
                  <a:lnTo>
                    <a:pt x="828" y="148"/>
                  </a:lnTo>
                  <a:lnTo>
                    <a:pt x="828" y="148"/>
                  </a:lnTo>
                  <a:lnTo>
                    <a:pt x="834" y="90"/>
                  </a:lnTo>
                  <a:lnTo>
                    <a:pt x="836" y="60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70" y="82"/>
                  </a:lnTo>
                  <a:lnTo>
                    <a:pt x="1158" y="148"/>
                  </a:lnTo>
                  <a:lnTo>
                    <a:pt x="1672" y="148"/>
                  </a:lnTo>
                  <a:lnTo>
                    <a:pt x="1672" y="148"/>
                  </a:lnTo>
                  <a:lnTo>
                    <a:pt x="1758" y="148"/>
                  </a:lnTo>
                  <a:lnTo>
                    <a:pt x="1830" y="144"/>
                  </a:lnTo>
                  <a:lnTo>
                    <a:pt x="1894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2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8"/>
                  </a:lnTo>
                  <a:lnTo>
                    <a:pt x="1104" y="408"/>
                  </a:lnTo>
                  <a:lnTo>
                    <a:pt x="1104" y="408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8"/>
                  </a:lnTo>
                  <a:lnTo>
                    <a:pt x="1858" y="464"/>
                  </a:lnTo>
                  <a:lnTo>
                    <a:pt x="1858" y="702"/>
                  </a:lnTo>
                  <a:lnTo>
                    <a:pt x="1858" y="702"/>
                  </a:lnTo>
                  <a:lnTo>
                    <a:pt x="1808" y="698"/>
                  </a:lnTo>
                  <a:lnTo>
                    <a:pt x="1758" y="696"/>
                  </a:lnTo>
                  <a:lnTo>
                    <a:pt x="1698" y="694"/>
                  </a:lnTo>
                  <a:lnTo>
                    <a:pt x="1624" y="694"/>
                  </a:lnTo>
                  <a:lnTo>
                    <a:pt x="1430" y="694"/>
                  </a:lnTo>
                  <a:lnTo>
                    <a:pt x="1430" y="694"/>
                  </a:lnTo>
                  <a:lnTo>
                    <a:pt x="1448" y="730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4"/>
                  </a:lnTo>
                  <a:lnTo>
                    <a:pt x="1942" y="762"/>
                  </a:lnTo>
                  <a:lnTo>
                    <a:pt x="2000" y="758"/>
                  </a:lnTo>
                  <a:lnTo>
                    <a:pt x="2052" y="752"/>
                  </a:lnTo>
                  <a:lnTo>
                    <a:pt x="2052" y="1040"/>
                  </a:lnTo>
                  <a:lnTo>
                    <a:pt x="2052" y="1040"/>
                  </a:lnTo>
                  <a:lnTo>
                    <a:pt x="1994" y="1034"/>
                  </a:lnTo>
                  <a:lnTo>
                    <a:pt x="1934" y="1030"/>
                  </a:lnTo>
                  <a:lnTo>
                    <a:pt x="1866" y="1028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4"/>
                  </a:lnTo>
                  <a:lnTo>
                    <a:pt x="1758" y="1118"/>
                  </a:lnTo>
                  <a:lnTo>
                    <a:pt x="1808" y="1158"/>
                  </a:lnTo>
                  <a:lnTo>
                    <a:pt x="1860" y="1194"/>
                  </a:lnTo>
                  <a:lnTo>
                    <a:pt x="1914" y="1230"/>
                  </a:lnTo>
                  <a:lnTo>
                    <a:pt x="1970" y="1262"/>
                  </a:lnTo>
                  <a:lnTo>
                    <a:pt x="2032" y="1294"/>
                  </a:lnTo>
                  <a:lnTo>
                    <a:pt x="2098" y="1324"/>
                  </a:lnTo>
                  <a:lnTo>
                    <a:pt x="2098" y="1324"/>
                  </a:lnTo>
                  <a:lnTo>
                    <a:pt x="2050" y="1402"/>
                  </a:lnTo>
                  <a:lnTo>
                    <a:pt x="2030" y="1436"/>
                  </a:lnTo>
                  <a:lnTo>
                    <a:pt x="2012" y="1472"/>
                  </a:lnTo>
                  <a:lnTo>
                    <a:pt x="1994" y="1508"/>
                  </a:lnTo>
                  <a:lnTo>
                    <a:pt x="1978" y="1548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2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2" y="1342"/>
                  </a:lnTo>
                  <a:lnTo>
                    <a:pt x="722" y="1422"/>
                  </a:lnTo>
                  <a:close/>
                  <a:moveTo>
                    <a:pt x="722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2" y="1636"/>
                  </a:lnTo>
                  <a:lnTo>
                    <a:pt x="722" y="1718"/>
                  </a:lnTo>
                  <a:close/>
                  <a:moveTo>
                    <a:pt x="1354" y="1104"/>
                  </a:moveTo>
                  <a:lnTo>
                    <a:pt x="1354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6"/>
                  </a:lnTo>
                  <a:lnTo>
                    <a:pt x="762" y="1104"/>
                  </a:lnTo>
                  <a:lnTo>
                    <a:pt x="1354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4"/>
                  </a:lnTo>
                  <a:lnTo>
                    <a:pt x="1004" y="694"/>
                  </a:lnTo>
                  <a:lnTo>
                    <a:pt x="1004" y="694"/>
                  </a:lnTo>
                  <a:lnTo>
                    <a:pt x="990" y="730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17662320" y="3571560"/>
              <a:ext cx="3279600" cy="3295800"/>
            </a:xfrm>
            <a:custGeom>
              <a:avLst/>
              <a:gdLst>
                <a:gd name="textAreaLeft" fmla="*/ 0 w 3279600"/>
                <a:gd name="textAreaRight" fmla="*/ 3279960 w 3279600"/>
                <a:gd name="textAreaTop" fmla="*/ 0 h 3295800"/>
                <a:gd name="textAreaBottom" fmla="*/ 3296160 h 3295800"/>
              </a:gdLst>
              <a:ahLst/>
              <a:rect l="textAreaLeft" t="textAreaTop" r="textAreaRight" b="textAreaBottom"/>
              <a:pathLst>
                <a:path w="2066" h="2076">
                  <a:moveTo>
                    <a:pt x="936" y="1194"/>
                  </a:moveTo>
                  <a:lnTo>
                    <a:pt x="936" y="1194"/>
                  </a:lnTo>
                  <a:lnTo>
                    <a:pt x="936" y="1316"/>
                  </a:lnTo>
                  <a:lnTo>
                    <a:pt x="942" y="1406"/>
                  </a:lnTo>
                  <a:lnTo>
                    <a:pt x="942" y="1406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500"/>
                  </a:lnTo>
                  <a:lnTo>
                    <a:pt x="920" y="1586"/>
                  </a:lnTo>
                  <a:lnTo>
                    <a:pt x="950" y="1668"/>
                  </a:lnTo>
                  <a:lnTo>
                    <a:pt x="980" y="1756"/>
                  </a:lnTo>
                  <a:lnTo>
                    <a:pt x="980" y="1756"/>
                  </a:lnTo>
                  <a:lnTo>
                    <a:pt x="1012" y="1710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4" y="1518"/>
                  </a:lnTo>
                  <a:lnTo>
                    <a:pt x="1104" y="1460"/>
                  </a:lnTo>
                  <a:lnTo>
                    <a:pt x="1114" y="1394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6"/>
                  </a:lnTo>
                  <a:lnTo>
                    <a:pt x="980" y="1010"/>
                  </a:lnTo>
                  <a:lnTo>
                    <a:pt x="980" y="1010"/>
                  </a:lnTo>
                  <a:lnTo>
                    <a:pt x="1014" y="1014"/>
                  </a:lnTo>
                  <a:lnTo>
                    <a:pt x="1046" y="1016"/>
                  </a:lnTo>
                  <a:lnTo>
                    <a:pt x="1082" y="1018"/>
                  </a:lnTo>
                  <a:lnTo>
                    <a:pt x="1132" y="1018"/>
                  </a:lnTo>
                  <a:lnTo>
                    <a:pt x="1132" y="1018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4"/>
                  </a:lnTo>
                  <a:lnTo>
                    <a:pt x="1152" y="456"/>
                  </a:lnTo>
                  <a:lnTo>
                    <a:pt x="1152" y="456"/>
                  </a:lnTo>
                  <a:lnTo>
                    <a:pt x="1118" y="350"/>
                  </a:lnTo>
                  <a:lnTo>
                    <a:pt x="1104" y="308"/>
                  </a:lnTo>
                  <a:lnTo>
                    <a:pt x="1088" y="266"/>
                  </a:lnTo>
                  <a:lnTo>
                    <a:pt x="1070" y="228"/>
                  </a:lnTo>
                  <a:lnTo>
                    <a:pt x="1052" y="190"/>
                  </a:lnTo>
                  <a:lnTo>
                    <a:pt x="1032" y="150"/>
                  </a:lnTo>
                  <a:lnTo>
                    <a:pt x="1008" y="106"/>
                  </a:lnTo>
                  <a:lnTo>
                    <a:pt x="1308" y="10"/>
                  </a:lnTo>
                  <a:lnTo>
                    <a:pt x="1308" y="10"/>
                  </a:lnTo>
                  <a:lnTo>
                    <a:pt x="1360" y="112"/>
                  </a:lnTo>
                  <a:lnTo>
                    <a:pt x="1400" y="198"/>
                  </a:lnTo>
                  <a:lnTo>
                    <a:pt x="1432" y="280"/>
                  </a:lnTo>
                  <a:lnTo>
                    <a:pt x="1466" y="374"/>
                  </a:lnTo>
                  <a:lnTo>
                    <a:pt x="1242" y="456"/>
                  </a:lnTo>
                  <a:lnTo>
                    <a:pt x="1510" y="456"/>
                  </a:lnTo>
                  <a:lnTo>
                    <a:pt x="1510" y="456"/>
                  </a:lnTo>
                  <a:lnTo>
                    <a:pt x="1540" y="392"/>
                  </a:lnTo>
                  <a:lnTo>
                    <a:pt x="1566" y="334"/>
                  </a:lnTo>
                  <a:lnTo>
                    <a:pt x="1590" y="278"/>
                  </a:lnTo>
                  <a:lnTo>
                    <a:pt x="1612" y="224"/>
                  </a:lnTo>
                  <a:lnTo>
                    <a:pt x="1630" y="170"/>
                  </a:lnTo>
                  <a:lnTo>
                    <a:pt x="1648" y="116"/>
                  </a:lnTo>
                  <a:lnTo>
                    <a:pt x="1664" y="60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6"/>
                  </a:lnTo>
                  <a:lnTo>
                    <a:pt x="1924" y="300"/>
                  </a:lnTo>
                  <a:lnTo>
                    <a:pt x="1882" y="384"/>
                  </a:lnTo>
                  <a:lnTo>
                    <a:pt x="1846" y="456"/>
                  </a:lnTo>
                  <a:lnTo>
                    <a:pt x="1846" y="456"/>
                  </a:lnTo>
                  <a:lnTo>
                    <a:pt x="1902" y="454"/>
                  </a:lnTo>
                  <a:lnTo>
                    <a:pt x="1950" y="454"/>
                  </a:lnTo>
                  <a:lnTo>
                    <a:pt x="1992" y="450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8"/>
                  </a:lnTo>
                  <a:lnTo>
                    <a:pt x="1882" y="1018"/>
                  </a:lnTo>
                  <a:lnTo>
                    <a:pt x="1946" y="1018"/>
                  </a:lnTo>
                  <a:lnTo>
                    <a:pt x="1994" y="1016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30"/>
                  </a:lnTo>
                  <a:lnTo>
                    <a:pt x="2066" y="1330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20"/>
                  </a:lnTo>
                  <a:lnTo>
                    <a:pt x="1882" y="1318"/>
                  </a:lnTo>
                  <a:lnTo>
                    <a:pt x="1882" y="1802"/>
                  </a:lnTo>
                  <a:lnTo>
                    <a:pt x="1882" y="1802"/>
                  </a:lnTo>
                  <a:lnTo>
                    <a:pt x="1884" y="1886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70" y="1802"/>
                  </a:lnTo>
                  <a:lnTo>
                    <a:pt x="1570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6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6"/>
                  </a:lnTo>
                  <a:lnTo>
                    <a:pt x="1348" y="1786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900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6"/>
                  </a:lnTo>
                  <a:lnTo>
                    <a:pt x="1160" y="2076"/>
                  </a:lnTo>
                  <a:lnTo>
                    <a:pt x="1116" y="2022"/>
                  </a:lnTo>
                  <a:lnTo>
                    <a:pt x="1078" y="1978"/>
                  </a:lnTo>
                  <a:lnTo>
                    <a:pt x="1038" y="1940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40"/>
                  </a:lnTo>
                  <a:lnTo>
                    <a:pt x="354" y="1974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4"/>
                  </a:lnTo>
                  <a:lnTo>
                    <a:pt x="128" y="2032"/>
                  </a:lnTo>
                  <a:lnTo>
                    <a:pt x="98" y="2044"/>
                  </a:lnTo>
                  <a:lnTo>
                    <a:pt x="26" y="1706"/>
                  </a:lnTo>
                  <a:lnTo>
                    <a:pt x="26" y="1706"/>
                  </a:lnTo>
                  <a:lnTo>
                    <a:pt x="80" y="1704"/>
                  </a:lnTo>
                  <a:lnTo>
                    <a:pt x="152" y="1698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2"/>
                  </a:lnTo>
                  <a:lnTo>
                    <a:pt x="150" y="692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2" y="602"/>
                  </a:lnTo>
                  <a:lnTo>
                    <a:pt x="52" y="560"/>
                  </a:lnTo>
                  <a:lnTo>
                    <a:pt x="42" y="522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8"/>
                  </a:lnTo>
                  <a:lnTo>
                    <a:pt x="132" y="310"/>
                  </a:lnTo>
                  <a:lnTo>
                    <a:pt x="156" y="290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80"/>
                  </a:lnTo>
                  <a:lnTo>
                    <a:pt x="300" y="150"/>
                  </a:lnTo>
                  <a:lnTo>
                    <a:pt x="324" y="122"/>
                  </a:lnTo>
                  <a:lnTo>
                    <a:pt x="346" y="94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6"/>
                  </a:lnTo>
                  <a:lnTo>
                    <a:pt x="776" y="72"/>
                  </a:lnTo>
                  <a:lnTo>
                    <a:pt x="800" y="100"/>
                  </a:lnTo>
                  <a:lnTo>
                    <a:pt x="830" y="130"/>
                  </a:lnTo>
                  <a:lnTo>
                    <a:pt x="830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60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4"/>
                  </a:lnTo>
                  <a:lnTo>
                    <a:pt x="978" y="434"/>
                  </a:lnTo>
                  <a:lnTo>
                    <a:pt x="960" y="466"/>
                  </a:lnTo>
                  <a:lnTo>
                    <a:pt x="942" y="500"/>
                  </a:lnTo>
                  <a:lnTo>
                    <a:pt x="926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8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6"/>
                  </a:lnTo>
                  <a:lnTo>
                    <a:pt x="936" y="744"/>
                  </a:lnTo>
                  <a:lnTo>
                    <a:pt x="936" y="1194"/>
                  </a:lnTo>
                  <a:close/>
                  <a:moveTo>
                    <a:pt x="450" y="484"/>
                  </a:moveTo>
                  <a:lnTo>
                    <a:pt x="450" y="484"/>
                  </a:lnTo>
                  <a:lnTo>
                    <a:pt x="450" y="460"/>
                  </a:lnTo>
                  <a:lnTo>
                    <a:pt x="448" y="432"/>
                  </a:lnTo>
                  <a:lnTo>
                    <a:pt x="448" y="432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4"/>
                  </a:lnTo>
                  <a:close/>
                  <a:moveTo>
                    <a:pt x="632" y="890"/>
                  </a:moveTo>
                  <a:lnTo>
                    <a:pt x="632" y="806"/>
                  </a:lnTo>
                  <a:lnTo>
                    <a:pt x="460" y="806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6"/>
                  </a:moveTo>
                  <a:lnTo>
                    <a:pt x="632" y="1176"/>
                  </a:lnTo>
                  <a:lnTo>
                    <a:pt x="632" y="1090"/>
                  </a:lnTo>
                  <a:lnTo>
                    <a:pt x="460" y="1090"/>
                  </a:lnTo>
                  <a:lnTo>
                    <a:pt x="460" y="1176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6"/>
                  </a:lnTo>
                  <a:lnTo>
                    <a:pt x="460" y="1646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4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6"/>
                  </a:lnTo>
                  <a:lnTo>
                    <a:pt x="628" y="338"/>
                  </a:lnTo>
                  <a:lnTo>
                    <a:pt x="602" y="308"/>
                  </a:lnTo>
                  <a:lnTo>
                    <a:pt x="570" y="268"/>
                  </a:lnTo>
                  <a:lnTo>
                    <a:pt x="570" y="268"/>
                  </a:lnTo>
                  <a:lnTo>
                    <a:pt x="542" y="310"/>
                  </a:lnTo>
                  <a:lnTo>
                    <a:pt x="518" y="342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70"/>
                  </a:lnTo>
                  <a:lnTo>
                    <a:pt x="720" y="430"/>
                  </a:lnTo>
                  <a:lnTo>
                    <a:pt x="720" y="430"/>
                  </a:lnTo>
                  <a:lnTo>
                    <a:pt x="720" y="460"/>
                  </a:lnTo>
                  <a:lnTo>
                    <a:pt x="718" y="486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2" y="960"/>
                  </a:lnTo>
                  <a:lnTo>
                    <a:pt x="1440" y="1018"/>
                  </a:lnTo>
                  <a:lnTo>
                    <a:pt x="1570" y="1018"/>
                  </a:lnTo>
                  <a:lnTo>
                    <a:pt x="1570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21691440" y="4044960"/>
              <a:ext cx="3041640" cy="2549520"/>
            </a:xfrm>
            <a:custGeom>
              <a:avLst/>
              <a:gdLst>
                <a:gd name="textAreaLeft" fmla="*/ 0 w 3041640"/>
                <a:gd name="textAreaRight" fmla="*/ 3042000 w 3041640"/>
                <a:gd name="textAreaTop" fmla="*/ 0 h 2549520"/>
                <a:gd name="textAreaBottom" fmla="*/ 2549520 h 2549520"/>
              </a:gdLst>
              <a:ahLst/>
              <a:rect l="textAreaLeft" t="textAreaTop" r="textAreaRight" b="textAreaBottom"/>
              <a:pathLst>
                <a:path w="1916" h="1606">
                  <a:moveTo>
                    <a:pt x="0" y="164"/>
                  </a:moveTo>
                  <a:lnTo>
                    <a:pt x="0" y="164"/>
                  </a:lnTo>
                  <a:lnTo>
                    <a:pt x="62" y="156"/>
                  </a:lnTo>
                  <a:lnTo>
                    <a:pt x="122" y="148"/>
                  </a:lnTo>
                  <a:lnTo>
                    <a:pt x="192" y="134"/>
                  </a:lnTo>
                  <a:lnTo>
                    <a:pt x="286" y="114"/>
                  </a:lnTo>
                  <a:lnTo>
                    <a:pt x="286" y="114"/>
                  </a:lnTo>
                  <a:lnTo>
                    <a:pt x="440" y="82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2"/>
                  </a:lnTo>
                  <a:lnTo>
                    <a:pt x="872" y="12"/>
                  </a:lnTo>
                  <a:lnTo>
                    <a:pt x="954" y="4"/>
                  </a:lnTo>
                  <a:lnTo>
                    <a:pt x="1032" y="0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6" y="2"/>
                  </a:lnTo>
                  <a:lnTo>
                    <a:pt x="1274" y="8"/>
                  </a:lnTo>
                  <a:lnTo>
                    <a:pt x="1312" y="12"/>
                  </a:lnTo>
                  <a:lnTo>
                    <a:pt x="1348" y="18"/>
                  </a:lnTo>
                  <a:lnTo>
                    <a:pt x="1384" y="26"/>
                  </a:lnTo>
                  <a:lnTo>
                    <a:pt x="1418" y="34"/>
                  </a:lnTo>
                  <a:lnTo>
                    <a:pt x="1450" y="42"/>
                  </a:lnTo>
                  <a:lnTo>
                    <a:pt x="1482" y="52"/>
                  </a:lnTo>
                  <a:lnTo>
                    <a:pt x="1512" y="64"/>
                  </a:lnTo>
                  <a:lnTo>
                    <a:pt x="1542" y="76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58"/>
                  </a:lnTo>
                  <a:lnTo>
                    <a:pt x="1708" y="184"/>
                  </a:lnTo>
                  <a:lnTo>
                    <a:pt x="1736" y="210"/>
                  </a:lnTo>
                  <a:lnTo>
                    <a:pt x="1762" y="238"/>
                  </a:lnTo>
                  <a:lnTo>
                    <a:pt x="1786" y="268"/>
                  </a:lnTo>
                  <a:lnTo>
                    <a:pt x="1808" y="298"/>
                  </a:lnTo>
                  <a:lnTo>
                    <a:pt x="1828" y="332"/>
                  </a:lnTo>
                  <a:lnTo>
                    <a:pt x="1846" y="364"/>
                  </a:lnTo>
                  <a:lnTo>
                    <a:pt x="1862" y="400"/>
                  </a:lnTo>
                  <a:lnTo>
                    <a:pt x="1876" y="436"/>
                  </a:lnTo>
                  <a:lnTo>
                    <a:pt x="1888" y="472"/>
                  </a:lnTo>
                  <a:lnTo>
                    <a:pt x="1898" y="512"/>
                  </a:lnTo>
                  <a:lnTo>
                    <a:pt x="1904" y="550"/>
                  </a:lnTo>
                  <a:lnTo>
                    <a:pt x="1910" y="590"/>
                  </a:lnTo>
                  <a:lnTo>
                    <a:pt x="1914" y="630"/>
                  </a:lnTo>
                  <a:lnTo>
                    <a:pt x="1916" y="672"/>
                  </a:lnTo>
                  <a:lnTo>
                    <a:pt x="1916" y="672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6"/>
                  </a:lnTo>
                  <a:lnTo>
                    <a:pt x="1882" y="902"/>
                  </a:lnTo>
                  <a:lnTo>
                    <a:pt x="1862" y="956"/>
                  </a:lnTo>
                  <a:lnTo>
                    <a:pt x="1840" y="1008"/>
                  </a:lnTo>
                  <a:lnTo>
                    <a:pt x="1812" y="1058"/>
                  </a:lnTo>
                  <a:lnTo>
                    <a:pt x="1782" y="1108"/>
                  </a:lnTo>
                  <a:lnTo>
                    <a:pt x="1748" y="1154"/>
                  </a:lnTo>
                  <a:lnTo>
                    <a:pt x="1710" y="1198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8" y="1388"/>
                  </a:lnTo>
                  <a:lnTo>
                    <a:pt x="1408" y="1418"/>
                  </a:lnTo>
                  <a:lnTo>
                    <a:pt x="1408" y="1418"/>
                  </a:lnTo>
                  <a:lnTo>
                    <a:pt x="1326" y="1456"/>
                  </a:lnTo>
                  <a:lnTo>
                    <a:pt x="1286" y="1472"/>
                  </a:lnTo>
                  <a:lnTo>
                    <a:pt x="1244" y="1488"/>
                  </a:lnTo>
                  <a:lnTo>
                    <a:pt x="1200" y="1502"/>
                  </a:lnTo>
                  <a:lnTo>
                    <a:pt x="1156" y="1514"/>
                  </a:lnTo>
                  <a:lnTo>
                    <a:pt x="1112" y="1528"/>
                  </a:lnTo>
                  <a:lnTo>
                    <a:pt x="1064" y="1538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8" y="1606"/>
                  </a:lnTo>
                  <a:lnTo>
                    <a:pt x="598" y="1606"/>
                  </a:lnTo>
                  <a:lnTo>
                    <a:pt x="564" y="1486"/>
                  </a:lnTo>
                  <a:lnTo>
                    <a:pt x="548" y="1438"/>
                  </a:lnTo>
                  <a:lnTo>
                    <a:pt x="532" y="1396"/>
                  </a:lnTo>
                  <a:lnTo>
                    <a:pt x="516" y="1356"/>
                  </a:lnTo>
                  <a:lnTo>
                    <a:pt x="496" y="1314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30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4" y="1184"/>
                  </a:lnTo>
                  <a:lnTo>
                    <a:pt x="932" y="1172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80" y="1096"/>
                  </a:lnTo>
                  <a:lnTo>
                    <a:pt x="1232" y="1070"/>
                  </a:lnTo>
                  <a:lnTo>
                    <a:pt x="1280" y="1042"/>
                  </a:lnTo>
                  <a:lnTo>
                    <a:pt x="1304" y="1026"/>
                  </a:lnTo>
                  <a:lnTo>
                    <a:pt x="1324" y="1010"/>
                  </a:lnTo>
                  <a:lnTo>
                    <a:pt x="1346" y="994"/>
                  </a:lnTo>
                  <a:lnTo>
                    <a:pt x="1364" y="976"/>
                  </a:lnTo>
                  <a:lnTo>
                    <a:pt x="1384" y="958"/>
                  </a:lnTo>
                  <a:lnTo>
                    <a:pt x="1400" y="938"/>
                  </a:lnTo>
                  <a:lnTo>
                    <a:pt x="1418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50" y="872"/>
                  </a:lnTo>
                  <a:lnTo>
                    <a:pt x="1464" y="848"/>
                  </a:lnTo>
                  <a:lnTo>
                    <a:pt x="1476" y="822"/>
                  </a:lnTo>
                  <a:lnTo>
                    <a:pt x="1486" y="796"/>
                  </a:lnTo>
                  <a:lnTo>
                    <a:pt x="1492" y="768"/>
                  </a:lnTo>
                  <a:lnTo>
                    <a:pt x="1498" y="740"/>
                  </a:lnTo>
                  <a:lnTo>
                    <a:pt x="1500" y="712"/>
                  </a:lnTo>
                  <a:lnTo>
                    <a:pt x="1502" y="680"/>
                  </a:lnTo>
                  <a:lnTo>
                    <a:pt x="1502" y="680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0"/>
                  </a:lnTo>
                  <a:lnTo>
                    <a:pt x="1482" y="564"/>
                  </a:lnTo>
                  <a:lnTo>
                    <a:pt x="1470" y="538"/>
                  </a:lnTo>
                  <a:lnTo>
                    <a:pt x="1458" y="514"/>
                  </a:lnTo>
                  <a:lnTo>
                    <a:pt x="1440" y="492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6"/>
                  </a:lnTo>
                  <a:lnTo>
                    <a:pt x="1364" y="424"/>
                  </a:lnTo>
                  <a:lnTo>
                    <a:pt x="1330" y="406"/>
                  </a:lnTo>
                  <a:lnTo>
                    <a:pt x="1292" y="392"/>
                  </a:lnTo>
                  <a:lnTo>
                    <a:pt x="1252" y="382"/>
                  </a:lnTo>
                  <a:lnTo>
                    <a:pt x="1206" y="374"/>
                  </a:lnTo>
                  <a:lnTo>
                    <a:pt x="1156" y="368"/>
                  </a:lnTo>
                  <a:lnTo>
                    <a:pt x="1102" y="368"/>
                  </a:lnTo>
                  <a:lnTo>
                    <a:pt x="1102" y="368"/>
                  </a:lnTo>
                  <a:lnTo>
                    <a:pt x="1014" y="370"/>
                  </a:lnTo>
                  <a:lnTo>
                    <a:pt x="922" y="376"/>
                  </a:lnTo>
                  <a:lnTo>
                    <a:pt x="828" y="388"/>
                  </a:lnTo>
                  <a:lnTo>
                    <a:pt x="728" y="404"/>
                  </a:lnTo>
                  <a:lnTo>
                    <a:pt x="622" y="426"/>
                  </a:lnTo>
                  <a:lnTo>
                    <a:pt x="510" y="452"/>
                  </a:lnTo>
                  <a:lnTo>
                    <a:pt x="394" y="484"/>
                  </a:lnTo>
                  <a:lnTo>
                    <a:pt x="268" y="520"/>
                  </a:lnTo>
                  <a:lnTo>
                    <a:pt x="268" y="520"/>
                  </a:lnTo>
                  <a:lnTo>
                    <a:pt x="212" y="538"/>
                  </a:lnTo>
                  <a:lnTo>
                    <a:pt x="164" y="556"/>
                  </a:lnTo>
                  <a:lnTo>
                    <a:pt x="122" y="572"/>
                  </a:lnTo>
                  <a:lnTo>
                    <a:pt x="82" y="59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25565040" y="363852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2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6"/>
                  </a:lnTo>
                  <a:lnTo>
                    <a:pt x="468" y="272"/>
                  </a:lnTo>
                  <a:lnTo>
                    <a:pt x="568" y="268"/>
                  </a:lnTo>
                  <a:lnTo>
                    <a:pt x="652" y="262"/>
                  </a:lnTo>
                  <a:lnTo>
                    <a:pt x="652" y="262"/>
                  </a:lnTo>
                  <a:lnTo>
                    <a:pt x="622" y="184"/>
                  </a:lnTo>
                  <a:lnTo>
                    <a:pt x="596" y="124"/>
                  </a:lnTo>
                  <a:lnTo>
                    <a:pt x="578" y="78"/>
                  </a:lnTo>
                  <a:lnTo>
                    <a:pt x="562" y="46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50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6"/>
                  </a:lnTo>
                  <a:lnTo>
                    <a:pt x="1006" y="226"/>
                  </a:lnTo>
                  <a:lnTo>
                    <a:pt x="1086" y="214"/>
                  </a:lnTo>
                  <a:lnTo>
                    <a:pt x="1168" y="200"/>
                  </a:lnTo>
                  <a:lnTo>
                    <a:pt x="1250" y="186"/>
                  </a:lnTo>
                  <a:lnTo>
                    <a:pt x="1330" y="170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20"/>
                  </a:lnTo>
                  <a:lnTo>
                    <a:pt x="1594" y="104"/>
                  </a:lnTo>
                  <a:lnTo>
                    <a:pt x="1624" y="420"/>
                  </a:lnTo>
                  <a:lnTo>
                    <a:pt x="1624" y="420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8"/>
                  </a:lnTo>
                  <a:lnTo>
                    <a:pt x="1170" y="628"/>
                  </a:lnTo>
                  <a:lnTo>
                    <a:pt x="1360" y="592"/>
                  </a:lnTo>
                  <a:lnTo>
                    <a:pt x="1496" y="564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6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2"/>
                  </a:lnTo>
                  <a:lnTo>
                    <a:pt x="1372" y="1012"/>
                  </a:lnTo>
                  <a:lnTo>
                    <a:pt x="1402" y="1060"/>
                  </a:lnTo>
                  <a:lnTo>
                    <a:pt x="1434" y="1106"/>
                  </a:lnTo>
                  <a:lnTo>
                    <a:pt x="1466" y="1152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70"/>
                  </a:lnTo>
                  <a:lnTo>
                    <a:pt x="1268" y="1470"/>
                  </a:lnTo>
                  <a:lnTo>
                    <a:pt x="1220" y="1446"/>
                  </a:lnTo>
                  <a:lnTo>
                    <a:pt x="1170" y="1426"/>
                  </a:lnTo>
                  <a:lnTo>
                    <a:pt x="1118" y="1410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80"/>
                  </a:lnTo>
                  <a:lnTo>
                    <a:pt x="882" y="1376"/>
                  </a:lnTo>
                  <a:lnTo>
                    <a:pt x="814" y="1374"/>
                  </a:lnTo>
                  <a:lnTo>
                    <a:pt x="814" y="1374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80"/>
                  </a:lnTo>
                  <a:lnTo>
                    <a:pt x="654" y="1384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2"/>
                  </a:lnTo>
                  <a:lnTo>
                    <a:pt x="538" y="1410"/>
                  </a:lnTo>
                  <a:lnTo>
                    <a:pt x="516" y="1420"/>
                  </a:lnTo>
                  <a:lnTo>
                    <a:pt x="496" y="1430"/>
                  </a:lnTo>
                  <a:lnTo>
                    <a:pt x="480" y="1442"/>
                  </a:lnTo>
                  <a:lnTo>
                    <a:pt x="466" y="1454"/>
                  </a:lnTo>
                  <a:lnTo>
                    <a:pt x="456" y="1468"/>
                  </a:lnTo>
                  <a:lnTo>
                    <a:pt x="448" y="1482"/>
                  </a:lnTo>
                  <a:lnTo>
                    <a:pt x="444" y="1498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30"/>
                  </a:lnTo>
                  <a:lnTo>
                    <a:pt x="448" y="1542"/>
                  </a:lnTo>
                  <a:lnTo>
                    <a:pt x="454" y="1556"/>
                  </a:lnTo>
                  <a:lnTo>
                    <a:pt x="464" y="1566"/>
                  </a:lnTo>
                  <a:lnTo>
                    <a:pt x="476" y="1578"/>
                  </a:lnTo>
                  <a:lnTo>
                    <a:pt x="490" y="1588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2"/>
                  </a:lnTo>
                  <a:lnTo>
                    <a:pt x="784" y="1634"/>
                  </a:lnTo>
                  <a:lnTo>
                    <a:pt x="784" y="1634"/>
                  </a:lnTo>
                  <a:lnTo>
                    <a:pt x="878" y="1632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8"/>
                  </a:lnTo>
                  <a:lnTo>
                    <a:pt x="1244" y="1578"/>
                  </a:lnTo>
                  <a:lnTo>
                    <a:pt x="1286" y="1566"/>
                  </a:lnTo>
                  <a:lnTo>
                    <a:pt x="1326" y="1556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500"/>
                  </a:lnTo>
                  <a:lnTo>
                    <a:pt x="1522" y="1866"/>
                  </a:lnTo>
                  <a:lnTo>
                    <a:pt x="1522" y="1866"/>
                  </a:lnTo>
                  <a:lnTo>
                    <a:pt x="1468" y="1874"/>
                  </a:lnTo>
                  <a:lnTo>
                    <a:pt x="1370" y="1896"/>
                  </a:lnTo>
                  <a:lnTo>
                    <a:pt x="1370" y="1896"/>
                  </a:lnTo>
                  <a:lnTo>
                    <a:pt x="1294" y="1912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6"/>
                  </a:lnTo>
                  <a:lnTo>
                    <a:pt x="990" y="1954"/>
                  </a:lnTo>
                  <a:lnTo>
                    <a:pt x="916" y="1958"/>
                  </a:lnTo>
                  <a:lnTo>
                    <a:pt x="840" y="1962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2"/>
                  </a:lnTo>
                  <a:lnTo>
                    <a:pt x="646" y="1960"/>
                  </a:lnTo>
                  <a:lnTo>
                    <a:pt x="592" y="1956"/>
                  </a:lnTo>
                  <a:lnTo>
                    <a:pt x="538" y="1950"/>
                  </a:lnTo>
                  <a:lnTo>
                    <a:pt x="488" y="1942"/>
                  </a:lnTo>
                  <a:lnTo>
                    <a:pt x="440" y="1934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8"/>
                  </a:lnTo>
                  <a:lnTo>
                    <a:pt x="276" y="1882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2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2"/>
                  </a:lnTo>
                  <a:lnTo>
                    <a:pt x="76" y="1704"/>
                  </a:lnTo>
                  <a:lnTo>
                    <a:pt x="62" y="1676"/>
                  </a:lnTo>
                  <a:lnTo>
                    <a:pt x="50" y="1646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6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8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6"/>
                  </a:lnTo>
                  <a:lnTo>
                    <a:pt x="136" y="1264"/>
                  </a:lnTo>
                  <a:lnTo>
                    <a:pt x="156" y="1244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6"/>
                  </a:lnTo>
                  <a:lnTo>
                    <a:pt x="286" y="1162"/>
                  </a:lnTo>
                  <a:lnTo>
                    <a:pt x="286" y="1162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2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4"/>
                  </a:lnTo>
                  <a:lnTo>
                    <a:pt x="750" y="1082"/>
                  </a:lnTo>
                  <a:lnTo>
                    <a:pt x="750" y="1082"/>
                  </a:lnTo>
                  <a:lnTo>
                    <a:pt x="830" y="1084"/>
                  </a:lnTo>
                  <a:lnTo>
                    <a:pt x="906" y="1088"/>
                  </a:lnTo>
                  <a:lnTo>
                    <a:pt x="976" y="1096"/>
                  </a:lnTo>
                  <a:lnTo>
                    <a:pt x="1048" y="1108"/>
                  </a:lnTo>
                  <a:lnTo>
                    <a:pt x="1048" y="1108"/>
                  </a:lnTo>
                  <a:lnTo>
                    <a:pt x="1028" y="1080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4"/>
                  </a:lnTo>
                  <a:lnTo>
                    <a:pt x="426" y="994"/>
                  </a:lnTo>
                  <a:lnTo>
                    <a:pt x="204" y="1002"/>
                  </a:lnTo>
                  <a:lnTo>
                    <a:pt x="204" y="1002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700"/>
                  </a:lnTo>
                  <a:lnTo>
                    <a:pt x="148" y="700"/>
                  </a:lnTo>
                  <a:lnTo>
                    <a:pt x="224" y="702"/>
                  </a:lnTo>
                  <a:lnTo>
                    <a:pt x="224" y="702"/>
                  </a:lnTo>
                  <a:lnTo>
                    <a:pt x="378" y="700"/>
                  </a:lnTo>
                  <a:lnTo>
                    <a:pt x="532" y="694"/>
                  </a:lnTo>
                  <a:lnTo>
                    <a:pt x="678" y="684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8"/>
                  </a:lnTo>
                  <a:lnTo>
                    <a:pt x="514" y="576"/>
                  </a:lnTo>
                  <a:lnTo>
                    <a:pt x="378" y="578"/>
                  </a:lnTo>
                  <a:lnTo>
                    <a:pt x="200" y="580"/>
                  </a:lnTo>
                  <a:lnTo>
                    <a:pt x="200" y="580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28882800" y="3666960"/>
              <a:ext cx="3314520" cy="315612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4"/>
                  </a:lnTo>
                  <a:lnTo>
                    <a:pt x="1266" y="912"/>
                  </a:lnTo>
                  <a:lnTo>
                    <a:pt x="1300" y="978"/>
                  </a:lnTo>
                  <a:lnTo>
                    <a:pt x="1338" y="1044"/>
                  </a:lnTo>
                  <a:lnTo>
                    <a:pt x="1380" y="1108"/>
                  </a:lnTo>
                  <a:lnTo>
                    <a:pt x="1426" y="1170"/>
                  </a:lnTo>
                  <a:lnTo>
                    <a:pt x="1476" y="1230"/>
                  </a:lnTo>
                  <a:lnTo>
                    <a:pt x="1528" y="1286"/>
                  </a:lnTo>
                  <a:lnTo>
                    <a:pt x="1528" y="1286"/>
                  </a:lnTo>
                  <a:lnTo>
                    <a:pt x="1586" y="1340"/>
                  </a:lnTo>
                  <a:lnTo>
                    <a:pt x="1646" y="1392"/>
                  </a:lnTo>
                  <a:lnTo>
                    <a:pt x="1708" y="1438"/>
                  </a:lnTo>
                  <a:lnTo>
                    <a:pt x="1774" y="1484"/>
                  </a:lnTo>
                  <a:lnTo>
                    <a:pt x="1846" y="1526"/>
                  </a:lnTo>
                  <a:lnTo>
                    <a:pt x="1920" y="1566"/>
                  </a:lnTo>
                  <a:lnTo>
                    <a:pt x="2002" y="1602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4" y="1722"/>
                  </a:lnTo>
                  <a:lnTo>
                    <a:pt x="1996" y="1762"/>
                  </a:lnTo>
                  <a:lnTo>
                    <a:pt x="1970" y="1802"/>
                  </a:lnTo>
                  <a:lnTo>
                    <a:pt x="1946" y="1844"/>
                  </a:lnTo>
                  <a:lnTo>
                    <a:pt x="1922" y="1888"/>
                  </a:lnTo>
                  <a:lnTo>
                    <a:pt x="1898" y="1936"/>
                  </a:lnTo>
                  <a:lnTo>
                    <a:pt x="1872" y="1988"/>
                  </a:lnTo>
                  <a:lnTo>
                    <a:pt x="1872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8" y="1872"/>
                  </a:lnTo>
                  <a:lnTo>
                    <a:pt x="1608" y="1834"/>
                  </a:lnTo>
                  <a:lnTo>
                    <a:pt x="1550" y="1792"/>
                  </a:lnTo>
                  <a:lnTo>
                    <a:pt x="1496" y="1748"/>
                  </a:lnTo>
                  <a:lnTo>
                    <a:pt x="1442" y="1704"/>
                  </a:lnTo>
                  <a:lnTo>
                    <a:pt x="1390" y="1654"/>
                  </a:lnTo>
                  <a:lnTo>
                    <a:pt x="1390" y="1654"/>
                  </a:lnTo>
                  <a:lnTo>
                    <a:pt x="1336" y="1600"/>
                  </a:lnTo>
                  <a:lnTo>
                    <a:pt x="1288" y="1546"/>
                  </a:lnTo>
                  <a:lnTo>
                    <a:pt x="1242" y="1490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0"/>
                  </a:lnTo>
                  <a:lnTo>
                    <a:pt x="1084" y="1244"/>
                  </a:lnTo>
                  <a:lnTo>
                    <a:pt x="1050" y="1172"/>
                  </a:lnTo>
                  <a:lnTo>
                    <a:pt x="1050" y="1172"/>
                  </a:lnTo>
                  <a:lnTo>
                    <a:pt x="1026" y="1226"/>
                  </a:lnTo>
                  <a:lnTo>
                    <a:pt x="1000" y="1280"/>
                  </a:lnTo>
                  <a:lnTo>
                    <a:pt x="972" y="1330"/>
                  </a:lnTo>
                  <a:lnTo>
                    <a:pt x="944" y="1380"/>
                  </a:lnTo>
                  <a:lnTo>
                    <a:pt x="912" y="1426"/>
                  </a:lnTo>
                  <a:lnTo>
                    <a:pt x="878" y="1474"/>
                  </a:lnTo>
                  <a:lnTo>
                    <a:pt x="842" y="1518"/>
                  </a:lnTo>
                  <a:lnTo>
                    <a:pt x="804" y="1564"/>
                  </a:lnTo>
                  <a:lnTo>
                    <a:pt x="804" y="1564"/>
                  </a:lnTo>
                  <a:lnTo>
                    <a:pt x="762" y="1610"/>
                  </a:lnTo>
                  <a:lnTo>
                    <a:pt x="718" y="1652"/>
                  </a:lnTo>
                  <a:lnTo>
                    <a:pt x="674" y="1694"/>
                  </a:lnTo>
                  <a:lnTo>
                    <a:pt x="628" y="1734"/>
                  </a:lnTo>
                  <a:lnTo>
                    <a:pt x="582" y="1772"/>
                  </a:lnTo>
                  <a:lnTo>
                    <a:pt x="534" y="1808"/>
                  </a:lnTo>
                  <a:lnTo>
                    <a:pt x="484" y="1842"/>
                  </a:lnTo>
                  <a:lnTo>
                    <a:pt x="436" y="1874"/>
                  </a:lnTo>
                  <a:lnTo>
                    <a:pt x="436" y="1874"/>
                  </a:lnTo>
                  <a:lnTo>
                    <a:pt x="388" y="1900"/>
                  </a:lnTo>
                  <a:lnTo>
                    <a:pt x="340" y="1926"/>
                  </a:lnTo>
                  <a:lnTo>
                    <a:pt x="284" y="1954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8" y="1942"/>
                  </a:lnTo>
                  <a:lnTo>
                    <a:pt x="164" y="1898"/>
                  </a:lnTo>
                  <a:lnTo>
                    <a:pt x="142" y="1858"/>
                  </a:lnTo>
                  <a:lnTo>
                    <a:pt x="118" y="1820"/>
                  </a:lnTo>
                  <a:lnTo>
                    <a:pt x="92" y="1782"/>
                  </a:lnTo>
                  <a:lnTo>
                    <a:pt x="64" y="1744"/>
                  </a:lnTo>
                  <a:lnTo>
                    <a:pt x="34" y="1704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4" y="1626"/>
                  </a:lnTo>
                  <a:lnTo>
                    <a:pt x="178" y="1586"/>
                  </a:lnTo>
                  <a:lnTo>
                    <a:pt x="218" y="1566"/>
                  </a:lnTo>
                  <a:lnTo>
                    <a:pt x="256" y="1546"/>
                  </a:lnTo>
                  <a:lnTo>
                    <a:pt x="292" y="1524"/>
                  </a:lnTo>
                  <a:lnTo>
                    <a:pt x="328" y="1502"/>
                  </a:lnTo>
                  <a:lnTo>
                    <a:pt x="362" y="1478"/>
                  </a:lnTo>
                  <a:lnTo>
                    <a:pt x="394" y="1456"/>
                  </a:lnTo>
                  <a:lnTo>
                    <a:pt x="426" y="1430"/>
                  </a:lnTo>
                  <a:lnTo>
                    <a:pt x="456" y="1406"/>
                  </a:lnTo>
                  <a:lnTo>
                    <a:pt x="486" y="1380"/>
                  </a:lnTo>
                  <a:lnTo>
                    <a:pt x="514" y="1352"/>
                  </a:lnTo>
                  <a:lnTo>
                    <a:pt x="542" y="1322"/>
                  </a:lnTo>
                  <a:lnTo>
                    <a:pt x="570" y="1294"/>
                  </a:lnTo>
                  <a:lnTo>
                    <a:pt x="570" y="1294"/>
                  </a:lnTo>
                  <a:lnTo>
                    <a:pt x="594" y="1266"/>
                  </a:lnTo>
                  <a:lnTo>
                    <a:pt x="618" y="1238"/>
                  </a:lnTo>
                  <a:lnTo>
                    <a:pt x="640" y="1208"/>
                  </a:lnTo>
                  <a:lnTo>
                    <a:pt x="660" y="1180"/>
                  </a:lnTo>
                  <a:lnTo>
                    <a:pt x="678" y="1150"/>
                  </a:lnTo>
                  <a:lnTo>
                    <a:pt x="696" y="1120"/>
                  </a:lnTo>
                  <a:lnTo>
                    <a:pt x="712" y="1090"/>
                  </a:lnTo>
                  <a:lnTo>
                    <a:pt x="728" y="1058"/>
                  </a:lnTo>
                  <a:lnTo>
                    <a:pt x="742" y="1026"/>
                  </a:lnTo>
                  <a:lnTo>
                    <a:pt x="754" y="994"/>
                  </a:lnTo>
                  <a:lnTo>
                    <a:pt x="766" y="960"/>
                  </a:lnTo>
                  <a:lnTo>
                    <a:pt x="776" y="924"/>
                  </a:lnTo>
                  <a:lnTo>
                    <a:pt x="786" y="890"/>
                  </a:lnTo>
                  <a:lnTo>
                    <a:pt x="794" y="852"/>
                  </a:lnTo>
                  <a:lnTo>
                    <a:pt x="802" y="814"/>
                  </a:lnTo>
                  <a:lnTo>
                    <a:pt x="808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70" y="776"/>
                  </a:lnTo>
                  <a:lnTo>
                    <a:pt x="192" y="778"/>
                  </a:lnTo>
                  <a:lnTo>
                    <a:pt x="130" y="782"/>
                  </a:lnTo>
                  <a:lnTo>
                    <a:pt x="68" y="790"/>
                  </a:lnTo>
                  <a:lnTo>
                    <a:pt x="68" y="426"/>
                  </a:lnTo>
                  <a:lnTo>
                    <a:pt x="68" y="426"/>
                  </a:lnTo>
                  <a:lnTo>
                    <a:pt x="130" y="432"/>
                  </a:lnTo>
                  <a:lnTo>
                    <a:pt x="196" y="436"/>
                  </a:lnTo>
                  <a:lnTo>
                    <a:pt x="276" y="438"/>
                  </a:lnTo>
                  <a:lnTo>
                    <a:pt x="370" y="438"/>
                  </a:lnTo>
                  <a:lnTo>
                    <a:pt x="836" y="438"/>
                  </a:lnTo>
                  <a:lnTo>
                    <a:pt x="836" y="438"/>
                  </a:lnTo>
                  <a:lnTo>
                    <a:pt x="838" y="330"/>
                  </a:lnTo>
                  <a:lnTo>
                    <a:pt x="838" y="230"/>
                  </a:lnTo>
                  <a:lnTo>
                    <a:pt x="838" y="230"/>
                  </a:lnTo>
                  <a:lnTo>
                    <a:pt x="838" y="156"/>
                  </a:lnTo>
                  <a:lnTo>
                    <a:pt x="834" y="98"/>
                  </a:lnTo>
                  <a:lnTo>
                    <a:pt x="830" y="48"/>
                  </a:lnTo>
                  <a:lnTo>
                    <a:pt x="824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2" y="52"/>
                  </a:lnTo>
                  <a:lnTo>
                    <a:pt x="1208" y="108"/>
                  </a:lnTo>
                  <a:lnTo>
                    <a:pt x="1204" y="202"/>
                  </a:lnTo>
                  <a:lnTo>
                    <a:pt x="1202" y="364"/>
                  </a:lnTo>
                  <a:lnTo>
                    <a:pt x="1202" y="364"/>
                  </a:lnTo>
                  <a:lnTo>
                    <a:pt x="1202" y="438"/>
                  </a:lnTo>
                  <a:lnTo>
                    <a:pt x="1694" y="438"/>
                  </a:lnTo>
                  <a:lnTo>
                    <a:pt x="1694" y="438"/>
                  </a:lnTo>
                  <a:lnTo>
                    <a:pt x="1788" y="438"/>
                  </a:lnTo>
                  <a:lnTo>
                    <a:pt x="1866" y="436"/>
                  </a:lnTo>
                  <a:lnTo>
                    <a:pt x="1934" y="432"/>
                  </a:lnTo>
                  <a:lnTo>
                    <a:pt x="2000" y="426"/>
                  </a:lnTo>
                  <a:lnTo>
                    <a:pt x="2000" y="790"/>
                  </a:lnTo>
                  <a:lnTo>
                    <a:pt x="2000" y="790"/>
                  </a:lnTo>
                  <a:lnTo>
                    <a:pt x="1930" y="782"/>
                  </a:lnTo>
                  <a:lnTo>
                    <a:pt x="1862" y="778"/>
                  </a:lnTo>
                  <a:lnTo>
                    <a:pt x="1786" y="776"/>
                  </a:lnTo>
                  <a:lnTo>
                    <a:pt x="1698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32788440" y="3622320"/>
              <a:ext cx="3327120" cy="3238560"/>
            </a:xfrm>
            <a:custGeom>
              <a:avLst/>
              <a:gdLst>
                <a:gd name="textAreaLeft" fmla="*/ 0 w 3327120"/>
                <a:gd name="textAreaRight" fmla="*/ 3327480 w 332712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58"/>
                  </a:moveTo>
                  <a:lnTo>
                    <a:pt x="466" y="758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0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6"/>
                  </a:lnTo>
                  <a:lnTo>
                    <a:pt x="70" y="700"/>
                  </a:lnTo>
                  <a:lnTo>
                    <a:pt x="50" y="664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4"/>
                  </a:lnTo>
                  <a:lnTo>
                    <a:pt x="138" y="542"/>
                  </a:lnTo>
                  <a:lnTo>
                    <a:pt x="200" y="516"/>
                  </a:lnTo>
                  <a:lnTo>
                    <a:pt x="260" y="490"/>
                  </a:lnTo>
                  <a:lnTo>
                    <a:pt x="318" y="460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2"/>
                  </a:lnTo>
                  <a:lnTo>
                    <a:pt x="710" y="180"/>
                  </a:lnTo>
                  <a:lnTo>
                    <a:pt x="752" y="138"/>
                  </a:lnTo>
                  <a:lnTo>
                    <a:pt x="790" y="94"/>
                  </a:lnTo>
                  <a:lnTo>
                    <a:pt x="826" y="48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48"/>
                  </a:lnTo>
                  <a:lnTo>
                    <a:pt x="1290" y="94"/>
                  </a:lnTo>
                  <a:lnTo>
                    <a:pt x="1330" y="136"/>
                  </a:lnTo>
                  <a:lnTo>
                    <a:pt x="1372" y="178"/>
                  </a:lnTo>
                  <a:lnTo>
                    <a:pt x="1416" y="216"/>
                  </a:lnTo>
                  <a:lnTo>
                    <a:pt x="1466" y="254"/>
                  </a:lnTo>
                  <a:lnTo>
                    <a:pt x="1520" y="294"/>
                  </a:lnTo>
                  <a:lnTo>
                    <a:pt x="1578" y="332"/>
                  </a:lnTo>
                  <a:lnTo>
                    <a:pt x="1578" y="332"/>
                  </a:lnTo>
                  <a:lnTo>
                    <a:pt x="1642" y="372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0"/>
                  </a:lnTo>
                  <a:lnTo>
                    <a:pt x="2096" y="572"/>
                  </a:lnTo>
                  <a:lnTo>
                    <a:pt x="2096" y="572"/>
                  </a:lnTo>
                  <a:lnTo>
                    <a:pt x="2070" y="618"/>
                  </a:lnTo>
                  <a:lnTo>
                    <a:pt x="2046" y="660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2"/>
                  </a:lnTo>
                  <a:lnTo>
                    <a:pt x="1960" y="866"/>
                  </a:lnTo>
                  <a:lnTo>
                    <a:pt x="1944" y="914"/>
                  </a:lnTo>
                  <a:lnTo>
                    <a:pt x="1944" y="914"/>
                  </a:lnTo>
                  <a:lnTo>
                    <a:pt x="1858" y="880"/>
                  </a:lnTo>
                  <a:lnTo>
                    <a:pt x="1782" y="844"/>
                  </a:lnTo>
                  <a:lnTo>
                    <a:pt x="1708" y="806"/>
                  </a:lnTo>
                  <a:lnTo>
                    <a:pt x="1622" y="756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58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298"/>
                  </a:lnTo>
                  <a:lnTo>
                    <a:pt x="224" y="1300"/>
                  </a:lnTo>
                  <a:lnTo>
                    <a:pt x="164" y="1304"/>
                  </a:lnTo>
                  <a:lnTo>
                    <a:pt x="104" y="1310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0"/>
                  </a:lnTo>
                  <a:lnTo>
                    <a:pt x="1990" y="1310"/>
                  </a:lnTo>
                  <a:lnTo>
                    <a:pt x="1930" y="1304"/>
                  </a:lnTo>
                  <a:lnTo>
                    <a:pt x="1870" y="1300"/>
                  </a:lnTo>
                  <a:lnTo>
                    <a:pt x="1804" y="1298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0"/>
                  </a:lnTo>
                  <a:lnTo>
                    <a:pt x="1708" y="1514"/>
                  </a:lnTo>
                  <a:lnTo>
                    <a:pt x="1758" y="1576"/>
                  </a:lnTo>
                  <a:lnTo>
                    <a:pt x="1808" y="1636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4" y="1906"/>
                  </a:lnTo>
                  <a:lnTo>
                    <a:pt x="1200" y="1918"/>
                  </a:lnTo>
                  <a:lnTo>
                    <a:pt x="1200" y="1918"/>
                  </a:lnTo>
                  <a:lnTo>
                    <a:pt x="1024" y="1934"/>
                  </a:lnTo>
                  <a:lnTo>
                    <a:pt x="772" y="1956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2"/>
                  </a:lnTo>
                  <a:lnTo>
                    <a:pt x="292" y="1654"/>
                  </a:lnTo>
                  <a:lnTo>
                    <a:pt x="292" y="1654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4"/>
                  </a:lnTo>
                  <a:lnTo>
                    <a:pt x="544" y="1478"/>
                  </a:lnTo>
                  <a:lnTo>
                    <a:pt x="590" y="1388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0" y="544"/>
                  </a:lnTo>
                  <a:lnTo>
                    <a:pt x="1260" y="510"/>
                  </a:lnTo>
                  <a:lnTo>
                    <a:pt x="1220" y="476"/>
                  </a:lnTo>
                  <a:lnTo>
                    <a:pt x="1184" y="444"/>
                  </a:lnTo>
                  <a:lnTo>
                    <a:pt x="1148" y="408"/>
                  </a:lnTo>
                  <a:lnTo>
                    <a:pt x="1114" y="372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2"/>
                  </a:lnTo>
                  <a:lnTo>
                    <a:pt x="976" y="370"/>
                  </a:lnTo>
                  <a:lnTo>
                    <a:pt x="944" y="404"/>
                  </a:lnTo>
                  <a:lnTo>
                    <a:pt x="910" y="438"/>
                  </a:lnTo>
                  <a:lnTo>
                    <a:pt x="874" y="470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18"/>
                  </a:lnTo>
                  <a:lnTo>
                    <a:pt x="1366" y="1606"/>
                  </a:lnTo>
                  <a:lnTo>
                    <a:pt x="1366" y="1606"/>
                  </a:lnTo>
                  <a:lnTo>
                    <a:pt x="1324" y="1558"/>
                  </a:lnTo>
                  <a:lnTo>
                    <a:pt x="1286" y="1512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358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9366120" y="3568680"/>
              <a:ext cx="3305160" cy="3289320"/>
            </a:xfrm>
            <a:custGeom>
              <a:avLst/>
              <a:gdLst>
                <a:gd name="textAreaLeft" fmla="*/ 0 w 3305160"/>
                <a:gd name="textAreaRight" fmla="*/ 3305520 w 3305160"/>
                <a:gd name="textAreaTop" fmla="*/ 0 h 3289320"/>
                <a:gd name="textAreaBottom" fmla="*/ 3289680 h 3289320"/>
              </a:gdLst>
              <a:ahLst/>
              <a:rect l="textAreaLeft" t="textAreaTop" r="textAreaRight" b="textAreaBottom"/>
              <a:pathLst>
                <a:path w="2082" h="2072">
                  <a:moveTo>
                    <a:pt x="752" y="1044"/>
                  </a:moveTo>
                  <a:lnTo>
                    <a:pt x="848" y="1044"/>
                  </a:lnTo>
                  <a:lnTo>
                    <a:pt x="848" y="1044"/>
                  </a:lnTo>
                  <a:lnTo>
                    <a:pt x="922" y="1044"/>
                  </a:lnTo>
                  <a:lnTo>
                    <a:pt x="978" y="1042"/>
                  </a:lnTo>
                  <a:lnTo>
                    <a:pt x="1024" y="1038"/>
                  </a:lnTo>
                  <a:lnTo>
                    <a:pt x="1068" y="1032"/>
                  </a:lnTo>
                  <a:lnTo>
                    <a:pt x="1068" y="1346"/>
                  </a:lnTo>
                  <a:lnTo>
                    <a:pt x="1068" y="1346"/>
                  </a:lnTo>
                  <a:lnTo>
                    <a:pt x="1022" y="1342"/>
                  </a:lnTo>
                  <a:lnTo>
                    <a:pt x="974" y="1340"/>
                  </a:lnTo>
                  <a:lnTo>
                    <a:pt x="920" y="1338"/>
                  </a:lnTo>
                  <a:lnTo>
                    <a:pt x="854" y="1338"/>
                  </a:lnTo>
                  <a:lnTo>
                    <a:pt x="854" y="1338"/>
                  </a:lnTo>
                  <a:lnTo>
                    <a:pt x="890" y="1374"/>
                  </a:lnTo>
                  <a:lnTo>
                    <a:pt x="928" y="1408"/>
                  </a:lnTo>
                  <a:lnTo>
                    <a:pt x="972" y="1442"/>
                  </a:lnTo>
                  <a:lnTo>
                    <a:pt x="1024" y="1478"/>
                  </a:lnTo>
                  <a:lnTo>
                    <a:pt x="1024" y="1478"/>
                  </a:lnTo>
                  <a:lnTo>
                    <a:pt x="982" y="1560"/>
                  </a:lnTo>
                  <a:lnTo>
                    <a:pt x="948" y="1632"/>
                  </a:lnTo>
                  <a:lnTo>
                    <a:pt x="920" y="1702"/>
                  </a:lnTo>
                  <a:lnTo>
                    <a:pt x="892" y="1772"/>
                  </a:lnTo>
                  <a:lnTo>
                    <a:pt x="892" y="1772"/>
                  </a:lnTo>
                  <a:lnTo>
                    <a:pt x="846" y="1730"/>
                  </a:lnTo>
                  <a:lnTo>
                    <a:pt x="810" y="1694"/>
                  </a:lnTo>
                  <a:lnTo>
                    <a:pt x="780" y="1656"/>
                  </a:lnTo>
                  <a:lnTo>
                    <a:pt x="748" y="1610"/>
                  </a:lnTo>
                  <a:lnTo>
                    <a:pt x="748" y="1610"/>
                  </a:lnTo>
                  <a:lnTo>
                    <a:pt x="750" y="1702"/>
                  </a:lnTo>
                  <a:lnTo>
                    <a:pt x="752" y="1754"/>
                  </a:lnTo>
                  <a:lnTo>
                    <a:pt x="752" y="1878"/>
                  </a:lnTo>
                  <a:lnTo>
                    <a:pt x="752" y="1878"/>
                  </a:lnTo>
                  <a:lnTo>
                    <a:pt x="752" y="1932"/>
                  </a:lnTo>
                  <a:lnTo>
                    <a:pt x="754" y="1978"/>
                  </a:lnTo>
                  <a:lnTo>
                    <a:pt x="758" y="2016"/>
                  </a:lnTo>
                  <a:lnTo>
                    <a:pt x="762" y="2054"/>
                  </a:lnTo>
                  <a:lnTo>
                    <a:pt x="426" y="2054"/>
                  </a:lnTo>
                  <a:lnTo>
                    <a:pt x="426" y="2054"/>
                  </a:lnTo>
                  <a:lnTo>
                    <a:pt x="430" y="2020"/>
                  </a:lnTo>
                  <a:lnTo>
                    <a:pt x="432" y="1982"/>
                  </a:lnTo>
                  <a:lnTo>
                    <a:pt x="434" y="1942"/>
                  </a:lnTo>
                  <a:lnTo>
                    <a:pt x="434" y="1894"/>
                  </a:lnTo>
                  <a:lnTo>
                    <a:pt x="434" y="1786"/>
                  </a:lnTo>
                  <a:lnTo>
                    <a:pt x="434" y="1786"/>
                  </a:lnTo>
                  <a:lnTo>
                    <a:pt x="436" y="1734"/>
                  </a:lnTo>
                  <a:lnTo>
                    <a:pt x="438" y="1666"/>
                  </a:lnTo>
                  <a:lnTo>
                    <a:pt x="438" y="1666"/>
                  </a:lnTo>
                  <a:lnTo>
                    <a:pt x="404" y="1716"/>
                  </a:lnTo>
                  <a:lnTo>
                    <a:pt x="372" y="1760"/>
                  </a:lnTo>
                  <a:lnTo>
                    <a:pt x="338" y="1800"/>
                  </a:lnTo>
                  <a:lnTo>
                    <a:pt x="306" y="1836"/>
                  </a:lnTo>
                  <a:lnTo>
                    <a:pt x="268" y="1870"/>
                  </a:lnTo>
                  <a:lnTo>
                    <a:pt x="228" y="1904"/>
                  </a:lnTo>
                  <a:lnTo>
                    <a:pt x="184" y="1940"/>
                  </a:lnTo>
                  <a:lnTo>
                    <a:pt x="132" y="1978"/>
                  </a:lnTo>
                  <a:lnTo>
                    <a:pt x="132" y="1978"/>
                  </a:lnTo>
                  <a:lnTo>
                    <a:pt x="120" y="1934"/>
                  </a:lnTo>
                  <a:lnTo>
                    <a:pt x="106" y="1892"/>
                  </a:lnTo>
                  <a:lnTo>
                    <a:pt x="94" y="1850"/>
                  </a:lnTo>
                  <a:lnTo>
                    <a:pt x="78" y="1812"/>
                  </a:lnTo>
                  <a:lnTo>
                    <a:pt x="62" y="1772"/>
                  </a:lnTo>
                  <a:lnTo>
                    <a:pt x="42" y="1734"/>
                  </a:lnTo>
                  <a:lnTo>
                    <a:pt x="22" y="1694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22" y="1638"/>
                  </a:lnTo>
                  <a:lnTo>
                    <a:pt x="48" y="1624"/>
                  </a:lnTo>
                  <a:lnTo>
                    <a:pt x="98" y="1586"/>
                  </a:lnTo>
                  <a:lnTo>
                    <a:pt x="156" y="1542"/>
                  </a:lnTo>
                  <a:lnTo>
                    <a:pt x="220" y="1484"/>
                  </a:lnTo>
                  <a:lnTo>
                    <a:pt x="220" y="1484"/>
                  </a:lnTo>
                  <a:lnTo>
                    <a:pt x="252" y="1454"/>
                  </a:lnTo>
                  <a:lnTo>
                    <a:pt x="282" y="1420"/>
                  </a:lnTo>
                  <a:lnTo>
                    <a:pt x="312" y="1384"/>
                  </a:lnTo>
                  <a:lnTo>
                    <a:pt x="346" y="1338"/>
                  </a:lnTo>
                  <a:lnTo>
                    <a:pt x="252" y="1338"/>
                  </a:lnTo>
                  <a:lnTo>
                    <a:pt x="252" y="1338"/>
                  </a:lnTo>
                  <a:lnTo>
                    <a:pt x="184" y="1338"/>
                  </a:lnTo>
                  <a:lnTo>
                    <a:pt x="130" y="1340"/>
                  </a:lnTo>
                  <a:lnTo>
                    <a:pt x="82" y="1342"/>
                  </a:lnTo>
                  <a:lnTo>
                    <a:pt x="36" y="1346"/>
                  </a:lnTo>
                  <a:lnTo>
                    <a:pt x="36" y="1032"/>
                  </a:lnTo>
                  <a:lnTo>
                    <a:pt x="36" y="1032"/>
                  </a:lnTo>
                  <a:lnTo>
                    <a:pt x="80" y="1038"/>
                  </a:lnTo>
                  <a:lnTo>
                    <a:pt x="128" y="1042"/>
                  </a:lnTo>
                  <a:lnTo>
                    <a:pt x="184" y="1044"/>
                  </a:lnTo>
                  <a:lnTo>
                    <a:pt x="258" y="1044"/>
                  </a:lnTo>
                  <a:lnTo>
                    <a:pt x="434" y="1044"/>
                  </a:lnTo>
                  <a:lnTo>
                    <a:pt x="434" y="948"/>
                  </a:lnTo>
                  <a:lnTo>
                    <a:pt x="252" y="948"/>
                  </a:lnTo>
                  <a:lnTo>
                    <a:pt x="252" y="948"/>
                  </a:lnTo>
                  <a:lnTo>
                    <a:pt x="186" y="948"/>
                  </a:lnTo>
                  <a:lnTo>
                    <a:pt x="130" y="950"/>
                  </a:lnTo>
                  <a:lnTo>
                    <a:pt x="82" y="952"/>
                  </a:lnTo>
                  <a:lnTo>
                    <a:pt x="36" y="958"/>
                  </a:lnTo>
                  <a:lnTo>
                    <a:pt x="36" y="636"/>
                  </a:lnTo>
                  <a:lnTo>
                    <a:pt x="36" y="636"/>
                  </a:lnTo>
                  <a:lnTo>
                    <a:pt x="76" y="642"/>
                  </a:lnTo>
                  <a:lnTo>
                    <a:pt x="116" y="646"/>
                  </a:lnTo>
                  <a:lnTo>
                    <a:pt x="168" y="648"/>
                  </a:lnTo>
                  <a:lnTo>
                    <a:pt x="236" y="648"/>
                  </a:lnTo>
                  <a:lnTo>
                    <a:pt x="236" y="648"/>
                  </a:lnTo>
                  <a:lnTo>
                    <a:pt x="226" y="602"/>
                  </a:lnTo>
                  <a:lnTo>
                    <a:pt x="216" y="556"/>
                  </a:lnTo>
                  <a:lnTo>
                    <a:pt x="202" y="512"/>
                  </a:lnTo>
                  <a:lnTo>
                    <a:pt x="188" y="468"/>
                  </a:lnTo>
                  <a:lnTo>
                    <a:pt x="188" y="468"/>
                  </a:lnTo>
                  <a:lnTo>
                    <a:pt x="130" y="470"/>
                  </a:lnTo>
                  <a:lnTo>
                    <a:pt x="78" y="474"/>
                  </a:lnTo>
                  <a:lnTo>
                    <a:pt x="78" y="158"/>
                  </a:lnTo>
                  <a:lnTo>
                    <a:pt x="78" y="158"/>
                  </a:lnTo>
                  <a:lnTo>
                    <a:pt x="122" y="164"/>
                  </a:lnTo>
                  <a:lnTo>
                    <a:pt x="170" y="168"/>
                  </a:lnTo>
                  <a:lnTo>
                    <a:pt x="228" y="170"/>
                  </a:lnTo>
                  <a:lnTo>
                    <a:pt x="300" y="170"/>
                  </a:lnTo>
                  <a:lnTo>
                    <a:pt x="422" y="170"/>
                  </a:lnTo>
                  <a:lnTo>
                    <a:pt x="422" y="170"/>
                  </a:lnTo>
                  <a:lnTo>
                    <a:pt x="418" y="82"/>
                  </a:lnTo>
                  <a:lnTo>
                    <a:pt x="416" y="50"/>
                  </a:lnTo>
                  <a:lnTo>
                    <a:pt x="410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68" y="48"/>
                  </a:lnTo>
                  <a:lnTo>
                    <a:pt x="766" y="80"/>
                  </a:lnTo>
                  <a:lnTo>
                    <a:pt x="764" y="118"/>
                  </a:lnTo>
                  <a:lnTo>
                    <a:pt x="762" y="170"/>
                  </a:lnTo>
                  <a:lnTo>
                    <a:pt x="852" y="170"/>
                  </a:lnTo>
                  <a:lnTo>
                    <a:pt x="852" y="170"/>
                  </a:lnTo>
                  <a:lnTo>
                    <a:pt x="926" y="170"/>
                  </a:lnTo>
                  <a:lnTo>
                    <a:pt x="982" y="168"/>
                  </a:lnTo>
                  <a:lnTo>
                    <a:pt x="1028" y="164"/>
                  </a:lnTo>
                  <a:lnTo>
                    <a:pt x="1072" y="158"/>
                  </a:lnTo>
                  <a:lnTo>
                    <a:pt x="1072" y="474"/>
                  </a:lnTo>
                  <a:lnTo>
                    <a:pt x="1072" y="474"/>
                  </a:lnTo>
                  <a:lnTo>
                    <a:pt x="1028" y="470"/>
                  </a:lnTo>
                  <a:lnTo>
                    <a:pt x="986" y="468"/>
                  </a:lnTo>
                  <a:lnTo>
                    <a:pt x="986" y="468"/>
                  </a:lnTo>
                  <a:lnTo>
                    <a:pt x="960" y="562"/>
                  </a:lnTo>
                  <a:lnTo>
                    <a:pt x="936" y="648"/>
                  </a:lnTo>
                  <a:lnTo>
                    <a:pt x="936" y="648"/>
                  </a:lnTo>
                  <a:lnTo>
                    <a:pt x="1016" y="644"/>
                  </a:lnTo>
                  <a:lnTo>
                    <a:pt x="1080" y="636"/>
                  </a:lnTo>
                  <a:lnTo>
                    <a:pt x="1080" y="958"/>
                  </a:lnTo>
                  <a:lnTo>
                    <a:pt x="1080" y="958"/>
                  </a:lnTo>
                  <a:lnTo>
                    <a:pt x="1032" y="952"/>
                  </a:lnTo>
                  <a:lnTo>
                    <a:pt x="984" y="950"/>
                  </a:lnTo>
                  <a:lnTo>
                    <a:pt x="928" y="948"/>
                  </a:lnTo>
                  <a:lnTo>
                    <a:pt x="860" y="948"/>
                  </a:lnTo>
                  <a:lnTo>
                    <a:pt x="752" y="948"/>
                  </a:lnTo>
                  <a:lnTo>
                    <a:pt x="752" y="1044"/>
                  </a:lnTo>
                  <a:close/>
                  <a:moveTo>
                    <a:pt x="634" y="648"/>
                  </a:moveTo>
                  <a:lnTo>
                    <a:pt x="634" y="648"/>
                  </a:lnTo>
                  <a:lnTo>
                    <a:pt x="648" y="602"/>
                  </a:lnTo>
                  <a:lnTo>
                    <a:pt x="660" y="560"/>
                  </a:lnTo>
                  <a:lnTo>
                    <a:pt x="670" y="516"/>
                  </a:lnTo>
                  <a:lnTo>
                    <a:pt x="678" y="466"/>
                  </a:lnTo>
                  <a:lnTo>
                    <a:pt x="496" y="466"/>
                  </a:lnTo>
                  <a:lnTo>
                    <a:pt x="496" y="466"/>
                  </a:lnTo>
                  <a:lnTo>
                    <a:pt x="512" y="508"/>
                  </a:lnTo>
                  <a:lnTo>
                    <a:pt x="522" y="548"/>
                  </a:lnTo>
                  <a:lnTo>
                    <a:pt x="532" y="590"/>
                  </a:lnTo>
                  <a:lnTo>
                    <a:pt x="542" y="648"/>
                  </a:lnTo>
                  <a:lnTo>
                    <a:pt x="634" y="648"/>
                  </a:lnTo>
                  <a:close/>
                  <a:moveTo>
                    <a:pt x="1880" y="654"/>
                  </a:moveTo>
                  <a:lnTo>
                    <a:pt x="1880" y="654"/>
                  </a:lnTo>
                  <a:lnTo>
                    <a:pt x="1942" y="654"/>
                  </a:lnTo>
                  <a:lnTo>
                    <a:pt x="1994" y="650"/>
                  </a:lnTo>
                  <a:lnTo>
                    <a:pt x="2038" y="646"/>
                  </a:lnTo>
                  <a:lnTo>
                    <a:pt x="2076" y="642"/>
                  </a:lnTo>
                  <a:lnTo>
                    <a:pt x="2076" y="974"/>
                  </a:lnTo>
                  <a:lnTo>
                    <a:pt x="2076" y="974"/>
                  </a:lnTo>
                  <a:lnTo>
                    <a:pt x="2042" y="970"/>
                  </a:lnTo>
                  <a:lnTo>
                    <a:pt x="2008" y="968"/>
                  </a:lnTo>
                  <a:lnTo>
                    <a:pt x="1970" y="966"/>
                  </a:lnTo>
                  <a:lnTo>
                    <a:pt x="1918" y="966"/>
                  </a:lnTo>
                  <a:lnTo>
                    <a:pt x="1892" y="966"/>
                  </a:lnTo>
                  <a:lnTo>
                    <a:pt x="1892" y="1764"/>
                  </a:lnTo>
                  <a:lnTo>
                    <a:pt x="1892" y="1764"/>
                  </a:lnTo>
                  <a:lnTo>
                    <a:pt x="1892" y="1862"/>
                  </a:lnTo>
                  <a:lnTo>
                    <a:pt x="1894" y="1938"/>
                  </a:lnTo>
                  <a:lnTo>
                    <a:pt x="1898" y="1998"/>
                  </a:lnTo>
                  <a:lnTo>
                    <a:pt x="1906" y="2056"/>
                  </a:lnTo>
                  <a:lnTo>
                    <a:pt x="1554" y="2056"/>
                  </a:lnTo>
                  <a:lnTo>
                    <a:pt x="1554" y="2056"/>
                  </a:lnTo>
                  <a:lnTo>
                    <a:pt x="1562" y="1998"/>
                  </a:lnTo>
                  <a:lnTo>
                    <a:pt x="1566" y="1936"/>
                  </a:lnTo>
                  <a:lnTo>
                    <a:pt x="1568" y="1862"/>
                  </a:lnTo>
                  <a:lnTo>
                    <a:pt x="1568" y="1764"/>
                  </a:lnTo>
                  <a:lnTo>
                    <a:pt x="1568" y="966"/>
                  </a:lnTo>
                  <a:lnTo>
                    <a:pt x="1448" y="966"/>
                  </a:lnTo>
                  <a:lnTo>
                    <a:pt x="1448" y="966"/>
                  </a:lnTo>
                  <a:lnTo>
                    <a:pt x="1446" y="1070"/>
                  </a:lnTo>
                  <a:lnTo>
                    <a:pt x="1442" y="1162"/>
                  </a:lnTo>
                  <a:lnTo>
                    <a:pt x="1436" y="1242"/>
                  </a:lnTo>
                  <a:lnTo>
                    <a:pt x="1430" y="1316"/>
                  </a:lnTo>
                  <a:lnTo>
                    <a:pt x="1422" y="1386"/>
                  </a:lnTo>
                  <a:lnTo>
                    <a:pt x="1412" y="1452"/>
                  </a:lnTo>
                  <a:lnTo>
                    <a:pt x="1402" y="1516"/>
                  </a:lnTo>
                  <a:lnTo>
                    <a:pt x="1388" y="1584"/>
                  </a:lnTo>
                  <a:lnTo>
                    <a:pt x="1388" y="1584"/>
                  </a:lnTo>
                  <a:lnTo>
                    <a:pt x="1372" y="1654"/>
                  </a:lnTo>
                  <a:lnTo>
                    <a:pt x="1354" y="1718"/>
                  </a:lnTo>
                  <a:lnTo>
                    <a:pt x="1334" y="1780"/>
                  </a:lnTo>
                  <a:lnTo>
                    <a:pt x="1312" y="1840"/>
                  </a:lnTo>
                  <a:lnTo>
                    <a:pt x="1286" y="1898"/>
                  </a:lnTo>
                  <a:lnTo>
                    <a:pt x="1258" y="1954"/>
                  </a:lnTo>
                  <a:lnTo>
                    <a:pt x="1226" y="2012"/>
                  </a:lnTo>
                  <a:lnTo>
                    <a:pt x="1190" y="2072"/>
                  </a:lnTo>
                  <a:lnTo>
                    <a:pt x="1190" y="2072"/>
                  </a:lnTo>
                  <a:lnTo>
                    <a:pt x="1106" y="2008"/>
                  </a:lnTo>
                  <a:lnTo>
                    <a:pt x="1070" y="1984"/>
                  </a:lnTo>
                  <a:lnTo>
                    <a:pt x="1036" y="1962"/>
                  </a:lnTo>
                  <a:lnTo>
                    <a:pt x="1002" y="1940"/>
                  </a:lnTo>
                  <a:lnTo>
                    <a:pt x="966" y="1920"/>
                  </a:lnTo>
                  <a:lnTo>
                    <a:pt x="882" y="1878"/>
                  </a:lnTo>
                  <a:lnTo>
                    <a:pt x="882" y="1878"/>
                  </a:lnTo>
                  <a:lnTo>
                    <a:pt x="916" y="1830"/>
                  </a:lnTo>
                  <a:lnTo>
                    <a:pt x="948" y="1784"/>
                  </a:lnTo>
                  <a:lnTo>
                    <a:pt x="974" y="1738"/>
                  </a:lnTo>
                  <a:lnTo>
                    <a:pt x="1000" y="1692"/>
                  </a:lnTo>
                  <a:lnTo>
                    <a:pt x="1022" y="1646"/>
                  </a:lnTo>
                  <a:lnTo>
                    <a:pt x="1040" y="1596"/>
                  </a:lnTo>
                  <a:lnTo>
                    <a:pt x="1058" y="1546"/>
                  </a:lnTo>
                  <a:lnTo>
                    <a:pt x="1074" y="1492"/>
                  </a:lnTo>
                  <a:lnTo>
                    <a:pt x="1074" y="1492"/>
                  </a:lnTo>
                  <a:lnTo>
                    <a:pt x="1082" y="1462"/>
                  </a:lnTo>
                  <a:lnTo>
                    <a:pt x="1088" y="1428"/>
                  </a:lnTo>
                  <a:lnTo>
                    <a:pt x="1100" y="1348"/>
                  </a:lnTo>
                  <a:lnTo>
                    <a:pt x="1110" y="1250"/>
                  </a:lnTo>
                  <a:lnTo>
                    <a:pt x="1118" y="1132"/>
                  </a:lnTo>
                  <a:lnTo>
                    <a:pt x="1124" y="992"/>
                  </a:lnTo>
                  <a:lnTo>
                    <a:pt x="1128" y="830"/>
                  </a:lnTo>
                  <a:lnTo>
                    <a:pt x="1130" y="642"/>
                  </a:lnTo>
                  <a:lnTo>
                    <a:pt x="1130" y="430"/>
                  </a:lnTo>
                  <a:lnTo>
                    <a:pt x="1130" y="430"/>
                  </a:lnTo>
                  <a:lnTo>
                    <a:pt x="1130" y="360"/>
                  </a:lnTo>
                  <a:lnTo>
                    <a:pt x="1128" y="294"/>
                  </a:lnTo>
                  <a:lnTo>
                    <a:pt x="1122" y="234"/>
                  </a:lnTo>
                  <a:lnTo>
                    <a:pt x="1116" y="180"/>
                  </a:lnTo>
                  <a:lnTo>
                    <a:pt x="1116" y="180"/>
                  </a:lnTo>
                  <a:lnTo>
                    <a:pt x="1194" y="174"/>
                  </a:lnTo>
                  <a:lnTo>
                    <a:pt x="1266" y="164"/>
                  </a:lnTo>
                  <a:lnTo>
                    <a:pt x="1336" y="154"/>
                  </a:lnTo>
                  <a:lnTo>
                    <a:pt x="1402" y="142"/>
                  </a:lnTo>
                  <a:lnTo>
                    <a:pt x="1468" y="128"/>
                  </a:lnTo>
                  <a:lnTo>
                    <a:pt x="1534" y="114"/>
                  </a:lnTo>
                  <a:lnTo>
                    <a:pt x="1600" y="94"/>
                  </a:lnTo>
                  <a:lnTo>
                    <a:pt x="1668" y="74"/>
                  </a:lnTo>
                  <a:lnTo>
                    <a:pt x="1668" y="74"/>
                  </a:lnTo>
                  <a:lnTo>
                    <a:pt x="1726" y="54"/>
                  </a:lnTo>
                  <a:lnTo>
                    <a:pt x="1772" y="36"/>
                  </a:lnTo>
                  <a:lnTo>
                    <a:pt x="1808" y="18"/>
                  </a:lnTo>
                  <a:lnTo>
                    <a:pt x="1836" y="0"/>
                  </a:lnTo>
                  <a:lnTo>
                    <a:pt x="2082" y="302"/>
                  </a:lnTo>
                  <a:lnTo>
                    <a:pt x="2082" y="302"/>
                  </a:lnTo>
                  <a:lnTo>
                    <a:pt x="2002" y="326"/>
                  </a:lnTo>
                  <a:lnTo>
                    <a:pt x="2002" y="326"/>
                  </a:lnTo>
                  <a:lnTo>
                    <a:pt x="1952" y="342"/>
                  </a:lnTo>
                  <a:lnTo>
                    <a:pt x="1896" y="356"/>
                  </a:lnTo>
                  <a:lnTo>
                    <a:pt x="1836" y="372"/>
                  </a:lnTo>
                  <a:lnTo>
                    <a:pt x="1772" y="386"/>
                  </a:lnTo>
                  <a:lnTo>
                    <a:pt x="1700" y="400"/>
                  </a:lnTo>
                  <a:lnTo>
                    <a:pt x="1624" y="414"/>
                  </a:lnTo>
                  <a:lnTo>
                    <a:pt x="1450" y="442"/>
                  </a:lnTo>
                  <a:lnTo>
                    <a:pt x="1450" y="654"/>
                  </a:lnTo>
                  <a:lnTo>
                    <a:pt x="1880" y="65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13471200" y="3568680"/>
              <a:ext cx="3330360" cy="3257640"/>
            </a:xfrm>
            <a:custGeom>
              <a:avLst/>
              <a:gdLst>
                <a:gd name="textAreaLeft" fmla="*/ 0 w 3330360"/>
                <a:gd name="textAreaRight" fmla="*/ 3330720 w 3330360"/>
                <a:gd name="textAreaTop" fmla="*/ 0 h 3257640"/>
                <a:gd name="textAreaBottom" fmla="*/ 3258000 h 3257640"/>
              </a:gdLst>
              <a:ahLst/>
              <a:rect l="textAreaLeft" t="textAreaTop" r="textAreaRight" b="textAreaBottom"/>
              <a:pathLst>
                <a:path w="2098" h="2052">
                  <a:moveTo>
                    <a:pt x="1690" y="1766"/>
                  </a:moveTo>
                  <a:lnTo>
                    <a:pt x="1690" y="1766"/>
                  </a:lnTo>
                  <a:lnTo>
                    <a:pt x="1692" y="1858"/>
                  </a:lnTo>
                  <a:lnTo>
                    <a:pt x="1694" y="1932"/>
                  </a:lnTo>
                  <a:lnTo>
                    <a:pt x="1696" y="1992"/>
                  </a:lnTo>
                  <a:lnTo>
                    <a:pt x="1704" y="2050"/>
                  </a:lnTo>
                  <a:lnTo>
                    <a:pt x="1372" y="2050"/>
                  </a:lnTo>
                  <a:lnTo>
                    <a:pt x="1372" y="1968"/>
                  </a:lnTo>
                  <a:lnTo>
                    <a:pt x="722" y="1968"/>
                  </a:lnTo>
                  <a:lnTo>
                    <a:pt x="722" y="2052"/>
                  </a:lnTo>
                  <a:lnTo>
                    <a:pt x="394" y="2052"/>
                  </a:lnTo>
                  <a:lnTo>
                    <a:pt x="394" y="2052"/>
                  </a:lnTo>
                  <a:lnTo>
                    <a:pt x="400" y="1994"/>
                  </a:lnTo>
                  <a:lnTo>
                    <a:pt x="404" y="1932"/>
                  </a:lnTo>
                  <a:lnTo>
                    <a:pt x="406" y="1858"/>
                  </a:lnTo>
                  <a:lnTo>
                    <a:pt x="408" y="1768"/>
                  </a:lnTo>
                  <a:lnTo>
                    <a:pt x="408" y="1460"/>
                  </a:lnTo>
                  <a:lnTo>
                    <a:pt x="408" y="1460"/>
                  </a:lnTo>
                  <a:lnTo>
                    <a:pt x="346" y="1510"/>
                  </a:lnTo>
                  <a:lnTo>
                    <a:pt x="294" y="1548"/>
                  </a:lnTo>
                  <a:lnTo>
                    <a:pt x="240" y="1586"/>
                  </a:lnTo>
                  <a:lnTo>
                    <a:pt x="174" y="1632"/>
                  </a:lnTo>
                  <a:lnTo>
                    <a:pt x="174" y="1632"/>
                  </a:lnTo>
                  <a:lnTo>
                    <a:pt x="130" y="1540"/>
                  </a:lnTo>
                  <a:lnTo>
                    <a:pt x="112" y="1502"/>
                  </a:lnTo>
                  <a:lnTo>
                    <a:pt x="92" y="1468"/>
                  </a:lnTo>
                  <a:lnTo>
                    <a:pt x="72" y="1438"/>
                  </a:lnTo>
                  <a:lnTo>
                    <a:pt x="52" y="1408"/>
                  </a:lnTo>
                  <a:lnTo>
                    <a:pt x="28" y="1376"/>
                  </a:lnTo>
                  <a:lnTo>
                    <a:pt x="0" y="1342"/>
                  </a:lnTo>
                  <a:lnTo>
                    <a:pt x="0" y="1342"/>
                  </a:lnTo>
                  <a:lnTo>
                    <a:pt x="68" y="1306"/>
                  </a:lnTo>
                  <a:lnTo>
                    <a:pt x="130" y="1268"/>
                  </a:lnTo>
                  <a:lnTo>
                    <a:pt x="188" y="1232"/>
                  </a:lnTo>
                  <a:lnTo>
                    <a:pt x="242" y="1194"/>
                  </a:lnTo>
                  <a:lnTo>
                    <a:pt x="294" y="1156"/>
                  </a:lnTo>
                  <a:lnTo>
                    <a:pt x="342" y="1116"/>
                  </a:lnTo>
                  <a:lnTo>
                    <a:pt x="388" y="1072"/>
                  </a:lnTo>
                  <a:lnTo>
                    <a:pt x="434" y="1026"/>
                  </a:lnTo>
                  <a:lnTo>
                    <a:pt x="308" y="1026"/>
                  </a:lnTo>
                  <a:lnTo>
                    <a:pt x="308" y="1026"/>
                  </a:lnTo>
                  <a:lnTo>
                    <a:pt x="230" y="1028"/>
                  </a:lnTo>
                  <a:lnTo>
                    <a:pt x="162" y="1030"/>
                  </a:lnTo>
                  <a:lnTo>
                    <a:pt x="100" y="1034"/>
                  </a:lnTo>
                  <a:lnTo>
                    <a:pt x="42" y="1040"/>
                  </a:lnTo>
                  <a:lnTo>
                    <a:pt x="42" y="752"/>
                  </a:lnTo>
                  <a:lnTo>
                    <a:pt x="42" y="752"/>
                  </a:lnTo>
                  <a:lnTo>
                    <a:pt x="96" y="758"/>
                  </a:lnTo>
                  <a:lnTo>
                    <a:pt x="156" y="762"/>
                  </a:lnTo>
                  <a:lnTo>
                    <a:pt x="224" y="764"/>
                  </a:lnTo>
                  <a:lnTo>
                    <a:pt x="304" y="764"/>
                  </a:lnTo>
                  <a:lnTo>
                    <a:pt x="626" y="764"/>
                  </a:lnTo>
                  <a:lnTo>
                    <a:pt x="626" y="764"/>
                  </a:lnTo>
                  <a:lnTo>
                    <a:pt x="646" y="728"/>
                  </a:lnTo>
                  <a:lnTo>
                    <a:pt x="662" y="694"/>
                  </a:lnTo>
                  <a:lnTo>
                    <a:pt x="464" y="694"/>
                  </a:lnTo>
                  <a:lnTo>
                    <a:pt x="464" y="694"/>
                  </a:lnTo>
                  <a:lnTo>
                    <a:pt x="388" y="694"/>
                  </a:lnTo>
                  <a:lnTo>
                    <a:pt x="328" y="696"/>
                  </a:lnTo>
                  <a:lnTo>
                    <a:pt x="278" y="698"/>
                  </a:lnTo>
                  <a:lnTo>
                    <a:pt x="230" y="702"/>
                  </a:lnTo>
                  <a:lnTo>
                    <a:pt x="230" y="464"/>
                  </a:lnTo>
                  <a:lnTo>
                    <a:pt x="230" y="464"/>
                  </a:lnTo>
                  <a:lnTo>
                    <a:pt x="278" y="468"/>
                  </a:lnTo>
                  <a:lnTo>
                    <a:pt x="328" y="470"/>
                  </a:lnTo>
                  <a:lnTo>
                    <a:pt x="388" y="472"/>
                  </a:lnTo>
                  <a:lnTo>
                    <a:pt x="464" y="472"/>
                  </a:lnTo>
                  <a:lnTo>
                    <a:pt x="754" y="472"/>
                  </a:lnTo>
                  <a:lnTo>
                    <a:pt x="754" y="472"/>
                  </a:lnTo>
                  <a:lnTo>
                    <a:pt x="774" y="408"/>
                  </a:lnTo>
                  <a:lnTo>
                    <a:pt x="404" y="408"/>
                  </a:lnTo>
                  <a:lnTo>
                    <a:pt x="404" y="408"/>
                  </a:lnTo>
                  <a:lnTo>
                    <a:pt x="328" y="408"/>
                  </a:lnTo>
                  <a:lnTo>
                    <a:pt x="262" y="410"/>
                  </a:lnTo>
                  <a:lnTo>
                    <a:pt x="202" y="414"/>
                  </a:lnTo>
                  <a:lnTo>
                    <a:pt x="144" y="420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202" y="140"/>
                  </a:lnTo>
                  <a:lnTo>
                    <a:pt x="266" y="144"/>
                  </a:lnTo>
                  <a:lnTo>
                    <a:pt x="338" y="148"/>
                  </a:lnTo>
                  <a:lnTo>
                    <a:pt x="422" y="148"/>
                  </a:lnTo>
                  <a:lnTo>
                    <a:pt x="828" y="148"/>
                  </a:lnTo>
                  <a:lnTo>
                    <a:pt x="828" y="148"/>
                  </a:lnTo>
                  <a:lnTo>
                    <a:pt x="834" y="90"/>
                  </a:lnTo>
                  <a:lnTo>
                    <a:pt x="836" y="60"/>
                  </a:lnTo>
                  <a:lnTo>
                    <a:pt x="836" y="22"/>
                  </a:lnTo>
                  <a:lnTo>
                    <a:pt x="836" y="22"/>
                  </a:lnTo>
                  <a:lnTo>
                    <a:pt x="836" y="0"/>
                  </a:lnTo>
                  <a:lnTo>
                    <a:pt x="1182" y="24"/>
                  </a:lnTo>
                  <a:lnTo>
                    <a:pt x="1182" y="24"/>
                  </a:lnTo>
                  <a:lnTo>
                    <a:pt x="1170" y="82"/>
                  </a:lnTo>
                  <a:lnTo>
                    <a:pt x="1158" y="148"/>
                  </a:lnTo>
                  <a:lnTo>
                    <a:pt x="1672" y="148"/>
                  </a:lnTo>
                  <a:lnTo>
                    <a:pt x="1672" y="148"/>
                  </a:lnTo>
                  <a:lnTo>
                    <a:pt x="1758" y="148"/>
                  </a:lnTo>
                  <a:lnTo>
                    <a:pt x="1830" y="144"/>
                  </a:lnTo>
                  <a:lnTo>
                    <a:pt x="1894" y="140"/>
                  </a:lnTo>
                  <a:lnTo>
                    <a:pt x="1950" y="134"/>
                  </a:lnTo>
                  <a:lnTo>
                    <a:pt x="1950" y="420"/>
                  </a:lnTo>
                  <a:lnTo>
                    <a:pt x="1950" y="420"/>
                  </a:lnTo>
                  <a:lnTo>
                    <a:pt x="1892" y="414"/>
                  </a:lnTo>
                  <a:lnTo>
                    <a:pt x="1832" y="410"/>
                  </a:lnTo>
                  <a:lnTo>
                    <a:pt x="1766" y="408"/>
                  </a:lnTo>
                  <a:lnTo>
                    <a:pt x="1690" y="408"/>
                  </a:lnTo>
                  <a:lnTo>
                    <a:pt x="1104" y="408"/>
                  </a:lnTo>
                  <a:lnTo>
                    <a:pt x="1104" y="408"/>
                  </a:lnTo>
                  <a:lnTo>
                    <a:pt x="1084" y="472"/>
                  </a:lnTo>
                  <a:lnTo>
                    <a:pt x="1624" y="472"/>
                  </a:lnTo>
                  <a:lnTo>
                    <a:pt x="1624" y="472"/>
                  </a:lnTo>
                  <a:lnTo>
                    <a:pt x="1702" y="472"/>
                  </a:lnTo>
                  <a:lnTo>
                    <a:pt x="1762" y="470"/>
                  </a:lnTo>
                  <a:lnTo>
                    <a:pt x="1812" y="468"/>
                  </a:lnTo>
                  <a:lnTo>
                    <a:pt x="1858" y="464"/>
                  </a:lnTo>
                  <a:lnTo>
                    <a:pt x="1858" y="702"/>
                  </a:lnTo>
                  <a:lnTo>
                    <a:pt x="1858" y="702"/>
                  </a:lnTo>
                  <a:lnTo>
                    <a:pt x="1808" y="698"/>
                  </a:lnTo>
                  <a:lnTo>
                    <a:pt x="1758" y="696"/>
                  </a:lnTo>
                  <a:lnTo>
                    <a:pt x="1698" y="694"/>
                  </a:lnTo>
                  <a:lnTo>
                    <a:pt x="1624" y="694"/>
                  </a:lnTo>
                  <a:lnTo>
                    <a:pt x="1430" y="694"/>
                  </a:lnTo>
                  <a:lnTo>
                    <a:pt x="1430" y="694"/>
                  </a:lnTo>
                  <a:lnTo>
                    <a:pt x="1448" y="730"/>
                  </a:lnTo>
                  <a:lnTo>
                    <a:pt x="1466" y="764"/>
                  </a:lnTo>
                  <a:lnTo>
                    <a:pt x="1794" y="764"/>
                  </a:lnTo>
                  <a:lnTo>
                    <a:pt x="1794" y="764"/>
                  </a:lnTo>
                  <a:lnTo>
                    <a:pt x="1874" y="764"/>
                  </a:lnTo>
                  <a:lnTo>
                    <a:pt x="1942" y="762"/>
                  </a:lnTo>
                  <a:lnTo>
                    <a:pt x="2000" y="758"/>
                  </a:lnTo>
                  <a:lnTo>
                    <a:pt x="2052" y="752"/>
                  </a:lnTo>
                  <a:lnTo>
                    <a:pt x="2052" y="1040"/>
                  </a:lnTo>
                  <a:lnTo>
                    <a:pt x="2052" y="1040"/>
                  </a:lnTo>
                  <a:lnTo>
                    <a:pt x="1994" y="1034"/>
                  </a:lnTo>
                  <a:lnTo>
                    <a:pt x="1934" y="1030"/>
                  </a:lnTo>
                  <a:lnTo>
                    <a:pt x="1866" y="1028"/>
                  </a:lnTo>
                  <a:lnTo>
                    <a:pt x="1790" y="1026"/>
                  </a:lnTo>
                  <a:lnTo>
                    <a:pt x="1660" y="1026"/>
                  </a:lnTo>
                  <a:lnTo>
                    <a:pt x="1660" y="1026"/>
                  </a:lnTo>
                  <a:lnTo>
                    <a:pt x="1710" y="1074"/>
                  </a:lnTo>
                  <a:lnTo>
                    <a:pt x="1758" y="1118"/>
                  </a:lnTo>
                  <a:lnTo>
                    <a:pt x="1808" y="1158"/>
                  </a:lnTo>
                  <a:lnTo>
                    <a:pt x="1860" y="1194"/>
                  </a:lnTo>
                  <a:lnTo>
                    <a:pt x="1914" y="1230"/>
                  </a:lnTo>
                  <a:lnTo>
                    <a:pt x="1970" y="1262"/>
                  </a:lnTo>
                  <a:lnTo>
                    <a:pt x="2032" y="1294"/>
                  </a:lnTo>
                  <a:lnTo>
                    <a:pt x="2098" y="1324"/>
                  </a:lnTo>
                  <a:lnTo>
                    <a:pt x="2098" y="1324"/>
                  </a:lnTo>
                  <a:lnTo>
                    <a:pt x="2050" y="1402"/>
                  </a:lnTo>
                  <a:lnTo>
                    <a:pt x="2030" y="1436"/>
                  </a:lnTo>
                  <a:lnTo>
                    <a:pt x="2012" y="1472"/>
                  </a:lnTo>
                  <a:lnTo>
                    <a:pt x="1994" y="1508"/>
                  </a:lnTo>
                  <a:lnTo>
                    <a:pt x="1978" y="1548"/>
                  </a:lnTo>
                  <a:lnTo>
                    <a:pt x="1942" y="1640"/>
                  </a:lnTo>
                  <a:lnTo>
                    <a:pt x="1942" y="1640"/>
                  </a:lnTo>
                  <a:lnTo>
                    <a:pt x="1872" y="1594"/>
                  </a:lnTo>
                  <a:lnTo>
                    <a:pt x="1816" y="1554"/>
                  </a:lnTo>
                  <a:lnTo>
                    <a:pt x="1760" y="1510"/>
                  </a:lnTo>
                  <a:lnTo>
                    <a:pt x="1690" y="1452"/>
                  </a:lnTo>
                  <a:lnTo>
                    <a:pt x="1690" y="1766"/>
                  </a:lnTo>
                  <a:close/>
                  <a:moveTo>
                    <a:pt x="722" y="1422"/>
                  </a:moveTo>
                  <a:lnTo>
                    <a:pt x="1372" y="1422"/>
                  </a:lnTo>
                  <a:lnTo>
                    <a:pt x="1372" y="1342"/>
                  </a:lnTo>
                  <a:lnTo>
                    <a:pt x="722" y="1342"/>
                  </a:lnTo>
                  <a:lnTo>
                    <a:pt x="722" y="1422"/>
                  </a:lnTo>
                  <a:close/>
                  <a:moveTo>
                    <a:pt x="722" y="1718"/>
                  </a:moveTo>
                  <a:lnTo>
                    <a:pt x="1372" y="1718"/>
                  </a:lnTo>
                  <a:lnTo>
                    <a:pt x="1372" y="1636"/>
                  </a:lnTo>
                  <a:lnTo>
                    <a:pt x="722" y="1636"/>
                  </a:lnTo>
                  <a:lnTo>
                    <a:pt x="722" y="1718"/>
                  </a:lnTo>
                  <a:close/>
                  <a:moveTo>
                    <a:pt x="1354" y="1104"/>
                  </a:moveTo>
                  <a:lnTo>
                    <a:pt x="1354" y="1104"/>
                  </a:lnTo>
                  <a:lnTo>
                    <a:pt x="1298" y="1026"/>
                  </a:lnTo>
                  <a:lnTo>
                    <a:pt x="820" y="1026"/>
                  </a:lnTo>
                  <a:lnTo>
                    <a:pt x="820" y="1026"/>
                  </a:lnTo>
                  <a:lnTo>
                    <a:pt x="792" y="1066"/>
                  </a:lnTo>
                  <a:lnTo>
                    <a:pt x="762" y="1104"/>
                  </a:lnTo>
                  <a:lnTo>
                    <a:pt x="1354" y="1104"/>
                  </a:lnTo>
                  <a:close/>
                  <a:moveTo>
                    <a:pt x="1154" y="764"/>
                  </a:moveTo>
                  <a:lnTo>
                    <a:pt x="1154" y="764"/>
                  </a:lnTo>
                  <a:lnTo>
                    <a:pt x="1124" y="694"/>
                  </a:lnTo>
                  <a:lnTo>
                    <a:pt x="1004" y="694"/>
                  </a:lnTo>
                  <a:lnTo>
                    <a:pt x="1004" y="694"/>
                  </a:lnTo>
                  <a:lnTo>
                    <a:pt x="990" y="730"/>
                  </a:lnTo>
                  <a:lnTo>
                    <a:pt x="972" y="764"/>
                  </a:lnTo>
                  <a:lnTo>
                    <a:pt x="1154" y="7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>
              <a:off x="17662320" y="3571560"/>
              <a:ext cx="3279600" cy="3295800"/>
            </a:xfrm>
            <a:custGeom>
              <a:avLst/>
              <a:gdLst>
                <a:gd name="textAreaLeft" fmla="*/ 0 w 3279600"/>
                <a:gd name="textAreaRight" fmla="*/ 3279960 w 3279600"/>
                <a:gd name="textAreaTop" fmla="*/ 0 h 3295800"/>
                <a:gd name="textAreaBottom" fmla="*/ 3296160 h 3295800"/>
              </a:gdLst>
              <a:ahLst/>
              <a:rect l="textAreaLeft" t="textAreaTop" r="textAreaRight" b="textAreaBottom"/>
              <a:pathLst>
                <a:path w="2066" h="2076">
                  <a:moveTo>
                    <a:pt x="936" y="1194"/>
                  </a:moveTo>
                  <a:lnTo>
                    <a:pt x="936" y="1194"/>
                  </a:lnTo>
                  <a:lnTo>
                    <a:pt x="936" y="1316"/>
                  </a:lnTo>
                  <a:lnTo>
                    <a:pt x="942" y="1406"/>
                  </a:lnTo>
                  <a:lnTo>
                    <a:pt x="942" y="1406"/>
                  </a:lnTo>
                  <a:lnTo>
                    <a:pt x="844" y="1400"/>
                  </a:lnTo>
                  <a:lnTo>
                    <a:pt x="844" y="1400"/>
                  </a:lnTo>
                  <a:lnTo>
                    <a:pt x="886" y="1500"/>
                  </a:lnTo>
                  <a:lnTo>
                    <a:pt x="920" y="1586"/>
                  </a:lnTo>
                  <a:lnTo>
                    <a:pt x="950" y="1668"/>
                  </a:lnTo>
                  <a:lnTo>
                    <a:pt x="980" y="1756"/>
                  </a:lnTo>
                  <a:lnTo>
                    <a:pt x="980" y="1756"/>
                  </a:lnTo>
                  <a:lnTo>
                    <a:pt x="1012" y="1710"/>
                  </a:lnTo>
                  <a:lnTo>
                    <a:pt x="1038" y="1664"/>
                  </a:lnTo>
                  <a:lnTo>
                    <a:pt x="1060" y="1618"/>
                  </a:lnTo>
                  <a:lnTo>
                    <a:pt x="1078" y="1570"/>
                  </a:lnTo>
                  <a:lnTo>
                    <a:pt x="1094" y="1518"/>
                  </a:lnTo>
                  <a:lnTo>
                    <a:pt x="1104" y="1460"/>
                  </a:lnTo>
                  <a:lnTo>
                    <a:pt x="1114" y="1394"/>
                  </a:lnTo>
                  <a:lnTo>
                    <a:pt x="1122" y="1318"/>
                  </a:lnTo>
                  <a:lnTo>
                    <a:pt x="1122" y="1318"/>
                  </a:lnTo>
                  <a:lnTo>
                    <a:pt x="1034" y="1320"/>
                  </a:lnTo>
                  <a:lnTo>
                    <a:pt x="980" y="1326"/>
                  </a:lnTo>
                  <a:lnTo>
                    <a:pt x="980" y="1010"/>
                  </a:lnTo>
                  <a:lnTo>
                    <a:pt x="980" y="1010"/>
                  </a:lnTo>
                  <a:lnTo>
                    <a:pt x="1014" y="1014"/>
                  </a:lnTo>
                  <a:lnTo>
                    <a:pt x="1046" y="1016"/>
                  </a:lnTo>
                  <a:lnTo>
                    <a:pt x="1082" y="1018"/>
                  </a:lnTo>
                  <a:lnTo>
                    <a:pt x="1132" y="1018"/>
                  </a:lnTo>
                  <a:lnTo>
                    <a:pt x="1132" y="1018"/>
                  </a:lnTo>
                  <a:lnTo>
                    <a:pt x="1134" y="756"/>
                  </a:lnTo>
                  <a:lnTo>
                    <a:pt x="1134" y="756"/>
                  </a:lnTo>
                  <a:lnTo>
                    <a:pt x="1058" y="758"/>
                  </a:lnTo>
                  <a:lnTo>
                    <a:pt x="1028" y="760"/>
                  </a:lnTo>
                  <a:lnTo>
                    <a:pt x="998" y="764"/>
                  </a:lnTo>
                  <a:lnTo>
                    <a:pt x="998" y="446"/>
                  </a:lnTo>
                  <a:lnTo>
                    <a:pt x="998" y="446"/>
                  </a:lnTo>
                  <a:lnTo>
                    <a:pt x="1032" y="450"/>
                  </a:lnTo>
                  <a:lnTo>
                    <a:pt x="1068" y="454"/>
                  </a:lnTo>
                  <a:lnTo>
                    <a:pt x="1152" y="456"/>
                  </a:lnTo>
                  <a:lnTo>
                    <a:pt x="1152" y="456"/>
                  </a:lnTo>
                  <a:lnTo>
                    <a:pt x="1118" y="350"/>
                  </a:lnTo>
                  <a:lnTo>
                    <a:pt x="1104" y="308"/>
                  </a:lnTo>
                  <a:lnTo>
                    <a:pt x="1088" y="266"/>
                  </a:lnTo>
                  <a:lnTo>
                    <a:pt x="1070" y="228"/>
                  </a:lnTo>
                  <a:lnTo>
                    <a:pt x="1052" y="190"/>
                  </a:lnTo>
                  <a:lnTo>
                    <a:pt x="1032" y="150"/>
                  </a:lnTo>
                  <a:lnTo>
                    <a:pt x="1008" y="106"/>
                  </a:lnTo>
                  <a:lnTo>
                    <a:pt x="1308" y="10"/>
                  </a:lnTo>
                  <a:lnTo>
                    <a:pt x="1308" y="10"/>
                  </a:lnTo>
                  <a:lnTo>
                    <a:pt x="1360" y="112"/>
                  </a:lnTo>
                  <a:lnTo>
                    <a:pt x="1400" y="198"/>
                  </a:lnTo>
                  <a:lnTo>
                    <a:pt x="1432" y="280"/>
                  </a:lnTo>
                  <a:lnTo>
                    <a:pt x="1466" y="374"/>
                  </a:lnTo>
                  <a:lnTo>
                    <a:pt x="1242" y="456"/>
                  </a:lnTo>
                  <a:lnTo>
                    <a:pt x="1510" y="456"/>
                  </a:lnTo>
                  <a:lnTo>
                    <a:pt x="1510" y="456"/>
                  </a:lnTo>
                  <a:lnTo>
                    <a:pt x="1540" y="392"/>
                  </a:lnTo>
                  <a:lnTo>
                    <a:pt x="1566" y="334"/>
                  </a:lnTo>
                  <a:lnTo>
                    <a:pt x="1590" y="278"/>
                  </a:lnTo>
                  <a:lnTo>
                    <a:pt x="1612" y="224"/>
                  </a:lnTo>
                  <a:lnTo>
                    <a:pt x="1630" y="170"/>
                  </a:lnTo>
                  <a:lnTo>
                    <a:pt x="1648" y="116"/>
                  </a:lnTo>
                  <a:lnTo>
                    <a:pt x="1664" y="60"/>
                  </a:lnTo>
                  <a:lnTo>
                    <a:pt x="1680" y="0"/>
                  </a:lnTo>
                  <a:lnTo>
                    <a:pt x="2010" y="106"/>
                  </a:lnTo>
                  <a:lnTo>
                    <a:pt x="2010" y="106"/>
                  </a:lnTo>
                  <a:lnTo>
                    <a:pt x="1968" y="206"/>
                  </a:lnTo>
                  <a:lnTo>
                    <a:pt x="1924" y="300"/>
                  </a:lnTo>
                  <a:lnTo>
                    <a:pt x="1882" y="384"/>
                  </a:lnTo>
                  <a:lnTo>
                    <a:pt x="1846" y="456"/>
                  </a:lnTo>
                  <a:lnTo>
                    <a:pt x="1846" y="456"/>
                  </a:lnTo>
                  <a:lnTo>
                    <a:pt x="1902" y="454"/>
                  </a:lnTo>
                  <a:lnTo>
                    <a:pt x="1950" y="454"/>
                  </a:lnTo>
                  <a:lnTo>
                    <a:pt x="1992" y="450"/>
                  </a:lnTo>
                  <a:lnTo>
                    <a:pt x="2036" y="444"/>
                  </a:lnTo>
                  <a:lnTo>
                    <a:pt x="2036" y="764"/>
                  </a:lnTo>
                  <a:lnTo>
                    <a:pt x="2036" y="764"/>
                  </a:lnTo>
                  <a:lnTo>
                    <a:pt x="2000" y="760"/>
                  </a:lnTo>
                  <a:lnTo>
                    <a:pt x="1968" y="758"/>
                  </a:lnTo>
                  <a:lnTo>
                    <a:pt x="1882" y="756"/>
                  </a:lnTo>
                  <a:lnTo>
                    <a:pt x="1882" y="1018"/>
                  </a:lnTo>
                  <a:lnTo>
                    <a:pt x="1882" y="1018"/>
                  </a:lnTo>
                  <a:lnTo>
                    <a:pt x="1946" y="1018"/>
                  </a:lnTo>
                  <a:lnTo>
                    <a:pt x="1994" y="1016"/>
                  </a:lnTo>
                  <a:lnTo>
                    <a:pt x="2032" y="1012"/>
                  </a:lnTo>
                  <a:lnTo>
                    <a:pt x="2066" y="1006"/>
                  </a:lnTo>
                  <a:lnTo>
                    <a:pt x="2066" y="1330"/>
                  </a:lnTo>
                  <a:lnTo>
                    <a:pt x="2066" y="1330"/>
                  </a:lnTo>
                  <a:lnTo>
                    <a:pt x="2022" y="1324"/>
                  </a:lnTo>
                  <a:lnTo>
                    <a:pt x="1980" y="1320"/>
                  </a:lnTo>
                  <a:lnTo>
                    <a:pt x="1934" y="1320"/>
                  </a:lnTo>
                  <a:lnTo>
                    <a:pt x="1882" y="1318"/>
                  </a:lnTo>
                  <a:lnTo>
                    <a:pt x="1882" y="1802"/>
                  </a:lnTo>
                  <a:lnTo>
                    <a:pt x="1882" y="1802"/>
                  </a:lnTo>
                  <a:lnTo>
                    <a:pt x="1884" y="1886"/>
                  </a:lnTo>
                  <a:lnTo>
                    <a:pt x="1884" y="1948"/>
                  </a:lnTo>
                  <a:lnTo>
                    <a:pt x="1888" y="2002"/>
                  </a:lnTo>
                  <a:lnTo>
                    <a:pt x="1894" y="2056"/>
                  </a:lnTo>
                  <a:lnTo>
                    <a:pt x="1558" y="2056"/>
                  </a:lnTo>
                  <a:lnTo>
                    <a:pt x="1558" y="2056"/>
                  </a:lnTo>
                  <a:lnTo>
                    <a:pt x="1564" y="2008"/>
                  </a:lnTo>
                  <a:lnTo>
                    <a:pt x="1566" y="1952"/>
                  </a:lnTo>
                  <a:lnTo>
                    <a:pt x="1568" y="1884"/>
                  </a:lnTo>
                  <a:lnTo>
                    <a:pt x="1570" y="1802"/>
                  </a:lnTo>
                  <a:lnTo>
                    <a:pt x="1570" y="1318"/>
                  </a:lnTo>
                  <a:lnTo>
                    <a:pt x="1432" y="1318"/>
                  </a:lnTo>
                  <a:lnTo>
                    <a:pt x="1432" y="1318"/>
                  </a:lnTo>
                  <a:lnTo>
                    <a:pt x="1428" y="1396"/>
                  </a:lnTo>
                  <a:lnTo>
                    <a:pt x="1422" y="1466"/>
                  </a:lnTo>
                  <a:lnTo>
                    <a:pt x="1414" y="1528"/>
                  </a:lnTo>
                  <a:lnTo>
                    <a:pt x="1406" y="1586"/>
                  </a:lnTo>
                  <a:lnTo>
                    <a:pt x="1394" y="1638"/>
                  </a:lnTo>
                  <a:lnTo>
                    <a:pt x="1382" y="1688"/>
                  </a:lnTo>
                  <a:lnTo>
                    <a:pt x="1366" y="1736"/>
                  </a:lnTo>
                  <a:lnTo>
                    <a:pt x="1348" y="1786"/>
                  </a:lnTo>
                  <a:lnTo>
                    <a:pt x="1348" y="1786"/>
                  </a:lnTo>
                  <a:lnTo>
                    <a:pt x="1332" y="1826"/>
                  </a:lnTo>
                  <a:lnTo>
                    <a:pt x="1314" y="1864"/>
                  </a:lnTo>
                  <a:lnTo>
                    <a:pt x="1294" y="1900"/>
                  </a:lnTo>
                  <a:lnTo>
                    <a:pt x="1272" y="1934"/>
                  </a:lnTo>
                  <a:lnTo>
                    <a:pt x="1250" y="1968"/>
                  </a:lnTo>
                  <a:lnTo>
                    <a:pt x="1224" y="2002"/>
                  </a:lnTo>
                  <a:lnTo>
                    <a:pt x="1194" y="2038"/>
                  </a:lnTo>
                  <a:lnTo>
                    <a:pt x="1160" y="2076"/>
                  </a:lnTo>
                  <a:lnTo>
                    <a:pt x="1160" y="2076"/>
                  </a:lnTo>
                  <a:lnTo>
                    <a:pt x="1116" y="2022"/>
                  </a:lnTo>
                  <a:lnTo>
                    <a:pt x="1078" y="1978"/>
                  </a:lnTo>
                  <a:lnTo>
                    <a:pt x="1038" y="1940"/>
                  </a:lnTo>
                  <a:lnTo>
                    <a:pt x="996" y="1900"/>
                  </a:lnTo>
                  <a:lnTo>
                    <a:pt x="728" y="2006"/>
                  </a:lnTo>
                  <a:lnTo>
                    <a:pt x="728" y="2006"/>
                  </a:lnTo>
                  <a:lnTo>
                    <a:pt x="712" y="1936"/>
                  </a:lnTo>
                  <a:lnTo>
                    <a:pt x="700" y="1878"/>
                  </a:lnTo>
                  <a:lnTo>
                    <a:pt x="700" y="1878"/>
                  </a:lnTo>
                  <a:lnTo>
                    <a:pt x="600" y="1908"/>
                  </a:lnTo>
                  <a:lnTo>
                    <a:pt x="484" y="1940"/>
                  </a:lnTo>
                  <a:lnTo>
                    <a:pt x="354" y="1974"/>
                  </a:lnTo>
                  <a:lnTo>
                    <a:pt x="212" y="2008"/>
                  </a:lnTo>
                  <a:lnTo>
                    <a:pt x="212" y="2008"/>
                  </a:lnTo>
                  <a:lnTo>
                    <a:pt x="154" y="2024"/>
                  </a:lnTo>
                  <a:lnTo>
                    <a:pt x="128" y="2032"/>
                  </a:lnTo>
                  <a:lnTo>
                    <a:pt x="98" y="2044"/>
                  </a:lnTo>
                  <a:lnTo>
                    <a:pt x="26" y="1706"/>
                  </a:lnTo>
                  <a:lnTo>
                    <a:pt x="26" y="1706"/>
                  </a:lnTo>
                  <a:lnTo>
                    <a:pt x="80" y="1704"/>
                  </a:lnTo>
                  <a:lnTo>
                    <a:pt x="152" y="1698"/>
                  </a:lnTo>
                  <a:lnTo>
                    <a:pt x="152" y="766"/>
                  </a:lnTo>
                  <a:lnTo>
                    <a:pt x="152" y="766"/>
                  </a:lnTo>
                  <a:lnTo>
                    <a:pt x="152" y="734"/>
                  </a:lnTo>
                  <a:lnTo>
                    <a:pt x="150" y="692"/>
                  </a:lnTo>
                  <a:lnTo>
                    <a:pt x="150" y="692"/>
                  </a:lnTo>
                  <a:lnTo>
                    <a:pt x="120" y="710"/>
                  </a:lnTo>
                  <a:lnTo>
                    <a:pt x="82" y="736"/>
                  </a:lnTo>
                  <a:lnTo>
                    <a:pt x="82" y="736"/>
                  </a:lnTo>
                  <a:lnTo>
                    <a:pt x="68" y="642"/>
                  </a:lnTo>
                  <a:lnTo>
                    <a:pt x="62" y="602"/>
                  </a:lnTo>
                  <a:lnTo>
                    <a:pt x="52" y="560"/>
                  </a:lnTo>
                  <a:lnTo>
                    <a:pt x="42" y="522"/>
                  </a:lnTo>
                  <a:lnTo>
                    <a:pt x="30" y="480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0" y="360"/>
                  </a:lnTo>
                  <a:lnTo>
                    <a:pt x="86" y="344"/>
                  </a:lnTo>
                  <a:lnTo>
                    <a:pt x="108" y="328"/>
                  </a:lnTo>
                  <a:lnTo>
                    <a:pt x="132" y="310"/>
                  </a:lnTo>
                  <a:lnTo>
                    <a:pt x="156" y="290"/>
                  </a:lnTo>
                  <a:lnTo>
                    <a:pt x="214" y="236"/>
                  </a:lnTo>
                  <a:lnTo>
                    <a:pt x="214" y="236"/>
                  </a:lnTo>
                  <a:lnTo>
                    <a:pt x="246" y="208"/>
                  </a:lnTo>
                  <a:lnTo>
                    <a:pt x="274" y="180"/>
                  </a:lnTo>
                  <a:lnTo>
                    <a:pt x="300" y="150"/>
                  </a:lnTo>
                  <a:lnTo>
                    <a:pt x="324" y="122"/>
                  </a:lnTo>
                  <a:lnTo>
                    <a:pt x="346" y="94"/>
                  </a:lnTo>
                  <a:lnTo>
                    <a:pt x="364" y="66"/>
                  </a:lnTo>
                  <a:lnTo>
                    <a:pt x="380" y="40"/>
                  </a:lnTo>
                  <a:lnTo>
                    <a:pt x="392" y="16"/>
                  </a:lnTo>
                  <a:lnTo>
                    <a:pt x="742" y="16"/>
                  </a:lnTo>
                  <a:lnTo>
                    <a:pt x="742" y="16"/>
                  </a:lnTo>
                  <a:lnTo>
                    <a:pt x="758" y="46"/>
                  </a:lnTo>
                  <a:lnTo>
                    <a:pt x="776" y="72"/>
                  </a:lnTo>
                  <a:lnTo>
                    <a:pt x="800" y="100"/>
                  </a:lnTo>
                  <a:lnTo>
                    <a:pt x="830" y="130"/>
                  </a:lnTo>
                  <a:lnTo>
                    <a:pt x="830" y="130"/>
                  </a:lnTo>
                  <a:lnTo>
                    <a:pt x="854" y="154"/>
                  </a:lnTo>
                  <a:lnTo>
                    <a:pt x="880" y="176"/>
                  </a:lnTo>
                  <a:lnTo>
                    <a:pt x="906" y="198"/>
                  </a:lnTo>
                  <a:lnTo>
                    <a:pt x="934" y="218"/>
                  </a:lnTo>
                  <a:lnTo>
                    <a:pt x="964" y="238"/>
                  </a:lnTo>
                  <a:lnTo>
                    <a:pt x="998" y="260"/>
                  </a:lnTo>
                  <a:lnTo>
                    <a:pt x="1078" y="306"/>
                  </a:lnTo>
                  <a:lnTo>
                    <a:pt x="1078" y="306"/>
                  </a:lnTo>
                  <a:lnTo>
                    <a:pt x="1048" y="340"/>
                  </a:lnTo>
                  <a:lnTo>
                    <a:pt x="1022" y="372"/>
                  </a:lnTo>
                  <a:lnTo>
                    <a:pt x="998" y="404"/>
                  </a:lnTo>
                  <a:lnTo>
                    <a:pt x="978" y="434"/>
                  </a:lnTo>
                  <a:lnTo>
                    <a:pt x="960" y="466"/>
                  </a:lnTo>
                  <a:lnTo>
                    <a:pt x="942" y="500"/>
                  </a:lnTo>
                  <a:lnTo>
                    <a:pt x="926" y="536"/>
                  </a:lnTo>
                  <a:lnTo>
                    <a:pt x="906" y="578"/>
                  </a:lnTo>
                  <a:lnTo>
                    <a:pt x="906" y="578"/>
                  </a:lnTo>
                  <a:lnTo>
                    <a:pt x="924" y="578"/>
                  </a:lnTo>
                  <a:lnTo>
                    <a:pt x="942" y="576"/>
                  </a:lnTo>
                  <a:lnTo>
                    <a:pt x="942" y="576"/>
                  </a:lnTo>
                  <a:lnTo>
                    <a:pt x="936" y="646"/>
                  </a:lnTo>
                  <a:lnTo>
                    <a:pt x="936" y="744"/>
                  </a:lnTo>
                  <a:lnTo>
                    <a:pt x="936" y="1194"/>
                  </a:lnTo>
                  <a:close/>
                  <a:moveTo>
                    <a:pt x="450" y="484"/>
                  </a:moveTo>
                  <a:lnTo>
                    <a:pt x="450" y="484"/>
                  </a:lnTo>
                  <a:lnTo>
                    <a:pt x="450" y="460"/>
                  </a:lnTo>
                  <a:lnTo>
                    <a:pt x="448" y="432"/>
                  </a:lnTo>
                  <a:lnTo>
                    <a:pt x="448" y="432"/>
                  </a:lnTo>
                  <a:lnTo>
                    <a:pt x="414" y="470"/>
                  </a:lnTo>
                  <a:lnTo>
                    <a:pt x="380" y="504"/>
                  </a:lnTo>
                  <a:lnTo>
                    <a:pt x="340" y="540"/>
                  </a:lnTo>
                  <a:lnTo>
                    <a:pt x="292" y="582"/>
                  </a:lnTo>
                  <a:lnTo>
                    <a:pt x="450" y="582"/>
                  </a:lnTo>
                  <a:lnTo>
                    <a:pt x="450" y="484"/>
                  </a:lnTo>
                  <a:close/>
                  <a:moveTo>
                    <a:pt x="632" y="890"/>
                  </a:moveTo>
                  <a:lnTo>
                    <a:pt x="632" y="806"/>
                  </a:lnTo>
                  <a:lnTo>
                    <a:pt x="460" y="806"/>
                  </a:lnTo>
                  <a:lnTo>
                    <a:pt x="460" y="890"/>
                  </a:lnTo>
                  <a:lnTo>
                    <a:pt x="632" y="890"/>
                  </a:lnTo>
                  <a:close/>
                  <a:moveTo>
                    <a:pt x="460" y="1176"/>
                  </a:moveTo>
                  <a:lnTo>
                    <a:pt x="632" y="1176"/>
                  </a:lnTo>
                  <a:lnTo>
                    <a:pt x="632" y="1090"/>
                  </a:lnTo>
                  <a:lnTo>
                    <a:pt x="460" y="1090"/>
                  </a:lnTo>
                  <a:lnTo>
                    <a:pt x="460" y="1176"/>
                  </a:lnTo>
                  <a:close/>
                  <a:moveTo>
                    <a:pt x="782" y="1400"/>
                  </a:moveTo>
                  <a:lnTo>
                    <a:pt x="460" y="1400"/>
                  </a:lnTo>
                  <a:lnTo>
                    <a:pt x="460" y="1646"/>
                  </a:lnTo>
                  <a:lnTo>
                    <a:pt x="460" y="1646"/>
                  </a:lnTo>
                  <a:lnTo>
                    <a:pt x="620" y="1610"/>
                  </a:lnTo>
                  <a:lnTo>
                    <a:pt x="620" y="1610"/>
                  </a:lnTo>
                  <a:lnTo>
                    <a:pt x="598" y="1554"/>
                  </a:lnTo>
                  <a:lnTo>
                    <a:pt x="568" y="1480"/>
                  </a:lnTo>
                  <a:lnTo>
                    <a:pt x="820" y="1400"/>
                  </a:lnTo>
                  <a:lnTo>
                    <a:pt x="782" y="1400"/>
                  </a:lnTo>
                  <a:close/>
                  <a:moveTo>
                    <a:pt x="686" y="396"/>
                  </a:moveTo>
                  <a:lnTo>
                    <a:pt x="686" y="396"/>
                  </a:lnTo>
                  <a:lnTo>
                    <a:pt x="654" y="366"/>
                  </a:lnTo>
                  <a:lnTo>
                    <a:pt x="628" y="338"/>
                  </a:lnTo>
                  <a:lnTo>
                    <a:pt x="602" y="308"/>
                  </a:lnTo>
                  <a:lnTo>
                    <a:pt x="570" y="268"/>
                  </a:lnTo>
                  <a:lnTo>
                    <a:pt x="570" y="268"/>
                  </a:lnTo>
                  <a:lnTo>
                    <a:pt x="542" y="310"/>
                  </a:lnTo>
                  <a:lnTo>
                    <a:pt x="518" y="342"/>
                  </a:lnTo>
                  <a:lnTo>
                    <a:pt x="476" y="396"/>
                  </a:lnTo>
                  <a:lnTo>
                    <a:pt x="686" y="396"/>
                  </a:lnTo>
                  <a:close/>
                  <a:moveTo>
                    <a:pt x="768" y="582"/>
                  </a:moveTo>
                  <a:lnTo>
                    <a:pt x="768" y="582"/>
                  </a:lnTo>
                  <a:lnTo>
                    <a:pt x="830" y="582"/>
                  </a:lnTo>
                  <a:lnTo>
                    <a:pt x="904" y="578"/>
                  </a:lnTo>
                  <a:lnTo>
                    <a:pt x="904" y="578"/>
                  </a:lnTo>
                  <a:lnTo>
                    <a:pt x="844" y="534"/>
                  </a:lnTo>
                  <a:lnTo>
                    <a:pt x="802" y="500"/>
                  </a:lnTo>
                  <a:lnTo>
                    <a:pt x="764" y="470"/>
                  </a:lnTo>
                  <a:lnTo>
                    <a:pt x="720" y="430"/>
                  </a:lnTo>
                  <a:lnTo>
                    <a:pt x="720" y="430"/>
                  </a:lnTo>
                  <a:lnTo>
                    <a:pt x="720" y="460"/>
                  </a:lnTo>
                  <a:lnTo>
                    <a:pt x="718" y="486"/>
                  </a:lnTo>
                  <a:lnTo>
                    <a:pt x="718" y="582"/>
                  </a:lnTo>
                  <a:lnTo>
                    <a:pt x="768" y="582"/>
                  </a:lnTo>
                  <a:close/>
                  <a:moveTo>
                    <a:pt x="1442" y="756"/>
                  </a:moveTo>
                  <a:lnTo>
                    <a:pt x="1442" y="756"/>
                  </a:lnTo>
                  <a:lnTo>
                    <a:pt x="1442" y="960"/>
                  </a:lnTo>
                  <a:lnTo>
                    <a:pt x="1440" y="1018"/>
                  </a:lnTo>
                  <a:lnTo>
                    <a:pt x="1570" y="1018"/>
                  </a:lnTo>
                  <a:lnTo>
                    <a:pt x="1570" y="756"/>
                  </a:lnTo>
                  <a:lnTo>
                    <a:pt x="1442" y="75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2"/>
            <p:cNvSpPr/>
            <p:nvPr/>
          </p:nvSpPr>
          <p:spPr>
            <a:xfrm>
              <a:off x="21691440" y="4044960"/>
              <a:ext cx="3041640" cy="2549520"/>
            </a:xfrm>
            <a:custGeom>
              <a:avLst/>
              <a:gdLst>
                <a:gd name="textAreaLeft" fmla="*/ 0 w 3041640"/>
                <a:gd name="textAreaRight" fmla="*/ 3042000 w 3041640"/>
                <a:gd name="textAreaTop" fmla="*/ 0 h 2549520"/>
                <a:gd name="textAreaBottom" fmla="*/ 2549520 h 2549520"/>
              </a:gdLst>
              <a:ahLst/>
              <a:rect l="textAreaLeft" t="textAreaTop" r="textAreaRight" b="textAreaBottom"/>
              <a:pathLst>
                <a:path w="1916" h="1606">
                  <a:moveTo>
                    <a:pt x="0" y="164"/>
                  </a:moveTo>
                  <a:lnTo>
                    <a:pt x="0" y="164"/>
                  </a:lnTo>
                  <a:lnTo>
                    <a:pt x="62" y="156"/>
                  </a:lnTo>
                  <a:lnTo>
                    <a:pt x="122" y="148"/>
                  </a:lnTo>
                  <a:lnTo>
                    <a:pt x="192" y="134"/>
                  </a:lnTo>
                  <a:lnTo>
                    <a:pt x="286" y="114"/>
                  </a:lnTo>
                  <a:lnTo>
                    <a:pt x="286" y="114"/>
                  </a:lnTo>
                  <a:lnTo>
                    <a:pt x="440" y="82"/>
                  </a:lnTo>
                  <a:lnTo>
                    <a:pt x="570" y="58"/>
                  </a:lnTo>
                  <a:lnTo>
                    <a:pt x="684" y="38"/>
                  </a:lnTo>
                  <a:lnTo>
                    <a:pt x="782" y="22"/>
                  </a:lnTo>
                  <a:lnTo>
                    <a:pt x="872" y="12"/>
                  </a:lnTo>
                  <a:lnTo>
                    <a:pt x="954" y="4"/>
                  </a:lnTo>
                  <a:lnTo>
                    <a:pt x="1032" y="0"/>
                  </a:lnTo>
                  <a:lnTo>
                    <a:pt x="1112" y="0"/>
                  </a:lnTo>
                  <a:lnTo>
                    <a:pt x="1112" y="0"/>
                  </a:lnTo>
                  <a:lnTo>
                    <a:pt x="1196" y="2"/>
                  </a:lnTo>
                  <a:lnTo>
                    <a:pt x="1274" y="8"/>
                  </a:lnTo>
                  <a:lnTo>
                    <a:pt x="1312" y="12"/>
                  </a:lnTo>
                  <a:lnTo>
                    <a:pt x="1348" y="18"/>
                  </a:lnTo>
                  <a:lnTo>
                    <a:pt x="1384" y="26"/>
                  </a:lnTo>
                  <a:lnTo>
                    <a:pt x="1418" y="34"/>
                  </a:lnTo>
                  <a:lnTo>
                    <a:pt x="1450" y="42"/>
                  </a:lnTo>
                  <a:lnTo>
                    <a:pt x="1482" y="52"/>
                  </a:lnTo>
                  <a:lnTo>
                    <a:pt x="1512" y="64"/>
                  </a:lnTo>
                  <a:lnTo>
                    <a:pt x="1542" y="76"/>
                  </a:lnTo>
                  <a:lnTo>
                    <a:pt x="1570" y="90"/>
                  </a:lnTo>
                  <a:lnTo>
                    <a:pt x="1598" y="104"/>
                  </a:lnTo>
                  <a:lnTo>
                    <a:pt x="1624" y="120"/>
                  </a:lnTo>
                  <a:lnTo>
                    <a:pt x="1648" y="136"/>
                  </a:lnTo>
                  <a:lnTo>
                    <a:pt x="1648" y="136"/>
                  </a:lnTo>
                  <a:lnTo>
                    <a:pt x="1680" y="158"/>
                  </a:lnTo>
                  <a:lnTo>
                    <a:pt x="1708" y="184"/>
                  </a:lnTo>
                  <a:lnTo>
                    <a:pt x="1736" y="210"/>
                  </a:lnTo>
                  <a:lnTo>
                    <a:pt x="1762" y="238"/>
                  </a:lnTo>
                  <a:lnTo>
                    <a:pt x="1786" y="268"/>
                  </a:lnTo>
                  <a:lnTo>
                    <a:pt x="1808" y="298"/>
                  </a:lnTo>
                  <a:lnTo>
                    <a:pt x="1828" y="332"/>
                  </a:lnTo>
                  <a:lnTo>
                    <a:pt x="1846" y="364"/>
                  </a:lnTo>
                  <a:lnTo>
                    <a:pt x="1862" y="400"/>
                  </a:lnTo>
                  <a:lnTo>
                    <a:pt x="1876" y="436"/>
                  </a:lnTo>
                  <a:lnTo>
                    <a:pt x="1888" y="472"/>
                  </a:lnTo>
                  <a:lnTo>
                    <a:pt x="1898" y="512"/>
                  </a:lnTo>
                  <a:lnTo>
                    <a:pt x="1904" y="550"/>
                  </a:lnTo>
                  <a:lnTo>
                    <a:pt x="1910" y="590"/>
                  </a:lnTo>
                  <a:lnTo>
                    <a:pt x="1914" y="630"/>
                  </a:lnTo>
                  <a:lnTo>
                    <a:pt x="1916" y="672"/>
                  </a:lnTo>
                  <a:lnTo>
                    <a:pt x="1916" y="672"/>
                  </a:lnTo>
                  <a:lnTo>
                    <a:pt x="1912" y="732"/>
                  </a:lnTo>
                  <a:lnTo>
                    <a:pt x="1906" y="790"/>
                  </a:lnTo>
                  <a:lnTo>
                    <a:pt x="1896" y="846"/>
                  </a:lnTo>
                  <a:lnTo>
                    <a:pt x="1882" y="902"/>
                  </a:lnTo>
                  <a:lnTo>
                    <a:pt x="1862" y="956"/>
                  </a:lnTo>
                  <a:lnTo>
                    <a:pt x="1840" y="1008"/>
                  </a:lnTo>
                  <a:lnTo>
                    <a:pt x="1812" y="1058"/>
                  </a:lnTo>
                  <a:lnTo>
                    <a:pt x="1782" y="1108"/>
                  </a:lnTo>
                  <a:lnTo>
                    <a:pt x="1748" y="1154"/>
                  </a:lnTo>
                  <a:lnTo>
                    <a:pt x="1710" y="1198"/>
                  </a:lnTo>
                  <a:lnTo>
                    <a:pt x="1668" y="1242"/>
                  </a:lnTo>
                  <a:lnTo>
                    <a:pt x="1622" y="1282"/>
                  </a:lnTo>
                  <a:lnTo>
                    <a:pt x="1574" y="1320"/>
                  </a:lnTo>
                  <a:lnTo>
                    <a:pt x="1522" y="1356"/>
                  </a:lnTo>
                  <a:lnTo>
                    <a:pt x="1468" y="1388"/>
                  </a:lnTo>
                  <a:lnTo>
                    <a:pt x="1408" y="1418"/>
                  </a:lnTo>
                  <a:lnTo>
                    <a:pt x="1408" y="1418"/>
                  </a:lnTo>
                  <a:lnTo>
                    <a:pt x="1326" y="1456"/>
                  </a:lnTo>
                  <a:lnTo>
                    <a:pt x="1286" y="1472"/>
                  </a:lnTo>
                  <a:lnTo>
                    <a:pt x="1244" y="1488"/>
                  </a:lnTo>
                  <a:lnTo>
                    <a:pt x="1200" y="1502"/>
                  </a:lnTo>
                  <a:lnTo>
                    <a:pt x="1156" y="1514"/>
                  </a:lnTo>
                  <a:lnTo>
                    <a:pt x="1112" y="1528"/>
                  </a:lnTo>
                  <a:lnTo>
                    <a:pt x="1064" y="1538"/>
                  </a:lnTo>
                  <a:lnTo>
                    <a:pt x="964" y="1560"/>
                  </a:lnTo>
                  <a:lnTo>
                    <a:pt x="854" y="1578"/>
                  </a:lnTo>
                  <a:lnTo>
                    <a:pt x="732" y="1594"/>
                  </a:lnTo>
                  <a:lnTo>
                    <a:pt x="598" y="1606"/>
                  </a:lnTo>
                  <a:lnTo>
                    <a:pt x="598" y="1606"/>
                  </a:lnTo>
                  <a:lnTo>
                    <a:pt x="564" y="1486"/>
                  </a:lnTo>
                  <a:lnTo>
                    <a:pt x="548" y="1438"/>
                  </a:lnTo>
                  <a:lnTo>
                    <a:pt x="532" y="1396"/>
                  </a:lnTo>
                  <a:lnTo>
                    <a:pt x="516" y="1356"/>
                  </a:lnTo>
                  <a:lnTo>
                    <a:pt x="496" y="1314"/>
                  </a:lnTo>
                  <a:lnTo>
                    <a:pt x="444" y="1216"/>
                  </a:lnTo>
                  <a:lnTo>
                    <a:pt x="444" y="1216"/>
                  </a:lnTo>
                  <a:lnTo>
                    <a:pt x="540" y="1214"/>
                  </a:lnTo>
                  <a:lnTo>
                    <a:pt x="630" y="1210"/>
                  </a:lnTo>
                  <a:lnTo>
                    <a:pt x="712" y="1204"/>
                  </a:lnTo>
                  <a:lnTo>
                    <a:pt x="790" y="1196"/>
                  </a:lnTo>
                  <a:lnTo>
                    <a:pt x="864" y="1184"/>
                  </a:lnTo>
                  <a:lnTo>
                    <a:pt x="932" y="1172"/>
                  </a:lnTo>
                  <a:lnTo>
                    <a:pt x="998" y="1158"/>
                  </a:lnTo>
                  <a:lnTo>
                    <a:pt x="1060" y="1140"/>
                  </a:lnTo>
                  <a:lnTo>
                    <a:pt x="1060" y="1140"/>
                  </a:lnTo>
                  <a:lnTo>
                    <a:pt x="1122" y="1120"/>
                  </a:lnTo>
                  <a:lnTo>
                    <a:pt x="1180" y="1096"/>
                  </a:lnTo>
                  <a:lnTo>
                    <a:pt x="1232" y="1070"/>
                  </a:lnTo>
                  <a:lnTo>
                    <a:pt x="1280" y="1042"/>
                  </a:lnTo>
                  <a:lnTo>
                    <a:pt x="1304" y="1026"/>
                  </a:lnTo>
                  <a:lnTo>
                    <a:pt x="1324" y="1010"/>
                  </a:lnTo>
                  <a:lnTo>
                    <a:pt x="1346" y="994"/>
                  </a:lnTo>
                  <a:lnTo>
                    <a:pt x="1364" y="976"/>
                  </a:lnTo>
                  <a:lnTo>
                    <a:pt x="1384" y="958"/>
                  </a:lnTo>
                  <a:lnTo>
                    <a:pt x="1400" y="938"/>
                  </a:lnTo>
                  <a:lnTo>
                    <a:pt x="1418" y="918"/>
                  </a:lnTo>
                  <a:lnTo>
                    <a:pt x="1432" y="898"/>
                  </a:lnTo>
                  <a:lnTo>
                    <a:pt x="1432" y="898"/>
                  </a:lnTo>
                  <a:lnTo>
                    <a:pt x="1450" y="872"/>
                  </a:lnTo>
                  <a:lnTo>
                    <a:pt x="1464" y="848"/>
                  </a:lnTo>
                  <a:lnTo>
                    <a:pt x="1476" y="822"/>
                  </a:lnTo>
                  <a:lnTo>
                    <a:pt x="1486" y="796"/>
                  </a:lnTo>
                  <a:lnTo>
                    <a:pt x="1492" y="768"/>
                  </a:lnTo>
                  <a:lnTo>
                    <a:pt x="1498" y="740"/>
                  </a:lnTo>
                  <a:lnTo>
                    <a:pt x="1500" y="712"/>
                  </a:lnTo>
                  <a:lnTo>
                    <a:pt x="1502" y="680"/>
                  </a:lnTo>
                  <a:lnTo>
                    <a:pt x="1502" y="680"/>
                  </a:lnTo>
                  <a:lnTo>
                    <a:pt x="1500" y="650"/>
                  </a:lnTo>
                  <a:lnTo>
                    <a:pt x="1496" y="620"/>
                  </a:lnTo>
                  <a:lnTo>
                    <a:pt x="1490" y="590"/>
                  </a:lnTo>
                  <a:lnTo>
                    <a:pt x="1482" y="564"/>
                  </a:lnTo>
                  <a:lnTo>
                    <a:pt x="1470" y="538"/>
                  </a:lnTo>
                  <a:lnTo>
                    <a:pt x="1458" y="514"/>
                  </a:lnTo>
                  <a:lnTo>
                    <a:pt x="1440" y="492"/>
                  </a:lnTo>
                  <a:lnTo>
                    <a:pt x="1422" y="472"/>
                  </a:lnTo>
                  <a:lnTo>
                    <a:pt x="1422" y="472"/>
                  </a:lnTo>
                  <a:lnTo>
                    <a:pt x="1394" y="446"/>
                  </a:lnTo>
                  <a:lnTo>
                    <a:pt x="1364" y="424"/>
                  </a:lnTo>
                  <a:lnTo>
                    <a:pt x="1330" y="406"/>
                  </a:lnTo>
                  <a:lnTo>
                    <a:pt x="1292" y="392"/>
                  </a:lnTo>
                  <a:lnTo>
                    <a:pt x="1252" y="382"/>
                  </a:lnTo>
                  <a:lnTo>
                    <a:pt x="1206" y="374"/>
                  </a:lnTo>
                  <a:lnTo>
                    <a:pt x="1156" y="368"/>
                  </a:lnTo>
                  <a:lnTo>
                    <a:pt x="1102" y="368"/>
                  </a:lnTo>
                  <a:lnTo>
                    <a:pt x="1102" y="368"/>
                  </a:lnTo>
                  <a:lnTo>
                    <a:pt x="1014" y="370"/>
                  </a:lnTo>
                  <a:lnTo>
                    <a:pt x="922" y="376"/>
                  </a:lnTo>
                  <a:lnTo>
                    <a:pt x="828" y="388"/>
                  </a:lnTo>
                  <a:lnTo>
                    <a:pt x="728" y="404"/>
                  </a:lnTo>
                  <a:lnTo>
                    <a:pt x="622" y="426"/>
                  </a:lnTo>
                  <a:lnTo>
                    <a:pt x="510" y="452"/>
                  </a:lnTo>
                  <a:lnTo>
                    <a:pt x="394" y="484"/>
                  </a:lnTo>
                  <a:lnTo>
                    <a:pt x="268" y="520"/>
                  </a:lnTo>
                  <a:lnTo>
                    <a:pt x="268" y="520"/>
                  </a:lnTo>
                  <a:lnTo>
                    <a:pt x="212" y="538"/>
                  </a:lnTo>
                  <a:lnTo>
                    <a:pt x="164" y="556"/>
                  </a:lnTo>
                  <a:lnTo>
                    <a:pt x="122" y="572"/>
                  </a:lnTo>
                  <a:lnTo>
                    <a:pt x="82" y="59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3"/>
            <p:cNvSpPr/>
            <p:nvPr/>
          </p:nvSpPr>
          <p:spPr>
            <a:xfrm>
              <a:off x="25565040" y="3638520"/>
              <a:ext cx="2708280" cy="3114720"/>
            </a:xfrm>
            <a:custGeom>
              <a:avLst/>
              <a:gdLst>
                <a:gd name="textAreaLeft" fmla="*/ 0 w 2708280"/>
                <a:gd name="textAreaRight" fmla="*/ 2708640 w 2708280"/>
                <a:gd name="textAreaTop" fmla="*/ 0 h 3114720"/>
                <a:gd name="textAreaBottom" fmla="*/ 3115080 h 3114720"/>
              </a:gdLst>
              <a:ahLst/>
              <a:rect l="textAreaLeft" t="textAreaTop" r="textAreaRight" b="textAreaBottom"/>
              <a:pathLst>
                <a:path w="1706" h="1962">
                  <a:moveTo>
                    <a:pt x="18" y="266"/>
                  </a:moveTo>
                  <a:lnTo>
                    <a:pt x="18" y="266"/>
                  </a:lnTo>
                  <a:lnTo>
                    <a:pt x="74" y="272"/>
                  </a:lnTo>
                  <a:lnTo>
                    <a:pt x="132" y="274"/>
                  </a:lnTo>
                  <a:lnTo>
                    <a:pt x="194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364" y="276"/>
                  </a:lnTo>
                  <a:lnTo>
                    <a:pt x="468" y="272"/>
                  </a:lnTo>
                  <a:lnTo>
                    <a:pt x="568" y="268"/>
                  </a:lnTo>
                  <a:lnTo>
                    <a:pt x="652" y="262"/>
                  </a:lnTo>
                  <a:lnTo>
                    <a:pt x="652" y="262"/>
                  </a:lnTo>
                  <a:lnTo>
                    <a:pt x="622" y="184"/>
                  </a:lnTo>
                  <a:lnTo>
                    <a:pt x="596" y="124"/>
                  </a:lnTo>
                  <a:lnTo>
                    <a:pt x="578" y="78"/>
                  </a:lnTo>
                  <a:lnTo>
                    <a:pt x="562" y="46"/>
                  </a:lnTo>
                  <a:lnTo>
                    <a:pt x="940" y="0"/>
                  </a:lnTo>
                  <a:lnTo>
                    <a:pt x="940" y="0"/>
                  </a:lnTo>
                  <a:lnTo>
                    <a:pt x="950" y="50"/>
                  </a:lnTo>
                  <a:lnTo>
                    <a:pt x="962" y="98"/>
                  </a:lnTo>
                  <a:lnTo>
                    <a:pt x="980" y="154"/>
                  </a:lnTo>
                  <a:lnTo>
                    <a:pt x="1006" y="226"/>
                  </a:lnTo>
                  <a:lnTo>
                    <a:pt x="1006" y="226"/>
                  </a:lnTo>
                  <a:lnTo>
                    <a:pt x="1086" y="214"/>
                  </a:lnTo>
                  <a:lnTo>
                    <a:pt x="1168" y="200"/>
                  </a:lnTo>
                  <a:lnTo>
                    <a:pt x="1250" y="186"/>
                  </a:lnTo>
                  <a:lnTo>
                    <a:pt x="1330" y="170"/>
                  </a:lnTo>
                  <a:lnTo>
                    <a:pt x="1408" y="152"/>
                  </a:lnTo>
                  <a:lnTo>
                    <a:pt x="1478" y="136"/>
                  </a:lnTo>
                  <a:lnTo>
                    <a:pt x="1540" y="120"/>
                  </a:lnTo>
                  <a:lnTo>
                    <a:pt x="1594" y="104"/>
                  </a:lnTo>
                  <a:lnTo>
                    <a:pt x="1624" y="420"/>
                  </a:lnTo>
                  <a:lnTo>
                    <a:pt x="1624" y="420"/>
                  </a:lnTo>
                  <a:lnTo>
                    <a:pt x="1464" y="452"/>
                  </a:lnTo>
                  <a:lnTo>
                    <a:pt x="1464" y="452"/>
                  </a:lnTo>
                  <a:lnTo>
                    <a:pt x="1326" y="480"/>
                  </a:lnTo>
                  <a:lnTo>
                    <a:pt x="1246" y="494"/>
                  </a:lnTo>
                  <a:lnTo>
                    <a:pt x="1120" y="514"/>
                  </a:lnTo>
                  <a:lnTo>
                    <a:pt x="1120" y="514"/>
                  </a:lnTo>
                  <a:lnTo>
                    <a:pt x="1148" y="580"/>
                  </a:lnTo>
                  <a:lnTo>
                    <a:pt x="1170" y="628"/>
                  </a:lnTo>
                  <a:lnTo>
                    <a:pt x="1170" y="628"/>
                  </a:lnTo>
                  <a:lnTo>
                    <a:pt x="1360" y="592"/>
                  </a:lnTo>
                  <a:lnTo>
                    <a:pt x="1496" y="564"/>
                  </a:lnTo>
                  <a:lnTo>
                    <a:pt x="1550" y="550"/>
                  </a:lnTo>
                  <a:lnTo>
                    <a:pt x="1594" y="538"/>
                  </a:lnTo>
                  <a:lnTo>
                    <a:pt x="1636" y="526"/>
                  </a:lnTo>
                  <a:lnTo>
                    <a:pt x="1674" y="512"/>
                  </a:lnTo>
                  <a:lnTo>
                    <a:pt x="1706" y="830"/>
                  </a:lnTo>
                  <a:lnTo>
                    <a:pt x="1706" y="830"/>
                  </a:lnTo>
                  <a:lnTo>
                    <a:pt x="1674" y="836"/>
                  </a:lnTo>
                  <a:lnTo>
                    <a:pt x="1636" y="842"/>
                  </a:lnTo>
                  <a:lnTo>
                    <a:pt x="1440" y="882"/>
                  </a:lnTo>
                  <a:lnTo>
                    <a:pt x="1440" y="882"/>
                  </a:lnTo>
                  <a:lnTo>
                    <a:pt x="1384" y="892"/>
                  </a:lnTo>
                  <a:lnTo>
                    <a:pt x="1310" y="906"/>
                  </a:lnTo>
                  <a:lnTo>
                    <a:pt x="1310" y="906"/>
                  </a:lnTo>
                  <a:lnTo>
                    <a:pt x="1342" y="962"/>
                  </a:lnTo>
                  <a:lnTo>
                    <a:pt x="1372" y="1012"/>
                  </a:lnTo>
                  <a:lnTo>
                    <a:pt x="1402" y="1060"/>
                  </a:lnTo>
                  <a:lnTo>
                    <a:pt x="1434" y="1106"/>
                  </a:lnTo>
                  <a:lnTo>
                    <a:pt x="1466" y="1152"/>
                  </a:lnTo>
                  <a:lnTo>
                    <a:pt x="1502" y="1198"/>
                  </a:lnTo>
                  <a:lnTo>
                    <a:pt x="1586" y="1304"/>
                  </a:lnTo>
                  <a:lnTo>
                    <a:pt x="1268" y="1470"/>
                  </a:lnTo>
                  <a:lnTo>
                    <a:pt x="1268" y="1470"/>
                  </a:lnTo>
                  <a:lnTo>
                    <a:pt x="1220" y="1446"/>
                  </a:lnTo>
                  <a:lnTo>
                    <a:pt x="1170" y="1426"/>
                  </a:lnTo>
                  <a:lnTo>
                    <a:pt x="1118" y="1410"/>
                  </a:lnTo>
                  <a:lnTo>
                    <a:pt x="1064" y="1396"/>
                  </a:lnTo>
                  <a:lnTo>
                    <a:pt x="1008" y="1386"/>
                  </a:lnTo>
                  <a:lnTo>
                    <a:pt x="946" y="1380"/>
                  </a:lnTo>
                  <a:lnTo>
                    <a:pt x="882" y="1376"/>
                  </a:lnTo>
                  <a:lnTo>
                    <a:pt x="814" y="1374"/>
                  </a:lnTo>
                  <a:lnTo>
                    <a:pt x="814" y="1374"/>
                  </a:lnTo>
                  <a:lnTo>
                    <a:pt x="770" y="1374"/>
                  </a:lnTo>
                  <a:lnTo>
                    <a:pt x="730" y="1376"/>
                  </a:lnTo>
                  <a:lnTo>
                    <a:pt x="690" y="1380"/>
                  </a:lnTo>
                  <a:lnTo>
                    <a:pt x="654" y="1384"/>
                  </a:lnTo>
                  <a:lnTo>
                    <a:pt x="622" y="1388"/>
                  </a:lnTo>
                  <a:lnTo>
                    <a:pt x="592" y="1394"/>
                  </a:lnTo>
                  <a:lnTo>
                    <a:pt x="564" y="1402"/>
                  </a:lnTo>
                  <a:lnTo>
                    <a:pt x="538" y="1410"/>
                  </a:lnTo>
                  <a:lnTo>
                    <a:pt x="516" y="1420"/>
                  </a:lnTo>
                  <a:lnTo>
                    <a:pt x="496" y="1430"/>
                  </a:lnTo>
                  <a:lnTo>
                    <a:pt x="480" y="1442"/>
                  </a:lnTo>
                  <a:lnTo>
                    <a:pt x="466" y="1454"/>
                  </a:lnTo>
                  <a:lnTo>
                    <a:pt x="456" y="1468"/>
                  </a:lnTo>
                  <a:lnTo>
                    <a:pt x="448" y="1482"/>
                  </a:lnTo>
                  <a:lnTo>
                    <a:pt x="444" y="1498"/>
                  </a:lnTo>
                  <a:lnTo>
                    <a:pt x="442" y="1514"/>
                  </a:lnTo>
                  <a:lnTo>
                    <a:pt x="442" y="1514"/>
                  </a:lnTo>
                  <a:lnTo>
                    <a:pt x="444" y="1530"/>
                  </a:lnTo>
                  <a:lnTo>
                    <a:pt x="448" y="1542"/>
                  </a:lnTo>
                  <a:lnTo>
                    <a:pt x="454" y="1556"/>
                  </a:lnTo>
                  <a:lnTo>
                    <a:pt x="464" y="1566"/>
                  </a:lnTo>
                  <a:lnTo>
                    <a:pt x="476" y="1578"/>
                  </a:lnTo>
                  <a:lnTo>
                    <a:pt x="490" y="1588"/>
                  </a:lnTo>
                  <a:lnTo>
                    <a:pt x="508" y="1596"/>
                  </a:lnTo>
                  <a:lnTo>
                    <a:pt x="528" y="1604"/>
                  </a:lnTo>
                  <a:lnTo>
                    <a:pt x="550" y="1610"/>
                  </a:lnTo>
                  <a:lnTo>
                    <a:pt x="576" y="1616"/>
                  </a:lnTo>
                  <a:lnTo>
                    <a:pt x="604" y="1622"/>
                  </a:lnTo>
                  <a:lnTo>
                    <a:pt x="634" y="1626"/>
                  </a:lnTo>
                  <a:lnTo>
                    <a:pt x="704" y="1632"/>
                  </a:lnTo>
                  <a:lnTo>
                    <a:pt x="784" y="1634"/>
                  </a:lnTo>
                  <a:lnTo>
                    <a:pt x="784" y="1634"/>
                  </a:lnTo>
                  <a:lnTo>
                    <a:pt x="878" y="1632"/>
                  </a:lnTo>
                  <a:lnTo>
                    <a:pt x="972" y="1624"/>
                  </a:lnTo>
                  <a:lnTo>
                    <a:pt x="1066" y="1612"/>
                  </a:lnTo>
                  <a:lnTo>
                    <a:pt x="1156" y="1598"/>
                  </a:lnTo>
                  <a:lnTo>
                    <a:pt x="1244" y="1578"/>
                  </a:lnTo>
                  <a:lnTo>
                    <a:pt x="1286" y="1566"/>
                  </a:lnTo>
                  <a:lnTo>
                    <a:pt x="1326" y="1556"/>
                  </a:lnTo>
                  <a:lnTo>
                    <a:pt x="1366" y="1542"/>
                  </a:lnTo>
                  <a:lnTo>
                    <a:pt x="1404" y="1528"/>
                  </a:lnTo>
                  <a:lnTo>
                    <a:pt x="1438" y="1514"/>
                  </a:lnTo>
                  <a:lnTo>
                    <a:pt x="1472" y="1500"/>
                  </a:lnTo>
                  <a:lnTo>
                    <a:pt x="1522" y="1866"/>
                  </a:lnTo>
                  <a:lnTo>
                    <a:pt x="1522" y="1866"/>
                  </a:lnTo>
                  <a:lnTo>
                    <a:pt x="1468" y="1874"/>
                  </a:lnTo>
                  <a:lnTo>
                    <a:pt x="1370" y="1896"/>
                  </a:lnTo>
                  <a:lnTo>
                    <a:pt x="1370" y="1896"/>
                  </a:lnTo>
                  <a:lnTo>
                    <a:pt x="1294" y="1912"/>
                  </a:lnTo>
                  <a:lnTo>
                    <a:pt x="1218" y="1924"/>
                  </a:lnTo>
                  <a:lnTo>
                    <a:pt x="1142" y="1936"/>
                  </a:lnTo>
                  <a:lnTo>
                    <a:pt x="1066" y="1946"/>
                  </a:lnTo>
                  <a:lnTo>
                    <a:pt x="990" y="1954"/>
                  </a:lnTo>
                  <a:lnTo>
                    <a:pt x="916" y="1958"/>
                  </a:lnTo>
                  <a:lnTo>
                    <a:pt x="840" y="1962"/>
                  </a:lnTo>
                  <a:lnTo>
                    <a:pt x="764" y="1962"/>
                  </a:lnTo>
                  <a:lnTo>
                    <a:pt x="764" y="1962"/>
                  </a:lnTo>
                  <a:lnTo>
                    <a:pt x="704" y="1962"/>
                  </a:lnTo>
                  <a:lnTo>
                    <a:pt x="646" y="1960"/>
                  </a:lnTo>
                  <a:lnTo>
                    <a:pt x="592" y="1956"/>
                  </a:lnTo>
                  <a:lnTo>
                    <a:pt x="538" y="1950"/>
                  </a:lnTo>
                  <a:lnTo>
                    <a:pt x="488" y="1942"/>
                  </a:lnTo>
                  <a:lnTo>
                    <a:pt x="440" y="1934"/>
                  </a:lnTo>
                  <a:lnTo>
                    <a:pt x="396" y="1922"/>
                  </a:lnTo>
                  <a:lnTo>
                    <a:pt x="354" y="1910"/>
                  </a:lnTo>
                  <a:lnTo>
                    <a:pt x="314" y="1898"/>
                  </a:lnTo>
                  <a:lnTo>
                    <a:pt x="276" y="1882"/>
                  </a:lnTo>
                  <a:lnTo>
                    <a:pt x="242" y="1864"/>
                  </a:lnTo>
                  <a:lnTo>
                    <a:pt x="210" y="1846"/>
                  </a:lnTo>
                  <a:lnTo>
                    <a:pt x="180" y="1826"/>
                  </a:lnTo>
                  <a:lnTo>
                    <a:pt x="154" y="1804"/>
                  </a:lnTo>
                  <a:lnTo>
                    <a:pt x="130" y="1782"/>
                  </a:lnTo>
                  <a:lnTo>
                    <a:pt x="110" y="1756"/>
                  </a:lnTo>
                  <a:lnTo>
                    <a:pt x="110" y="1756"/>
                  </a:lnTo>
                  <a:lnTo>
                    <a:pt x="92" y="1732"/>
                  </a:lnTo>
                  <a:lnTo>
                    <a:pt x="76" y="1704"/>
                  </a:lnTo>
                  <a:lnTo>
                    <a:pt x="62" y="1676"/>
                  </a:lnTo>
                  <a:lnTo>
                    <a:pt x="50" y="1646"/>
                  </a:lnTo>
                  <a:lnTo>
                    <a:pt x="42" y="1614"/>
                  </a:lnTo>
                  <a:lnTo>
                    <a:pt x="34" y="1582"/>
                  </a:lnTo>
                  <a:lnTo>
                    <a:pt x="30" y="1550"/>
                  </a:lnTo>
                  <a:lnTo>
                    <a:pt x="28" y="1518"/>
                  </a:lnTo>
                  <a:lnTo>
                    <a:pt x="28" y="1518"/>
                  </a:lnTo>
                  <a:lnTo>
                    <a:pt x="30" y="1490"/>
                  </a:lnTo>
                  <a:lnTo>
                    <a:pt x="34" y="1462"/>
                  </a:lnTo>
                  <a:lnTo>
                    <a:pt x="40" y="1436"/>
                  </a:lnTo>
                  <a:lnTo>
                    <a:pt x="46" y="1408"/>
                  </a:lnTo>
                  <a:lnTo>
                    <a:pt x="56" y="1382"/>
                  </a:lnTo>
                  <a:lnTo>
                    <a:pt x="68" y="1358"/>
                  </a:lnTo>
                  <a:lnTo>
                    <a:pt x="82" y="1332"/>
                  </a:lnTo>
                  <a:lnTo>
                    <a:pt x="98" y="1308"/>
                  </a:lnTo>
                  <a:lnTo>
                    <a:pt x="116" y="1286"/>
                  </a:lnTo>
                  <a:lnTo>
                    <a:pt x="136" y="1264"/>
                  </a:lnTo>
                  <a:lnTo>
                    <a:pt x="156" y="1244"/>
                  </a:lnTo>
                  <a:lnTo>
                    <a:pt x="180" y="1224"/>
                  </a:lnTo>
                  <a:lnTo>
                    <a:pt x="204" y="1206"/>
                  </a:lnTo>
                  <a:lnTo>
                    <a:pt x="230" y="1190"/>
                  </a:lnTo>
                  <a:lnTo>
                    <a:pt x="258" y="1176"/>
                  </a:lnTo>
                  <a:lnTo>
                    <a:pt x="286" y="1162"/>
                  </a:lnTo>
                  <a:lnTo>
                    <a:pt x="286" y="1162"/>
                  </a:lnTo>
                  <a:lnTo>
                    <a:pt x="336" y="1142"/>
                  </a:lnTo>
                  <a:lnTo>
                    <a:pt x="386" y="1126"/>
                  </a:lnTo>
                  <a:lnTo>
                    <a:pt x="440" y="1112"/>
                  </a:lnTo>
                  <a:lnTo>
                    <a:pt x="496" y="1102"/>
                  </a:lnTo>
                  <a:lnTo>
                    <a:pt x="554" y="1092"/>
                  </a:lnTo>
                  <a:lnTo>
                    <a:pt x="616" y="1086"/>
                  </a:lnTo>
                  <a:lnTo>
                    <a:pt x="680" y="1084"/>
                  </a:lnTo>
                  <a:lnTo>
                    <a:pt x="750" y="1082"/>
                  </a:lnTo>
                  <a:lnTo>
                    <a:pt x="750" y="1082"/>
                  </a:lnTo>
                  <a:lnTo>
                    <a:pt x="830" y="1084"/>
                  </a:lnTo>
                  <a:lnTo>
                    <a:pt x="906" y="1088"/>
                  </a:lnTo>
                  <a:lnTo>
                    <a:pt x="976" y="1096"/>
                  </a:lnTo>
                  <a:lnTo>
                    <a:pt x="1048" y="1108"/>
                  </a:lnTo>
                  <a:lnTo>
                    <a:pt x="1048" y="1108"/>
                  </a:lnTo>
                  <a:lnTo>
                    <a:pt x="1028" y="1080"/>
                  </a:lnTo>
                  <a:lnTo>
                    <a:pt x="1006" y="1044"/>
                  </a:lnTo>
                  <a:lnTo>
                    <a:pt x="948" y="954"/>
                  </a:lnTo>
                  <a:lnTo>
                    <a:pt x="948" y="954"/>
                  </a:lnTo>
                  <a:lnTo>
                    <a:pt x="876" y="962"/>
                  </a:lnTo>
                  <a:lnTo>
                    <a:pt x="798" y="970"/>
                  </a:lnTo>
                  <a:lnTo>
                    <a:pt x="624" y="984"/>
                  </a:lnTo>
                  <a:lnTo>
                    <a:pt x="426" y="994"/>
                  </a:lnTo>
                  <a:lnTo>
                    <a:pt x="204" y="1002"/>
                  </a:lnTo>
                  <a:lnTo>
                    <a:pt x="204" y="1002"/>
                  </a:lnTo>
                  <a:lnTo>
                    <a:pt x="80" y="1006"/>
                  </a:lnTo>
                  <a:lnTo>
                    <a:pt x="50" y="1008"/>
                  </a:lnTo>
                  <a:lnTo>
                    <a:pt x="16" y="1012"/>
                  </a:lnTo>
                  <a:lnTo>
                    <a:pt x="0" y="692"/>
                  </a:lnTo>
                  <a:lnTo>
                    <a:pt x="0" y="692"/>
                  </a:lnTo>
                  <a:lnTo>
                    <a:pt x="46" y="696"/>
                  </a:lnTo>
                  <a:lnTo>
                    <a:pt x="92" y="700"/>
                  </a:lnTo>
                  <a:lnTo>
                    <a:pt x="148" y="700"/>
                  </a:lnTo>
                  <a:lnTo>
                    <a:pt x="224" y="702"/>
                  </a:lnTo>
                  <a:lnTo>
                    <a:pt x="224" y="702"/>
                  </a:lnTo>
                  <a:lnTo>
                    <a:pt x="378" y="700"/>
                  </a:lnTo>
                  <a:lnTo>
                    <a:pt x="532" y="694"/>
                  </a:lnTo>
                  <a:lnTo>
                    <a:pt x="678" y="684"/>
                  </a:lnTo>
                  <a:lnTo>
                    <a:pt x="814" y="670"/>
                  </a:lnTo>
                  <a:lnTo>
                    <a:pt x="814" y="670"/>
                  </a:lnTo>
                  <a:lnTo>
                    <a:pt x="796" y="628"/>
                  </a:lnTo>
                  <a:lnTo>
                    <a:pt x="764" y="556"/>
                  </a:lnTo>
                  <a:lnTo>
                    <a:pt x="764" y="556"/>
                  </a:lnTo>
                  <a:lnTo>
                    <a:pt x="634" y="568"/>
                  </a:lnTo>
                  <a:lnTo>
                    <a:pt x="514" y="576"/>
                  </a:lnTo>
                  <a:lnTo>
                    <a:pt x="378" y="578"/>
                  </a:lnTo>
                  <a:lnTo>
                    <a:pt x="200" y="580"/>
                  </a:lnTo>
                  <a:lnTo>
                    <a:pt x="200" y="580"/>
                  </a:lnTo>
                  <a:lnTo>
                    <a:pt x="100" y="582"/>
                  </a:lnTo>
                  <a:lnTo>
                    <a:pt x="38" y="584"/>
                  </a:lnTo>
                  <a:lnTo>
                    <a:pt x="18" y="26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4"/>
            <p:cNvSpPr/>
            <p:nvPr/>
          </p:nvSpPr>
          <p:spPr>
            <a:xfrm>
              <a:off x="28882800" y="3666960"/>
              <a:ext cx="3314520" cy="3156120"/>
            </a:xfrm>
            <a:custGeom>
              <a:avLst/>
              <a:gdLst>
                <a:gd name="textAreaLeft" fmla="*/ 0 w 3314520"/>
                <a:gd name="textAreaRight" fmla="*/ 3314880 w 3314520"/>
                <a:gd name="textAreaTop" fmla="*/ 0 h 3156120"/>
                <a:gd name="textAreaBottom" fmla="*/ 3156480 h 3156120"/>
              </a:gdLst>
              <a:ahLst/>
              <a:rect l="textAreaLeft" t="textAreaTop" r="textAreaRight" b="textAreaBottom"/>
              <a:pathLst>
                <a:path w="2088" h="1988">
                  <a:moveTo>
                    <a:pt x="1212" y="776"/>
                  </a:moveTo>
                  <a:lnTo>
                    <a:pt x="1212" y="776"/>
                  </a:lnTo>
                  <a:lnTo>
                    <a:pt x="1236" y="844"/>
                  </a:lnTo>
                  <a:lnTo>
                    <a:pt x="1266" y="912"/>
                  </a:lnTo>
                  <a:lnTo>
                    <a:pt x="1300" y="978"/>
                  </a:lnTo>
                  <a:lnTo>
                    <a:pt x="1338" y="1044"/>
                  </a:lnTo>
                  <a:lnTo>
                    <a:pt x="1380" y="1108"/>
                  </a:lnTo>
                  <a:lnTo>
                    <a:pt x="1426" y="1170"/>
                  </a:lnTo>
                  <a:lnTo>
                    <a:pt x="1476" y="1230"/>
                  </a:lnTo>
                  <a:lnTo>
                    <a:pt x="1528" y="1286"/>
                  </a:lnTo>
                  <a:lnTo>
                    <a:pt x="1528" y="1286"/>
                  </a:lnTo>
                  <a:lnTo>
                    <a:pt x="1586" y="1340"/>
                  </a:lnTo>
                  <a:lnTo>
                    <a:pt x="1646" y="1392"/>
                  </a:lnTo>
                  <a:lnTo>
                    <a:pt x="1708" y="1438"/>
                  </a:lnTo>
                  <a:lnTo>
                    <a:pt x="1774" y="1484"/>
                  </a:lnTo>
                  <a:lnTo>
                    <a:pt x="1846" y="1526"/>
                  </a:lnTo>
                  <a:lnTo>
                    <a:pt x="1920" y="1566"/>
                  </a:lnTo>
                  <a:lnTo>
                    <a:pt x="2002" y="1602"/>
                  </a:lnTo>
                  <a:lnTo>
                    <a:pt x="2088" y="1640"/>
                  </a:lnTo>
                  <a:lnTo>
                    <a:pt x="2088" y="1640"/>
                  </a:lnTo>
                  <a:lnTo>
                    <a:pt x="2054" y="1682"/>
                  </a:lnTo>
                  <a:lnTo>
                    <a:pt x="2024" y="1722"/>
                  </a:lnTo>
                  <a:lnTo>
                    <a:pt x="1996" y="1762"/>
                  </a:lnTo>
                  <a:lnTo>
                    <a:pt x="1970" y="1802"/>
                  </a:lnTo>
                  <a:lnTo>
                    <a:pt x="1946" y="1844"/>
                  </a:lnTo>
                  <a:lnTo>
                    <a:pt x="1922" y="1888"/>
                  </a:lnTo>
                  <a:lnTo>
                    <a:pt x="1898" y="1936"/>
                  </a:lnTo>
                  <a:lnTo>
                    <a:pt x="1872" y="1988"/>
                  </a:lnTo>
                  <a:lnTo>
                    <a:pt x="1872" y="1988"/>
                  </a:lnTo>
                  <a:lnTo>
                    <a:pt x="1798" y="1950"/>
                  </a:lnTo>
                  <a:lnTo>
                    <a:pt x="1730" y="1912"/>
                  </a:lnTo>
                  <a:lnTo>
                    <a:pt x="1668" y="1872"/>
                  </a:lnTo>
                  <a:lnTo>
                    <a:pt x="1608" y="1834"/>
                  </a:lnTo>
                  <a:lnTo>
                    <a:pt x="1550" y="1792"/>
                  </a:lnTo>
                  <a:lnTo>
                    <a:pt x="1496" y="1748"/>
                  </a:lnTo>
                  <a:lnTo>
                    <a:pt x="1442" y="1704"/>
                  </a:lnTo>
                  <a:lnTo>
                    <a:pt x="1390" y="1654"/>
                  </a:lnTo>
                  <a:lnTo>
                    <a:pt x="1390" y="1654"/>
                  </a:lnTo>
                  <a:lnTo>
                    <a:pt x="1336" y="1600"/>
                  </a:lnTo>
                  <a:lnTo>
                    <a:pt x="1288" y="1546"/>
                  </a:lnTo>
                  <a:lnTo>
                    <a:pt x="1242" y="1490"/>
                  </a:lnTo>
                  <a:lnTo>
                    <a:pt x="1198" y="1434"/>
                  </a:lnTo>
                  <a:lnTo>
                    <a:pt x="1158" y="1374"/>
                  </a:lnTo>
                  <a:lnTo>
                    <a:pt x="1120" y="1310"/>
                  </a:lnTo>
                  <a:lnTo>
                    <a:pt x="1084" y="1244"/>
                  </a:lnTo>
                  <a:lnTo>
                    <a:pt x="1050" y="1172"/>
                  </a:lnTo>
                  <a:lnTo>
                    <a:pt x="1050" y="1172"/>
                  </a:lnTo>
                  <a:lnTo>
                    <a:pt x="1026" y="1226"/>
                  </a:lnTo>
                  <a:lnTo>
                    <a:pt x="1000" y="1280"/>
                  </a:lnTo>
                  <a:lnTo>
                    <a:pt x="972" y="1330"/>
                  </a:lnTo>
                  <a:lnTo>
                    <a:pt x="944" y="1380"/>
                  </a:lnTo>
                  <a:lnTo>
                    <a:pt x="912" y="1426"/>
                  </a:lnTo>
                  <a:lnTo>
                    <a:pt x="878" y="1474"/>
                  </a:lnTo>
                  <a:lnTo>
                    <a:pt x="842" y="1518"/>
                  </a:lnTo>
                  <a:lnTo>
                    <a:pt x="804" y="1564"/>
                  </a:lnTo>
                  <a:lnTo>
                    <a:pt x="804" y="1564"/>
                  </a:lnTo>
                  <a:lnTo>
                    <a:pt x="762" y="1610"/>
                  </a:lnTo>
                  <a:lnTo>
                    <a:pt x="718" y="1652"/>
                  </a:lnTo>
                  <a:lnTo>
                    <a:pt x="674" y="1694"/>
                  </a:lnTo>
                  <a:lnTo>
                    <a:pt x="628" y="1734"/>
                  </a:lnTo>
                  <a:lnTo>
                    <a:pt x="582" y="1772"/>
                  </a:lnTo>
                  <a:lnTo>
                    <a:pt x="534" y="1808"/>
                  </a:lnTo>
                  <a:lnTo>
                    <a:pt x="484" y="1842"/>
                  </a:lnTo>
                  <a:lnTo>
                    <a:pt x="436" y="1874"/>
                  </a:lnTo>
                  <a:lnTo>
                    <a:pt x="436" y="1874"/>
                  </a:lnTo>
                  <a:lnTo>
                    <a:pt x="388" y="1900"/>
                  </a:lnTo>
                  <a:lnTo>
                    <a:pt x="340" y="1926"/>
                  </a:lnTo>
                  <a:lnTo>
                    <a:pt x="284" y="1954"/>
                  </a:lnTo>
                  <a:lnTo>
                    <a:pt x="210" y="1988"/>
                  </a:lnTo>
                  <a:lnTo>
                    <a:pt x="210" y="1988"/>
                  </a:lnTo>
                  <a:lnTo>
                    <a:pt x="188" y="1942"/>
                  </a:lnTo>
                  <a:lnTo>
                    <a:pt x="164" y="1898"/>
                  </a:lnTo>
                  <a:lnTo>
                    <a:pt x="142" y="1858"/>
                  </a:lnTo>
                  <a:lnTo>
                    <a:pt x="118" y="1820"/>
                  </a:lnTo>
                  <a:lnTo>
                    <a:pt x="92" y="1782"/>
                  </a:lnTo>
                  <a:lnTo>
                    <a:pt x="64" y="1744"/>
                  </a:lnTo>
                  <a:lnTo>
                    <a:pt x="34" y="1704"/>
                  </a:lnTo>
                  <a:lnTo>
                    <a:pt x="0" y="1664"/>
                  </a:lnTo>
                  <a:lnTo>
                    <a:pt x="0" y="1664"/>
                  </a:lnTo>
                  <a:lnTo>
                    <a:pt x="94" y="1626"/>
                  </a:lnTo>
                  <a:lnTo>
                    <a:pt x="178" y="1586"/>
                  </a:lnTo>
                  <a:lnTo>
                    <a:pt x="218" y="1566"/>
                  </a:lnTo>
                  <a:lnTo>
                    <a:pt x="256" y="1546"/>
                  </a:lnTo>
                  <a:lnTo>
                    <a:pt x="292" y="1524"/>
                  </a:lnTo>
                  <a:lnTo>
                    <a:pt x="328" y="1502"/>
                  </a:lnTo>
                  <a:lnTo>
                    <a:pt x="362" y="1478"/>
                  </a:lnTo>
                  <a:lnTo>
                    <a:pt x="394" y="1456"/>
                  </a:lnTo>
                  <a:lnTo>
                    <a:pt x="426" y="1430"/>
                  </a:lnTo>
                  <a:lnTo>
                    <a:pt x="456" y="1406"/>
                  </a:lnTo>
                  <a:lnTo>
                    <a:pt x="486" y="1380"/>
                  </a:lnTo>
                  <a:lnTo>
                    <a:pt x="514" y="1352"/>
                  </a:lnTo>
                  <a:lnTo>
                    <a:pt x="542" y="1322"/>
                  </a:lnTo>
                  <a:lnTo>
                    <a:pt x="570" y="1294"/>
                  </a:lnTo>
                  <a:lnTo>
                    <a:pt x="570" y="1294"/>
                  </a:lnTo>
                  <a:lnTo>
                    <a:pt x="594" y="1266"/>
                  </a:lnTo>
                  <a:lnTo>
                    <a:pt x="618" y="1238"/>
                  </a:lnTo>
                  <a:lnTo>
                    <a:pt x="640" y="1208"/>
                  </a:lnTo>
                  <a:lnTo>
                    <a:pt x="660" y="1180"/>
                  </a:lnTo>
                  <a:lnTo>
                    <a:pt x="678" y="1150"/>
                  </a:lnTo>
                  <a:lnTo>
                    <a:pt x="696" y="1120"/>
                  </a:lnTo>
                  <a:lnTo>
                    <a:pt x="712" y="1090"/>
                  </a:lnTo>
                  <a:lnTo>
                    <a:pt x="728" y="1058"/>
                  </a:lnTo>
                  <a:lnTo>
                    <a:pt x="742" y="1026"/>
                  </a:lnTo>
                  <a:lnTo>
                    <a:pt x="754" y="994"/>
                  </a:lnTo>
                  <a:lnTo>
                    <a:pt x="766" y="960"/>
                  </a:lnTo>
                  <a:lnTo>
                    <a:pt x="776" y="924"/>
                  </a:lnTo>
                  <a:lnTo>
                    <a:pt x="786" y="890"/>
                  </a:lnTo>
                  <a:lnTo>
                    <a:pt x="794" y="852"/>
                  </a:lnTo>
                  <a:lnTo>
                    <a:pt x="802" y="814"/>
                  </a:lnTo>
                  <a:lnTo>
                    <a:pt x="808" y="776"/>
                  </a:lnTo>
                  <a:lnTo>
                    <a:pt x="372" y="776"/>
                  </a:lnTo>
                  <a:lnTo>
                    <a:pt x="372" y="776"/>
                  </a:lnTo>
                  <a:lnTo>
                    <a:pt x="270" y="776"/>
                  </a:lnTo>
                  <a:lnTo>
                    <a:pt x="192" y="778"/>
                  </a:lnTo>
                  <a:lnTo>
                    <a:pt x="130" y="782"/>
                  </a:lnTo>
                  <a:lnTo>
                    <a:pt x="68" y="790"/>
                  </a:lnTo>
                  <a:lnTo>
                    <a:pt x="68" y="426"/>
                  </a:lnTo>
                  <a:lnTo>
                    <a:pt x="68" y="426"/>
                  </a:lnTo>
                  <a:lnTo>
                    <a:pt x="130" y="432"/>
                  </a:lnTo>
                  <a:lnTo>
                    <a:pt x="196" y="436"/>
                  </a:lnTo>
                  <a:lnTo>
                    <a:pt x="276" y="438"/>
                  </a:lnTo>
                  <a:lnTo>
                    <a:pt x="370" y="438"/>
                  </a:lnTo>
                  <a:lnTo>
                    <a:pt x="836" y="438"/>
                  </a:lnTo>
                  <a:lnTo>
                    <a:pt x="836" y="438"/>
                  </a:lnTo>
                  <a:lnTo>
                    <a:pt x="838" y="330"/>
                  </a:lnTo>
                  <a:lnTo>
                    <a:pt x="838" y="230"/>
                  </a:lnTo>
                  <a:lnTo>
                    <a:pt x="838" y="230"/>
                  </a:lnTo>
                  <a:lnTo>
                    <a:pt x="838" y="156"/>
                  </a:lnTo>
                  <a:lnTo>
                    <a:pt x="834" y="98"/>
                  </a:lnTo>
                  <a:lnTo>
                    <a:pt x="830" y="48"/>
                  </a:lnTo>
                  <a:lnTo>
                    <a:pt x="824" y="0"/>
                  </a:lnTo>
                  <a:lnTo>
                    <a:pt x="1218" y="0"/>
                  </a:lnTo>
                  <a:lnTo>
                    <a:pt x="1218" y="0"/>
                  </a:lnTo>
                  <a:lnTo>
                    <a:pt x="1212" y="52"/>
                  </a:lnTo>
                  <a:lnTo>
                    <a:pt x="1208" y="108"/>
                  </a:lnTo>
                  <a:lnTo>
                    <a:pt x="1204" y="202"/>
                  </a:lnTo>
                  <a:lnTo>
                    <a:pt x="1202" y="364"/>
                  </a:lnTo>
                  <a:lnTo>
                    <a:pt x="1202" y="364"/>
                  </a:lnTo>
                  <a:lnTo>
                    <a:pt x="1202" y="438"/>
                  </a:lnTo>
                  <a:lnTo>
                    <a:pt x="1694" y="438"/>
                  </a:lnTo>
                  <a:lnTo>
                    <a:pt x="1694" y="438"/>
                  </a:lnTo>
                  <a:lnTo>
                    <a:pt x="1788" y="438"/>
                  </a:lnTo>
                  <a:lnTo>
                    <a:pt x="1866" y="436"/>
                  </a:lnTo>
                  <a:lnTo>
                    <a:pt x="1934" y="432"/>
                  </a:lnTo>
                  <a:lnTo>
                    <a:pt x="2000" y="426"/>
                  </a:lnTo>
                  <a:lnTo>
                    <a:pt x="2000" y="790"/>
                  </a:lnTo>
                  <a:lnTo>
                    <a:pt x="2000" y="790"/>
                  </a:lnTo>
                  <a:lnTo>
                    <a:pt x="1930" y="782"/>
                  </a:lnTo>
                  <a:lnTo>
                    <a:pt x="1862" y="778"/>
                  </a:lnTo>
                  <a:lnTo>
                    <a:pt x="1786" y="776"/>
                  </a:lnTo>
                  <a:lnTo>
                    <a:pt x="1698" y="776"/>
                  </a:lnTo>
                  <a:lnTo>
                    <a:pt x="1212" y="77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5"/>
            <p:cNvSpPr/>
            <p:nvPr/>
          </p:nvSpPr>
          <p:spPr>
            <a:xfrm>
              <a:off x="32788440" y="3622320"/>
              <a:ext cx="3327120" cy="3238560"/>
            </a:xfrm>
            <a:custGeom>
              <a:avLst/>
              <a:gdLst>
                <a:gd name="textAreaLeft" fmla="*/ 0 w 3327120"/>
                <a:gd name="textAreaRight" fmla="*/ 3327480 w 332712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2096" h="2040">
                  <a:moveTo>
                    <a:pt x="466" y="758"/>
                  </a:moveTo>
                  <a:lnTo>
                    <a:pt x="466" y="758"/>
                  </a:lnTo>
                  <a:lnTo>
                    <a:pt x="390" y="802"/>
                  </a:lnTo>
                  <a:lnTo>
                    <a:pt x="322" y="838"/>
                  </a:lnTo>
                  <a:lnTo>
                    <a:pt x="248" y="870"/>
                  </a:lnTo>
                  <a:lnTo>
                    <a:pt x="164" y="906"/>
                  </a:lnTo>
                  <a:lnTo>
                    <a:pt x="164" y="906"/>
                  </a:lnTo>
                  <a:lnTo>
                    <a:pt x="126" y="814"/>
                  </a:lnTo>
                  <a:lnTo>
                    <a:pt x="108" y="774"/>
                  </a:lnTo>
                  <a:lnTo>
                    <a:pt x="90" y="736"/>
                  </a:lnTo>
                  <a:lnTo>
                    <a:pt x="70" y="700"/>
                  </a:lnTo>
                  <a:lnTo>
                    <a:pt x="50" y="664"/>
                  </a:lnTo>
                  <a:lnTo>
                    <a:pt x="0" y="588"/>
                  </a:lnTo>
                  <a:lnTo>
                    <a:pt x="0" y="588"/>
                  </a:lnTo>
                  <a:lnTo>
                    <a:pt x="72" y="564"/>
                  </a:lnTo>
                  <a:lnTo>
                    <a:pt x="138" y="542"/>
                  </a:lnTo>
                  <a:lnTo>
                    <a:pt x="200" y="516"/>
                  </a:lnTo>
                  <a:lnTo>
                    <a:pt x="260" y="490"/>
                  </a:lnTo>
                  <a:lnTo>
                    <a:pt x="318" y="460"/>
                  </a:lnTo>
                  <a:lnTo>
                    <a:pt x="376" y="428"/>
                  </a:lnTo>
                  <a:lnTo>
                    <a:pt x="436" y="392"/>
                  </a:lnTo>
                  <a:lnTo>
                    <a:pt x="498" y="350"/>
                  </a:lnTo>
                  <a:lnTo>
                    <a:pt x="498" y="350"/>
                  </a:lnTo>
                  <a:lnTo>
                    <a:pt x="560" y="306"/>
                  </a:lnTo>
                  <a:lnTo>
                    <a:pt x="614" y="264"/>
                  </a:lnTo>
                  <a:lnTo>
                    <a:pt x="664" y="222"/>
                  </a:lnTo>
                  <a:lnTo>
                    <a:pt x="710" y="180"/>
                  </a:lnTo>
                  <a:lnTo>
                    <a:pt x="752" y="138"/>
                  </a:lnTo>
                  <a:lnTo>
                    <a:pt x="790" y="94"/>
                  </a:lnTo>
                  <a:lnTo>
                    <a:pt x="826" y="48"/>
                  </a:lnTo>
                  <a:lnTo>
                    <a:pt x="862" y="0"/>
                  </a:lnTo>
                  <a:lnTo>
                    <a:pt x="1212" y="0"/>
                  </a:lnTo>
                  <a:lnTo>
                    <a:pt x="1212" y="0"/>
                  </a:lnTo>
                  <a:lnTo>
                    <a:pt x="1250" y="48"/>
                  </a:lnTo>
                  <a:lnTo>
                    <a:pt x="1290" y="94"/>
                  </a:lnTo>
                  <a:lnTo>
                    <a:pt x="1330" y="136"/>
                  </a:lnTo>
                  <a:lnTo>
                    <a:pt x="1372" y="178"/>
                  </a:lnTo>
                  <a:lnTo>
                    <a:pt x="1416" y="216"/>
                  </a:lnTo>
                  <a:lnTo>
                    <a:pt x="1466" y="254"/>
                  </a:lnTo>
                  <a:lnTo>
                    <a:pt x="1520" y="294"/>
                  </a:lnTo>
                  <a:lnTo>
                    <a:pt x="1578" y="332"/>
                  </a:lnTo>
                  <a:lnTo>
                    <a:pt x="1578" y="332"/>
                  </a:lnTo>
                  <a:lnTo>
                    <a:pt x="1642" y="372"/>
                  </a:lnTo>
                  <a:lnTo>
                    <a:pt x="1706" y="410"/>
                  </a:lnTo>
                  <a:lnTo>
                    <a:pt x="1768" y="444"/>
                  </a:lnTo>
                  <a:lnTo>
                    <a:pt x="1830" y="474"/>
                  </a:lnTo>
                  <a:lnTo>
                    <a:pt x="1894" y="502"/>
                  </a:lnTo>
                  <a:lnTo>
                    <a:pt x="1958" y="528"/>
                  </a:lnTo>
                  <a:lnTo>
                    <a:pt x="2026" y="550"/>
                  </a:lnTo>
                  <a:lnTo>
                    <a:pt x="2096" y="572"/>
                  </a:lnTo>
                  <a:lnTo>
                    <a:pt x="2096" y="572"/>
                  </a:lnTo>
                  <a:lnTo>
                    <a:pt x="2070" y="618"/>
                  </a:lnTo>
                  <a:lnTo>
                    <a:pt x="2046" y="660"/>
                  </a:lnTo>
                  <a:lnTo>
                    <a:pt x="2026" y="702"/>
                  </a:lnTo>
                  <a:lnTo>
                    <a:pt x="2008" y="742"/>
                  </a:lnTo>
                  <a:lnTo>
                    <a:pt x="1990" y="782"/>
                  </a:lnTo>
                  <a:lnTo>
                    <a:pt x="1974" y="822"/>
                  </a:lnTo>
                  <a:lnTo>
                    <a:pt x="1960" y="866"/>
                  </a:lnTo>
                  <a:lnTo>
                    <a:pt x="1944" y="914"/>
                  </a:lnTo>
                  <a:lnTo>
                    <a:pt x="1944" y="914"/>
                  </a:lnTo>
                  <a:lnTo>
                    <a:pt x="1858" y="880"/>
                  </a:lnTo>
                  <a:lnTo>
                    <a:pt x="1782" y="844"/>
                  </a:lnTo>
                  <a:lnTo>
                    <a:pt x="1708" y="806"/>
                  </a:lnTo>
                  <a:lnTo>
                    <a:pt x="1622" y="756"/>
                  </a:lnTo>
                  <a:lnTo>
                    <a:pt x="1622" y="880"/>
                  </a:lnTo>
                  <a:lnTo>
                    <a:pt x="1622" y="880"/>
                  </a:lnTo>
                  <a:lnTo>
                    <a:pt x="1574" y="876"/>
                  </a:lnTo>
                  <a:lnTo>
                    <a:pt x="1528" y="874"/>
                  </a:lnTo>
                  <a:lnTo>
                    <a:pt x="1476" y="872"/>
                  </a:lnTo>
                  <a:lnTo>
                    <a:pt x="1416" y="872"/>
                  </a:lnTo>
                  <a:lnTo>
                    <a:pt x="670" y="872"/>
                  </a:lnTo>
                  <a:lnTo>
                    <a:pt x="670" y="872"/>
                  </a:lnTo>
                  <a:lnTo>
                    <a:pt x="564" y="874"/>
                  </a:lnTo>
                  <a:lnTo>
                    <a:pt x="514" y="876"/>
                  </a:lnTo>
                  <a:lnTo>
                    <a:pt x="466" y="880"/>
                  </a:lnTo>
                  <a:lnTo>
                    <a:pt x="466" y="758"/>
                  </a:lnTo>
                  <a:close/>
                  <a:moveTo>
                    <a:pt x="368" y="1298"/>
                  </a:moveTo>
                  <a:lnTo>
                    <a:pt x="368" y="1298"/>
                  </a:lnTo>
                  <a:lnTo>
                    <a:pt x="292" y="1298"/>
                  </a:lnTo>
                  <a:lnTo>
                    <a:pt x="224" y="1300"/>
                  </a:lnTo>
                  <a:lnTo>
                    <a:pt x="164" y="1304"/>
                  </a:lnTo>
                  <a:lnTo>
                    <a:pt x="104" y="1310"/>
                  </a:lnTo>
                  <a:lnTo>
                    <a:pt x="104" y="980"/>
                  </a:lnTo>
                  <a:lnTo>
                    <a:pt x="104" y="980"/>
                  </a:lnTo>
                  <a:lnTo>
                    <a:pt x="164" y="984"/>
                  </a:lnTo>
                  <a:lnTo>
                    <a:pt x="228" y="988"/>
                  </a:lnTo>
                  <a:lnTo>
                    <a:pt x="296" y="990"/>
                  </a:lnTo>
                  <a:lnTo>
                    <a:pt x="368" y="990"/>
                  </a:lnTo>
                  <a:lnTo>
                    <a:pt x="1728" y="990"/>
                  </a:lnTo>
                  <a:lnTo>
                    <a:pt x="1728" y="990"/>
                  </a:lnTo>
                  <a:lnTo>
                    <a:pt x="1802" y="990"/>
                  </a:lnTo>
                  <a:lnTo>
                    <a:pt x="1868" y="988"/>
                  </a:lnTo>
                  <a:lnTo>
                    <a:pt x="1930" y="984"/>
                  </a:lnTo>
                  <a:lnTo>
                    <a:pt x="1990" y="980"/>
                  </a:lnTo>
                  <a:lnTo>
                    <a:pt x="1990" y="1310"/>
                  </a:lnTo>
                  <a:lnTo>
                    <a:pt x="1990" y="1310"/>
                  </a:lnTo>
                  <a:lnTo>
                    <a:pt x="1930" y="1304"/>
                  </a:lnTo>
                  <a:lnTo>
                    <a:pt x="1870" y="1300"/>
                  </a:lnTo>
                  <a:lnTo>
                    <a:pt x="1804" y="1298"/>
                  </a:lnTo>
                  <a:lnTo>
                    <a:pt x="1728" y="1298"/>
                  </a:lnTo>
                  <a:lnTo>
                    <a:pt x="1514" y="1298"/>
                  </a:lnTo>
                  <a:lnTo>
                    <a:pt x="1514" y="1298"/>
                  </a:lnTo>
                  <a:lnTo>
                    <a:pt x="1652" y="1450"/>
                  </a:lnTo>
                  <a:lnTo>
                    <a:pt x="1708" y="1514"/>
                  </a:lnTo>
                  <a:lnTo>
                    <a:pt x="1758" y="1576"/>
                  </a:lnTo>
                  <a:lnTo>
                    <a:pt x="1808" y="1636"/>
                  </a:lnTo>
                  <a:lnTo>
                    <a:pt x="1856" y="1702"/>
                  </a:lnTo>
                  <a:lnTo>
                    <a:pt x="1970" y="1856"/>
                  </a:lnTo>
                  <a:lnTo>
                    <a:pt x="1672" y="2040"/>
                  </a:lnTo>
                  <a:lnTo>
                    <a:pt x="1672" y="2040"/>
                  </a:lnTo>
                  <a:lnTo>
                    <a:pt x="1570" y="1880"/>
                  </a:lnTo>
                  <a:lnTo>
                    <a:pt x="1570" y="1880"/>
                  </a:lnTo>
                  <a:lnTo>
                    <a:pt x="1334" y="1906"/>
                  </a:lnTo>
                  <a:lnTo>
                    <a:pt x="1200" y="1918"/>
                  </a:lnTo>
                  <a:lnTo>
                    <a:pt x="1200" y="1918"/>
                  </a:lnTo>
                  <a:lnTo>
                    <a:pt x="1024" y="1934"/>
                  </a:lnTo>
                  <a:lnTo>
                    <a:pt x="772" y="1956"/>
                  </a:lnTo>
                  <a:lnTo>
                    <a:pt x="528" y="1978"/>
                  </a:lnTo>
                  <a:lnTo>
                    <a:pt x="382" y="1988"/>
                  </a:lnTo>
                  <a:lnTo>
                    <a:pt x="382" y="1988"/>
                  </a:lnTo>
                  <a:lnTo>
                    <a:pt x="278" y="1998"/>
                  </a:lnTo>
                  <a:lnTo>
                    <a:pt x="192" y="2010"/>
                  </a:lnTo>
                  <a:lnTo>
                    <a:pt x="150" y="1648"/>
                  </a:lnTo>
                  <a:lnTo>
                    <a:pt x="150" y="1648"/>
                  </a:lnTo>
                  <a:lnTo>
                    <a:pt x="224" y="1652"/>
                  </a:lnTo>
                  <a:lnTo>
                    <a:pt x="292" y="1654"/>
                  </a:lnTo>
                  <a:lnTo>
                    <a:pt x="292" y="1654"/>
                  </a:lnTo>
                  <a:lnTo>
                    <a:pt x="444" y="1650"/>
                  </a:lnTo>
                  <a:lnTo>
                    <a:pt x="444" y="1650"/>
                  </a:lnTo>
                  <a:lnTo>
                    <a:pt x="496" y="1564"/>
                  </a:lnTo>
                  <a:lnTo>
                    <a:pt x="544" y="1478"/>
                  </a:lnTo>
                  <a:lnTo>
                    <a:pt x="590" y="1388"/>
                  </a:lnTo>
                  <a:lnTo>
                    <a:pt x="632" y="1298"/>
                  </a:lnTo>
                  <a:lnTo>
                    <a:pt x="368" y="1298"/>
                  </a:lnTo>
                  <a:close/>
                  <a:moveTo>
                    <a:pt x="1346" y="580"/>
                  </a:moveTo>
                  <a:lnTo>
                    <a:pt x="1346" y="580"/>
                  </a:lnTo>
                  <a:lnTo>
                    <a:pt x="1300" y="544"/>
                  </a:lnTo>
                  <a:lnTo>
                    <a:pt x="1260" y="510"/>
                  </a:lnTo>
                  <a:lnTo>
                    <a:pt x="1220" y="476"/>
                  </a:lnTo>
                  <a:lnTo>
                    <a:pt x="1184" y="444"/>
                  </a:lnTo>
                  <a:lnTo>
                    <a:pt x="1148" y="408"/>
                  </a:lnTo>
                  <a:lnTo>
                    <a:pt x="1114" y="372"/>
                  </a:lnTo>
                  <a:lnTo>
                    <a:pt x="1080" y="334"/>
                  </a:lnTo>
                  <a:lnTo>
                    <a:pt x="1044" y="292"/>
                  </a:lnTo>
                  <a:lnTo>
                    <a:pt x="1044" y="292"/>
                  </a:lnTo>
                  <a:lnTo>
                    <a:pt x="1010" y="332"/>
                  </a:lnTo>
                  <a:lnTo>
                    <a:pt x="976" y="370"/>
                  </a:lnTo>
                  <a:lnTo>
                    <a:pt x="944" y="404"/>
                  </a:lnTo>
                  <a:lnTo>
                    <a:pt x="910" y="438"/>
                  </a:lnTo>
                  <a:lnTo>
                    <a:pt x="874" y="470"/>
                  </a:lnTo>
                  <a:lnTo>
                    <a:pt x="834" y="504"/>
                  </a:lnTo>
                  <a:lnTo>
                    <a:pt x="790" y="540"/>
                  </a:lnTo>
                  <a:lnTo>
                    <a:pt x="738" y="580"/>
                  </a:lnTo>
                  <a:lnTo>
                    <a:pt x="1346" y="580"/>
                  </a:lnTo>
                  <a:close/>
                  <a:moveTo>
                    <a:pt x="1014" y="1298"/>
                  </a:moveTo>
                  <a:lnTo>
                    <a:pt x="1014" y="1298"/>
                  </a:lnTo>
                  <a:lnTo>
                    <a:pt x="972" y="1386"/>
                  </a:lnTo>
                  <a:lnTo>
                    <a:pt x="924" y="1474"/>
                  </a:lnTo>
                  <a:lnTo>
                    <a:pt x="874" y="1560"/>
                  </a:lnTo>
                  <a:lnTo>
                    <a:pt x="826" y="1640"/>
                  </a:lnTo>
                  <a:lnTo>
                    <a:pt x="826" y="1640"/>
                  </a:lnTo>
                  <a:lnTo>
                    <a:pt x="1012" y="1632"/>
                  </a:lnTo>
                  <a:lnTo>
                    <a:pt x="1130" y="1626"/>
                  </a:lnTo>
                  <a:lnTo>
                    <a:pt x="1232" y="1618"/>
                  </a:lnTo>
                  <a:lnTo>
                    <a:pt x="1366" y="1606"/>
                  </a:lnTo>
                  <a:lnTo>
                    <a:pt x="1366" y="1606"/>
                  </a:lnTo>
                  <a:lnTo>
                    <a:pt x="1324" y="1558"/>
                  </a:lnTo>
                  <a:lnTo>
                    <a:pt x="1286" y="1512"/>
                  </a:lnTo>
                  <a:lnTo>
                    <a:pt x="1182" y="1400"/>
                  </a:lnTo>
                  <a:lnTo>
                    <a:pt x="1438" y="1298"/>
                  </a:lnTo>
                  <a:lnTo>
                    <a:pt x="1014" y="12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テキスト ボックス 294"/>
          <p:cNvSpPr/>
          <p:nvPr/>
        </p:nvSpPr>
        <p:spPr>
          <a:xfrm>
            <a:off x="5400720" y="217800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第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回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295"/>
          <p:cNvSpPr/>
          <p:nvPr/>
        </p:nvSpPr>
        <p:spPr>
          <a:xfrm>
            <a:off x="14185800" y="76500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にち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  間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テキスト ボックス 296"/>
          <p:cNvSpPr/>
          <p:nvPr/>
        </p:nvSpPr>
        <p:spPr>
          <a:xfrm>
            <a:off x="17857800" y="7650000"/>
            <a:ext cx="1245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日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:30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:3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297"/>
          <p:cNvSpPr/>
          <p:nvPr/>
        </p:nvSpPr>
        <p:spPr>
          <a:xfrm>
            <a:off x="14185800" y="954000"/>
            <a:ext cx="1620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8000" spc="-1" strike="noStrike">
                <a:solidFill>
                  <a:srgbClr val="ffffff"/>
                </a:solidFill>
                <a:latin typeface="Calibri"/>
              </a:rPr>
              <a:t>○○</a:t>
            </a:r>
            <a:r>
              <a:rPr b="0" lang="ja-JP" sz="8000" spc="-1" strike="noStrike">
                <a:solidFill>
                  <a:srgbClr val="ffffff"/>
                </a:solidFill>
                <a:latin typeface="Calibri"/>
              </a:rPr>
              <a:t>町内会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23:18Z</dcterms:created>
  <dc:creator>seisaku</dc:creator>
  <dc:description/>
  <dc:language>en-US</dc:language>
  <cp:lastModifiedBy>ttec</cp:lastModifiedBy>
  <dcterms:modified xsi:type="dcterms:W3CDTF">2012-05-31T04:50:54Z</dcterms:modified>
  <cp:revision>4</cp:revision>
  <dc:subject/>
  <dc:title>スライド 1</dc:title>
</cp:coreProperties>
</file>